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B877-9BEC-4F2C-9EEB-9E4636C3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3C5-488D-437A-BE75-BA12F4BB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F61B5-EC54-4C01-8741-FD5C261A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5C722-EC87-4FE6-ACEA-05288A97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4E7FE-77C8-4891-8085-51663AE7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FED56-7AAC-4FDC-B059-84F43218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B0EFD-07D9-4555-B896-9B6EB84D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52A0B-43F3-44AB-B022-6191EAD4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CCF1F-D61C-4796-85BA-4A248D70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EF1A5-8C07-41D2-A1E6-3C004AD7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A02E0-C24A-4D12-B167-5BE06C63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19F8D-EDA5-452A-9CBC-DB3513B4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AF7-822F-4C58-AE42-83DE71FE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F492C-4D1A-42AB-894F-6A2DCA44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C4A0D-0FDB-462F-9937-76D1F78B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3B1A0-4FF5-4237-9D97-5B68BB97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A2AF0-D779-4FA7-8DD1-C675E053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57CDD-A223-4DE7-B822-81946459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C2DC1-0C31-49A0-95C6-1088F9F5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301B1-EE8C-4515-88D5-CA1BA85B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02C02-3B5F-4FB1-8693-FDC3B5D1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DECA7-0F4C-4460-B48A-DF466428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BC3BB-BE6F-4908-95A0-58CB8593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90A5-4C67-475F-8440-CB678DE3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CF554-498B-4BF7-8119-57E22BCC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3DE5-A941-435A-9FAD-E041FD3D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9667-D372-46AE-ADE2-D23F5297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02FD-8A49-4F13-A05A-EA06FE2F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E359-3E5B-48DE-B4D8-9A53B45F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2BC7-E2A6-48C3-AE12-CC7BE96C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58DE-FF12-4C74-A859-954F11F1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0660-A12D-46C6-B538-DB2F564E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0ADA-8AB4-4118-AECF-0C3B1C82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9FBE-74BE-43AB-8494-6723B8EE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C1F0-88DB-45A2-AFE9-C55A02CF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6C42-8F39-4FE4-87BF-03A998AA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FCD6-5761-4F1C-A112-D0A0FC1D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390F-0DB0-4D1B-957B-73BFBDD2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49224-D96E-4D33-AB45-33342E1A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D60CE-818E-4449-9044-497AEFF5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2EB67-7C45-4CFD-ACE7-D6D2A036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3A435-05A8-43D4-A577-10888811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BD448-7633-41F1-A280-FD734F69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ADE-2CCB-40DD-ACC8-907B86CC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EE1D6-9439-4126-90F7-21A28EDB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C2155-593C-4F7C-AEAA-083BAA22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3EB08-8C70-4A32-AB77-BD3D0EC1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2336C-9F38-424D-B52A-51EE0266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F4759-7FA8-4407-92E6-15889ECC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15D75-BC20-45ED-9C39-BD4A51AF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65423-261B-455B-94A9-D1C14777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1BA5A-C182-499D-83FA-E5138CA2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9C86A-DC31-4654-B1D5-7842F4D2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B0481-9F0B-446E-B098-FF37A88F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F16A-795C-434B-A22C-916082DF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0CCBA-8CE3-49BF-8CDA-9B095A74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B8DCF-6393-4617-B5EB-054A28C0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4AC86-D4BC-4299-BF8E-080BF231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1E811-3DF9-491E-A207-7D82F241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5E635-6142-449C-8782-B0B362B2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341E2-A737-49B3-9B86-37003B89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B711C-FD08-4F75-A7E3-817662FE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0FCB2-C235-4E04-ADA6-F9122D3A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532E0-3081-4145-946E-5A8E3983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A2C91-936F-4075-8D50-F0EF492B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8281-DE5C-4BA2-94CE-8A0D8454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92BFF-E23F-41A4-AEE7-57B5C0C5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4E3B5-1919-4939-ABA5-85A7299A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93A0F-43E0-46C2-AB58-113A6359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38C3D-C579-4868-BE1E-4CEC6573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DEE18-0B86-41F8-A14A-8132E4F9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4BE81-65B6-4804-AE87-9434397E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CB3A0-FF35-45AA-A13F-9B7DAECC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1BE28-DB2C-4928-96D0-91B8166E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358DC-D42E-49C9-933C-1DD985A1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5681C-4323-495C-9B2A-EF86AB73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839C-EF2B-4A01-854F-EEC53C39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67B06-BD3E-49CC-9273-C849F6BA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0AA4A-FA44-4D04-910D-D277CE1E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6A4D8-A241-4EC7-AC13-F3C50946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F0B92-2D25-4470-AA31-28977E48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B3357-56F4-4641-91EA-B5538167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D1B3C-07CA-41AC-A0E9-3D3DA0B0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42CAB-071B-46F4-89AB-A13B68AA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98DEB-C2F1-4C98-8465-D4D4C703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575B2-6596-4080-BDE8-643E68F6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2AD59-0AEA-4962-A7D6-B1E594AD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8232-65A6-4876-8BA6-A486912C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060B7-E632-4A44-A867-52B371D0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C8498-DDFD-4E8F-8422-8288A343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8982F-170E-4734-8113-7DCB7E8B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F4BD7-7DD9-4F8B-90AF-322AF5ED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D1C99-1E8D-4FB3-95AE-AA5942E6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BE278-BA21-47BD-8B9C-9DD6CD3C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D3514-A259-469C-816C-858EF584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1D80A-FF34-4377-935B-4A5E29F5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834C5-B843-4C92-94DA-3F4534BE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1DD1E-0663-4D49-BD7F-0516C88E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A8A-2A09-4256-9B06-72763E34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E595E-7ABE-4CD9-B73C-5E8187D8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5D331-8C5A-4A30-9469-6F8A7F67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88248-94B6-4980-B630-726A3599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78262-245A-4A4F-B627-1BC1AA62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9B7C5-4516-4D71-8E7F-D757C333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5CA7C-194C-492F-8BE4-06FC2635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C3475-A051-4891-9811-EC6231D3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8434D-9D86-4E02-84D0-FB84D41D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E051A-09FB-47BF-A07F-1A9A5020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D55EA-64B7-405D-A3CF-2E1D6969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2E5-0ECE-47F0-9F91-B71A74F6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E7752-33E3-430D-863B-EFD50EDA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F8025-8D7D-42D8-831F-E9167037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F77E0-8037-4E68-8CF1-426DD2E8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5BC1F-933A-42B2-9203-DD11EBA1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725F8-FBD0-4C76-830E-9FC09899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CCE3B-9516-4F04-9C80-C80DA424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3FC17-998E-4EC1-BB92-5DD2712E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BA0F2-52F3-4604-9338-360D1F44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21131-BF6C-48A2-B010-9DCFDD26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9F6AE-A3B0-49B8-ACEE-3AAADCD2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0182-0CFC-4670-8AF9-CEE99E365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7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B532-D5ED-44B4-805F-BB408E201C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669E-071B-43E0-A903-F3D0BC38F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7F7D-4C06-4E3C-8A5A-04530E8B33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9108-FC09-423B-B21C-6376CDD6F6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9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83CB-A393-4D53-B766-C81386A6A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5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A9A6-2F23-4E30-BB4D-C017ED894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1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6268-681D-4E58-B016-F091DD53BD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6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D8F3-AD53-49EB-B471-8DAD55AF9E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2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C96F-8B9A-4256-99DF-10753B4B7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6.xml"/><Relationship Id="rId11" Type="http://schemas.openxmlformats.org/officeDocument/2006/relationships/slide" Target="slide2.xml"/><Relationship Id="rId12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0.xm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0.xm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Что за прелесть эти сказки 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2  раунд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0" name="">
            <a:hlinkClick r:id="rId3" action="ppaction://hlinksldjump"/>
          </p:cNvPr>
          <p:cNvSpPr/>
          <p:nvPr/>
        </p:nvSpPr>
        <p:spPr>
          <a:xfrm>
            <a:off x="324000" y="148428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4" action="ppaction://hlinksldjump"/>
              </a:rPr>
              <a:t> Сказки Андерс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>
            <a:hlinkClick r:id="rId5" action="ppaction://hlinksldjump"/>
          </p:cNvPr>
          <p:cNvSpPr/>
          <p:nvPr/>
        </p:nvSpPr>
        <p:spPr>
          <a:xfrm>
            <a:off x="324000" y="234936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6" action="ppaction://hlinksldjump"/>
              </a:rPr>
              <a:t>Сказки Пушк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24000" y="321300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7" action="ppaction://hlinksldjump"/>
              </a:rPr>
              <a:t>Русские народные ска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4000" y="4005360"/>
            <a:ext cx="6624360" cy="649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8" action="ppaction://hlinksldjump"/>
              </a:rPr>
              <a:t>Сказочные предм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24000" y="479736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9" action="ppaction://hlinksldjump"/>
              </a:rPr>
              <a:t>Сказочные персонаж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24000" y="5589720"/>
            <a:ext cx="6624360" cy="649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10" action="ppaction://hlinksldjump"/>
              </a:rPr>
              <a:t>Чье это высказыван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>
            <a:hlinkClick r:id="rId11" action="ppaction://hlinksldjump"/>
          </p:cNvPr>
          <p:cNvSpPr/>
          <p:nvPr/>
        </p:nvSpPr>
        <p:spPr>
          <a:xfrm>
            <a:off x="8317080" y="6021360"/>
            <a:ext cx="826920" cy="576360"/>
          </a:xfrm>
          <a:custGeom>
            <a:avLst/>
            <a:gdLst>
              <a:gd name="textAreaLeft" fmla="*/ 37080 w 826920"/>
              <a:gd name="textAreaRight" fmla="*/ 789840 w 826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0984" h="21600">
                <a:moveTo>
                  <a:pt x="0" y="0"/>
                </a:moveTo>
                <a:lnTo>
                  <a:pt x="30984" y="0"/>
                </a:lnTo>
                <a:lnTo>
                  <a:pt x="30984" y="21600"/>
                </a:lnTo>
                <a:lnTo>
                  <a:pt x="0" y="21600"/>
                </a:lnTo>
                <a:close/>
              </a:path>
              <a:path fill="lightenLess" w="30984" h="21600">
                <a:moveTo>
                  <a:pt x="0" y="0"/>
                </a:moveTo>
                <a:lnTo>
                  <a:pt x="30984" y="0"/>
                </a:lnTo>
                <a:lnTo>
                  <a:pt x="29584" y="1400"/>
                </a:lnTo>
                <a:lnTo>
                  <a:pt x="1400" y="1400"/>
                </a:lnTo>
                <a:close/>
              </a:path>
              <a:path fill="darken" w="30984" h="21600">
                <a:moveTo>
                  <a:pt x="30984" y="0"/>
                </a:moveTo>
                <a:lnTo>
                  <a:pt x="30984" y="21600"/>
                </a:lnTo>
                <a:lnTo>
                  <a:pt x="29584" y="20200"/>
                </a:lnTo>
                <a:lnTo>
                  <a:pt x="29584" y="1400"/>
                </a:lnTo>
                <a:close/>
              </a:path>
              <a:path fill="darkenLess" w="30984" h="21600">
                <a:moveTo>
                  <a:pt x="30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84" y="20200"/>
                </a:lnTo>
                <a:close/>
              </a:path>
              <a:path fill="lighten" w="30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84" h="21600">
                <a:moveTo>
                  <a:pt x="15492" y="3837"/>
                </a:moveTo>
                <a:lnTo>
                  <a:pt x="18068" y="6448"/>
                </a:lnTo>
                <a:lnTo>
                  <a:pt x="18068" y="4707"/>
                </a:lnTo>
                <a:lnTo>
                  <a:pt x="19844" y="4707"/>
                </a:lnTo>
                <a:lnTo>
                  <a:pt x="19844" y="8224"/>
                </a:lnTo>
                <a:lnTo>
                  <a:pt x="22455" y="10800"/>
                </a:lnTo>
                <a:lnTo>
                  <a:pt x="20801" y="10800"/>
                </a:lnTo>
                <a:lnTo>
                  <a:pt x="20801" y="17989"/>
                </a:lnTo>
                <a:lnTo>
                  <a:pt x="10183" y="17989"/>
                </a:lnTo>
                <a:lnTo>
                  <a:pt x="10183" y="10800"/>
                </a:lnTo>
                <a:lnTo>
                  <a:pt x="8529" y="10800"/>
                </a:lnTo>
                <a:close/>
              </a:path>
              <a:path fill="darkenLess" w="30984" h="21600">
                <a:moveTo>
                  <a:pt x="18068" y="6448"/>
                </a:moveTo>
                <a:lnTo>
                  <a:pt x="18068" y="4707"/>
                </a:lnTo>
                <a:lnTo>
                  <a:pt x="19844" y="4707"/>
                </a:lnTo>
                <a:lnTo>
                  <a:pt x="19844" y="8224"/>
                </a:lnTo>
                <a:close/>
              </a:path>
              <a:path fill="darkenLess" w="30984" h="21600">
                <a:moveTo>
                  <a:pt x="14570" y="14299"/>
                </a:moveTo>
                <a:lnTo>
                  <a:pt x="16415" y="14299"/>
                </a:lnTo>
                <a:lnTo>
                  <a:pt x="16415" y="17989"/>
                </a:lnTo>
                <a:lnTo>
                  <a:pt x="20801" y="17989"/>
                </a:lnTo>
                <a:lnTo>
                  <a:pt x="20801" y="10800"/>
                </a:lnTo>
                <a:lnTo>
                  <a:pt x="10183" y="10800"/>
                </a:lnTo>
                <a:lnTo>
                  <a:pt x="10183" y="17989"/>
                </a:lnTo>
                <a:lnTo>
                  <a:pt x="14570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11280" y="-387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  </a:t>
            </a: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казки Андерсе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979640" y="764640"/>
            <a:ext cx="63374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5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Героиня  этой сказки трижды чуть было  не вышла заму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В этой сказке Андерсена есть разделение на главы, имеющие собственное наз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В этой сказке роль контрольн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стройства играло растение семейства бобов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В этой сказке аристократия с     удовольствием вдыхала кухо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пах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Эта сказка подтверждает истин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то не следует садиться не в сво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а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">
            <a:hlinkClick r:id="rId3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76364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Сказки Пушк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843280" y="981000"/>
            <a:ext cx="58435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5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Эта супружеская пара прожила 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бережье 8 лет после серебря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вадьб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1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Название чудесного острова в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ОЙ сказ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15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В этой сказке герой отказался о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говора, за что лишился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Имя этого сказочного героя 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видетельствует о  его умстве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особностя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25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Герой этого произвед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учился на колдуна, но окончатель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очаровался в любв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>
            <a:hlinkClick r:id="rId2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0" y="4510080"/>
            <a:ext cx="284328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Русские народные сказ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В какой сказке корова умела говорить, ткать и ши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В этой сказке результат был достигнут благодар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следнему усилию мелкого грызу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Героиня этой сказки «подарила» своим хозяевам вмест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ычного предмета – драгоцен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Герой этой сказки на соревновании по прыжкам поплатился за свое обжор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25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Кто умудрился в одно и то же время находитьс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алеко и близко, высоко и низко, все видел, все слыша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есть не велел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>
            <a:hlinkClick r:id="rId2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3"/>
          <a:stretch/>
        </p:blipFill>
        <p:spPr>
          <a:xfrm>
            <a:off x="2987640" y="4703760"/>
            <a:ext cx="3168720" cy="21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                </a:t>
            </a: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казочные предметы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780000" y="1125000"/>
            <a:ext cx="49068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6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Этим предметом щекотала горло северному олен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ленькая разбой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Этот предмет слегка трону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ль в «Старике Хоттабыче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15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Это средство помогло герою избавиться от высокой температу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20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Этот предмет служил почтовой бумаг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ahoma"/>
              </a:rPr>
              <a:t>25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Этот предмет помог солдату избежать смерти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2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">
            <a:hlinkClick r:id="rId3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61944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             </a:t>
            </a:r>
            <a:r>
              <a:rPr b="0" lang="en-US" sz="4000" spc="-1" strike="noStrike" u="sng">
                <a:solidFill>
                  <a:srgbClr val="eec85e"/>
                </a:solidFill>
                <a:uFillTx/>
                <a:latin typeface="Arial"/>
                <a:hlinkClick r:id="rId1" action="ppaction://hlinksldjump"/>
              </a:rPr>
              <a:t>Сказочные персонаж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979280" y="1412640"/>
            <a:ext cx="698508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Герой этой сказки тощий, смуглы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таричок с бородой по пояс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Этот персонаж питался мочалкам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15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Этот мальчик очень самостоятельный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хозяйственный, любит животных. Ег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риятель в свободное врем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занимается фотоохото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20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Это герой собирался стать артистом 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но его карьеру чуть не погубил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несколько моне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25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Этот персонаж самый непослушный и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задиристый. В школу он не ходил, но сам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учился писать стихи, рисовать портреты 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играть на труб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5" name="">
            <a:hlinkClick r:id="rId2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4328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99ff66"/>
                </a:solidFill>
                <a:uFillTx/>
                <a:latin typeface="Arial Black"/>
                <a:hlinkClick r:id="rId1" action="ppaction://hlinksldjump"/>
              </a:rPr>
              <a:t>Чье это высказыв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69994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«Дело житейское! Спокойствие, тольк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койствие!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«Клянусь своей треуголкой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1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« Не откроем мы тебе дверь, ты не матушка наша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2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«Не плачьте. Ваша дочь не умерла. Она проснется. Но до той поры пройдет 100 лет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25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« Кири-куку! Царствуй, лежа на боку!»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>
            <a:hlinkClick r:id="rId2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3"/>
          <a:stretch/>
        </p:blipFill>
        <p:spPr>
          <a:xfrm>
            <a:off x="0" y="5081760"/>
            <a:ext cx="2124000" cy="17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244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3 раунд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324000" y="148428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казки Андерс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24000" y="234936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казки Пушк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24000" y="321300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усские народные ска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24000" y="4005360"/>
            <a:ext cx="6624360" cy="649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казочные предм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24000" y="479736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казочные персонаж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24000" y="5589720"/>
            <a:ext cx="6624360" cy="649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ье это высказыван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  10            15            20  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>
            <a:hlinkClick r:id="rId2" action="ppaction://hlinksldjump"/>
          </p:cNvPr>
          <p:cNvSpPr/>
          <p:nvPr/>
        </p:nvSpPr>
        <p:spPr>
          <a:xfrm>
            <a:off x="8317080" y="6021360"/>
            <a:ext cx="826920" cy="576360"/>
          </a:xfrm>
          <a:custGeom>
            <a:avLst/>
            <a:gdLst>
              <a:gd name="textAreaLeft" fmla="*/ 37080 w 826920"/>
              <a:gd name="textAreaRight" fmla="*/ 789840 w 826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0984" h="21600">
                <a:moveTo>
                  <a:pt x="0" y="0"/>
                </a:moveTo>
                <a:lnTo>
                  <a:pt x="30984" y="0"/>
                </a:lnTo>
                <a:lnTo>
                  <a:pt x="30984" y="21600"/>
                </a:lnTo>
                <a:lnTo>
                  <a:pt x="0" y="21600"/>
                </a:lnTo>
                <a:close/>
              </a:path>
              <a:path fill="lightenLess" w="30984" h="21600">
                <a:moveTo>
                  <a:pt x="0" y="0"/>
                </a:moveTo>
                <a:lnTo>
                  <a:pt x="30984" y="0"/>
                </a:lnTo>
                <a:lnTo>
                  <a:pt x="29584" y="1400"/>
                </a:lnTo>
                <a:lnTo>
                  <a:pt x="1400" y="1400"/>
                </a:lnTo>
                <a:close/>
              </a:path>
              <a:path fill="darken" w="30984" h="21600">
                <a:moveTo>
                  <a:pt x="30984" y="0"/>
                </a:moveTo>
                <a:lnTo>
                  <a:pt x="30984" y="21600"/>
                </a:lnTo>
                <a:lnTo>
                  <a:pt x="29584" y="20200"/>
                </a:lnTo>
                <a:lnTo>
                  <a:pt x="29584" y="1400"/>
                </a:lnTo>
                <a:close/>
              </a:path>
              <a:path fill="darkenLess" w="30984" h="21600">
                <a:moveTo>
                  <a:pt x="30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84" y="20200"/>
                </a:lnTo>
                <a:close/>
              </a:path>
              <a:path fill="lighten" w="30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84" h="21600">
                <a:moveTo>
                  <a:pt x="15492" y="3837"/>
                </a:moveTo>
                <a:lnTo>
                  <a:pt x="18068" y="6448"/>
                </a:lnTo>
                <a:lnTo>
                  <a:pt x="18068" y="4707"/>
                </a:lnTo>
                <a:lnTo>
                  <a:pt x="19844" y="4707"/>
                </a:lnTo>
                <a:lnTo>
                  <a:pt x="19844" y="8224"/>
                </a:lnTo>
                <a:lnTo>
                  <a:pt x="22455" y="10800"/>
                </a:lnTo>
                <a:lnTo>
                  <a:pt x="20801" y="10800"/>
                </a:lnTo>
                <a:lnTo>
                  <a:pt x="20801" y="17989"/>
                </a:lnTo>
                <a:lnTo>
                  <a:pt x="10183" y="17989"/>
                </a:lnTo>
                <a:lnTo>
                  <a:pt x="10183" y="10800"/>
                </a:lnTo>
                <a:lnTo>
                  <a:pt x="8529" y="10800"/>
                </a:lnTo>
                <a:close/>
              </a:path>
              <a:path fill="darkenLess" w="30984" h="21600">
                <a:moveTo>
                  <a:pt x="18068" y="6448"/>
                </a:moveTo>
                <a:lnTo>
                  <a:pt x="18068" y="4707"/>
                </a:lnTo>
                <a:lnTo>
                  <a:pt x="19844" y="4707"/>
                </a:lnTo>
                <a:lnTo>
                  <a:pt x="19844" y="8224"/>
                </a:lnTo>
                <a:close/>
              </a:path>
              <a:path fill="darkenLess" w="30984" h="21600">
                <a:moveTo>
                  <a:pt x="14570" y="14299"/>
                </a:moveTo>
                <a:lnTo>
                  <a:pt x="16415" y="14299"/>
                </a:lnTo>
                <a:lnTo>
                  <a:pt x="16415" y="17989"/>
                </a:lnTo>
                <a:lnTo>
                  <a:pt x="20801" y="17989"/>
                </a:lnTo>
                <a:lnTo>
                  <a:pt x="20801" y="10800"/>
                </a:lnTo>
                <a:lnTo>
                  <a:pt x="10183" y="10800"/>
                </a:lnTo>
                <a:lnTo>
                  <a:pt x="10183" y="17989"/>
                </a:lnTo>
                <a:lnTo>
                  <a:pt x="14570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казки Андерсена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Этот предмет в руках волшебницы заставил Гер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быть о цели своих скита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10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Сказка, финал которой подтверждает мудрое высказыван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стами младенца гласит ис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1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Героиня этой сказки балует своих детей, чтоб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растить из них хороших специалистов ЭТ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фесс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20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Ради красивой женщины герой этой сказки забы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 своих 12 дет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25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В этой сказке прекрасные женские ножки приравнивались 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екрасному женскому голосу или длинным волосам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">
            <a:hlinkClick r:id="rId2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6156360" y="0"/>
            <a:ext cx="298764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казки Пушк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6337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В этой сказке главный герой подслушал разговор трех девуш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О каком предмете из какой сказки ид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ь:   Так свежо и так душист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румяно-золотист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дто медом налилос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15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Произнесите полное название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казки о царе Салтане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2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Главным героям ЭТОЙ сказки автор не дал им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25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Кто такая  «сенная девушка» и в какой сказке она фигуриру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>
            <a:hlinkClick r:id="rId1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6924600" y="0"/>
            <a:ext cx="221940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Этапы иг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">
            <a:hlinkClick r:id="rId1" action="ppaction://hlinksldjump"/>
          </p:cNvPr>
          <p:cNvSpPr/>
          <p:nvPr/>
        </p:nvSpPr>
        <p:spPr>
          <a:xfrm>
            <a:off x="1187280" y="2276640"/>
            <a:ext cx="1440000" cy="1223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раун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>
            <a:hlinkClick r:id="rId2" action="ppaction://hlinksldjump"/>
          </p:cNvPr>
          <p:cNvSpPr/>
          <p:nvPr/>
        </p:nvSpPr>
        <p:spPr>
          <a:xfrm>
            <a:off x="3924360" y="2349360"/>
            <a:ext cx="1439640" cy="1224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2 раун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>
            <a:hlinkClick r:id="rId4" action="ppaction://hlinksldjump"/>
          </p:cNvPr>
          <p:cNvSpPr/>
          <p:nvPr/>
        </p:nvSpPr>
        <p:spPr>
          <a:xfrm>
            <a:off x="6588000" y="2349360"/>
            <a:ext cx="1440000" cy="1224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раун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усские народные сказ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13744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5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В этой сказке реки и берега были съедобны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В этой сказке живут два шагающих вед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Героиня этой сказки получает от умирающей матери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лшебную куколку-помощниц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Героиня этой сказки, будучи в гостях, разлома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мущество хозяе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В этой сказке Жар-птица клевала золотые ябло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>
            <a:hlinkClick r:id="rId1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2"/>
          <a:stretch/>
        </p:blipFill>
        <p:spPr>
          <a:xfrm>
            <a:off x="2700360" y="4635360"/>
            <a:ext cx="3637080" cy="22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44000" cy="6555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Сказочные предметы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42560" y="836280"/>
            <a:ext cx="6769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5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 этой сказке посуда умела разговарив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Эти предметы сказочный персонаж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крывал  перед  послушными деть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Этот «предмет» мог превратить старика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юнош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Этот «предмет» дал имя главной геро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5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В одной сказке ЭТО превращается 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ранспортное средство, а в друг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является дядюшкой главного героя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">
            <a:hlinkClick r:id="rId2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3"/>
          <a:stretch/>
        </p:blipFill>
        <p:spPr>
          <a:xfrm>
            <a:off x="3419640" y="473400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147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казочные персонаж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123640" y="764640"/>
            <a:ext cx="663588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Эта героиня очень много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утешествовала – по воде, по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оздуху, по суше и даже побывал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д земл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Этот отрицательный персонаж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страдал от собственного умен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еревоплощатьс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Verdana"/>
              </a:rPr>
              <a:t>15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У этой героини всего один зуб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Verdana"/>
              </a:rPr>
              <a:t>20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Этот персонаж жил в телефонно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будк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Verdana"/>
              </a:rPr>
              <a:t>25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Эта героиня сыграла роль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механической кукл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7" name="">
            <a:hlinkClick r:id="rId1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0" y="4581360"/>
            <a:ext cx="2084400" cy="22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ье это высказыв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0" name="">
            <a:hlinkClick r:id="rId1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3933720"/>
            <a:ext cx="2754360" cy="292428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2771640" y="907920"/>
            <a:ext cx="612144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«Добрый путь вам, господа, по мор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 океану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«Я почему вредный был? Потому что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 меня велосипеда не было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« Вот тебе ячменное зерно. Э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ерно не простое, не такое, ка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тут на крестьянских полях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0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« Здравствуйте, сейчас 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ыграем перед вами комедию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5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« Еду, еду в Африку, милые края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5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  раунд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8" name="">
            <a:hlinkClick r:id="rId2" action="ppaction://hlinksldjump"/>
          </p:cNvPr>
          <p:cNvSpPr/>
          <p:nvPr/>
        </p:nvSpPr>
        <p:spPr>
          <a:xfrm>
            <a:off x="324000" y="148428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казки  Г.Х.Андерс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10        15       20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>
            <a:hlinkClick r:id="rId3" action="ppaction://hlinksldjump"/>
          </p:cNvPr>
          <p:cNvSpPr/>
          <p:nvPr/>
        </p:nvSpPr>
        <p:spPr>
          <a:xfrm>
            <a:off x="324000" y="234936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казки А.С.Пушк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10     15    20       2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>
            <a:hlinkClick r:id="rId4" action="ppaction://hlinksldjump"/>
          </p:cNvPr>
          <p:cNvSpPr/>
          <p:nvPr/>
        </p:nvSpPr>
        <p:spPr>
          <a:xfrm>
            <a:off x="324000" y="321300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усские народные ска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10      15      20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>
            <a:hlinkClick r:id="rId5" action="ppaction://hlinksldjump"/>
          </p:cNvPr>
          <p:cNvSpPr/>
          <p:nvPr/>
        </p:nvSpPr>
        <p:spPr>
          <a:xfrm>
            <a:off x="324000" y="4005360"/>
            <a:ext cx="6624360" cy="649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Arial"/>
                <a:hlinkClick r:id="rId6" action="ppaction://hlinksldjump"/>
              </a:rPr>
              <a:t>Сказочные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предм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10      15      20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>
            <a:hlinkClick r:id="rId7" action="ppaction://hlinksldjump"/>
          </p:cNvPr>
          <p:cNvSpPr/>
          <p:nvPr/>
        </p:nvSpPr>
        <p:spPr>
          <a:xfrm>
            <a:off x="324000" y="4797360"/>
            <a:ext cx="6624360" cy="649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казочные персонаж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10         15         20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>
            <a:hlinkClick r:id="rId8" action="ppaction://hlinksldjump"/>
          </p:cNvPr>
          <p:cNvSpPr/>
          <p:nvPr/>
        </p:nvSpPr>
        <p:spPr>
          <a:xfrm>
            <a:off x="324000" y="5589720"/>
            <a:ext cx="6624360" cy="649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ье это высказыван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         10          15          20        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>
            <a:hlinkClick r:id="rId9" action="ppaction://hlinksldjump"/>
          </p:cNvPr>
          <p:cNvSpPr/>
          <p:nvPr/>
        </p:nvSpPr>
        <p:spPr>
          <a:xfrm>
            <a:off x="8317080" y="6021360"/>
            <a:ext cx="826920" cy="576360"/>
          </a:xfrm>
          <a:custGeom>
            <a:avLst/>
            <a:gdLst>
              <a:gd name="textAreaLeft" fmla="*/ 37080 w 826920"/>
              <a:gd name="textAreaRight" fmla="*/ 789840 w 826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0984" h="21600">
                <a:moveTo>
                  <a:pt x="0" y="0"/>
                </a:moveTo>
                <a:lnTo>
                  <a:pt x="30984" y="0"/>
                </a:lnTo>
                <a:lnTo>
                  <a:pt x="30984" y="21600"/>
                </a:lnTo>
                <a:lnTo>
                  <a:pt x="0" y="21600"/>
                </a:lnTo>
                <a:close/>
              </a:path>
              <a:path fill="lightenLess" w="30984" h="21600">
                <a:moveTo>
                  <a:pt x="0" y="0"/>
                </a:moveTo>
                <a:lnTo>
                  <a:pt x="30984" y="0"/>
                </a:lnTo>
                <a:lnTo>
                  <a:pt x="29584" y="1400"/>
                </a:lnTo>
                <a:lnTo>
                  <a:pt x="1400" y="1400"/>
                </a:lnTo>
                <a:close/>
              </a:path>
              <a:path fill="darken" w="30984" h="21600">
                <a:moveTo>
                  <a:pt x="30984" y="0"/>
                </a:moveTo>
                <a:lnTo>
                  <a:pt x="30984" y="21600"/>
                </a:lnTo>
                <a:lnTo>
                  <a:pt x="29584" y="20200"/>
                </a:lnTo>
                <a:lnTo>
                  <a:pt x="29584" y="1400"/>
                </a:lnTo>
                <a:close/>
              </a:path>
              <a:path fill="darkenLess" w="30984" h="21600">
                <a:moveTo>
                  <a:pt x="309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84" y="20200"/>
                </a:lnTo>
                <a:close/>
              </a:path>
              <a:path fill="lighten" w="309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84" h="21600">
                <a:moveTo>
                  <a:pt x="15492" y="3837"/>
                </a:moveTo>
                <a:lnTo>
                  <a:pt x="18068" y="6448"/>
                </a:lnTo>
                <a:lnTo>
                  <a:pt x="18068" y="4707"/>
                </a:lnTo>
                <a:lnTo>
                  <a:pt x="19844" y="4707"/>
                </a:lnTo>
                <a:lnTo>
                  <a:pt x="19844" y="8224"/>
                </a:lnTo>
                <a:lnTo>
                  <a:pt x="22455" y="10800"/>
                </a:lnTo>
                <a:lnTo>
                  <a:pt x="20801" y="10800"/>
                </a:lnTo>
                <a:lnTo>
                  <a:pt x="20801" y="17989"/>
                </a:lnTo>
                <a:lnTo>
                  <a:pt x="10183" y="17989"/>
                </a:lnTo>
                <a:lnTo>
                  <a:pt x="10183" y="10800"/>
                </a:lnTo>
                <a:lnTo>
                  <a:pt x="8529" y="10800"/>
                </a:lnTo>
                <a:close/>
              </a:path>
              <a:path fill="darkenLess" w="30984" h="21600">
                <a:moveTo>
                  <a:pt x="18068" y="6448"/>
                </a:moveTo>
                <a:lnTo>
                  <a:pt x="18068" y="4707"/>
                </a:lnTo>
                <a:lnTo>
                  <a:pt x="19844" y="4707"/>
                </a:lnTo>
                <a:lnTo>
                  <a:pt x="19844" y="8224"/>
                </a:lnTo>
                <a:close/>
              </a:path>
              <a:path fill="darkenLess" w="30984" h="21600">
                <a:moveTo>
                  <a:pt x="14570" y="14299"/>
                </a:moveTo>
                <a:lnTo>
                  <a:pt x="16415" y="14299"/>
                </a:lnTo>
                <a:lnTo>
                  <a:pt x="16415" y="17989"/>
                </a:lnTo>
                <a:lnTo>
                  <a:pt x="20801" y="17989"/>
                </a:lnTo>
                <a:lnTo>
                  <a:pt x="20801" y="10800"/>
                </a:lnTo>
                <a:lnTo>
                  <a:pt x="10183" y="10800"/>
                </a:lnTo>
                <a:lnTo>
                  <a:pt x="10183" y="17989"/>
                </a:lnTo>
                <a:lnTo>
                  <a:pt x="14570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362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казки Андерсе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5508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Герой этой сказки «не боится воды, хорошо гребет  лапками и при этом прямо держитс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0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 этой сказке крыса потребовала у главного героя  докуме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ЭТО в сказке сравнивается с чайными чашками, мельничными жерновами и круглой башн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0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У героя этой сказки 24 бр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5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В какой сказке зрение приравнивалось мешку зерна и новой шуб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">
            <a:hlinkClick r:id="rId2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9878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казки А.С.Пушк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В этой сказке пушистый грызун питался драгоценност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С помощью этого предмета мож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ыло выбрать королеву крас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В этой сказке жительница морских глубин проучила жад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В этой сказочной поэме один бра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ыл великаном, другой – карли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В той сказке злая мачеха грозила своей чернавке рогаткой. Что это означа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>
            <a:hlinkClick r:id="rId1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6558120" y="0"/>
            <a:ext cx="258588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усские народные сказ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6408720" cy="539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Герой этой сказки пил из запрещенн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точ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Героиня этой сказки заманила в ловушку доверчивого героя-путешествен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Эта героиня боялась жаркой пого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Кто и с кем делил вершки и кореш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Этот предмет помогал задержать погоню 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 помощи него также убирали из памя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е-какие воспомин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>
            <a:hlinkClick r:id="rId1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19400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казочные предметы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3628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Транспортное средство сказочного героя-лежебо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В солнечную погоду этот предмет способ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рождать виртуальное живот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Этот «предмет» потерял сказочный герой накану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его Дня 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Этот предмет не только готовил пищу, но и игр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елод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5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з этого необычного «предмета» были сплете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убаш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">
            <a:hlinkClick r:id="rId2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3"/>
          <a:stretch/>
        </p:blipFill>
        <p:spPr>
          <a:xfrm>
            <a:off x="3492360" y="4869000"/>
            <a:ext cx="2411640" cy="19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Сказочные персонаж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132000" y="1125360"/>
            <a:ext cx="55548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5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Эта героиня немного болтлива, что чуть было не привело к гибели и ее саму, и ее близкую родственницу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10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Это герой был еще молодым и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зеленым, но заставлял рыдат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любого врага, который пыталс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таскать его за волос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15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Эти герои совершают побег, чтобы сохранить любовь, но возвращаютс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на свой комод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20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Эта героиня обладала  необычной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нешностью и любила всех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воспитыват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Verdana"/>
              </a:rPr>
              <a:t>25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Этой героине тарелка воды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заменяла озеро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3" name="">
            <a:hlinkClick r:id="rId1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0" y="4511520"/>
            <a:ext cx="31320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6696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Чье это высказыв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«Хорошими делами прославиться нельзя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«Мой народец странный, глупый, деревянны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укольный владыка, вот кто я, поди-ка!.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 Какое странное ощущение!  Я, верн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ладываюсь, как подзорная труба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« Песнями сыт не будешь, чириканьем зимо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согреешьс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« Я Слишком тонка, я не создана для эт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ира !»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>
            <a:hlinkClick r:id="rId1" action="ppaction://hlinksldjump"/>
          </p:cNvPr>
          <p:cNvSpPr/>
          <p:nvPr/>
        </p:nvSpPr>
        <p:spPr>
          <a:xfrm>
            <a:off x="8567640" y="6138720"/>
            <a:ext cx="576360" cy="71928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19280"/>
              <a:gd name="textAreaBottom" fmla="*/ 682200 h 719280"/>
            </a:gdLst>
            <a:ahLst/>
            <a:rect l="textAreaLeft" t="textAreaTop" r="textAreaRight" b="textAreaBottom"/>
            <a:pathLst>
              <a:path w="21600" h="26953">
                <a:moveTo>
                  <a:pt x="0" y="0"/>
                </a:moveTo>
                <a:lnTo>
                  <a:pt x="21600" y="0"/>
                </a:lnTo>
                <a:lnTo>
                  <a:pt x="21600" y="26953"/>
                </a:lnTo>
                <a:lnTo>
                  <a:pt x="0" y="26953"/>
                </a:lnTo>
                <a:close/>
              </a:path>
              <a:path fill="lightenLess" w="21600" h="26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3">
                <a:moveTo>
                  <a:pt x="21600" y="0"/>
                </a:moveTo>
                <a:lnTo>
                  <a:pt x="21600" y="26953"/>
                </a:lnTo>
                <a:lnTo>
                  <a:pt x="20200" y="25553"/>
                </a:lnTo>
                <a:lnTo>
                  <a:pt x="20200" y="1400"/>
                </a:lnTo>
                <a:close/>
              </a:path>
              <a:path fill="darkenLess" w="21600" h="26953">
                <a:moveTo>
                  <a:pt x="21600" y="26953"/>
                </a:moveTo>
                <a:lnTo>
                  <a:pt x="0" y="26953"/>
                </a:lnTo>
                <a:lnTo>
                  <a:pt x="1400" y="25553"/>
                </a:lnTo>
                <a:lnTo>
                  <a:pt x="20200" y="25553"/>
                </a:lnTo>
                <a:close/>
              </a:path>
              <a:path fill="lighten" w="21600" h="26953">
                <a:moveTo>
                  <a:pt x="0" y="26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3"/>
                </a:lnTo>
                <a:close/>
              </a:path>
              <a:path fill="darken" w="21600" h="26953">
                <a:moveTo>
                  <a:pt x="3794" y="10169"/>
                </a:moveTo>
                <a:lnTo>
                  <a:pt x="7301" y="10169"/>
                </a:lnTo>
                <a:lnTo>
                  <a:pt x="7301" y="15504"/>
                </a:lnTo>
                <a:cubicBezTo>
                  <a:pt x="7301" y="16427"/>
                  <a:pt x="8102" y="17158"/>
                  <a:pt x="9138" y="17158"/>
                </a:cubicBezTo>
                <a:lnTo>
                  <a:pt x="10800" y="17158"/>
                </a:lnTo>
                <a:cubicBezTo>
                  <a:pt x="11836" y="17158"/>
                  <a:pt x="12636" y="16427"/>
                  <a:pt x="12636" y="15504"/>
                </a:cubicBezTo>
                <a:lnTo>
                  <a:pt x="12636" y="10169"/>
                </a:lnTo>
                <a:lnTo>
                  <a:pt x="10800" y="10169"/>
                </a:lnTo>
                <a:lnTo>
                  <a:pt x="14308" y="6661"/>
                </a:lnTo>
                <a:lnTo>
                  <a:pt x="17981" y="10169"/>
                </a:lnTo>
                <a:lnTo>
                  <a:pt x="16144" y="10169"/>
                </a:lnTo>
                <a:lnTo>
                  <a:pt x="16144" y="15504"/>
                </a:lnTo>
                <a:cubicBezTo>
                  <a:pt x="16144" y="18272"/>
                  <a:pt x="13568" y="20831"/>
                  <a:pt x="10800" y="20831"/>
                </a:cubicBezTo>
                <a:lnTo>
                  <a:pt x="9138" y="20831"/>
                </a:lnTo>
                <a:cubicBezTo>
                  <a:pt x="6370" y="20831"/>
                  <a:pt x="3794" y="18272"/>
                  <a:pt x="3794" y="15504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7400880" y="0"/>
            <a:ext cx="1743120" cy="191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8:55:12Z</dcterms:created>
  <dc:creator>XX</dc:creator>
  <dc:description/>
  <dc:language>en-US</dc:language>
  <cp:lastModifiedBy>1</cp:lastModifiedBy>
  <dcterms:modified xsi:type="dcterms:W3CDTF">2013-02-27T17:10:18Z</dcterms:modified>
  <cp:revision>49</cp:revision>
  <dc:subject/>
  <dc:title>Игра</dc:title>
</cp:coreProperties>
</file>