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0DD-0FB8-42D1-AD27-29556143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A3E-8C0C-4F8A-AD00-72F9B19C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FFE7B-F5A0-4A39-B966-A91802F1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5D6E-45F2-47E0-839D-82B3502C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001D1-5623-469B-BE1F-BCE5E20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C0C6-8A03-456F-BBA8-A1F261F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57E07-7FDF-45CD-BC65-5C3053C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03DB-8F4F-447A-AA9E-2586CEDE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D153B-3D45-4DDB-8E98-37BDE7C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B8C1-450E-4B3D-8C3C-BA522703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3DF7A-9697-4F9B-BB01-2BDF3DF8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110EE-CC90-4CA0-A7E7-3A096C8F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AA2-2E27-4C9A-A6CC-A7E72016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52877-E03E-436F-BE00-2E89BAC9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5F26-7391-4C4F-B102-7571321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9057-5FF3-4A7D-8184-8C3BD61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D0047-9859-4366-8C0E-292CC56F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4EABA-1C2D-4924-BE0C-F745DD44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A5C60-7125-4A7E-B861-390E2F6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4D1FF-8448-4C3A-B18D-DC72BEF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DB5FB-077C-48A6-8384-03CE21F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A9925-D7F6-4615-BFEF-EE1E68D6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74B54-3DF6-491D-9166-54A6063A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864-94E3-4564-8E58-231B0EB4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62B69-2566-4A20-843D-BE0284AC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FD4-4ADB-445B-A8F9-5DBC9B7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8806-B122-40B5-B37C-EB35AC2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DFD-8726-4E78-93F4-F432AA42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1A06-BA41-4AE3-B603-01B75AC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C74-43CE-41EE-B0F4-4E338E9E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B958-6A09-48FF-B6E0-03C4C98F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8FE-EBCC-45D0-9050-E7C4E6CB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C52-1DEB-4A5E-ACC3-6284E9C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EE88-46E9-497F-A661-C3B8BD1B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6DC-8799-478C-9555-EAE556D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11E6-EF77-4DAA-A139-6A7A675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832-6A31-4D2F-82E5-30C6AF8D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E1D-955E-4C5B-A6EE-247EC44E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63D8-2060-48BC-8646-66F80AB3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FA9D-DB1E-4EC3-831E-CB040548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9556-BF98-4521-BBAB-11F82EF9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D45D-DEC1-4593-ABF0-1A4DC81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95FB-A5A2-4C74-BFCE-0F25B9A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DB6-FC56-4C6F-B1C1-E421818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EB60-0588-460C-88DC-5DDDE89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F610-0708-44E8-8794-9BEB54C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BA1C-3F66-4155-A9BE-94EE575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E928-1DF4-4AAB-AD97-1BDFC8A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4FC8-2CEA-411D-98FE-F892C77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2E4F-2A7E-4638-AB1F-6F4FE653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C2E1-D8BF-43E5-9893-5AEDAE76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C5DCA-800B-4371-A711-F3CAD1F8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FE49-79DF-4921-95C3-5FDD741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11F7-7813-4039-A6C3-EBFF9FA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1E9-CD61-47C4-B163-0BDC53B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0B83-B98F-4C84-868A-1F4FBA3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6895-5844-4ED5-8D40-37F5543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FB27-A1E0-44D0-B1FF-E3F543F3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0AB4-5578-4DB6-8276-0B8EDB0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32B7-6676-4A17-90A3-1CAD3CCD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B4F0-BFC2-4741-A39B-EB861D3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D4EF-0233-4F7E-9C2C-F48C77C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55DF-8825-4E50-A769-89090E02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64C6-31F0-424F-9266-3E5BA661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59A3-A254-4DE1-913D-A6877D73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AA3-DB14-4109-939D-C75DEBF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53DE-58C9-4C8A-8ACC-C339140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5F12-9190-42A1-B989-7A4E77E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1836-EF41-46CF-956B-340B1C1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BE8A-8BB9-4874-8C28-BDA7BEDD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14A1-D24F-493C-BD65-C802D83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2FEE-1884-4D99-B7DB-16750CE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6DBAC-F722-4127-BF11-9939B8B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F777-075F-4772-AE78-68FBDFD8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C784-9C82-4CAE-9A83-B9D81E5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C1683-5798-4B09-9DBD-01307AA1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8A7-A0A5-4F35-94C9-5DCA0E5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9009-214C-40C6-9D9C-3BB3603E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FDB00-C45F-479A-AA07-372D34A0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ED25-AEB5-4224-A98D-3E78701B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E29B-4569-4654-AE9C-80179575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B2EF0-DF74-4292-BCCF-A1F0B48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9E98-37DA-40B0-BB77-893CEC7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5CB0-A62F-421B-AB0E-E1FCA3C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FA07-F2B0-4785-B1B6-845E1A3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FA74-8360-4069-94F0-06478A0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2226-23AD-4816-BCDE-6265F31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AC8-E80B-4010-8134-3ADD771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304B1-018E-4383-8555-D729E1B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126D-1147-44F5-AE0D-F6B399D6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CC1C-89B9-496E-ACE7-A32C9FA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CA61-6BC3-4C6F-9D2C-CC0F6117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E912-8138-489E-BA69-4384F9EC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6A7A-BA35-4700-904C-12705AB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881B5-F47F-4BD5-AD33-F4AB21E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A8EEF-F4D1-4821-9D1A-361E8A44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DC61-C44E-4FF8-B6C4-4A983BD5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0D50-ABB6-4C9C-845E-8422FE6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F89-C2B9-4EE6-9D63-DE4CFA8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C4DB-8FCE-4B2A-97FA-9E51B09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8925-9E95-4890-BD76-D801540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19B2-F062-4836-9EBE-702D3C7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26FB-A0F3-40FA-B6C0-5269DE8C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64F53-C897-428F-A195-86CE944D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770E-5B36-4931-B632-B23C64DF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8488-EB6A-4253-A722-682FC7B3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465F-427D-46D8-9110-44CA04A9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A3CE-5088-4D06-976D-0FACA04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0126-2BFC-4F68-AAE0-73B127B0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021-1BEC-4C15-92CC-FCEDBEA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35896-77B2-45F2-9FC3-C92C9B9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4B85A-99E4-464A-9F93-55340DF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9228-DB3B-4E0F-8B19-260E675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98D3-BFD7-4082-AF28-0CBECC8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6362-BCEC-4005-928E-49AFBEB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1EDDB-551E-42DB-A48B-97A01E8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BD094-EEF4-4E08-ADBB-ED6BB75B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46E7D-31D4-404B-A957-9B92DFB3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C5E8E-900B-4AF2-8ACB-DF241D8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3B0E4-AA32-4D65-88B7-8269968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02E6-92B2-419E-8229-F3767F81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F4F-7574-4385-9A59-FF27C7DEE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92B-5E07-4BA8-B8C2-26799B458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D91-5B9B-4E9F-9F86-DE4E9F8A6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EF7A-8CD1-4FFD-926C-131406ADA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76B-59B8-44AF-9A80-B21623B6A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8E5-5883-4EA7-A85A-8A50A6DA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CAE-0C2F-4B35-9106-E53362E3E0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C41-D9DE-4FA2-9894-140FCE43BE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2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2F2-EA1D-4D3C-A469-6520B96D9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Что за прелесть эти сказки 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2 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 Сказки 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>
            <a:hlinkClick r:id="rId5" action="ppaction://hlinksldjump"/>
          </p:cNvPr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Сказки 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7" action="ppaction://hlinksldjump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8" action="ppaction://hlinksldjump"/>
              </a:rPr>
              <a:t>Сказочные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9" action="ppaction://hlinksldjump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10" action="ppaction://hlinksldjump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1280" y="-387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казки Андерсе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79640" y="764640"/>
            <a:ext cx="6337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ероиня  этой сказки трижды чуть было  не вышла заму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Андерсена есть разделение на главы, имеющие собственное наз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роль контро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стройства играло растение семейства боб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аристократия с     удовольствием вдыхала кух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ах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а сказка подтверждает истин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не следует садиться не в сво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63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Сказки 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843280" y="981000"/>
            <a:ext cx="5843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Эта супружеская пара прожила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ережье 8 лет после серебря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адь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1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азвание чудесного острова 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Й сказ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этой сказке герой отказалс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овора, за что лишился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Имя этого сказочного героя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идетельствует о  его умств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Герой этого произве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учился на колдуна, но окончате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очаровался в люб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0" y="4510080"/>
            <a:ext cx="284328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В какой сказке корова умела говорить, ткать и ш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В этой сказке результат был достигнут благода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леднему усилию мелкого грызу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Героиня этой сказки «подарила» своим хозяевам в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ычного предмета – драгоц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Герой этой сказки на соревновании по прыжкам поплатился за свое обжор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Кто умудрился в одно и то же время находить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еко и близко, высоко и низко, все видел, все слыш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есть не веле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987640" y="4703760"/>
            <a:ext cx="316872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780000" y="1125000"/>
            <a:ext cx="4906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Этим предметом щекотала горло северному олен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ая разбой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т предмет слегка трон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ь в «Старике Хоттабыч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 средство помогло герою избавиться от высокой темп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тот предмет служил почтовой бумаг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т предмет помог солдату избежать смерт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">
            <a:hlinkClick r:id="rId3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6194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Arial"/>
                <a:hlinkClick r:id="rId1" action="ppaction://hlinksldjump"/>
              </a:rPr>
              <a:t>Сказочные персонаж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79280" y="1412640"/>
            <a:ext cx="69850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ерой этой сказки тощий, смугл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таричок с бородой по поя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т персонаж питался мочалк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т мальчик очень самостоятельный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хозяйственный, любит животных. Е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иятель в свободное врем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нимается фотоохот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 герой собирался стать артистом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 его карьеру чуть не погубил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есколько моне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т персонаж самый непослушный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диристый. В школу он не ходил, но са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чился писать стихи, рисовать портреты 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грать на труб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32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69994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«Дело житейское! Спокойствие, т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ствие!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Клянусь своей треуголко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 Не откроем мы тебе дверь, ты не матушка наш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Не плачьте. Ваша дочь не умерла. Она проснется. Но до той поры пройдет 100 лет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 Кири-куку! Царствуй, лежа на боку!»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0" y="5081760"/>
            <a:ext cx="2124000" cy="17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24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>
            <a:hlinkClick r:id="rId2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азки Андерсена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Этот предмет в руках волшебницы заставил Гер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быть о цели своих скит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Сказка, финал которой подтверждает мудрое высказыва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стами младенца гласит ис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Героиня этой сказки балует своих детей, что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растить из них хороших специалистов Э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фе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Ради красивой женщины герой этой сказки забы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 своих 12 дет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В этой сказке прекрасные женские ножки приравнивались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красному женскому голосу или длинным волосам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азки 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633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В этой сказке главный герой подслушал разговор трех девуш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О каком предмете из какой сказки ид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:   Так свежо и так душис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румяно-золотис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то медом налило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Произнесите полное название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казки о царе Салтан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Главным героям ЭТОЙ сказки автор не дал и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Кто такая  «сенная девушка» и в какой сказке она фигурир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6924600" y="0"/>
            <a:ext cx="22194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">
            <a:hlinkClick r:id="rId1" action="ppaction://hlinksldjump"/>
          </p:cNvPr>
          <p:cNvSpPr/>
          <p:nvPr/>
        </p:nvSpPr>
        <p:spPr>
          <a:xfrm>
            <a:off x="1187280" y="2276640"/>
            <a:ext cx="1440000" cy="122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>
            <a:hlinkClick r:id="rId2" action="ppaction://hlinksldjump"/>
          </p:cNvPr>
          <p:cNvSpPr/>
          <p:nvPr/>
        </p:nvSpPr>
        <p:spPr>
          <a:xfrm>
            <a:off x="3924360" y="2349360"/>
            <a:ext cx="143964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2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>
            <a:hlinkClick r:id="rId4" action="ppaction://hlinksldjump"/>
          </p:cNvPr>
          <p:cNvSpPr/>
          <p:nvPr/>
        </p:nvSpPr>
        <p:spPr>
          <a:xfrm>
            <a:off x="6588000" y="2349360"/>
            <a:ext cx="144000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В этой сказке реки и берега были съедобн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В этой сказке живут два шагающих вед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Героиня этой сказки получает от умирающей матер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шебную куколку-помощниц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Героиня этой сказки, будучи в гостях, разлом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ущество хозя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В этой сказке Жар-птица клевала золотые ябло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2700360" y="4635360"/>
            <a:ext cx="363708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655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836280"/>
            <a:ext cx="6769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этой сказке посуда умела разговари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и предметы сказочный персонаж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л  перед  послушными деть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т «предмет» мог превратить старика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нош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Этот «предмет» дал имя главной геро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одной сказке ЭТО превращается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нспортное средство, а в друг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дядюшкой главного геро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3419640" y="47340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казочные персонаж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123640" y="764640"/>
            <a:ext cx="66358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Эта героиня очень м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утешествовала – по воде, п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оздуху, по суше и даже побыва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 зем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Этот отрицательный персона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адал от собственного ум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еревоплощатьс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У этой героини всего один зу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Этот персонаж жил в телефон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буд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Эта героиня сыграла рол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еханической кукл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20844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0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754360" cy="29242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771640" y="907920"/>
            <a:ext cx="61214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«Добрый путь вам, господа, по мор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оке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«Я почему вредный был? Потому что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меня велосипеда не было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« Вот тебе ячменное зерно. 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ерно не простое, не такое,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ут на крестьянских пол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« Здравствуйте, сейчас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ыграем перед вами комедию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« Еду, еду в Африку, милые кра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 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">
            <a:hlinkClick r:id="rId2" action="ppaction://hlinksldjump"/>
          </p:cNvPr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 Г.Х.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10        15 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>
            <a:hlinkClick r:id="rId3" action="ppaction://hlinksldjump"/>
          </p:cNvPr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А.С.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10     15    20      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>
            <a:hlinkClick r:id="rId4" action="ppaction://hlinksldjump"/>
          </p:cNvPr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10      15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>
            <a:hlinkClick r:id="rId5" action="ppaction://hlinksldjump"/>
          </p:cNvPr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Сказочны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10      15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>
            <a:hlinkClick r:id="rId7" action="ppaction://hlinksldjump"/>
          </p:cNvPr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10         15         20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>
            <a:hlinkClick r:id="rId8" action="ppaction://hlinksldjump"/>
          </p:cNvPr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10          15          20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>
            <a:hlinkClick r:id="rId9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362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азки Андерсе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50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ерой этой сказки «не боится воды, хорошо гребет  лапками и при этом прямо держитс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этой сказке крыса потребовала у главного героя  док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 в сказке сравнивается с чайными чашками, мельничными жерновами и круглой баш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У героя этой сказки 24 б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какой сказке зрение приравнивалось мешку зерна и новой шуб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878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азки А.С.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В этой сказке пушистый грызун питался драгоценност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С помощью этого предмета 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ло выбрать королеву крас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В этой сказке жительница морских глубин проучила жад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В этой сказочной поэме один бр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л великаном, другой – карл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В той сказке злая мачеха грозила своей чернавке рогаткой. Что это означ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6558120" y="0"/>
            <a:ext cx="25858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40872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ерой этой сказки пил из запреще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оч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ероиня этой сказки заманила в ловушку доверчивого героя-путешествен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Эта героиня боялась жаркой пог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Кто и с кем делил вершки и кореш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Этот предмет помогал задержать погоню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помощи него также убирали из памя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е-какие воспомин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9400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Транспортное средство сказочного героя-лежебо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В солнечную погоду этот предмет способ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ождать виртуальное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т «предмет» потерял сказочный герой накану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его Дня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Этот предмет не только готовил пищу, но и иг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лод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 этого необычного «предмета» были сплете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ба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3492360" y="4869000"/>
            <a:ext cx="2411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казочные персонаж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132000" y="1125360"/>
            <a:ext cx="5554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а героиня немного болтлива, что чуть было не привело к гибели и ее саму, и ее близкую родственниц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 герой был еще молодым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еленым, но заставлял рыд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юбого врага, который пытал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аскать его за волос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и герои совершают побег, чтобы сохранить любовь, но возвращают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 свой комод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а героиня обладала  необыч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нешностью и любила всех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спитыв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5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й героине тарелка воды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меняла озер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0" y="4511520"/>
            <a:ext cx="31320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696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Хорошими делами прославиться нельз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«Мой народец странный, глупый, деревян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кольный владыка, вот кто я, поди-ка!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 Какое странное ощущение!  Я, вер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ладываюсь, как подзорная труб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 Песнями сыт не будешь, чириканьем зим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греешь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 Я Слишком тонка, я не создана для эт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ра !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7400880" y="0"/>
            <a:ext cx="1743120" cy="19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8:55:12Z</dcterms:created>
  <dc:creator>XX</dc:creator>
  <dc:description/>
  <dc:language>en-US</dc:language>
  <cp:lastModifiedBy>1</cp:lastModifiedBy>
  <dcterms:modified xsi:type="dcterms:W3CDTF">2013-02-27T17:10:18Z</dcterms:modified>
  <cp:revision>49</cp:revision>
  <dc:subject/>
  <dc:title>Игра</dc:title>
</cp:coreProperties>
</file>