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BE5-DBE6-4615-B2B8-24CDCFBA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B63-5B25-42DA-84A1-7178A0AD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C98-6FF1-4882-9DD2-089877D7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84A-C54F-40B1-B1E7-D58A1B46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1B20-92E0-45BF-912F-E237D73F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28BD-E77E-4261-A434-740E8C3B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4217-BD77-4ADF-B0CB-86261DAB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0173-CD34-4477-BE5D-BDA89E8C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ED07-8841-44D8-A9C7-03A30AF1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FF67-7C34-479A-88AD-806CE116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6310-4BD9-42B2-89B8-EECF5D65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44F-6E87-4ACE-9A3C-1DBED43A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33B3-B3A9-45CF-B593-AE1B3EB7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A9A2-DF09-42DE-B47A-A5F9A82A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5938-E13F-4B88-BD5E-24E91519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4AF3-F6AD-498D-8381-7693F839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5091-4F80-4232-B230-DA78F10E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6B113-1EC6-4AEE-ACE0-AA2FDDB3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5E28-41D0-4174-9987-9B67DBBD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2AD2D-45CF-4DD8-A52C-CB24DB63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95C8C-B639-4FE6-9AC3-95D35CE8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66C33-A9F6-4786-8B63-5A6F153C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D43-D285-42CC-A899-532D6749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4AB2-11CD-490B-9BAC-C8E10662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AB62A-C415-4C1B-9B17-E990D615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163FA-12A9-4516-B926-354FDC64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D4BB4-7D1F-4828-ABB8-56F559DD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E574A-7705-4CCE-BA3F-5A73756C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179F-8A20-4082-945A-CBFD8597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11DD-3E3C-40ED-8824-0184ECB0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27F9D-044F-4AFF-9764-45F9064B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9204B-88A2-43DC-BA18-651E8E7A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EFC2F-C9B0-478B-91EF-5BCD5973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F02-51F9-48DA-84EF-B7373A4E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21A7E-986D-4F60-874E-162CAD45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EE3E3-21E1-47E7-904B-535A562E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0C9AE-8D99-4854-871F-EB996286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53B0-4610-46AD-A392-DE5471A9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417DC-956E-493D-8B7B-AD5CF60F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78CDD-F7BD-4306-A8ED-A13396BE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C5177-C9A1-42EB-9D90-E756DED7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64D4A-1D82-4E9E-8C4E-EE4D6E8C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A92B7-3082-4E82-A806-7C3B6EE7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F70F-F4C6-4127-8039-957C3A92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B98-7893-4719-94D9-1A80BD4C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3444-AF3A-4926-A6A1-A21246B2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0B6-07FE-4705-AD9A-3E2C3944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710-DC7C-4A8A-9C11-E7B49E02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5217-40C6-41B5-BA7E-5FC96D160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455C-F41A-4909-A008-958F7A236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758D-BE81-4ADB-AD37-29497B909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AF56-186B-4213-8C8F-F75D56AC6F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457200" y="244440"/>
            <a:ext cx="83851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Атмосфера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Причины,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влияющие на клима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4551480" y="4673520"/>
            <a:ext cx="41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геогра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БОУ СОШ№1238 г.Москв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ярчук Л.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start"/>
          <p:cNvPicPr/>
          <p:nvPr/>
        </p:nvPicPr>
        <p:blipFill>
          <a:blip r:embed="rId1"/>
          <a:stretch/>
        </p:blipFill>
        <p:spPr>
          <a:xfrm>
            <a:off x="0" y="789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5"/>
          <p:cNvSpPr/>
          <p:nvPr/>
        </p:nvSpPr>
        <p:spPr>
          <a:xfrm>
            <a:off x="0" y="836640"/>
            <a:ext cx="183528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ёпл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1835280" y="112392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2411280" y="836640"/>
            <a:ext cx="180036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выш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озду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4211640" y="112536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4788000" y="836640"/>
            <a:ext cx="187164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вели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а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6659640" y="112536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12"/>
          <p:cNvSpPr/>
          <p:nvPr/>
        </p:nvSpPr>
        <p:spPr>
          <a:xfrm>
            <a:off x="7236000" y="836640"/>
            <a:ext cx="190800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вели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ли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ад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висимость климата от океанических теч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start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8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висимость климата от направления господствующих ве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2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висимость климата от направления господствующих ве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3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висимость климата от направления господствующих ве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4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висимость климата от направления господствующих ве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5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висимость климата от направления господствующих ве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75564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ичины, влияющие на клима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611280" y="9079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Географическая широ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11280" y="14698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2.Высота мест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539640" y="198900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3.Положение относительно горных хреб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468360" y="29811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4.Близость морей и океа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395280" y="35733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5.Океанические те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324000" y="41497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6.Направление преобладающих вет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250920" y="40464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258920" y="476280"/>
          <a:ext cx="6095880" cy="6242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Широ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Средняя годовая темп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Северный полю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80</a:t>
                      </a:r>
                      <a:r>
                        <a:rPr b="1" lang="ru-RU" sz="1600" spc="-1" strike="noStrike" baseline="30000">
                          <a:solidFill>
                            <a:srgbClr val="ff99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70</a:t>
                      </a:r>
                      <a:r>
                        <a:rPr b="1" lang="ru-RU" sz="1600" spc="-1" strike="noStrike" baseline="30000">
                          <a:solidFill>
                            <a:srgbClr val="ff99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60</a:t>
                      </a:r>
                      <a:r>
                        <a:rPr b="1" lang="ru-RU" sz="1600" spc="-1" strike="noStrike" baseline="30000">
                          <a:solidFill>
                            <a:srgbClr val="ff99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50</a:t>
                      </a:r>
                      <a:r>
                        <a:rPr b="1" lang="ru-RU" sz="1600" spc="-1" strike="noStrike" baseline="30000">
                          <a:solidFill>
                            <a:srgbClr val="ff99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40</a:t>
                      </a:r>
                      <a:r>
                        <a:rPr b="1" lang="ru-RU" sz="1600" spc="-1" strike="noStrike" baseline="30000">
                          <a:solidFill>
                            <a:srgbClr val="ff99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30</a:t>
                      </a:r>
                      <a:r>
                        <a:rPr b="1" lang="ru-RU" sz="1600" spc="-1" strike="noStrike" baseline="30000">
                          <a:solidFill>
                            <a:srgbClr val="ff99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20</a:t>
                      </a:r>
                      <a:r>
                        <a:rPr b="1" lang="ru-RU" sz="1600" spc="-1" strike="noStrike" baseline="30000">
                          <a:solidFill>
                            <a:srgbClr val="ff99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10</a:t>
                      </a:r>
                      <a:r>
                        <a:rPr b="1" lang="ru-RU" sz="1600" spc="-1" strike="noStrike" baseline="30000">
                          <a:solidFill>
                            <a:srgbClr val="ff99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Экв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10</a:t>
                      </a:r>
                      <a:r>
                        <a:rPr b="1" lang="ru-RU" sz="1600" spc="-1" strike="noStrike" baseline="30000">
                          <a:solidFill>
                            <a:srgbClr val="ff99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20</a:t>
                      </a:r>
                      <a:r>
                        <a:rPr b="1" lang="ru-RU" sz="1600" spc="-1" strike="noStrike" baseline="30000">
                          <a:solidFill>
                            <a:srgbClr val="ff99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30</a:t>
                      </a:r>
                      <a:r>
                        <a:rPr b="1" lang="ru-RU" sz="1600" spc="-1" strike="noStrike" baseline="30000">
                          <a:solidFill>
                            <a:srgbClr val="ff99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40</a:t>
                      </a:r>
                      <a:r>
                        <a:rPr b="1" lang="ru-RU" sz="1600" spc="-1" strike="noStrike" baseline="30000">
                          <a:solidFill>
                            <a:srgbClr val="ff99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50</a:t>
                      </a:r>
                      <a:r>
                        <a:rPr b="1" lang="ru-RU" sz="1600" spc="-1" strike="noStrike" baseline="30000">
                          <a:solidFill>
                            <a:srgbClr val="ff99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60</a:t>
                      </a:r>
                      <a:r>
                        <a:rPr b="1" lang="ru-RU" sz="1600" spc="-1" strike="noStrike" baseline="30000">
                          <a:solidFill>
                            <a:srgbClr val="ff99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70</a:t>
                      </a:r>
                      <a:r>
                        <a:rPr b="1" lang="ru-RU" sz="1600" spc="-1" strike="noStrike" baseline="30000">
                          <a:solidFill>
                            <a:srgbClr val="ff99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80</a:t>
                      </a:r>
                      <a:r>
                        <a:rPr b="1" lang="ru-RU" sz="1600" spc="-1" strike="noStrike" baseline="30000">
                          <a:solidFill>
                            <a:srgbClr val="ff99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Bookman Old Style"/>
                        </a:rPr>
                        <a:t>Южный полю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9</a:t>
                      </a:r>
                      <a:r>
                        <a:rPr b="0" lang="ru-RU" sz="16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,2</a:t>
                      </a:r>
                      <a:r>
                        <a:rPr b="0" lang="ru-RU" sz="16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,4</a:t>
                      </a:r>
                      <a:r>
                        <a:rPr b="0" lang="ru-RU" sz="16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6</a:t>
                      </a:r>
                      <a:r>
                        <a:rPr b="0" lang="ru-RU" sz="16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,4</a:t>
                      </a:r>
                      <a:r>
                        <a:rPr b="0" lang="ru-RU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,0</a:t>
                      </a:r>
                      <a:r>
                        <a:rPr b="0" lang="ru-RU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,4</a:t>
                      </a:r>
                      <a:r>
                        <a:rPr b="0" lang="ru-RU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,0</a:t>
                      </a:r>
                      <a:r>
                        <a:rPr b="0" lang="ru-RU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,0</a:t>
                      </a:r>
                      <a:r>
                        <a:rPr b="0" lang="ru-RU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,5</a:t>
                      </a:r>
                      <a:r>
                        <a:rPr b="0" lang="ru-RU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,7</a:t>
                      </a:r>
                      <a:r>
                        <a:rPr b="0" lang="ru-RU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,8</a:t>
                      </a:r>
                      <a:r>
                        <a:rPr b="0" lang="ru-RU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,3</a:t>
                      </a:r>
                      <a:r>
                        <a:rPr b="0" lang="ru-RU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,0</a:t>
                      </a:r>
                      <a:r>
                        <a:rPr b="0" lang="ru-RU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,3</a:t>
                      </a:r>
                      <a:r>
                        <a:rPr b="0" lang="ru-RU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3,4</a:t>
                      </a:r>
                      <a:r>
                        <a:rPr b="0" lang="ru-RU" sz="16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13,6</a:t>
                      </a:r>
                      <a:r>
                        <a:rPr b="0" lang="ru-RU" sz="16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27,0</a:t>
                      </a:r>
                      <a:r>
                        <a:rPr b="0" lang="ru-RU" sz="16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33,0</a:t>
                      </a:r>
                      <a:r>
                        <a:rPr b="0" lang="ru-RU" sz="16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40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реднегодовая температура на разных широт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Угол падения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3672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гревание земной поверхности зависит от угла падения солнечных луч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4"/>
          <p:cNvSpPr/>
          <p:nvPr/>
        </p:nvSpPr>
        <p:spPr>
          <a:xfrm>
            <a:off x="1835280" y="260280"/>
            <a:ext cx="590544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Различная высота Солн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4427640" y="1413000"/>
            <a:ext cx="720720" cy="792000"/>
          </a:xfrm>
          <a:prstGeom prst="downArrow">
            <a:avLst>
              <a:gd name="adj1" fmla="val 50000"/>
              <a:gd name="adj2" fmla="val 274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1835280" y="2205000"/>
            <a:ext cx="5976720" cy="1295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Разное нагре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земной поверх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4427640" y="3500280"/>
            <a:ext cx="720720" cy="792360"/>
          </a:xfrm>
          <a:prstGeom prst="downArrow">
            <a:avLst>
              <a:gd name="adj1" fmla="val 50000"/>
              <a:gd name="adj2" fmla="val 274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1835280" y="4292640"/>
            <a:ext cx="5976720" cy="1295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Различная температура возду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7"/>
          <p:cNvSpPr/>
          <p:nvPr/>
        </p:nvSpPr>
        <p:spPr>
          <a:xfrm>
            <a:off x="1979640" y="2852640"/>
            <a:ext cx="647640" cy="1944720"/>
          </a:xfrm>
          <a:prstGeom prst="upArrow">
            <a:avLst>
              <a:gd name="adj1" fmla="val 50000"/>
              <a:gd name="adj2" fmla="val 750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1042920" y="198900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С подъёмом на 1 км температура воздуха понижается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771640" y="25574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6</a:t>
            </a:r>
            <a:r>
              <a:rPr b="1" lang="ru-RU" sz="2400" spc="-1" strike="noStrike" baseline="30000">
                <a:solidFill>
                  <a:srgbClr val="ff0000"/>
                </a:solidFill>
                <a:latin typeface="Bookman Old Style"/>
              </a:rPr>
              <a:t>0</a:t>
            </a: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588000" y="4365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4211640" y="2421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-6</a:t>
            </a:r>
            <a:r>
              <a:rPr b="1" lang="ru-RU" sz="1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Freeform 15"/>
          <p:cNvSpPr/>
          <p:nvPr/>
        </p:nvSpPr>
        <p:spPr>
          <a:xfrm>
            <a:off x="1258920" y="2779560"/>
            <a:ext cx="7416720" cy="2089440"/>
          </a:xfrm>
          <a:custGeom>
            <a:avLst/>
            <a:gdLst/>
            <a:ahLst/>
            <a:rect l="l" t="t" r="r" b="b"/>
            <a:pathLst>
              <a:path w="4672" h="1316">
                <a:moveTo>
                  <a:pt x="0" y="1316"/>
                </a:moveTo>
                <a:lnTo>
                  <a:pt x="908" y="1316"/>
                </a:lnTo>
                <a:lnTo>
                  <a:pt x="1180" y="1270"/>
                </a:lnTo>
                <a:lnTo>
                  <a:pt x="1407" y="1134"/>
                </a:lnTo>
                <a:lnTo>
                  <a:pt x="1588" y="908"/>
                </a:lnTo>
                <a:lnTo>
                  <a:pt x="1724" y="590"/>
                </a:lnTo>
                <a:lnTo>
                  <a:pt x="1860" y="182"/>
                </a:lnTo>
                <a:lnTo>
                  <a:pt x="1996" y="0"/>
                </a:lnTo>
                <a:lnTo>
                  <a:pt x="2178" y="0"/>
                </a:lnTo>
                <a:lnTo>
                  <a:pt x="2268" y="136"/>
                </a:lnTo>
                <a:lnTo>
                  <a:pt x="2359" y="318"/>
                </a:lnTo>
                <a:lnTo>
                  <a:pt x="2586" y="953"/>
                </a:lnTo>
                <a:lnTo>
                  <a:pt x="2677" y="1089"/>
                </a:lnTo>
                <a:lnTo>
                  <a:pt x="2813" y="1180"/>
                </a:lnTo>
                <a:lnTo>
                  <a:pt x="3085" y="1270"/>
                </a:lnTo>
                <a:lnTo>
                  <a:pt x="4672" y="127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висимость климата от высоты мест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д уровнем мо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Влияние рельефа1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Облако1"/>
          <p:cNvPicPr/>
          <p:nvPr/>
        </p:nvPicPr>
        <p:blipFill>
          <a:blip r:embed="rId2"/>
          <a:srcRect l="0" t="0" r="57393" b="73622"/>
          <a:stretch/>
        </p:blipFill>
        <p:spPr>
          <a:xfrm>
            <a:off x="611280" y="5157720"/>
            <a:ext cx="792000" cy="368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Облако1"/>
          <p:cNvPicPr/>
          <p:nvPr/>
        </p:nvPicPr>
        <p:blipFill>
          <a:blip r:embed="rId3"/>
          <a:srcRect l="0" t="0" r="58840" b="73632"/>
          <a:stretch/>
        </p:blipFill>
        <p:spPr>
          <a:xfrm>
            <a:off x="1836720" y="4724280"/>
            <a:ext cx="1079640" cy="520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Облако1"/>
          <p:cNvPicPr/>
          <p:nvPr/>
        </p:nvPicPr>
        <p:blipFill>
          <a:blip r:embed="rId4"/>
          <a:srcRect l="0" t="0" r="58862" b="73622"/>
          <a:stretch/>
        </p:blipFill>
        <p:spPr>
          <a:xfrm>
            <a:off x="3276720" y="4108320"/>
            <a:ext cx="1295280" cy="623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Облако1"/>
          <p:cNvPicPr/>
          <p:nvPr/>
        </p:nvPicPr>
        <p:blipFill>
          <a:blip r:embed="rId5"/>
          <a:srcRect l="0" t="0" r="58862" b="73622"/>
          <a:stretch/>
        </p:blipFill>
        <p:spPr>
          <a:xfrm>
            <a:off x="4427640" y="3068640"/>
            <a:ext cx="1871640" cy="900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Облако1"/>
          <p:cNvPicPr/>
          <p:nvPr/>
        </p:nvPicPr>
        <p:blipFill>
          <a:blip r:embed="rId6"/>
          <a:srcRect l="0" t="0" r="58868" b="73620"/>
          <a:stretch/>
        </p:blipFill>
        <p:spPr>
          <a:xfrm>
            <a:off x="7164360" y="3789360"/>
            <a:ext cx="6476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27"/>
          <p:cNvGrpSpPr/>
          <p:nvPr/>
        </p:nvGrpSpPr>
        <p:grpSpPr>
          <a:xfrm>
            <a:off x="3605040" y="4460040"/>
            <a:ext cx="1356840" cy="599400"/>
            <a:chOff x="3605040" y="4460040"/>
            <a:chExt cx="1356840" cy="599400"/>
          </a:xfrm>
        </p:grpSpPr>
        <p:sp>
          <p:nvSpPr>
            <p:cNvPr id="206" name="Line 28"/>
            <p:cNvSpPr/>
            <p:nvPr/>
          </p:nvSpPr>
          <p:spPr>
            <a:xfrm flipH="1" flipV="1">
              <a:off x="3605040" y="4606920"/>
              <a:ext cx="375120" cy="45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29"/>
            <p:cNvSpPr/>
            <p:nvPr/>
          </p:nvSpPr>
          <p:spPr>
            <a:xfrm flipH="1" flipV="1">
              <a:off x="3679560" y="4595760"/>
              <a:ext cx="374760" cy="45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30"/>
            <p:cNvSpPr/>
            <p:nvPr/>
          </p:nvSpPr>
          <p:spPr>
            <a:xfrm flipH="1" flipV="1">
              <a:off x="3755520" y="4584600"/>
              <a:ext cx="374760" cy="45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 flipH="1" flipV="1">
              <a:off x="3831120" y="4573080"/>
              <a:ext cx="375120" cy="45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32"/>
            <p:cNvSpPr/>
            <p:nvPr/>
          </p:nvSpPr>
          <p:spPr>
            <a:xfrm flipH="1" flipV="1">
              <a:off x="3907080" y="4561920"/>
              <a:ext cx="374760" cy="45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33"/>
            <p:cNvSpPr/>
            <p:nvPr/>
          </p:nvSpPr>
          <p:spPr>
            <a:xfrm flipH="1" flipV="1">
              <a:off x="3983400" y="4550400"/>
              <a:ext cx="376200" cy="45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34"/>
            <p:cNvSpPr/>
            <p:nvPr/>
          </p:nvSpPr>
          <p:spPr>
            <a:xfrm flipH="1" flipV="1">
              <a:off x="4057560" y="4539240"/>
              <a:ext cx="374760" cy="45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35"/>
            <p:cNvSpPr/>
            <p:nvPr/>
          </p:nvSpPr>
          <p:spPr>
            <a:xfrm flipH="1" flipV="1">
              <a:off x="4132080" y="4528080"/>
              <a:ext cx="374760" cy="45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36"/>
            <p:cNvSpPr/>
            <p:nvPr/>
          </p:nvSpPr>
          <p:spPr>
            <a:xfrm flipH="1" flipV="1">
              <a:off x="4209480" y="4516560"/>
              <a:ext cx="376200" cy="45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37"/>
            <p:cNvSpPr/>
            <p:nvPr/>
          </p:nvSpPr>
          <p:spPr>
            <a:xfrm flipH="1" flipV="1">
              <a:off x="4285080" y="4505400"/>
              <a:ext cx="375120" cy="45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38"/>
            <p:cNvSpPr/>
            <p:nvPr/>
          </p:nvSpPr>
          <p:spPr>
            <a:xfrm flipH="1" flipV="1">
              <a:off x="4360680" y="4493880"/>
              <a:ext cx="374400" cy="45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39"/>
            <p:cNvSpPr/>
            <p:nvPr/>
          </p:nvSpPr>
          <p:spPr>
            <a:xfrm flipH="1" flipV="1">
              <a:off x="4436640" y="4482720"/>
              <a:ext cx="374400" cy="45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40"/>
            <p:cNvSpPr/>
            <p:nvPr/>
          </p:nvSpPr>
          <p:spPr>
            <a:xfrm flipH="1" flipV="1">
              <a:off x="4511520" y="4471560"/>
              <a:ext cx="374760" cy="45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41"/>
            <p:cNvSpPr/>
            <p:nvPr/>
          </p:nvSpPr>
          <p:spPr>
            <a:xfrm flipH="1" flipV="1">
              <a:off x="4587120" y="4460040"/>
              <a:ext cx="374760" cy="45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AutoShape 42"/>
          <p:cNvSpPr/>
          <p:nvPr/>
        </p:nvSpPr>
        <p:spPr>
          <a:xfrm>
            <a:off x="179280" y="2205000"/>
            <a:ext cx="5832720" cy="576360"/>
          </a:xfrm>
          <a:prstGeom prst="rightArrow">
            <a:avLst>
              <a:gd name="adj1" fmla="val 49861"/>
              <a:gd name="adj2" fmla="val 6006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правление вет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4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висимость климата от положения местности относительно горных хреб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45"/>
          <p:cNvGrpSpPr/>
          <p:nvPr/>
        </p:nvGrpSpPr>
        <p:grpSpPr>
          <a:xfrm>
            <a:off x="5122080" y="3677400"/>
            <a:ext cx="1253520" cy="521640"/>
            <a:chOff x="5122080" y="3677400"/>
            <a:chExt cx="1253520" cy="521640"/>
          </a:xfrm>
        </p:grpSpPr>
        <p:sp>
          <p:nvSpPr>
            <p:cNvPr id="223" name="Line 46"/>
            <p:cNvSpPr/>
            <p:nvPr/>
          </p:nvSpPr>
          <p:spPr>
            <a:xfrm flipH="1" flipV="1">
              <a:off x="5122080" y="3803760"/>
              <a:ext cx="339840" cy="3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47"/>
            <p:cNvSpPr/>
            <p:nvPr/>
          </p:nvSpPr>
          <p:spPr>
            <a:xfrm flipH="1" flipV="1">
              <a:off x="5191200" y="3794400"/>
              <a:ext cx="339840" cy="3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48"/>
            <p:cNvSpPr/>
            <p:nvPr/>
          </p:nvSpPr>
          <p:spPr>
            <a:xfrm flipH="1" flipV="1">
              <a:off x="5262120" y="3784320"/>
              <a:ext cx="339480" cy="3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49"/>
            <p:cNvSpPr/>
            <p:nvPr/>
          </p:nvSpPr>
          <p:spPr>
            <a:xfrm flipH="1" flipV="1">
              <a:off x="5332680" y="3774600"/>
              <a:ext cx="339480" cy="3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50"/>
            <p:cNvSpPr/>
            <p:nvPr/>
          </p:nvSpPr>
          <p:spPr>
            <a:xfrm flipH="1" flipV="1">
              <a:off x="5403240" y="3764880"/>
              <a:ext cx="339480" cy="3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51"/>
            <p:cNvSpPr/>
            <p:nvPr/>
          </p:nvSpPr>
          <p:spPr>
            <a:xfrm flipH="1" flipV="1">
              <a:off x="5473800" y="3755160"/>
              <a:ext cx="340920" cy="39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52"/>
            <p:cNvSpPr/>
            <p:nvPr/>
          </p:nvSpPr>
          <p:spPr>
            <a:xfrm flipH="1" flipV="1">
              <a:off x="5542920" y="3745440"/>
              <a:ext cx="339840" cy="3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53"/>
            <p:cNvSpPr/>
            <p:nvPr/>
          </p:nvSpPr>
          <p:spPr>
            <a:xfrm flipH="1" flipV="1">
              <a:off x="5612400" y="3736080"/>
              <a:ext cx="339840" cy="3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54"/>
            <p:cNvSpPr/>
            <p:nvPr/>
          </p:nvSpPr>
          <p:spPr>
            <a:xfrm flipH="1" flipV="1">
              <a:off x="5684040" y="3726000"/>
              <a:ext cx="341280" cy="3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55"/>
            <p:cNvSpPr/>
            <p:nvPr/>
          </p:nvSpPr>
          <p:spPr>
            <a:xfrm flipH="1" flipV="1">
              <a:off x="5754960" y="3716280"/>
              <a:ext cx="339480" cy="3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56"/>
            <p:cNvSpPr/>
            <p:nvPr/>
          </p:nvSpPr>
          <p:spPr>
            <a:xfrm flipH="1" flipV="1">
              <a:off x="5825160" y="3706560"/>
              <a:ext cx="339120" cy="3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57"/>
            <p:cNvSpPr/>
            <p:nvPr/>
          </p:nvSpPr>
          <p:spPr>
            <a:xfrm flipH="1" flipV="1">
              <a:off x="5895720" y="3696840"/>
              <a:ext cx="339120" cy="3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58"/>
            <p:cNvSpPr/>
            <p:nvPr/>
          </p:nvSpPr>
          <p:spPr>
            <a:xfrm flipH="1" flipV="1">
              <a:off x="5965200" y="3687120"/>
              <a:ext cx="339480" cy="3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59"/>
            <p:cNvSpPr/>
            <p:nvPr/>
          </p:nvSpPr>
          <p:spPr>
            <a:xfrm flipH="1" flipV="1">
              <a:off x="6035760" y="3677400"/>
              <a:ext cx="339840" cy="3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3" descr="Карта1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611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5"/>
          <p:cNvSpPr/>
          <p:nvPr/>
        </p:nvSpPr>
        <p:spPr>
          <a:xfrm>
            <a:off x="826920" y="981000"/>
            <a:ext cx="555840" cy="215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ff"/>
                </a:solidFill>
                <a:latin typeface="Comic Sans MS"/>
              </a:rPr>
              <a:t>710 м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36"/>
          <p:cNvSpPr/>
          <p:nvPr/>
        </p:nvSpPr>
        <p:spPr>
          <a:xfrm>
            <a:off x="395280" y="622440"/>
            <a:ext cx="485640" cy="215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0000"/>
                </a:solidFill>
                <a:latin typeface="Comic Sans MS"/>
              </a:rPr>
              <a:t>17,8</a:t>
            </a:r>
            <a:r>
              <a:rPr b="1" i="1" lang="ru-RU" sz="8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47520" y="1270080"/>
            <a:ext cx="347760" cy="215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ff"/>
                </a:solidFill>
                <a:latin typeface="Comic Sans MS"/>
              </a:rPr>
              <a:t>-3</a:t>
            </a:r>
            <a:r>
              <a:rPr b="1" i="1" lang="ru-RU" sz="8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2889360" y="3035160"/>
            <a:ext cx="34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2771640" y="3021120"/>
            <a:ext cx="41760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ff"/>
                </a:solidFill>
                <a:latin typeface="Comic Sans MS"/>
              </a:rPr>
              <a:t>470 м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0"/>
          <p:cNvSpPr/>
          <p:nvPr/>
        </p:nvSpPr>
        <p:spPr>
          <a:xfrm>
            <a:off x="2268360" y="2352600"/>
            <a:ext cx="486000" cy="215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0000"/>
                </a:solidFill>
                <a:latin typeface="Comic Sans MS"/>
              </a:rPr>
              <a:t>17,3</a:t>
            </a:r>
            <a:r>
              <a:rPr b="1" i="1" lang="ru-RU" sz="8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1"/>
          <p:cNvSpPr/>
          <p:nvPr/>
        </p:nvSpPr>
        <p:spPr>
          <a:xfrm>
            <a:off x="1692360" y="3214800"/>
            <a:ext cx="555480" cy="215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ff"/>
                </a:solidFill>
                <a:latin typeface="Comic Sans MS"/>
              </a:rPr>
              <a:t>-15,6</a:t>
            </a:r>
            <a:r>
              <a:rPr b="1" i="1" lang="ru-RU" sz="8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42"/>
          <p:cNvSpPr/>
          <p:nvPr/>
        </p:nvSpPr>
        <p:spPr>
          <a:xfrm>
            <a:off x="1633680" y="2013120"/>
            <a:ext cx="41724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ff"/>
                </a:solidFill>
                <a:latin typeface="Comic Sans MS"/>
              </a:rPr>
              <a:t>582 м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43"/>
          <p:cNvSpPr/>
          <p:nvPr/>
        </p:nvSpPr>
        <p:spPr>
          <a:xfrm>
            <a:off x="1187280" y="1486080"/>
            <a:ext cx="487440" cy="215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0000"/>
                </a:solidFill>
                <a:latin typeface="Comic Sans MS"/>
              </a:rPr>
              <a:t>18,1</a:t>
            </a:r>
            <a:r>
              <a:rPr b="1" i="1" lang="ru-RU" sz="8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44"/>
          <p:cNvSpPr/>
          <p:nvPr/>
        </p:nvSpPr>
        <p:spPr>
          <a:xfrm>
            <a:off x="611280" y="2205000"/>
            <a:ext cx="555480" cy="215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ff"/>
                </a:solidFill>
                <a:latin typeface="Comic Sans MS"/>
              </a:rPr>
              <a:t>-10,2</a:t>
            </a:r>
            <a:r>
              <a:rPr b="1" i="1" lang="ru-RU" sz="8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48"/>
          <p:cNvSpPr/>
          <p:nvPr/>
        </p:nvSpPr>
        <p:spPr>
          <a:xfrm>
            <a:off x="5183280" y="4368960"/>
            <a:ext cx="555480" cy="215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ff"/>
                </a:solidFill>
                <a:latin typeface="Comic Sans MS"/>
              </a:rPr>
              <a:t>-27,4</a:t>
            </a:r>
            <a:r>
              <a:rPr b="1" i="1" lang="ru-RU" sz="8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9"/>
          <p:cNvSpPr/>
          <p:nvPr/>
        </p:nvSpPr>
        <p:spPr>
          <a:xfrm>
            <a:off x="5724360" y="3430440"/>
            <a:ext cx="487440" cy="215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0000"/>
                </a:solidFill>
                <a:latin typeface="Comic Sans MS"/>
              </a:rPr>
              <a:t>18,7</a:t>
            </a:r>
            <a:r>
              <a:rPr b="1" i="1" lang="ru-RU" sz="8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50"/>
          <p:cNvSpPr/>
          <p:nvPr/>
        </p:nvSpPr>
        <p:spPr>
          <a:xfrm>
            <a:off x="6224760" y="4221000"/>
            <a:ext cx="41724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ff"/>
                </a:solidFill>
                <a:latin typeface="Comic Sans MS"/>
              </a:rPr>
              <a:t>319 м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1"/>
          <p:cNvSpPr/>
          <p:nvPr/>
        </p:nvSpPr>
        <p:spPr>
          <a:xfrm>
            <a:off x="8804160" y="2084400"/>
            <a:ext cx="52092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ff"/>
                </a:solidFill>
                <a:latin typeface="Comic Sans MS"/>
              </a:rPr>
              <a:t>1092 м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52"/>
          <p:cNvSpPr/>
          <p:nvPr/>
        </p:nvSpPr>
        <p:spPr>
          <a:xfrm>
            <a:off x="8263080" y="1844640"/>
            <a:ext cx="485640" cy="215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0000"/>
                </a:solidFill>
                <a:latin typeface="Comic Sans MS"/>
              </a:rPr>
              <a:t>13,5</a:t>
            </a:r>
            <a:r>
              <a:rPr b="1" i="1" lang="ru-RU" sz="8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3"/>
          <p:cNvSpPr/>
          <p:nvPr/>
        </p:nvSpPr>
        <p:spPr>
          <a:xfrm>
            <a:off x="7756560" y="2567160"/>
            <a:ext cx="487440" cy="215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ff"/>
                </a:solidFill>
                <a:latin typeface="Comic Sans MS"/>
              </a:rPr>
              <a:t>-8,5</a:t>
            </a:r>
            <a:r>
              <a:rPr b="1" i="1" lang="ru-RU" sz="8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54"/>
          <p:cNvSpPr/>
          <p:nvPr/>
        </p:nvSpPr>
        <p:spPr>
          <a:xfrm rot="5400000">
            <a:off x="463680" y="2712960"/>
            <a:ext cx="738000" cy="1595520"/>
          </a:xfrm>
          <a:prstGeom prst="wedgeRectCallout">
            <a:avLst>
              <a:gd name="adj1" fmla="val -189787"/>
              <a:gd name="adj2" fmla="val 15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Морско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55"/>
          <p:cNvSpPr/>
          <p:nvPr/>
        </p:nvSpPr>
        <p:spPr>
          <a:xfrm>
            <a:off x="2193840" y="692280"/>
            <a:ext cx="2502000" cy="909360"/>
          </a:xfrm>
          <a:prstGeom prst="wedgeRectCallout">
            <a:avLst>
              <a:gd name="adj1" fmla="val -78805"/>
              <a:gd name="adj2" fmla="val 184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Умеренно континентальны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56"/>
          <p:cNvSpPr/>
          <p:nvPr/>
        </p:nvSpPr>
        <p:spPr>
          <a:xfrm rot="10800000">
            <a:off x="247680" y="4721040"/>
            <a:ext cx="2571840" cy="758520"/>
          </a:xfrm>
          <a:prstGeom prst="wedgeRectCallout">
            <a:avLst>
              <a:gd name="adj1" fmla="val -37967"/>
              <a:gd name="adj2" fmla="val 1523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Континентальны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7"/>
          <p:cNvSpPr/>
          <p:nvPr/>
        </p:nvSpPr>
        <p:spPr>
          <a:xfrm rot="10800000">
            <a:off x="6516720" y="4721400"/>
            <a:ext cx="2627280" cy="868320"/>
          </a:xfrm>
          <a:prstGeom prst="wedgeRectCallout">
            <a:avLst>
              <a:gd name="adj1" fmla="val 69935"/>
              <a:gd name="adj2" fmla="val 35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Резко континентальны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58"/>
          <p:cNvSpPr/>
          <p:nvPr/>
        </p:nvSpPr>
        <p:spPr>
          <a:xfrm>
            <a:off x="5600880" y="2190600"/>
            <a:ext cx="1923840" cy="714600"/>
          </a:xfrm>
          <a:prstGeom prst="wedgeRectCallout">
            <a:avLst>
              <a:gd name="adj1" fmla="val 110476"/>
              <a:gd name="adj2" fmla="val 948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Муссонны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59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висимость климата от близости морей и океа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539640" y="620640"/>
          <a:ext cx="8016840" cy="4840200"/>
        </p:xfrm>
        <a:graphic>
          <a:graphicData uri="http://schemas.openxmlformats.org/drawingml/2006/table">
            <a:tbl>
              <a:tblPr/>
              <a:tblGrid>
                <a:gridCol w="2181240"/>
                <a:gridCol w="1357560"/>
                <a:gridCol w="2752560"/>
                <a:gridCol w="1725480"/>
              </a:tblGrid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авниваемы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р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ско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инентальн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ссонн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то (жарко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жарко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има (холодная, тёплая, морозна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тояние до океа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2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"/>
          <p:cNvSpPr/>
          <p:nvPr/>
        </p:nvSpPr>
        <p:spPr>
          <a:xfrm>
            <a:off x="0" y="765000"/>
            <a:ext cx="183528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Холод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1835280" y="105264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2411280" y="765000"/>
            <a:ext cx="180036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ониж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озду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211640" y="105264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4788000" y="765000"/>
            <a:ext cx="187164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меньш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спа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6659640" y="105264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2"/>
          <p:cNvSpPr/>
          <p:nvPr/>
        </p:nvSpPr>
        <p:spPr>
          <a:xfrm>
            <a:off x="7236000" y="765000"/>
            <a:ext cx="190800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меньш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оли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сад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 rot="16681200">
            <a:off x="3700800" y="32918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Пустыня Атак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висимость климата от океанических теч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0:23:17Z</dcterms:created>
  <dc:creator>Неклюдов</dc:creator>
  <dc:description/>
  <dc:language>en-US</dc:language>
  <cp:lastModifiedBy>user</cp:lastModifiedBy>
  <dcterms:modified xsi:type="dcterms:W3CDTF">2014-03-28T10:08:53Z</dcterms:modified>
  <cp:revision>16</cp:revision>
  <dc:subject/>
  <dc:title>Причины,  влияющие на климат.</dc:title>
</cp:coreProperties>
</file>