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219-AC6F-4477-A141-7F3B872B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E8D-07B0-401E-B0AF-A5DB49C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C53-BEDA-4019-9821-A674C3AE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190-468C-4E9D-B801-6AF72385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EF6-8B50-4CD8-A5F4-B82C23A9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9D8-DB32-44F9-BEBA-E0688AA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7EA-93E3-46F5-9B37-0D875B3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908-5798-4381-943D-09691EF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4BC-9D0F-4910-A542-E2308E37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24D-8814-4ECC-A0AC-31356AE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476-09B6-48F9-8CBA-272561F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92F-8E62-42ED-BE79-6FC5843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BBB-48A4-463A-A89C-FE5050992D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5.jpeg"/><Relationship Id="rId12" Type="http://schemas.openxmlformats.org/officeDocument/2006/relationships/image" Target="../media/image25.jpeg"/><Relationship Id="rId13" Type="http://schemas.openxmlformats.org/officeDocument/2006/relationships/image" Target="../media/image25.jpeg"/><Relationship Id="rId14" Type="http://schemas.openxmlformats.org/officeDocument/2006/relationships/image" Target="../media/image25.jpeg"/><Relationship Id="rId15" Type="http://schemas.openxmlformats.org/officeDocument/2006/relationships/image" Target="../media/image25.jpeg"/><Relationship Id="rId16" Type="http://schemas.openxmlformats.org/officeDocument/2006/relationships/image" Target="../media/image25.jpeg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5.jpeg"/><Relationship Id="rId12" Type="http://schemas.openxmlformats.org/officeDocument/2006/relationships/image" Target="../media/image25.jpeg"/><Relationship Id="rId13" Type="http://schemas.openxmlformats.org/officeDocument/2006/relationships/image" Target="../media/image25.jpeg"/><Relationship Id="rId14" Type="http://schemas.openxmlformats.org/officeDocument/2006/relationships/image" Target="../media/image25.jpeg"/><Relationship Id="rId15" Type="http://schemas.openxmlformats.org/officeDocument/2006/relationships/image" Target="../media/image25.jpeg"/><Relationship Id="rId16" Type="http://schemas.openxmlformats.org/officeDocument/2006/relationships/image" Target="../media/image25.jpeg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rectrix.ru/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photosight.ru/photo.php?photoid=1089634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directrix.ru/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photosight.ru/photo.php?photoid=1089634##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16000" y="1052640"/>
            <a:ext cx="7056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635280" y="2492280"/>
            <a:ext cx="2286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3" name="WordArt 4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321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i000767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276720" y="620640"/>
            <a:ext cx="53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асса́т — ветер, дующий между тропиками круглый год, в северном полушарии с северо—восточного, в южном — с юго—восточного направления, отделяясь друг от друга безветренной полосой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39640" y="5157720"/>
            <a:ext cx="403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сса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Муссон над хребтом Виндхья, горной цепи в центральной Инди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7"/>
          <p:cNvSpPr txBox="1"/>
          <p:nvPr/>
        </p:nvSpPr>
        <p:spPr>
          <a:xfrm>
            <a:off x="468360" y="476280"/>
            <a:ext cx="352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ссон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00000" y="162864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ссо́н (фр.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mousso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— сезон) — устойчивый ветер, периодически меняющий своё направл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2-2"/>
          <p:cNvPicPr/>
          <p:nvPr/>
        </p:nvPicPr>
        <p:blipFill>
          <a:blip r:embed="rId1"/>
          <a:srcRect l="30181" t="0" r="0" b="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804000" y="292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ихий оке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образуется муссо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4500720" y="1557360"/>
            <a:ext cx="76176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643280" y="170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7308720" y="2205000"/>
            <a:ext cx="76212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52472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084720" y="2637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ле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076720" y="1268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з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5292720" y="1773360"/>
            <a:ext cx="2303640" cy="215640"/>
          </a:xfrm>
          <a:prstGeom prst="rightArrow">
            <a:avLst>
              <a:gd name="adj1" fmla="val 50000"/>
              <a:gd name="adj2" fmla="val 267070"/>
            </a:avLst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4859280" y="2421000"/>
            <a:ext cx="2376720" cy="360360"/>
          </a:xfrm>
          <a:prstGeom prst="leftArrow">
            <a:avLst>
              <a:gd name="adj1" fmla="val 50000"/>
              <a:gd name="adj2" fmla="val 16488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ПРАВЛЕНИЕ ВЕТРА – это направление, откуда дует ветер (западные – с Запада, восточные – с Восток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01"/>
          <p:cNvPicPr/>
          <p:nvPr/>
        </p:nvPicPr>
        <p:blipFill>
          <a:blip r:embed="rId1"/>
          <a:stretch/>
        </p:blipFill>
        <p:spPr>
          <a:xfrm>
            <a:off x="539640" y="189000"/>
            <a:ext cx="777744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608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тер всегда дует из области ВД в область НД (ВД       Н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тер обладает скоростью (м/с), силой (баллы) и направл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м больше разница в давлении, тем сильнее ве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рость ветра определяется анемомет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404640"/>
            <a:ext cx="6697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арактеристика вет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995640" y="234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de07_01_00"/>
          <p:cNvPicPr/>
          <p:nvPr/>
        </p:nvPicPr>
        <p:blipFill>
          <a:blip r:embed="rId1"/>
          <a:stretch/>
        </p:blipFill>
        <p:spPr>
          <a:xfrm>
            <a:off x="5940360" y="1197000"/>
            <a:ext cx="3029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6901_svetlyachok_2"/>
          <p:cNvPicPr/>
          <p:nvPr/>
        </p:nvPicPr>
        <p:blipFill>
          <a:blip r:embed="rId1"/>
          <a:stretch/>
        </p:blipFill>
        <p:spPr>
          <a:xfrm>
            <a:off x="179280" y="981000"/>
            <a:ext cx="2880000" cy="5186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95280" y="6237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люгер-анемо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" descr="t1"/>
          <p:cNvPicPr/>
          <p:nvPr/>
        </p:nvPicPr>
        <p:blipFill>
          <a:blip r:embed="rId2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468360" y="18900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ла вет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708360" y="981000"/>
            <a:ext cx="49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няв показания прибора, можно определить мгновенную скорость ветра в данном мес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305-sm"/>
          <p:cNvPicPr/>
          <p:nvPr/>
        </p:nvPicPr>
        <p:blipFill>
          <a:blip r:embed="rId1"/>
          <a:stretch/>
        </p:blipFill>
        <p:spPr>
          <a:xfrm>
            <a:off x="6948360" y="105264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3717"/>
          <p:cNvPicPr/>
          <p:nvPr/>
        </p:nvPicPr>
        <p:blipFill>
          <a:blip r:embed="rId2"/>
          <a:stretch/>
        </p:blipFill>
        <p:spPr>
          <a:xfrm>
            <a:off x="3419640" y="907920"/>
            <a:ext cx="2509560" cy="2509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флюгер часы настольные с термометром"/>
          <p:cNvPicPr/>
          <p:nvPr/>
        </p:nvPicPr>
        <p:blipFill>
          <a:blip r:embed="rId3"/>
          <a:stretch/>
        </p:blipFill>
        <p:spPr>
          <a:xfrm>
            <a:off x="0" y="907920"/>
            <a:ext cx="240660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anem2"/>
          <p:cNvPicPr/>
          <p:nvPr/>
        </p:nvPicPr>
        <p:blipFill>
          <a:blip r:embed="rId4"/>
          <a:stretch/>
        </p:blipFill>
        <p:spPr>
          <a:xfrm>
            <a:off x="468360" y="3429000"/>
            <a:ext cx="194004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anem5"/>
          <p:cNvPicPr/>
          <p:nvPr/>
        </p:nvPicPr>
        <p:blipFill>
          <a:blip r:embed="rId5"/>
          <a:stretch/>
        </p:blipFill>
        <p:spPr>
          <a:xfrm>
            <a:off x="4500720" y="3573360"/>
            <a:ext cx="1671480" cy="3284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156360" y="60357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льтипликатор Бурд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6011640" y="630864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403280" y="5670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овой анемометр Робинс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 flipH="1">
            <a:off x="1476360" y="623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627280" y="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люг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 flipH="1">
            <a:off x="2268000" y="404640"/>
            <a:ext cx="15829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78800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5867280" y="333360"/>
            <a:ext cx="151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7"/>
          <p:cNvSpPr txBox="1"/>
          <p:nvPr/>
        </p:nvSpPr>
        <p:spPr>
          <a:xfrm>
            <a:off x="324000" y="333360"/>
            <a:ext cx="5472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ала Бофо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Rectangle 66"/>
          <p:cNvSpPr/>
          <p:nvPr/>
        </p:nvSpPr>
        <p:spPr>
          <a:xfrm>
            <a:off x="0" y="-353880"/>
            <a:ext cx="7315200" cy="3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02"/>
          <p:cNvSpPr/>
          <p:nvPr/>
        </p:nvSpPr>
        <p:spPr>
          <a:xfrm>
            <a:off x="826920" y="1197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ветра – по шкале баллов, которую предложил британский адмирал Бофорт в 1805г. Лишь в 1874г она была принята Международным метеорологическим комитетом для всеобщего применения на телеграфе. Шкала 12-балльная, а в Америке – 17-балль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50920" y="333360"/>
            <a:ext cx="8353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ределение скорости вет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628640"/>
          <a:ext cx="8518320" cy="4896000"/>
        </p:xfrm>
        <a:graphic>
          <a:graphicData uri="http://schemas.openxmlformats.org/drawingml/2006/table">
            <a:tbl>
              <a:tblPr/>
              <a:tblGrid>
                <a:gridCol w="1649160"/>
                <a:gridCol w="2846520"/>
                <a:gridCol w="402264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ЕТРА В М/СЕК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ВЕТР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ти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ым из трубы идет вверх, почти вертикальн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чень слаб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большой наклон дыма, чуть шевелятся листь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истья и ветки срываю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тор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оля и толстые сучья гнутс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раг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льные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1680" y="2196720"/>
            <a:ext cx="85406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тер – великий работник в природе (перегоняет тучи, обла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ищает воздух (загрязненный воздух уносит из населенных пункт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батывает электроэнерг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тер «съедает» горы, сглаживает их, создавая причудливые формы рельеф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гал мореплавател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носит семена растений и споры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324000" y="404640"/>
            <a:ext cx="5040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чение вет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4716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ся с понятием «Вет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причины возникновения ветра и его ти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способы измерения силы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роль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e03_01_00"/>
          <p:cNvPicPr/>
          <p:nvPr/>
        </p:nvPicPr>
        <p:blipFill>
          <a:blip r:embed="rId1"/>
          <a:stretch/>
        </p:blipFill>
        <p:spPr>
          <a:xfrm>
            <a:off x="4859280" y="1557360"/>
            <a:ext cx="3983040" cy="44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03_01_00"/>
          <p:cNvPicPr/>
          <p:nvPr/>
        </p:nvPicPr>
        <p:blipFill>
          <a:blip r:embed="rId2"/>
          <a:stretch/>
        </p:blipFill>
        <p:spPr>
          <a:xfrm>
            <a:off x="4859280" y="1557360"/>
            <a:ext cx="3983040" cy="447660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539640" y="404640"/>
            <a:ext cx="3816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ель урок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468360" y="476280"/>
            <a:ext cx="7200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дсказание погоды по примета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95280" y="1484280"/>
            <a:ext cx="25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солнце село в воду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ди хорошую погоду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солнце село в тучу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ерегись, получишь буч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050920" y="4581360"/>
            <a:ext cx="32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Ходят чайки по песку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ряку сулят тоску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ока не влезут в воду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тормовую жди погоду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572000" y="1341360"/>
            <a:ext cx="252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ль резок контур облаков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 встрече с ветром будь готов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гда ж их контуры мягки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огда все ветры далеки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" descr="кораблик"/>
          <p:cNvPicPr/>
          <p:nvPr/>
        </p:nvPicPr>
        <p:blipFill>
          <a:blip r:embed="rId1"/>
          <a:stretch/>
        </p:blipFill>
        <p:spPr>
          <a:xfrm>
            <a:off x="6119640" y="3141720"/>
            <a:ext cx="25862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539640" y="333360"/>
            <a:ext cx="7201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дсказание погоды по примета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8360" y="1341360"/>
            <a:ext cx="237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низком барометре стрелки паденье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ебует в море вниманья и бдень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шкипер разумный тогда лишь заснет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гда он высоко и кверху идет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348000" y="314172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59280" y="3357720"/>
            <a:ext cx="2665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Барашки" ль по небу бегут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ль "небо ангелы метут"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ль груза в трюме не имеешь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бавь парусов - не пожалеешь! 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8" descr="облака"/>
          <p:cNvPicPr/>
          <p:nvPr/>
        </p:nvPicPr>
        <p:blipFill>
          <a:blip r:embed="rId1"/>
          <a:stretch/>
        </p:blipFill>
        <p:spPr>
          <a:xfrm>
            <a:off x="5724360" y="1197000"/>
            <a:ext cx="3137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640" y="228600"/>
            <a:ext cx="511164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e7ff"/>
                </a:solidFill>
                <a:latin typeface="Arial"/>
              </a:rPr>
              <a:t>Практическая работа.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Picture 4" descr="school02-26"/>
          <p:cNvPicPr/>
          <p:nvPr/>
        </p:nvPicPr>
        <p:blipFill>
          <a:blip r:embed="rId1"/>
          <a:stretch/>
        </p:blipFill>
        <p:spPr>
          <a:xfrm>
            <a:off x="5508720" y="1197000"/>
            <a:ext cx="3333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Способ построения розы ветро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453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чертить основные и промежуточные стороны горизо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ять условно, что одному отрезку на графике соответствует определённое количество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считать, сколько дней в течение месяца ветер дует в данных направл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линиях соответствующих направлений откладывают от центра число дней с ветрами этого направления и ставят точ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чки, отмеченные на линиях, последовательно соединяют. В центре рисуют кружочек, в котором записывают число дней без ве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6877080" y="1341360"/>
            <a:ext cx="0" cy="482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5292720" y="4149720"/>
            <a:ext cx="338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5795640" y="2708280"/>
            <a:ext cx="208908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5508720" y="2708280"/>
            <a:ext cx="2735280" cy="288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6732720" y="836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8" name="WordArt 9"/>
          <p:cNvSpPr txBox="1"/>
          <p:nvPr/>
        </p:nvSpPr>
        <p:spPr>
          <a:xfrm>
            <a:off x="6732720" y="616572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WordArt 10"/>
          <p:cNvSpPr txBox="1"/>
          <p:nvPr/>
        </p:nvSpPr>
        <p:spPr>
          <a:xfrm>
            <a:off x="4932360" y="3860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8604360" y="3860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WordArt 12"/>
          <p:cNvSpPr txBox="1"/>
          <p:nvPr/>
        </p:nvSpPr>
        <p:spPr>
          <a:xfrm>
            <a:off x="5148360" y="242100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С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2" name="WordArt 13"/>
          <p:cNvSpPr txBox="1"/>
          <p:nvPr/>
        </p:nvSpPr>
        <p:spPr>
          <a:xfrm>
            <a:off x="7885080" y="234936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С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4"/>
          <p:cNvSpPr txBox="1"/>
          <p:nvPr/>
        </p:nvSpPr>
        <p:spPr>
          <a:xfrm>
            <a:off x="5435640" y="544500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Ю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5"/>
          <p:cNvSpPr txBox="1"/>
          <p:nvPr/>
        </p:nvSpPr>
        <p:spPr>
          <a:xfrm>
            <a:off x="8244000" y="537372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Ю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6732720" y="342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6732720" y="2708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6732720" y="198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6732720" y="378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6732720" y="4581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6732720" y="486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673272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6732720" y="162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6732720" y="522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6732720" y="5877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23600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59636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956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831708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6516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 flipH="1">
            <a:off x="7020000" y="4292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5508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579600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615636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7"/>
          <p:cNvSpPr/>
          <p:nvPr/>
        </p:nvSpPr>
        <p:spPr>
          <a:xfrm flipH="1">
            <a:off x="7235640" y="450864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8"/>
          <p:cNvSpPr/>
          <p:nvPr/>
        </p:nvSpPr>
        <p:spPr>
          <a:xfrm flipH="1">
            <a:off x="7451640" y="4724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9"/>
          <p:cNvSpPr/>
          <p:nvPr/>
        </p:nvSpPr>
        <p:spPr>
          <a:xfrm flipH="1">
            <a:off x="7667640" y="4940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40"/>
          <p:cNvSpPr/>
          <p:nvPr/>
        </p:nvSpPr>
        <p:spPr>
          <a:xfrm flipH="1">
            <a:off x="7883280" y="515628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41"/>
          <p:cNvSpPr/>
          <p:nvPr/>
        </p:nvSpPr>
        <p:spPr>
          <a:xfrm flipH="1">
            <a:off x="8099280" y="537228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2"/>
          <p:cNvSpPr/>
          <p:nvPr/>
        </p:nvSpPr>
        <p:spPr>
          <a:xfrm flipH="1">
            <a:off x="6516720" y="3716280"/>
            <a:ext cx="2160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3"/>
          <p:cNvSpPr/>
          <p:nvPr/>
        </p:nvSpPr>
        <p:spPr>
          <a:xfrm flipH="1">
            <a:off x="630072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4"/>
          <p:cNvSpPr/>
          <p:nvPr/>
        </p:nvSpPr>
        <p:spPr>
          <a:xfrm flipH="1">
            <a:off x="608472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5"/>
          <p:cNvSpPr/>
          <p:nvPr/>
        </p:nvSpPr>
        <p:spPr>
          <a:xfrm flipH="1">
            <a:off x="5867280" y="3141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 flipH="1">
            <a:off x="5651280" y="292428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7"/>
          <p:cNvSpPr/>
          <p:nvPr/>
        </p:nvSpPr>
        <p:spPr>
          <a:xfrm flipH="1" flipV="1">
            <a:off x="7020000" y="3716280"/>
            <a:ext cx="2160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7164360" y="3429000"/>
            <a:ext cx="2160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 flipH="1" flipV="1">
            <a:off x="7380360" y="3141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50"/>
          <p:cNvSpPr/>
          <p:nvPr/>
        </p:nvSpPr>
        <p:spPr>
          <a:xfrm flipH="1" flipV="1">
            <a:off x="7524720" y="2923920"/>
            <a:ext cx="287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1"/>
          <p:cNvSpPr/>
          <p:nvPr/>
        </p:nvSpPr>
        <p:spPr>
          <a:xfrm flipH="1" flipV="1">
            <a:off x="6443640" y="4365360"/>
            <a:ext cx="287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52"/>
          <p:cNvSpPr/>
          <p:nvPr/>
        </p:nvSpPr>
        <p:spPr>
          <a:xfrm flipH="1" flipV="1">
            <a:off x="6227280" y="4653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 flipH="1" flipV="1">
            <a:off x="6084360" y="494172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54"/>
          <p:cNvSpPr/>
          <p:nvPr/>
        </p:nvSpPr>
        <p:spPr>
          <a:xfrm flipH="1" flipV="1">
            <a:off x="5940360" y="5157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5"/>
          <p:cNvSpPr/>
          <p:nvPr/>
        </p:nvSpPr>
        <p:spPr>
          <a:xfrm flipH="1" flipV="1">
            <a:off x="5796000" y="5373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7164360" y="981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отрезок -  2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5516640"/>
          <a:ext cx="4230360" cy="1144440"/>
        </p:xfrm>
        <a:graphic>
          <a:graphicData uri="http://schemas.openxmlformats.org/drawingml/2006/table">
            <a:tbl>
              <a:tblPr/>
              <a:tblGrid>
                <a:gridCol w="431640"/>
                <a:gridCol w="465120"/>
                <a:gridCol w="447840"/>
                <a:gridCol w="436320"/>
                <a:gridCol w="522360"/>
                <a:gridCol w="631800"/>
                <a:gridCol w="679680"/>
                <a:gridCol w="615600"/>
              </a:tblGrid>
              <a:tr h="50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Oval 86"/>
          <p:cNvSpPr/>
          <p:nvPr/>
        </p:nvSpPr>
        <p:spPr>
          <a:xfrm>
            <a:off x="6804000" y="191628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87"/>
          <p:cNvSpPr/>
          <p:nvPr/>
        </p:nvSpPr>
        <p:spPr>
          <a:xfrm>
            <a:off x="6804000" y="479736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88"/>
          <p:cNvSpPr/>
          <p:nvPr/>
        </p:nvSpPr>
        <p:spPr>
          <a:xfrm>
            <a:off x="5724360" y="4076640"/>
            <a:ext cx="14472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89"/>
          <p:cNvSpPr/>
          <p:nvPr/>
        </p:nvSpPr>
        <p:spPr>
          <a:xfrm>
            <a:off x="7164360" y="407664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90"/>
          <p:cNvSpPr/>
          <p:nvPr/>
        </p:nvSpPr>
        <p:spPr>
          <a:xfrm>
            <a:off x="6659640" y="3933720"/>
            <a:ext cx="144360" cy="1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91"/>
          <p:cNvSpPr/>
          <p:nvPr/>
        </p:nvSpPr>
        <p:spPr>
          <a:xfrm>
            <a:off x="6804000" y="407664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92"/>
          <p:cNvSpPr/>
          <p:nvPr/>
        </p:nvSpPr>
        <p:spPr>
          <a:xfrm>
            <a:off x="6156360" y="4941720"/>
            <a:ext cx="144360" cy="1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93"/>
          <p:cNvSpPr/>
          <p:nvPr/>
        </p:nvSpPr>
        <p:spPr>
          <a:xfrm>
            <a:off x="7236000" y="450864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94"/>
          <p:cNvSpPr/>
          <p:nvPr/>
        </p:nvSpPr>
        <p:spPr>
          <a:xfrm flipH="1">
            <a:off x="6732360" y="1989000"/>
            <a:ext cx="144360" cy="201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5"/>
          <p:cNvSpPr/>
          <p:nvPr/>
        </p:nvSpPr>
        <p:spPr>
          <a:xfrm>
            <a:off x="5796000" y="4149720"/>
            <a:ext cx="431640" cy="86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96"/>
          <p:cNvSpPr/>
          <p:nvPr/>
        </p:nvSpPr>
        <p:spPr>
          <a:xfrm flipV="1">
            <a:off x="6227640" y="486864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97"/>
          <p:cNvSpPr/>
          <p:nvPr/>
        </p:nvSpPr>
        <p:spPr>
          <a:xfrm flipV="1">
            <a:off x="6877080" y="4581000"/>
            <a:ext cx="431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98"/>
          <p:cNvSpPr/>
          <p:nvPr/>
        </p:nvSpPr>
        <p:spPr>
          <a:xfrm flipH="1" flipV="1">
            <a:off x="7236000" y="4149360"/>
            <a:ext cx="72720" cy="43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99"/>
          <p:cNvSpPr/>
          <p:nvPr/>
        </p:nvSpPr>
        <p:spPr>
          <a:xfrm flipH="1">
            <a:off x="5796000" y="4005360"/>
            <a:ext cx="93672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00"/>
          <p:cNvSpPr/>
          <p:nvPr/>
        </p:nvSpPr>
        <p:spPr>
          <a:xfrm flipH="1">
            <a:off x="6876720" y="4149720"/>
            <a:ext cx="358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1"/>
          <p:cNvSpPr/>
          <p:nvPr/>
        </p:nvSpPr>
        <p:spPr>
          <a:xfrm flipV="1">
            <a:off x="6877080" y="1989000"/>
            <a:ext cx="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00000" y="4762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Задание: построить розу ветров по данным таблиц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38080" y="1981080"/>
          <a:ext cx="7620120" cy="34797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  <a:gridCol w="952560"/>
                <a:gridCol w="952200"/>
                <a:gridCol w="952560"/>
                <a:gridCol w="9525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 Box 32"/>
          <p:cNvSpPr/>
          <p:nvPr/>
        </p:nvSpPr>
        <p:spPr>
          <a:xfrm>
            <a:off x="826920" y="1989000"/>
            <a:ext cx="7620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НАПРАВЛЕНИЕ В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838080" y="3733920"/>
            <a:ext cx="762012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ОЛИЧЕСТВО ДНЕЙ С ВЕТРОМ ТАКОГО НА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2411280" y="5805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деление – 2 д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914400" y="228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за вет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6877080" y="1341360"/>
            <a:ext cx="0" cy="482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5292720" y="4149720"/>
            <a:ext cx="338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5795640" y="2708280"/>
            <a:ext cx="208908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5508720" y="2708280"/>
            <a:ext cx="2735280" cy="288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6732720" y="616572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4932360" y="3860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5" name="WordArt 9"/>
          <p:cNvSpPr txBox="1"/>
          <p:nvPr/>
        </p:nvSpPr>
        <p:spPr>
          <a:xfrm>
            <a:off x="8604360" y="3860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6" name="WordArt 10"/>
          <p:cNvSpPr txBox="1"/>
          <p:nvPr/>
        </p:nvSpPr>
        <p:spPr>
          <a:xfrm>
            <a:off x="5148360" y="242100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7" name="WordArt 11"/>
          <p:cNvSpPr txBox="1"/>
          <p:nvPr/>
        </p:nvSpPr>
        <p:spPr>
          <a:xfrm>
            <a:off x="7885080" y="234936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С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8" name="WordArt 12"/>
          <p:cNvSpPr txBox="1"/>
          <p:nvPr/>
        </p:nvSpPr>
        <p:spPr>
          <a:xfrm>
            <a:off x="5435640" y="544500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Ю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9" name="WordArt 13"/>
          <p:cNvSpPr txBox="1"/>
          <p:nvPr/>
        </p:nvSpPr>
        <p:spPr>
          <a:xfrm>
            <a:off x="8244000" y="537372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Ю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6732720" y="342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6732720" y="2708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6732720" y="198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>
            <a:off x="6732720" y="378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6732720" y="4581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6732720" y="486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673272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6732720" y="162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6732720" y="522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6732720" y="5950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6"/>
          <p:cNvSpPr/>
          <p:nvPr/>
        </p:nvSpPr>
        <p:spPr>
          <a:xfrm>
            <a:off x="723600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759636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>
            <a:off x="7956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831708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0"/>
          <p:cNvSpPr/>
          <p:nvPr/>
        </p:nvSpPr>
        <p:spPr>
          <a:xfrm>
            <a:off x="6516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1"/>
          <p:cNvSpPr/>
          <p:nvPr/>
        </p:nvSpPr>
        <p:spPr>
          <a:xfrm flipH="1">
            <a:off x="7020000" y="4292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5508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3"/>
          <p:cNvSpPr/>
          <p:nvPr/>
        </p:nvSpPr>
        <p:spPr>
          <a:xfrm>
            <a:off x="579600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4"/>
          <p:cNvSpPr/>
          <p:nvPr/>
        </p:nvSpPr>
        <p:spPr>
          <a:xfrm>
            <a:off x="615636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5"/>
          <p:cNvSpPr/>
          <p:nvPr/>
        </p:nvSpPr>
        <p:spPr>
          <a:xfrm flipH="1">
            <a:off x="7235640" y="450864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6"/>
          <p:cNvSpPr/>
          <p:nvPr/>
        </p:nvSpPr>
        <p:spPr>
          <a:xfrm flipH="1">
            <a:off x="7451640" y="4724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37"/>
          <p:cNvSpPr/>
          <p:nvPr/>
        </p:nvSpPr>
        <p:spPr>
          <a:xfrm flipH="1">
            <a:off x="7667640" y="4940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38"/>
          <p:cNvSpPr/>
          <p:nvPr/>
        </p:nvSpPr>
        <p:spPr>
          <a:xfrm flipH="1">
            <a:off x="7883280" y="515628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39"/>
          <p:cNvSpPr/>
          <p:nvPr/>
        </p:nvSpPr>
        <p:spPr>
          <a:xfrm flipH="1">
            <a:off x="8099280" y="537228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0"/>
          <p:cNvSpPr/>
          <p:nvPr/>
        </p:nvSpPr>
        <p:spPr>
          <a:xfrm flipH="1">
            <a:off x="6516720" y="3716280"/>
            <a:ext cx="2160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41"/>
          <p:cNvSpPr/>
          <p:nvPr/>
        </p:nvSpPr>
        <p:spPr>
          <a:xfrm flipH="1">
            <a:off x="630072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42"/>
          <p:cNvSpPr/>
          <p:nvPr/>
        </p:nvSpPr>
        <p:spPr>
          <a:xfrm flipH="1">
            <a:off x="608472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43"/>
          <p:cNvSpPr/>
          <p:nvPr/>
        </p:nvSpPr>
        <p:spPr>
          <a:xfrm flipH="1">
            <a:off x="5867280" y="3141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44"/>
          <p:cNvSpPr/>
          <p:nvPr/>
        </p:nvSpPr>
        <p:spPr>
          <a:xfrm flipH="1">
            <a:off x="5651280" y="292428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45"/>
          <p:cNvSpPr/>
          <p:nvPr/>
        </p:nvSpPr>
        <p:spPr>
          <a:xfrm flipH="1" flipV="1">
            <a:off x="7020000" y="3716280"/>
            <a:ext cx="2160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46"/>
          <p:cNvSpPr/>
          <p:nvPr/>
        </p:nvSpPr>
        <p:spPr>
          <a:xfrm flipH="1" flipV="1">
            <a:off x="7164360" y="3429000"/>
            <a:ext cx="2160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47"/>
          <p:cNvSpPr/>
          <p:nvPr/>
        </p:nvSpPr>
        <p:spPr>
          <a:xfrm flipH="1" flipV="1">
            <a:off x="7380360" y="3141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48"/>
          <p:cNvSpPr/>
          <p:nvPr/>
        </p:nvSpPr>
        <p:spPr>
          <a:xfrm flipH="1" flipV="1">
            <a:off x="7524720" y="2923920"/>
            <a:ext cx="287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49"/>
          <p:cNvSpPr/>
          <p:nvPr/>
        </p:nvSpPr>
        <p:spPr>
          <a:xfrm flipH="1" flipV="1">
            <a:off x="6443640" y="4365360"/>
            <a:ext cx="287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50"/>
          <p:cNvSpPr/>
          <p:nvPr/>
        </p:nvSpPr>
        <p:spPr>
          <a:xfrm flipH="1" flipV="1">
            <a:off x="6227280" y="4653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1"/>
          <p:cNvSpPr/>
          <p:nvPr/>
        </p:nvSpPr>
        <p:spPr>
          <a:xfrm flipH="1" flipV="1">
            <a:off x="6084360" y="494172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52"/>
          <p:cNvSpPr/>
          <p:nvPr/>
        </p:nvSpPr>
        <p:spPr>
          <a:xfrm flipH="1" flipV="1">
            <a:off x="5940360" y="5157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53"/>
          <p:cNvSpPr/>
          <p:nvPr/>
        </p:nvSpPr>
        <p:spPr>
          <a:xfrm flipH="1" flipV="1">
            <a:off x="5796000" y="5373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54"/>
          <p:cNvSpPr/>
          <p:nvPr/>
        </p:nvSpPr>
        <p:spPr>
          <a:xfrm>
            <a:off x="6804000" y="335772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55"/>
          <p:cNvSpPr/>
          <p:nvPr/>
        </p:nvSpPr>
        <p:spPr>
          <a:xfrm>
            <a:off x="6804000" y="515772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5292720" y="407664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57"/>
          <p:cNvSpPr/>
          <p:nvPr/>
        </p:nvSpPr>
        <p:spPr>
          <a:xfrm>
            <a:off x="7164360" y="407664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8"/>
          <p:cNvSpPr/>
          <p:nvPr/>
        </p:nvSpPr>
        <p:spPr>
          <a:xfrm>
            <a:off x="6443640" y="364500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59"/>
          <p:cNvSpPr/>
          <p:nvPr/>
        </p:nvSpPr>
        <p:spPr>
          <a:xfrm>
            <a:off x="6948360" y="3860640"/>
            <a:ext cx="144720" cy="1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60"/>
          <p:cNvSpPr/>
          <p:nvPr/>
        </p:nvSpPr>
        <p:spPr>
          <a:xfrm>
            <a:off x="6516720" y="443700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61"/>
          <p:cNvSpPr/>
          <p:nvPr/>
        </p:nvSpPr>
        <p:spPr>
          <a:xfrm>
            <a:off x="7093080" y="436572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62"/>
          <p:cNvSpPr txBox="1"/>
          <p:nvPr/>
        </p:nvSpPr>
        <p:spPr>
          <a:xfrm>
            <a:off x="6659640" y="836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9" name="Line 63"/>
          <p:cNvSpPr/>
          <p:nvPr/>
        </p:nvSpPr>
        <p:spPr>
          <a:xfrm flipH="1">
            <a:off x="6516360" y="3429000"/>
            <a:ext cx="36036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64"/>
          <p:cNvSpPr/>
          <p:nvPr/>
        </p:nvSpPr>
        <p:spPr>
          <a:xfrm flipH="1">
            <a:off x="5364000" y="3716280"/>
            <a:ext cx="1152720" cy="433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65"/>
          <p:cNvSpPr/>
          <p:nvPr/>
        </p:nvSpPr>
        <p:spPr>
          <a:xfrm>
            <a:off x="5292720" y="4149720"/>
            <a:ext cx="1295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6588000" y="4508640"/>
            <a:ext cx="28908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67"/>
          <p:cNvSpPr/>
          <p:nvPr/>
        </p:nvSpPr>
        <p:spPr>
          <a:xfrm flipV="1">
            <a:off x="6877080" y="4436640"/>
            <a:ext cx="28728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68"/>
          <p:cNvSpPr/>
          <p:nvPr/>
        </p:nvSpPr>
        <p:spPr>
          <a:xfrm flipV="1">
            <a:off x="7164360" y="4149720"/>
            <a:ext cx="7164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69"/>
          <p:cNvSpPr/>
          <p:nvPr/>
        </p:nvSpPr>
        <p:spPr>
          <a:xfrm flipH="1" flipV="1">
            <a:off x="7020000" y="3933720"/>
            <a:ext cx="21600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70"/>
          <p:cNvSpPr/>
          <p:nvPr/>
        </p:nvSpPr>
        <p:spPr>
          <a:xfrm flipH="1" flipV="1">
            <a:off x="6876720" y="3429000"/>
            <a:ext cx="142920" cy="50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01680" y="3000240"/>
            <a:ext cx="418608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выводы можно сделать по данной розе в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машнее задание.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. п. 39 читать пересказывать;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2. задание 4 письменно;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3. нарисовать ряд иллюстраций с изменением силы ветра;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4. подготовит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ообщения о местных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трах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29" name="Picture 4" descr="school04-03"/>
          <p:cNvPicPr/>
          <p:nvPr/>
        </p:nvPicPr>
        <p:blipFill>
          <a:blip r:embed="rId1"/>
          <a:stretch/>
        </p:blipFill>
        <p:spPr>
          <a:xfrm>
            <a:off x="6659640" y="4194000"/>
            <a:ext cx="248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irectrix.ru - рейтинг, каталог сайт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511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49" name="mainpic" descr="фото | E.V. | Вете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10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4800" y="-703440"/>
            <a:ext cx="304920" cy="295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9"/>
          <p:cNvSpPr/>
          <p:nvPr/>
        </p:nvSpPr>
        <p:spPr>
          <a:xfrm>
            <a:off x="4481640" y="29167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284940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84940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178160" y="3648240"/>
          <a:ext cx="785880" cy="5029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ea typeface="Times New Roman"/>
                          <a:hlinkClick r:id="rId7"/>
                        </a:rPr>
                        <a:t>_x000b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6"/>
          <p:cNvSpPr/>
          <p:nvPr/>
        </p:nvSpPr>
        <p:spPr>
          <a:xfrm>
            <a:off x="0" y="41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468360" y="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Times New Roman"/>
              </a:rPr>
              <a:t>ВЕТЕР – это перемещение воздуха в горизонтальном направле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2692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3059280" y="3860640"/>
            <a:ext cx="4622760" cy="1833840"/>
          </a:xfrm>
          <a:custGeom>
            <a:avLst/>
            <a:gdLst/>
            <a:ahLst/>
            <a:rect l="l" t="t" r="r" b="b"/>
            <a:pathLst>
              <a:path w="2912" h="1155">
                <a:moveTo>
                  <a:pt x="44" y="0"/>
                </a:moveTo>
                <a:cubicBezTo>
                  <a:pt x="54" y="11"/>
                  <a:pt x="0" y="0"/>
                  <a:pt x="78" y="63"/>
                </a:cubicBezTo>
                <a:cubicBezTo>
                  <a:pt x="156" y="126"/>
                  <a:pt x="377" y="255"/>
                  <a:pt x="514" y="376"/>
                </a:cubicBezTo>
                <a:cubicBezTo>
                  <a:pt x="651" y="497"/>
                  <a:pt x="749" y="668"/>
                  <a:pt x="902" y="788"/>
                </a:cubicBezTo>
                <a:cubicBezTo>
                  <a:pt x="1055" y="908"/>
                  <a:pt x="1237" y="1037"/>
                  <a:pt x="1431" y="1094"/>
                </a:cubicBezTo>
                <a:cubicBezTo>
                  <a:pt x="1625" y="1151"/>
                  <a:pt x="1907" y="1155"/>
                  <a:pt x="2066" y="1129"/>
                </a:cubicBezTo>
                <a:cubicBezTo>
                  <a:pt x="2225" y="1103"/>
                  <a:pt x="2242" y="1117"/>
                  <a:pt x="2383" y="941"/>
                </a:cubicBezTo>
                <a:cubicBezTo>
                  <a:pt x="2524" y="765"/>
                  <a:pt x="2802" y="252"/>
                  <a:pt x="2912" y="71"/>
                </a:cubicBez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4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1332000" y="2565360"/>
            <a:ext cx="1854000" cy="1355760"/>
          </a:xfrm>
          <a:custGeom>
            <a:avLst/>
            <a:gdLst/>
            <a:ahLst/>
            <a:rect l="l" t="t" r="r" b="b"/>
            <a:pathLst>
              <a:path w="1168" h="854">
                <a:moveTo>
                  <a:pt x="0" y="74"/>
                </a:moveTo>
                <a:cubicBezTo>
                  <a:pt x="96" y="80"/>
                  <a:pt x="420" y="0"/>
                  <a:pt x="600" y="110"/>
                </a:cubicBezTo>
                <a:cubicBezTo>
                  <a:pt x="780" y="220"/>
                  <a:pt x="992" y="614"/>
                  <a:pt x="1080" y="734"/>
                </a:cubicBezTo>
                <a:cubicBezTo>
                  <a:pt x="1168" y="854"/>
                  <a:pt x="1118" y="817"/>
                  <a:pt x="1128" y="830"/>
                </a:cubicBezTo>
                <a:cubicBezTo>
                  <a:pt x="1138" y="843"/>
                  <a:pt x="1138" y="817"/>
                  <a:pt x="1141" y="814"/>
                </a:cubicBezTo>
              </a:path>
            </a:pathLst>
          </a:custGeom>
          <a:solidFill>
            <a:srgbClr val="996600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356000" y="54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23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ри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3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8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2"/>
          <p:cNvSpPr/>
          <p:nvPr/>
        </p:nvSpPr>
        <p:spPr>
          <a:xfrm>
            <a:off x="1547640" y="3429000"/>
            <a:ext cx="2625840" cy="1647720"/>
          </a:xfrm>
          <a:custGeom>
            <a:avLst/>
            <a:gdLst/>
            <a:ahLst/>
            <a:rect l="l" t="t" r="r" b="b"/>
            <a:pathLst>
              <a:path w="1200" h="584">
                <a:moveTo>
                  <a:pt x="0" y="8"/>
                </a:moveTo>
                <a:cubicBezTo>
                  <a:pt x="12" y="8"/>
                  <a:pt x="24" y="8"/>
                  <a:pt x="96" y="8"/>
                </a:cubicBezTo>
                <a:cubicBezTo>
                  <a:pt x="168" y="8"/>
                  <a:pt x="336" y="0"/>
                  <a:pt x="432" y="8"/>
                </a:cubicBezTo>
                <a:cubicBezTo>
                  <a:pt x="528" y="16"/>
                  <a:pt x="600" y="16"/>
                  <a:pt x="672" y="56"/>
                </a:cubicBezTo>
                <a:cubicBezTo>
                  <a:pt x="744" y="96"/>
                  <a:pt x="800" y="192"/>
                  <a:pt x="864" y="248"/>
                </a:cubicBezTo>
                <a:cubicBezTo>
                  <a:pt x="928" y="304"/>
                  <a:pt x="1000" y="336"/>
                  <a:pt x="1056" y="392"/>
                </a:cubicBezTo>
                <a:cubicBezTo>
                  <a:pt x="1112" y="448"/>
                  <a:pt x="1156" y="516"/>
                  <a:pt x="1200" y="584"/>
                </a:cubicBezTo>
              </a:path>
            </a:pathLst>
          </a:cu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4284720" y="4941720"/>
            <a:ext cx="3456000" cy="1368720"/>
          </a:xfrm>
          <a:custGeom>
            <a:avLst/>
            <a:gdLst/>
            <a:ahLst/>
            <a:rect l="l" t="t" r="r" b="b"/>
            <a:pathLst>
              <a:path w="1824" h="728">
                <a:moveTo>
                  <a:pt x="0" y="48"/>
                </a:moveTo>
                <a:cubicBezTo>
                  <a:pt x="96" y="168"/>
                  <a:pt x="192" y="288"/>
                  <a:pt x="288" y="384"/>
                </a:cubicBezTo>
                <a:cubicBezTo>
                  <a:pt x="384" y="480"/>
                  <a:pt x="464" y="568"/>
                  <a:pt x="576" y="624"/>
                </a:cubicBezTo>
                <a:cubicBezTo>
                  <a:pt x="688" y="680"/>
                  <a:pt x="824" y="712"/>
                  <a:pt x="960" y="720"/>
                </a:cubicBezTo>
                <a:cubicBezTo>
                  <a:pt x="1096" y="728"/>
                  <a:pt x="1272" y="728"/>
                  <a:pt x="1392" y="672"/>
                </a:cubicBezTo>
                <a:cubicBezTo>
                  <a:pt x="1512" y="616"/>
                  <a:pt x="1608" y="496"/>
                  <a:pt x="1680" y="384"/>
                </a:cubicBezTo>
                <a:cubicBezTo>
                  <a:pt x="1752" y="272"/>
                  <a:pt x="1800" y="64"/>
                  <a:pt x="1824" y="0"/>
                </a:cubicBez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042920" y="37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у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003640" y="4365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4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84360" y="12682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2700360" y="549360"/>
            <a:ext cx="35244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2050920" y="2349360"/>
            <a:ext cx="6858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95640" y="2421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7020000" y="4076640"/>
            <a:ext cx="6858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164360" y="4149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чной бр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3851280" y="981000"/>
            <a:ext cx="352440" cy="38124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6012000" y="1052640"/>
            <a:ext cx="35244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5364000" y="1413000"/>
            <a:ext cx="35244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9"/>
          <p:cNvSpPr/>
          <p:nvPr/>
        </p:nvSpPr>
        <p:spPr>
          <a:xfrm>
            <a:off x="5148360" y="692280"/>
            <a:ext cx="35244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>
            <a:off x="6588000" y="1484280"/>
            <a:ext cx="35244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21"/>
          <p:cNvSpPr/>
          <p:nvPr/>
        </p:nvSpPr>
        <p:spPr>
          <a:xfrm>
            <a:off x="7956720" y="2060640"/>
            <a:ext cx="35208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2"/>
          <p:cNvSpPr/>
          <p:nvPr/>
        </p:nvSpPr>
        <p:spPr>
          <a:xfrm>
            <a:off x="1619280" y="404640"/>
            <a:ext cx="352440" cy="38124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>
            <a:off x="3635280" y="333360"/>
            <a:ext cx="352440" cy="380880"/>
          </a:xfrm>
          <a:custGeom>
            <a:avLst/>
            <a:gdLst/>
            <a:ahLst/>
            <a:rect l="l" t="t" r="r" b="b"/>
            <a:pathLst>
              <a:path w="352425" h="381000">
                <a:moveTo>
                  <a:pt x="0" y="145529"/>
                </a:moveTo>
                <a:lnTo>
                  <a:pt x="134615" y="145530"/>
                </a:lnTo>
                <a:lnTo>
                  <a:pt x="176213" y="0"/>
                </a:lnTo>
                <a:lnTo>
                  <a:pt x="217810" y="145530"/>
                </a:lnTo>
                <a:lnTo>
                  <a:pt x="352425" y="145529"/>
                </a:lnTo>
                <a:lnTo>
                  <a:pt x="243518" y="235470"/>
                </a:lnTo>
                <a:lnTo>
                  <a:pt x="285118" y="380999"/>
                </a:lnTo>
                <a:lnTo>
                  <a:pt x="176213" y="291056"/>
                </a:lnTo>
                <a:lnTo>
                  <a:pt x="67307" y="380999"/>
                </a:lnTo>
                <a:lnTo>
                  <a:pt x="10890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1619280" y="198900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6659640" y="328464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9"/>
          <p:cNvSpPr/>
          <p:nvPr/>
        </p:nvSpPr>
        <p:spPr>
          <a:xfrm>
            <a:off x="2771640" y="3068640"/>
            <a:ext cx="503280" cy="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0"/>
          <p:cNvSpPr/>
          <p:nvPr/>
        </p:nvSpPr>
        <p:spPr>
          <a:xfrm>
            <a:off x="3492360" y="3141720"/>
            <a:ext cx="3024360" cy="136692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0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16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124000" y="404640"/>
            <a:ext cx="403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ипы ветр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50920" y="2349360"/>
            <a:ext cx="3311280" cy="201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ные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916360" y="4653000"/>
            <a:ext cx="3311280" cy="201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ые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508720" y="2349360"/>
            <a:ext cx="3311280" cy="201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ы циклонов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цикл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700360" y="1413000"/>
            <a:ext cx="331164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059280" y="2060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724360" y="20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4356000" y="2060640"/>
            <a:ext cx="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зникают в отдельных районах вследствие особенностей рельефа и резко отличаются от общего воздушного потока: возникают в результате неравномерного прогрева (охлаждения) подстилающей поверхност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539640" y="404640"/>
            <a:ext cx="4392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стные ветр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Бора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ьный и порывистый ветер, направленный вниз по горному склон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ирокк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рячий и влажный ветер центральной части Средиземного моря; сопровождается облачностью и осад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Бакинский норд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ьный холодный и сухой северный ветер, достигающий скорости до 20, а иногда 40 м\сек. Наблюдается в районе Баку и летом, и зимой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ордер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верный или северо-западный ветер, дующий в Мексиканском зали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Байамос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ьный шквальный ветер с дождем и грозой у южного побережья Куб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мерч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хри над морем диаметром до нескольких десятков метров, состоящие из водяных брыз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24000" y="333360"/>
            <a:ext cx="4895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вания ветр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i000768_bi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395280" y="333360"/>
            <a:ext cx="4562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Атлантике ТЦ называют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раганами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Тихом океане -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тайфунам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юге Индийского океана -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рканами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берегов Австралии -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илли-вилл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 существования ТЦ от 3 до 20 суток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2411280" y="5157720"/>
            <a:ext cx="648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опические циклон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43:52Z</dcterms:created>
  <dc:creator>Долгорукова</dc:creator>
  <dc:description/>
  <dc:language>en-US</dc:language>
  <cp:lastModifiedBy>user</cp:lastModifiedBy>
  <dcterms:modified xsi:type="dcterms:W3CDTF">2014-03-28T10:01:38Z</dcterms:modified>
  <cp:revision>54</cp:revision>
  <dc:subject/>
  <dc:title>Слайд 1</dc:title>
</cp:coreProperties>
</file>