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34B2-C669-4CF3-828D-799374B7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B736-8D62-4622-99DA-E94A9501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F9AD9-ABCC-4DC5-B317-8DE85E40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D629C-A7DC-4953-979D-C79B62B7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264A8-B44C-4575-8708-A6F087A1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EAA16-096B-4112-B567-75C19454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F7149-045C-46BA-A8AB-670A789A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40F23-3D77-4BF3-B8FD-CFC2AAA8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E6F2C-D33F-4D63-9152-880EF58C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DD347-177F-40AD-851C-F8C8FE42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A2B54-CDD6-4FDC-A5B2-D935CDCF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1A3E7-5900-4206-BF0D-8EC53FE0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D765-34BD-45D5-B23B-3BA2210E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58F73-C1EB-46BF-AF97-272F1812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FA08B-0230-47EF-9935-A2465D91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82DDB-21B8-4D20-8BC7-C781565C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7A413-2E4C-47FB-8EB2-81C57664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E1E80-7D5B-48E3-AE53-702162F0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FAB12-64FC-4902-BB01-8D94D074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53AD4-A28C-4D89-A135-86845CFC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FC24E-D3F8-4CBA-B6A8-68D43C6C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6E0E3-4EAD-43FB-A1B8-556A4A48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91F99-1C83-41EA-BF42-E183D82F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C65A-7A90-43AA-B74A-884C21B5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CD1C2-AADB-4A19-BA3D-73C899F1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FCC53-BBB6-486A-9528-78C26471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FC694-D807-4E54-920A-A3302602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97086-2F0A-411F-A583-DBCBE2C1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84336-49D6-425C-85F7-67711334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11ECA-0070-4288-AFC5-A6EC1B24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4CC62-610F-4741-83D1-06805AEF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C7D80-ABA8-4BC5-9B92-F5A22336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68D8A-B982-474B-A3E4-FF1D10F4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42A7B-9D9D-460C-9071-BA0FEA21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564A2-A656-4A90-BB2C-38A437BB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F9339-720D-44BA-A4D9-994DB9D9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18588-C21C-472C-82BD-11F5085A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FCBAA-A4FD-4802-B627-414D7A67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962B6-8F0E-4DBB-B465-D9D3798A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21248-A6B0-4F89-9BF5-0D46A7B2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7F60E-B665-4F33-92BF-36B31BC3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54508-3EFC-478E-9B1B-CF2208A4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7C4A9-3D82-4F4E-B7CA-556E7E7F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30055-0554-45D8-B651-34E60389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6AE88-8051-4766-85D0-4B00CC96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00336-A850-479E-B98F-C049F65D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3AA76-08D1-4EC2-997A-F02A0AB9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E33F5-DE0B-4F69-87F2-DC62183B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FDFA0-4349-4103-BD89-9F75F47F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778F4E-F7DB-4FD5-B7FB-DBDA08CC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6B96D-02ED-4F2A-999F-8D4BC99E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4E8D1B-8850-45A1-9F53-543C2ACF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4A9886-AD63-4806-9D86-0A278B20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21C94D-EA06-4700-B4AB-D7F7C8B2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C7E273-701A-4D96-87AD-D5B37EEF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764B31-E3C8-457A-B0DB-F84826A1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E7E24-A3C3-4C52-B8E0-4776A81C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BA15FA-175D-4E4B-95CC-20C3BCAE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86F5B6-AC4E-4BD5-B190-FD598D5E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670E84-AD6D-44B1-94ED-95864738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CD25B7-3FC1-43D7-BAEE-914A7412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C42FC5-E88A-4B4C-82BF-9C9E3ED8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87485-1781-46CA-A3B0-4E9442A2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CE0973-1205-4E4D-8985-09B88350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0D5793-B4E6-4C03-B92A-E95E6E3E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25804B-AA7F-48C5-8C01-113B9550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5FF12A-5FBC-4490-865D-9544693A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AB67F-7FE5-4AB2-9590-C65E68EF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B84488-B1C4-4A80-BB84-FB8FBCE2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68E3DA-446A-4687-8248-FDAFE3EE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D12A5D-2086-455E-A92A-031939FD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3E58D5-3AA1-4A4D-B2D5-A56526E3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90A899-5283-49A0-BC22-AD5E0EAE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A27DFF-EE15-4A78-B1AB-AF1F9878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713AE0-60ED-4FE9-801B-7A9EF2BE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E8B66A-74A8-4E33-9610-F6A18C2F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BE3675-ECF0-4892-9B23-3DFCAD8D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902D94-EF89-4A28-A15B-1DB55374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9D0BE-C849-4B1A-97A3-AD517BFD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2E8B73-6EAA-4B03-9D73-027B2B5D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D33079-BBF4-419F-B931-BDADBACF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D12DF9-CBFE-4FE4-8911-A0538F77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13B5FE-57D3-4C67-9204-77215319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18BE00-9661-415B-AE9A-B4B5C84C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9948DF-FCDE-4378-9843-4BB66DE2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D3705F-8DAB-4EB0-9F35-3AA27576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44404D-AB96-486F-8654-E4E6E847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7CD73E-24FF-4E3D-B114-5715E721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3550A9-09B3-4808-8BC1-50CFE544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BD5BE-B682-4F81-B9B1-7991E21F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CF05D8-35BE-4E76-9F1E-6BC4C2A8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03EECD-C9FC-4A4E-8E04-7AF6D9AE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C4E5C4-4093-497E-A249-D0700F8C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21E599-CBE1-4745-9AB2-4C0BD544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E486A9-28AC-46D6-AD5A-86A8AC7B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639A23-F4BD-4141-B1A0-C2ECAA71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493215-4EC0-4A66-80AC-50AFEA54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5B484A-286D-4E89-9C88-1E99ECB0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CDD7E5-8389-4ECB-95F3-D91469E7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723A4A-A55C-4FC4-BFF5-A66E0369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BB95D-1980-4C26-9AE8-042BD2C8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0FDE6F-5D19-4433-AC92-4F72B805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C98B04-9988-49AA-AF39-7171A9AC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652F91-0D86-423B-9FEB-D7A6445E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0A6BAC-2218-40E5-A7D2-B61E806A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36AA04-09FE-427C-87B9-719BAA9E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202DA4-25B6-445D-83A1-A5B05A8A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678A94-0ABD-4574-889F-25894084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A48B96-2F32-4A8F-88B9-73768D9F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645C34-D606-42AC-80EF-FDC517DA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9ACA57-5CBB-421F-8645-2D41304E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0D84-A821-430E-AC74-AA1533F5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4BDCF-EC95-4020-B8E4-9E896888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8D33B2-1ABD-48BA-A1BC-E271E3C4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1F1C1C-3DBE-4285-8F55-2C443632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C0D43F-6254-43C1-BE57-03D97FE4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773372-DCA7-428E-900B-ED4D9944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32CE71-3126-49B4-83D9-186E1537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F1A67C-33CA-4EB7-9876-47E8E521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671D93-0BC5-4CBD-A31C-851C5F0E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0A8794-6D85-468D-9DE5-0134606A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733873-93C2-40FD-82E6-0D7C4EA9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610774-0970-4059-8283-6FABCF7D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A4CC8-B14F-4720-B3B5-72E8606B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AAA7DA-B6C7-40EF-A1E3-67D88072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E0CF50-BA91-4D64-8B6B-4C0FC7B5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63F350-0054-4A8E-B853-242C1AAD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82B21A-7574-445A-92FC-286CBB71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87A14B-9CEB-4611-966C-6495A4E6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163968-FC6E-4188-A41B-F06F5379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5E7C60-0445-421E-A7A2-E9702854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B71B630-0073-4143-8F0E-A453CA71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E8BBE00-740B-4CFB-B873-7C8F23E3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2216F39-651C-429D-949E-7D68EA31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2629C-30EF-48E0-9063-3C40E657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1707127-1EED-4737-B796-937CBB40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20FEE8D-D1BE-4317-A785-7EEB8CCE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B370295-E8FE-4D7D-871F-603CB695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0B92D47-7F40-4ACE-B59F-73E874C9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B71A0B8-0F0D-4A01-A54C-4BED2975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AF5EF7A-9858-4FF4-971D-09C7953D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0B15370-D987-4237-AB78-694F948C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1913870-ECC4-430C-B6EA-FB68618D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4BE50C6-8251-45A1-87E7-793D591A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D3FC8-AEFD-4E38-9A7D-D36D76B4D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5559B-D78A-4046-B0E9-A1C69B8C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10A11-7F3E-4183-BAFC-212E185F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5C251-33A8-4538-A27F-3DA5B6BE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00351-ED19-438A-9661-28A6041E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6802A-AA9D-4FDB-BC46-50C61278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CAE7D-AC98-4CF3-9825-9354C0DA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942F-80A6-4AE7-83F2-059E14C1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189DE-105C-4F00-BE76-C6B34620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C6806-AF99-4F5E-920A-487A526F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6A2F2-0B5D-49A2-A79B-2F5D5417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F0891-7340-44A1-A025-0A9EA28C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64B53-E503-4778-9082-96794FE4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60D02-FB27-4DA4-8949-3ECECC4F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5EA21-A93E-41EC-97A4-B0FB69F1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40887-65F5-4B7A-A2E9-85ED1534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60B32-B132-415D-B26F-D1BF3B32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8B2BC-6291-458B-92E0-DB279472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3CE6-09DA-44A3-90AE-CA32B7F9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2B927-8FA8-46C5-8466-09A01EB7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D4DB2-AF32-426F-BC50-EA875770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B9E4E-6838-4E57-A741-E1507ED2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157F0-1033-482E-9BB2-810C21EC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9C525-6CA3-43AB-8896-C67D2692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F3BC1-143E-4D3A-B079-21A37F0C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1C8B8-237C-4073-8013-579DA93A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C1B15-12AE-4F7B-AF39-1EDAE90E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15421-E6E5-4289-8F59-83C5A49F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EA721-940A-4166-A4D3-D218E0DD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7C5B-5DB2-434A-A718-AFD32985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F74EF-341B-4491-A58C-318E25B7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E1025-7118-421C-8EBA-C7311B47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AEDD0-28ED-413F-BC66-34D41BA9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6C29A-5DE4-4430-96FD-6C23BC99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78FCF-8151-418B-AB79-5AF97564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BD10A-E870-4960-956B-EC3BA653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0B509-51B6-41AF-8006-6EB2672C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D6752-4615-48AF-BB9E-3B4C793C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813D7-DF73-4140-BF3A-93EFA2A8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C203F-69B6-4A2A-8BFF-377454B0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5B02-FC49-4DC4-9992-C2B5B80F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3F43E-17C9-4E7C-B2B3-7A0E6834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1F332-894D-4E40-A8C4-2BDB7585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A1D63-DF0F-4E07-BB20-C3DCE2B5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5E9FA-3EA0-40DE-8340-C0C300F8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0F12A-05BA-4470-8EF6-B36A6E5A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FF6CA-A050-4286-8128-09821C65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0DA64-BFF8-43EA-BB7A-FA517ADC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391A6-3880-4EB2-8464-FD0D75C9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A8033-706F-4D23-9B3F-E9CB3B10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DFF71-011C-482C-A78C-480FAAB2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883B-FB66-43DF-8993-3D49DA6D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9F2DE-B5C5-4188-BED7-2A0143E6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C67B6-8E08-4371-A4DB-78B4D995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3F9E3-ED77-4659-9800-98A2A19B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094C0-FCE2-4F67-8288-6912A1F9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187C6-93C0-4AEC-B900-0F4D78A8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D15E1-A2F5-4AE1-958F-1C44F4C6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9D827-608E-4D7F-B989-40BCCD6F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57092-814E-47F0-B786-1AA92ABC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EED50-4CB6-4031-AB75-EEDB4CC8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42D3C-181D-4978-8E88-ADDE3E2D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20B2-BC5F-4383-BB91-0A399D6C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0A0FE-3524-4068-A70D-CEF368C3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659EB-EFEE-4A9D-B319-C4B8AE84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9D51C-8EA3-4B07-BEE3-1A11B516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778EA-44AB-4DC8-9657-DE18006D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3596C-CAB0-446E-8E54-886812EC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C05FE-B7BE-44A9-BAEC-FE06A988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A3A55-3CA2-4091-8D5C-A336692E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3BC7D-F21E-4652-A7A3-65104E5E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0E070-03A2-406A-B64A-2D5A9D55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8188B-4092-4541-8DB2-AA50BC8B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7CE2-1F5E-4EF3-9FC8-021D824B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E89D6-CEA4-4A08-88F4-AEFA9963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C1D90-369E-494A-BAEB-0A3C4BDD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CB129-4C4F-4FF0-9B36-64FF5401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ABEEF-B206-434A-BF9E-50A6E5C6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33718-37E5-4792-B1D1-1978D5F4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13381-77CE-4032-B46A-2F3538B2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597EF-35D4-4600-A8B3-88527F2E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4A599-C1BF-4881-8C34-A7D1D3DA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02454-0D1F-455A-A000-C0161781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B16F3-23A8-428C-BB12-2465EF8A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9198-0A5A-4678-B577-27213DFFB5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5808-2FCD-4CBE-9408-219748DEE18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61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71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7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88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91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92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3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94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2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32BE-78FE-4081-B781-4EF38614781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5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49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54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5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59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4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0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C03D-B2BE-440D-980F-00925807D2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6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A19C-0FF5-4686-902F-9FCAA34ECE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2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3D24-E949-4D5B-A418-31CB93AA52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8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B087-EE3C-488E-B837-399B879314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4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BA00-5520-46C5-9724-5B393C65CA4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8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7" name="PlaceHolder 1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16E3-2A14-4B42-8E80-A7D00D99F7F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2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3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3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4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35D3-796B-4BB2-85F7-1B8BBDD75E6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98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99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99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0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 type="sldNum" idx="5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6137-8679-4BED-9874-25611DBBD8A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 type="ftr" idx="5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1903-AF7F-4286-BEF4-26CE9F271A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1760-E0C5-4B1F-ACF7-F722417741B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3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2772-E6DB-4012-83D7-BA6BEFF9EE5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6B54-878E-4D67-B6F5-E096BC5BE1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DB72-0A92-4D6B-B7D7-ACED752A841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63F0-3637-42D7-861C-2FF3F2FF50A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593A-B9ED-4793-B951-ABAD2D49D9D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11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7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8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41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42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3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44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2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91AB-5AB4-4EE5-A4B2-A62AB8A248D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95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99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05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09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6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611280" y="69228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ccff"/>
                </a:solidFill>
                <a:latin typeface="comic"/>
              </a:rPr>
              <a:t>EAST OR WEST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258920" y="494172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5ffff"/>
                </a:solidFill>
                <a:latin typeface="comic"/>
              </a:rPr>
              <a:t>HOME IS BEST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0" name="" descr=""/>
          <p:cNvPicPr/>
          <p:nvPr/>
        </p:nvPicPr>
        <p:blipFill>
          <a:blip r:embed="rId2"/>
          <a:stretch/>
        </p:blipFill>
        <p:spPr>
          <a:xfrm>
            <a:off x="4140360" y="2133720"/>
            <a:ext cx="4248000" cy="2832120"/>
          </a:xfrm>
          <a:prstGeom prst="rect">
            <a:avLst/>
          </a:prstGeom>
          <a:ln w="0">
            <a:noFill/>
          </a:ln>
        </p:spPr>
      </p:pic>
      <p:pic>
        <p:nvPicPr>
          <p:cNvPr id="1051" name="" descr=""/>
          <p:cNvPicPr/>
          <p:nvPr/>
        </p:nvPicPr>
        <p:blipFill>
          <a:blip r:embed="rId3"/>
          <a:stretch/>
        </p:blipFill>
        <p:spPr>
          <a:xfrm>
            <a:off x="88995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906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258560" y="406080"/>
            <a:ext cx="68691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Script MT Bold"/>
              </a:rPr>
              <a:t>Read and Translate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Max is </a:t>
            </a:r>
            <a:r>
              <a:rPr b="0" lang="en-US" sz="2800" spc="-1" strike="noStrike">
                <a:solidFill>
                  <a:srgbClr val="000066"/>
                </a:solidFill>
                <a:latin typeface="Copperplate Gothic Bold"/>
              </a:rPr>
              <a:t>happy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, Nick is </a:t>
            </a:r>
            <a:r>
              <a:rPr b="0" lang="en-US" sz="2800" spc="-1" strike="noStrike">
                <a:solidFill>
                  <a:srgbClr val="000066"/>
                </a:solidFill>
                <a:latin typeface="Copperplate Gothic Bold"/>
              </a:rPr>
              <a:t>sad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pperplate Gothic Bold"/>
              </a:rPr>
              <a:t>Макс счастливый, Ник печальны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The man is </a:t>
            </a:r>
            <a:r>
              <a:rPr b="0" lang="en-US" sz="2800" spc="-1" strike="noStrike">
                <a:solidFill>
                  <a:srgbClr val="000066"/>
                </a:solidFill>
                <a:latin typeface="Copperplate Gothic Bold"/>
              </a:rPr>
              <a:t>tall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, the boy is </a:t>
            </a:r>
            <a:r>
              <a:rPr b="0" lang="en-US" sz="2800" spc="-1" strike="noStrike">
                <a:solidFill>
                  <a:srgbClr val="000066"/>
                </a:solidFill>
                <a:latin typeface="Copperplate Gothic Bold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pperplate Gothic Bold"/>
              </a:rPr>
              <a:t>Мужчина высокий, мальчик низк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The market is </a:t>
            </a:r>
            <a:r>
              <a:rPr b="0" lang="en-US" sz="2800" spc="-1" strike="noStrike">
                <a:solidFill>
                  <a:srgbClr val="000066"/>
                </a:solidFill>
                <a:latin typeface="Copperplate Gothic Bold"/>
              </a:rPr>
              <a:t>noisy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. The park is </a:t>
            </a:r>
            <a:r>
              <a:rPr b="0" lang="en-US" sz="2800" spc="-1" strike="noStrike">
                <a:solidFill>
                  <a:srgbClr val="000066"/>
                </a:solidFill>
                <a:latin typeface="Copperplate Gothic Bold"/>
              </a:rPr>
              <a:t>quiet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pperplate Gothic Bold"/>
              </a:rPr>
              <a:t>Рынок шумный. Парк тих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The streets are </a:t>
            </a:r>
            <a:r>
              <a:rPr b="0" lang="en-US" sz="2800" spc="-1" strike="noStrike">
                <a:solidFill>
                  <a:srgbClr val="000066"/>
                </a:solidFill>
                <a:latin typeface="Copperplate Gothic Bold"/>
              </a:rPr>
              <a:t>clean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. The yard is </a:t>
            </a:r>
            <a:r>
              <a:rPr b="0" lang="en-US" sz="2800" spc="-1" strike="noStrike">
                <a:solidFill>
                  <a:srgbClr val="000066"/>
                </a:solidFill>
                <a:latin typeface="Copperplate Gothic Bold"/>
              </a:rPr>
              <a:t>dirty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pperplate Gothic Bold"/>
              </a:rPr>
              <a:t>Улицы чистые. Двор грязны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The prospect is </a:t>
            </a:r>
            <a:r>
              <a:rPr b="0" lang="en-US" sz="2800" spc="-1" strike="noStrike">
                <a:solidFill>
                  <a:srgbClr val="000066"/>
                </a:solidFill>
                <a:latin typeface="Copperplate Gothic Bold"/>
              </a:rPr>
              <a:t>wide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, but the street is </a:t>
            </a:r>
            <a:r>
              <a:rPr b="0" lang="en-US" sz="2800" spc="-1" strike="noStrike">
                <a:solidFill>
                  <a:srgbClr val="000066"/>
                </a:solidFill>
                <a:latin typeface="Copperplate Gothic Bold"/>
              </a:rPr>
              <a:t>narrow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pperplate Gothic Bold"/>
              </a:rPr>
              <a:t>Проспект широкий, но улица узк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5" dur="500"/>
                                        <p:tgtEl>
                                          <p:spTgt spid="1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0" dur="500"/>
                                        <p:tgtEl>
                                          <p:spTgt spid="1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1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0" dur="500"/>
                                        <p:tgtEl>
                                          <p:spTgt spid="1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5" dur="500"/>
                                        <p:tgtEl>
                                          <p:spTgt spid="1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500"/>
                                        <p:tgtEl>
                                          <p:spTgt spid="1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500"/>
                                        <p:tgtEl>
                                          <p:spTgt spid="1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0" dur="500"/>
                                        <p:tgtEl>
                                          <p:spTgt spid="1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5" dur="500"/>
                                        <p:tgtEl>
                                          <p:spTgt spid="1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0" dur="500"/>
                                        <p:tgtEl>
                                          <p:spTgt spid="1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cc"/>
                </a:solidFill>
                <a:latin typeface="Bookman Old Style"/>
              </a:rPr>
              <a:t>Cheltenham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subTitle"/>
          </p:nvPr>
        </p:nvSpPr>
        <p:spPr>
          <a:xfrm>
            <a:off x="5111280" y="1844280"/>
            <a:ext cx="4032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Cheltenham is a small clean town in the centre of England. It is a very beautiful town. The streets are long and wide. The houses are small. There is a garden with nice flowers in front of each house. There aren’t many cars in the streets, but there are a lot of noisy tourist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ere most interesting garden is in the centre. There are always a lot of people there. They have picnics, play games or just have a rest in a quiet pla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7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14820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 and answer your teacher’s question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"/>
          <p:cNvSpPr/>
          <p:nvPr/>
        </p:nvSpPr>
        <p:spPr>
          <a:xfrm>
            <a:off x="684360" y="1773360"/>
            <a:ext cx="2879640" cy="1439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y village is the quietest plac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5076720" y="2852640"/>
            <a:ext cx="2592360" cy="1440000"/>
          </a:xfrm>
          <a:prstGeom prst="cloudCallout">
            <a:avLst>
              <a:gd name="adj1" fmla="val 50671"/>
              <a:gd name="adj2" fmla="val -9002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5435640" y="29242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 live in London. It’s the oldest and biggest city in Engla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195640" y="4437000"/>
            <a:ext cx="2663640" cy="1368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 live on the 11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floor. It’s the tallest block of flats in the stre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39640" y="3645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7093080" y="1700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547640" y="616572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c1604"/>
                </a:solidFill>
                <a:latin typeface="comic"/>
              </a:rPr>
              <a:t>Look!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227124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+ long + est = the long</a:t>
            </a:r>
            <a:r>
              <a:rPr b="0" lang="en-US" sz="3200" spc="-1" strike="noStrike">
                <a:solidFill>
                  <a:srgbClr val="fc1604"/>
                </a:solidFill>
                <a:latin typeface="Arial"/>
              </a:rPr>
              <a:t>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+ big + est = the bigg</a:t>
            </a:r>
            <a:r>
              <a:rPr b="0" lang="en-US" sz="3200" spc="-1" strike="noStrike">
                <a:solidFill>
                  <a:srgbClr val="fc1604"/>
                </a:solidFill>
                <a:latin typeface="Arial"/>
              </a:rPr>
              <a:t>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+ happy + est = the happi</a:t>
            </a:r>
            <a:r>
              <a:rPr b="0" lang="en-US" sz="3200" spc="-1" strike="noStrike">
                <a:solidFill>
                  <a:srgbClr val="fc1604"/>
                </a:solidFill>
                <a:latin typeface="Arial"/>
              </a:rPr>
              <a:t>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+ tall + est = the tall</a:t>
            </a:r>
            <a:r>
              <a:rPr b="0" lang="en-US" sz="3200" spc="-1" strike="noStrike">
                <a:solidFill>
                  <a:srgbClr val="fc1604"/>
                </a:solidFill>
                <a:latin typeface="Arial"/>
              </a:rPr>
              <a:t>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+ wide + est = the wid</a:t>
            </a:r>
            <a:r>
              <a:rPr b="0" lang="en-US" sz="3200" spc="-1" strike="noStrike">
                <a:solidFill>
                  <a:srgbClr val="fc1604"/>
                </a:solidFill>
                <a:latin typeface="Arial"/>
              </a:rPr>
              <a:t>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+ clean + est = the clean</a:t>
            </a:r>
            <a:r>
              <a:rPr b="0" lang="en-US" sz="3200" spc="-1" strike="noStrike">
                <a:solidFill>
                  <a:srgbClr val="fc1604"/>
                </a:solidFill>
                <a:latin typeface="Arial"/>
              </a:rPr>
              <a:t>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Showcard Gothic"/>
              </a:rPr>
              <a:t>Talk about your hometown, schoo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bat-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Which is the longest stre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bat-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Who is the tallest in the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bat-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Who is the cleverest in the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bat-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Which girl has the longest h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bat-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Who is the noisiest in your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4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898" fill="hold"/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98" fill="hold"/>
                                        <p:tgtEl>
                                          <p:spTgt spid="1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898" fill="hold"/>
                                        <p:tgtEl>
                                          <p:spTgt spid="1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98" fill="hold"/>
                                        <p:tgtEl>
                                          <p:spTgt spid="1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898" fill="hold"/>
                                        <p:tgtEl>
                                          <p:spTgt spid="1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bf1"/>
                </a:solidFill>
                <a:latin typeface="Script MT Bold"/>
              </a:rPr>
              <a:t>Thank you for the lesso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5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5" dur="1000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7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Let’s revise the words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355640" y="1052280"/>
            <a:ext cx="40388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T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VILL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B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OFF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HO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BRI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SH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THEAT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68436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PA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ZO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HOS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CIN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POLICE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R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B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MUSE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BOOKSH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SCH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SWIMMING P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117080" y="450720"/>
            <a:ext cx="686916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anslate the sentence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85800" y="2112840"/>
            <a:ext cx="7694640" cy="38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a swimming pool in my tow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a museum near the theat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a bank between the police station and the par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a shop behind my hou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a school in the corner of the stre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8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bat-Bold"/>
              </a:rPr>
              <a:t>Can you tell me the way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68000" y="2007720"/>
            <a:ext cx="82184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Use phras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"/>
          <p:cNvSpPr/>
          <p:nvPr/>
        </p:nvSpPr>
        <p:spPr>
          <a:xfrm>
            <a:off x="7308720" y="2708280"/>
            <a:ext cx="1440000" cy="100800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340000" y="2565360"/>
            <a:ext cx="1584360" cy="1224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716360" y="2781360"/>
            <a:ext cx="1800360" cy="1081080"/>
          </a:xfrm>
          <a:prstGeom prst="rightArrow">
            <a:avLst>
              <a:gd name="adj1" fmla="val 50000"/>
              <a:gd name="adj2" fmla="val 4163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rot="16200000">
            <a:off x="324000" y="2637000"/>
            <a:ext cx="1116000" cy="1116000"/>
          </a:xfrm>
          <a:custGeom>
            <a:avLst/>
            <a:gdLst>
              <a:gd name="textAreaLeft" fmla="*/ 371880 w 1116000"/>
              <a:gd name="textAreaRight" fmla="*/ 955800 w 1116000"/>
              <a:gd name="textAreaTop" fmla="*/ 642600 h 1116000"/>
              <a:gd name="textAreaBottom" fmla="*/ 955800 h 1116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492360" y="5013360"/>
            <a:ext cx="1511280" cy="287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492360" y="4653000"/>
            <a:ext cx="1511280" cy="288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68360" y="3860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urn le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2195640" y="386064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Go straight 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643280" y="24922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B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4284720" y="3789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Go past th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020000" y="3789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urn 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492360" y="5373720"/>
            <a:ext cx="1511280" cy="287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203640" y="573408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ross the str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bat-Bold"/>
              </a:rPr>
              <a:t>Make up dialogue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use m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Y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you tell me the way to the to the supermarket, plea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Yes, it’s in Market street. Go straight on and turn le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the information. I’ll follow your adv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68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68" fill="hold"/>
                                        <p:tgtEl>
                                          <p:spTgt spid="10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68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68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0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1187280" y="0"/>
            <a:ext cx="936720" cy="19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050920" y="0"/>
            <a:ext cx="865440" cy="162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0" y="1844640"/>
            <a:ext cx="2124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0" y="2205000"/>
            <a:ext cx="219564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0" y="3715920"/>
            <a:ext cx="2987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0" y="4149720"/>
            <a:ext cx="3276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0" y="5805360"/>
            <a:ext cx="327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0" y="6237000"/>
            <a:ext cx="3276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067280" y="5516640"/>
            <a:ext cx="72072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2268360" y="333360"/>
            <a:ext cx="648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2916360" y="333360"/>
            <a:ext cx="576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1116000" y="1052640"/>
            <a:ext cx="50328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0" y="1052640"/>
            <a:ext cx="1116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0" y="1484280"/>
            <a:ext cx="395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140360" y="1628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3492000" y="1989000"/>
            <a:ext cx="7923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492360" y="2276640"/>
            <a:ext cx="287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3492000" y="2781360"/>
            <a:ext cx="287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84360" y="2781360"/>
            <a:ext cx="1584000" cy="7920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1116000" y="2997360"/>
            <a:ext cx="64764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796000" y="2565360"/>
            <a:ext cx="1944720" cy="1079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rot="10314000">
            <a:off x="6372000" y="5516280"/>
            <a:ext cx="2089080" cy="790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flipH="1">
            <a:off x="2627280" y="4292640"/>
            <a:ext cx="720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627280" y="4437000"/>
            <a:ext cx="2160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2050560" y="5084640"/>
            <a:ext cx="792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050920" y="5229360"/>
            <a:ext cx="144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rot="20461200">
            <a:off x="4030200" y="264600"/>
            <a:ext cx="1295640" cy="765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rot="21476400">
            <a:off x="324000" y="4221000"/>
            <a:ext cx="165708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 rot="21058200">
            <a:off x="5632200" y="4512240"/>
            <a:ext cx="1296720" cy="7063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Tree"/>
          <p:cNvSpPr/>
          <p:nvPr/>
        </p:nvSpPr>
        <p:spPr>
          <a:xfrm>
            <a:off x="7236000" y="0"/>
            <a:ext cx="647640" cy="57636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ree"/>
          <p:cNvSpPr/>
          <p:nvPr/>
        </p:nvSpPr>
        <p:spPr>
          <a:xfrm>
            <a:off x="8310600" y="0"/>
            <a:ext cx="833400" cy="689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Tree"/>
          <p:cNvSpPr/>
          <p:nvPr/>
        </p:nvSpPr>
        <p:spPr>
          <a:xfrm>
            <a:off x="7885080" y="333360"/>
            <a:ext cx="647640" cy="6494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5940360" y="476280"/>
            <a:ext cx="503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6516720" y="620640"/>
            <a:ext cx="71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2843280" y="404640"/>
            <a:ext cx="38163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3059280" y="620280"/>
            <a:ext cx="403380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6659280" y="26028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877080" y="620640"/>
            <a:ext cx="43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4140360" y="4076280"/>
            <a:ext cx="5003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924360" y="3645000"/>
            <a:ext cx="52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059280" y="1989000"/>
            <a:ext cx="86508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140360" y="414972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219640" y="6308640"/>
            <a:ext cx="28908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2195640" y="2205000"/>
            <a:ext cx="79056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276720" y="4149720"/>
            <a:ext cx="503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356000" y="6524640"/>
            <a:ext cx="14472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5364000" y="4724280"/>
            <a:ext cx="378000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5651640" y="5229360"/>
            <a:ext cx="3492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500720" y="4952880"/>
            <a:ext cx="934920" cy="420840"/>
          </a:xfrm>
          <a:custGeom>
            <a:avLst/>
            <a:gdLst/>
            <a:ahLst/>
            <a:rect l="l" t="t" r="r" b="b"/>
            <a:pathLst>
              <a:path w="589" h="265">
                <a:moveTo>
                  <a:pt x="0" y="38"/>
                </a:moveTo>
                <a:cubicBezTo>
                  <a:pt x="132" y="19"/>
                  <a:pt x="265" y="0"/>
                  <a:pt x="363" y="38"/>
                </a:cubicBezTo>
                <a:cubicBezTo>
                  <a:pt x="461" y="76"/>
                  <a:pt x="559" y="227"/>
                  <a:pt x="589" y="26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219640" y="5734080"/>
            <a:ext cx="432000" cy="598320"/>
          </a:xfrm>
          <a:custGeom>
            <a:avLst/>
            <a:gdLst/>
            <a:ahLst/>
            <a:rect l="l" t="t" r="r" b="b"/>
            <a:pathLst>
              <a:path w="272" h="377">
                <a:moveTo>
                  <a:pt x="272" y="0"/>
                </a:moveTo>
                <a:cubicBezTo>
                  <a:pt x="272" y="128"/>
                  <a:pt x="272" y="257"/>
                  <a:pt x="227" y="317"/>
                </a:cubicBezTo>
                <a:cubicBezTo>
                  <a:pt x="182" y="377"/>
                  <a:pt x="38" y="355"/>
                  <a:pt x="0" y="36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3276720" y="6237360"/>
            <a:ext cx="1079280" cy="334800"/>
          </a:xfrm>
          <a:custGeom>
            <a:avLst/>
            <a:gdLst/>
            <a:ahLst/>
            <a:rect l="l" t="t" r="r" b="b"/>
            <a:pathLst>
              <a:path w="680" h="211">
                <a:moveTo>
                  <a:pt x="0" y="0"/>
                </a:moveTo>
                <a:cubicBezTo>
                  <a:pt x="56" y="75"/>
                  <a:pt x="113" y="151"/>
                  <a:pt x="226" y="181"/>
                </a:cubicBezTo>
                <a:cubicBezTo>
                  <a:pt x="339" y="211"/>
                  <a:pt x="604" y="181"/>
                  <a:pt x="680" y="1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108240" y="5157720"/>
            <a:ext cx="671760" cy="647640"/>
          </a:xfrm>
          <a:custGeom>
            <a:avLst/>
            <a:gdLst/>
            <a:ahLst/>
            <a:rect l="l" t="t" r="r" b="b"/>
            <a:pathLst>
              <a:path w="423" h="408">
                <a:moveTo>
                  <a:pt x="423" y="0"/>
                </a:moveTo>
                <a:cubicBezTo>
                  <a:pt x="271" y="11"/>
                  <a:pt x="120" y="22"/>
                  <a:pt x="60" y="90"/>
                </a:cubicBezTo>
                <a:cubicBezTo>
                  <a:pt x="0" y="158"/>
                  <a:pt x="30" y="283"/>
                  <a:pt x="6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508720" y="0"/>
            <a:ext cx="3635280" cy="2492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156360" y="0"/>
            <a:ext cx="2987640" cy="2133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 rot="20083800">
            <a:off x="324360" y="16999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pi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rot="20579400">
            <a:off x="3132000" y="1844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39640" y="4437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oksh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rot="3342000">
            <a:off x="2343600" y="75996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se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2195640" y="530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t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5796000" y="2852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ERMAR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rot="21010200">
            <a:off x="5651640" y="47239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rot="20964600">
            <a:off x="6659640" y="5733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Y SH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rot="20778600">
            <a:off x="4140360" y="404280"/>
            <a:ext cx="8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 off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rot="20551200">
            <a:off x="687600" y="169812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KER’S STRE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rot="3814800">
            <a:off x="2014200" y="3544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STR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96720" y="378936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T STR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859280" y="364500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KET STRE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rot="21169200">
            <a:off x="5651640" y="5229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XFORD STR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rot="21036600">
            <a:off x="324000" y="609300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XFORD STR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611280" y="342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wimming 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Copperplate Gothic Bold"/>
              </a:rPr>
              <a:t>London is the capital of Great Britain. There are a lot of places of interest in it. They are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145" name="" descr=""/>
          <p:cNvPicPr/>
          <p:nvPr/>
        </p:nvPicPr>
        <p:blipFill>
          <a:blip r:embed="rId1"/>
          <a:stretch/>
        </p:blipFill>
        <p:spPr>
          <a:xfrm>
            <a:off x="684360" y="1627200"/>
            <a:ext cx="3292200" cy="2212920"/>
          </a:xfrm>
          <a:prstGeom prst="rect">
            <a:avLst/>
          </a:prstGeom>
          <a:ln w="0">
            <a:noFill/>
          </a:ln>
        </p:spPr>
      </p:pic>
      <p:pic>
        <p:nvPicPr>
          <p:cNvPr id="1146" name="" descr=""/>
          <p:cNvPicPr/>
          <p:nvPr/>
        </p:nvPicPr>
        <p:blipFill>
          <a:blip r:embed="rId2"/>
          <a:stretch/>
        </p:blipFill>
        <p:spPr>
          <a:xfrm>
            <a:off x="7188120" y="4437000"/>
            <a:ext cx="1351080" cy="2041560"/>
          </a:xfrm>
          <a:prstGeom prst="rect">
            <a:avLst/>
          </a:prstGeom>
          <a:ln w="0">
            <a:noFill/>
          </a:ln>
        </p:spPr>
      </p:pic>
      <p:pic>
        <p:nvPicPr>
          <p:cNvPr id="1147" name="" descr=""/>
          <p:cNvPicPr/>
          <p:nvPr/>
        </p:nvPicPr>
        <p:blipFill>
          <a:blip r:embed="rId3"/>
          <a:stretch/>
        </p:blipFill>
        <p:spPr>
          <a:xfrm>
            <a:off x="684360" y="4581360"/>
            <a:ext cx="1309680" cy="1971720"/>
          </a:xfrm>
          <a:prstGeom prst="rect">
            <a:avLst/>
          </a:prstGeom>
          <a:ln w="0">
            <a:noFill/>
          </a:ln>
        </p:spPr>
      </p:pic>
      <p:pic>
        <p:nvPicPr>
          <p:cNvPr id="1148" name="" descr=""/>
          <p:cNvPicPr/>
          <p:nvPr/>
        </p:nvPicPr>
        <p:blipFill>
          <a:blip r:embed="rId4"/>
          <a:stretch/>
        </p:blipFill>
        <p:spPr>
          <a:xfrm>
            <a:off x="5148360" y="1590840"/>
            <a:ext cx="3574800" cy="2298600"/>
          </a:xfrm>
          <a:prstGeom prst="rect">
            <a:avLst/>
          </a:prstGeom>
          <a:ln w="0">
            <a:noFill/>
          </a:ln>
        </p:spPr>
      </p:pic>
      <p:sp>
        <p:nvSpPr>
          <p:cNvPr id="1149" name=""/>
          <p:cNvSpPr/>
          <p:nvPr/>
        </p:nvSpPr>
        <p:spPr>
          <a:xfrm>
            <a:off x="2268360" y="6021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ower Bri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292720" y="306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826920" y="393372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e Houses of Parla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364000" y="602136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Big B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724360" y="393372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rafalgar Squ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2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 txBox="1"/>
          <p:nvPr/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39640" y="479736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ntiqua"/>
              </a:rPr>
              <a:t>Check yoursel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39640" y="5589360"/>
            <a:ext cx="8229600" cy="5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oper Black"/>
              </a:rPr>
              <a:t>1c, 2d, 3b, 4a, 5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"/>
          <p:cNvSpPr/>
          <p:nvPr/>
        </p:nvSpPr>
        <p:spPr>
          <a:xfrm>
            <a:off x="1979640" y="54936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tiqua"/>
              </a:rPr>
              <a:t>Read and m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39640" y="1844640"/>
            <a:ext cx="42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1.  Big B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2.  The Th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3.  The London Ey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4.   Haml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5.   Madame Tussaud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894200" y="1844640"/>
            <a:ext cx="424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a.  A sh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b.  The biggest whe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c.  A b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.  A 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e.  A muse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692360" y="404640"/>
            <a:ext cx="577224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w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4360" y="1456920"/>
            <a:ext cx="7696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appy – S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Счастливый – Печаль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Tall – Sh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Высокий – Низк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Noisy – Qui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Шумный – Тих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Clean- Dir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b800"/>
                </a:solidFill>
                <a:latin typeface="Comic Sans MS"/>
              </a:rPr>
              <a:t>Чистый- Гряз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fb"/>
                </a:solidFill>
                <a:latin typeface="Comic Sans MS"/>
              </a:rPr>
              <a:t>Wide- Narr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fb"/>
                </a:solidFill>
                <a:latin typeface="Comic Sans MS"/>
              </a:rPr>
              <a:t>Широкий- Узк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16:48:50Z</dcterms:created>
  <dc:creator>Николай</dc:creator>
  <dc:description/>
  <dc:language>en-US</dc:language>
  <cp:lastModifiedBy>Admin</cp:lastModifiedBy>
  <dcterms:modified xsi:type="dcterms:W3CDTF">2009-02-16T17:20:54Z</dcterms:modified>
  <cp:revision>8</cp:revision>
  <dc:subject/>
  <dc:title>Слайд 1</dc:title>
</cp:coreProperties>
</file>