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A16-042B-4BE9-9B38-D8F087D3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BE5-61FC-4B75-9937-ADFFEAB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69EB9-A7A1-4CF5-BCAA-21BC5CC1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8436D-EE4D-439D-BEFA-753A2887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EE09-EA4D-4F7B-8E63-F27D3BE4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C94F7-DFE1-4744-8F8C-405BA74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A54FF-163B-461C-BF27-57C0DD32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3926C-9194-4185-B2FF-010D6AF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EA8F-47C8-44A1-B3E5-FF750E8A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B3133-EEE5-41C7-9074-2D88115B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06DFA-A2B2-40AB-AEBF-DA454B90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3D1DB-9406-4F04-8E9A-44A5270A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E13-25EF-4566-90D0-3D524BA0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42036-4DEF-4BB5-A1FB-8D5055E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914DC-49B8-4019-8392-B19B74F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82A3A-264D-499B-B3A8-E54CE478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DAFED-BE02-4325-8110-D3E6CB3A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56E7C-476C-47A0-A21E-DE2E9777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A0B3B-1EC7-4613-B462-375209E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0C9F6-86CA-4BB2-9E7C-0409EAB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AF100-57DC-4E3E-B127-E484CA86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2C8A8-0045-49F7-B06A-3F6DA137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DE858-CEA6-4BF0-AB8C-7D6B9C23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17D-76BB-4057-8C5F-17352D9E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D3B1D-ADCA-4988-9D79-993A18BF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DDD09-5C72-4144-AA65-3A8D9DF0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58664-4A25-4869-A31F-D0CADE7B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4439F-D623-4942-9204-3667898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92341-40D6-4887-81C5-C72C8686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AFAFA-30A6-4AEF-AB71-4D61B850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DD504-C1D7-4DB2-9B08-E0C00688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1EA78-FEAA-4267-B161-EF2A2D6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6C9C8-3BB1-4106-8612-4DEFFA56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95DD5-18DF-4584-B98E-CC9201BF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2EED6-E1A2-4654-B60C-59E7BFE4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D8847-2058-42C3-B373-7D591294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6C22-2899-4606-8C2C-C9DCC2D5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0A0DA-B202-4978-B091-13EFE684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B3DE7-0885-4880-B197-447A9A17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45C42-31D7-48C9-A754-4580F047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9E7CF-D514-4B01-8AE2-986B3852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A85CD-ECE6-4413-80F8-C64810FC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79986-F478-4C9A-A883-F733A9FD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86039-1E7C-4078-8B99-33FC0A39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287E0-D8B4-4416-BB5B-05A1B77C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E8E73-83F8-497C-90F6-0A36E929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3806F-41D3-4E2D-9644-47632A2E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69CDB-9A16-44EA-B163-94DEABA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F9149-AC4F-4872-BC1A-061072A2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E9184-BFC7-415E-B2A1-82801AE0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BDAA7-61C5-4D20-93EB-18403617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F147B-D660-4B2C-BC09-23D6AA37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DF44E-975A-4AF2-BF68-DCF59C6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5743B-1C50-4CA5-9FC4-0BBEF45B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1B63E-6060-44FA-A6F6-F1BF65AA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BCFFD-8E4B-4F55-A543-6C7FD368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80875-CEAC-4805-8497-DC7DC3FF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2A83E-3F45-496F-AA0F-03FA4127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93686-17E9-40AB-BE79-C6D2C14F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CFA78-B708-42A0-A728-659D5B4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0AA96-F944-4FD2-949B-7B3D890A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0DBAF-E7E2-4FA2-A950-181522F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F5658-C69D-4300-BB8E-65CC605C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11617-79C6-4BE3-949B-CCAC945E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57907-8B2D-4AA7-AF41-322042B8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694BA-E0AF-4655-A079-97B18FC3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45757-B1A1-4E26-820A-5FC608B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FC8AB-AA66-48EF-8630-35C454FB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7E170-C0DC-4486-A387-5FF1F033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8B4A2-6147-455F-8B66-6E2F4469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E6CAD-7777-42B5-A49F-AED73513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71030-051D-4D04-B163-63D073D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6F127-C215-4520-BD5A-C13BD8C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63763-4AA3-4E10-8330-939D881F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F4670-A9B5-4917-BBA9-B65DB35A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4BA58-828D-4344-B84F-99562820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C72D7-7E57-4B50-A96B-B351D365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DEB5C-5A27-4036-B7DD-8CE0D74A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1F60D-8642-495B-B9E6-508A9B5D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4F7C7-C40D-4761-A1F8-9B174FEA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59C6C-44B3-4FE4-9BFE-D80E31DF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8DE08-A1A6-472D-A2A6-5D4124AA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6D06B-5365-4807-99CA-A271BBA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EC333-3526-4487-9D7B-744920A4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A28E6-DDAF-423C-AF73-780BAFA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8D347-574D-4F14-9D33-8ABAED2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12298-391A-4458-AF54-43C832C3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36AB6-5766-4C4D-BDB6-F7CA2714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9FAE8-C97B-4F31-A86D-B204447F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CC8D-37F8-4ACF-BFCE-C637811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E44F2-4DD9-407A-9162-D5017F1E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A9BB00-6336-4BFC-97ED-4D14DFA6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ED401-C6E6-4869-9BB5-0A30BBD6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FDB02-39E7-4585-9DEA-F765DE4E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9DA91C-637D-4BC7-A108-2B4EEB5D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4CFA6-5299-4835-84B8-D44CBAC6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4BABE-9003-49DB-A68C-F978B9BC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B4817-A972-42DA-B525-2D71BE0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15E65D-D9A9-48FF-B8DD-6EC14AD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9CBDF-0A66-4143-9D7F-560F725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74770-BD67-4028-9214-37E5958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6D42B-7527-4584-ACD0-F5A53AFB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A3CCFF-5D64-41D0-9A7C-86F27BE7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CB1DA-D2B8-4206-98BE-ABC9A932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2228DA-0260-483C-AB7E-7C6C0601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A5303-6545-4E84-9A9F-FD56230B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2B07EA-4C54-488F-9439-B005221A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D2593-DD02-411D-A2E3-0D2AE88C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3EB37-ACF4-4FA1-9D97-82D34C2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08AC2-96B0-44F1-BE1B-FE21E3C9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D9873-4946-43B0-AAFE-EFB2E4A5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710-4D94-448F-8806-E7D3F45F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588BB-2D4A-4B12-8533-4AC564F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674F8-D0C9-471E-A500-D99ECEA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AA598-0413-4798-8835-5E692B5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DB78B-A6E2-4DDD-B541-10F8C30C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4F688-2A94-44D2-A912-20A130C1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D0551-6C96-4F4C-967F-9BF5A0D3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D7356-4F04-4531-811E-4EE5CB19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9D7AF-A2C8-46C0-AD16-912F464D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B3E1C-D49F-4833-B545-F838936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ED14C-F1B2-4B07-9CB0-932CBD0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74BE3-ECAC-4D26-B681-43FF7BBA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124F9-F9E7-4433-AD41-E9BAF885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D6BC1-A33E-4107-A2C5-78B9FBA9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57096-F02E-4CF0-84CA-9B8735E2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ECCE6-521F-45A9-BC7E-C3EB08C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D73857-C49D-44E3-BA50-98684E1E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66824-9058-4D5A-8D14-072F3C8E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CD6E6-24E2-4A32-9B1D-C4F9C39F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6D03D-577B-4429-9374-19460DD9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D95DF8-6CAD-46E8-9A98-CAA23191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B133822-91BC-4529-9FE9-A668F2D2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A273ED-1290-46FB-8A33-F2E08B32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3E4F4-BB38-4CFF-97BF-26FC38D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75ED8A-3F3D-4071-AE8B-E901C66B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30145B-CFB1-4F43-A037-92F3BB78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38F1CC-4637-4997-8D50-39E34E65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925AE9-CAA6-4460-8785-AF3A9A1E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54575A-D3FA-4350-9B33-1589AA4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E05C95-1658-43DE-AA2A-9D82B47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240CC8-5225-42E5-AC16-20E77920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1A1674-1F42-474C-964B-CB61EC10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91E09D-A9C3-4A4D-9154-E1250A21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BDD0C-28E9-4909-96E9-E43E7489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4ECDE-F2AA-44F6-B47A-2737CA5C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8C275-D778-416B-B40C-536EE04E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6D29-8100-4D22-A63D-1019578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F917-7993-4CF2-8556-AF8C657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4162-4F97-40EF-8A86-763FC44E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C3A4-23FD-4DA8-B8B7-9F74211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5DE-4746-4277-BAB4-72BC4C4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35A5-7185-42B8-A12C-BA2F43B8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E85B-C455-4497-A583-3822CE2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7230-F892-431E-BF70-F655DB6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CFCAE-E089-4D27-9DDE-5A56034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753C-55B9-4C7F-8116-27987E0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7A6C8-BDD2-49D5-9FFD-E3D7EE66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B429-6918-45E9-9D24-E122570B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47F5-DBF3-408A-8E80-13212D7E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4E12-CA64-4780-AFB0-21D044AF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063C2-E0CF-4F85-97B6-9F0BB115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5B92-9368-4096-A8DF-0C636E5C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DA59-C176-4764-862E-F89E9B20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BB6C-A95A-4BFE-973E-2D40A8A8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4C549-D2CC-497F-BC94-1410ADC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2F64-C8BF-490E-B005-926249C7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25C18-27A6-44AC-9212-285F1F7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5F0E-9FAC-4591-AE81-D0DCA819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3697A-C8A5-4D9E-AEE7-0F81E56B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5A56-C9F0-42D3-8944-658345E5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4AA2-EF17-491E-9571-9F78F7F3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604B8-2D2B-462E-AD77-F3255A26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D3A-54D6-468F-BB66-A6C864B6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E418-4768-4CCF-8F9C-04C9454C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7D47-17D7-4AED-B332-31F6308D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6CE1-43EF-42F0-B96F-C4345618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B416-78A6-46A9-9F3C-59CBE0E9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AB37A-A5BF-4185-9507-DF174314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7157-6508-4CA8-86A4-0619BDF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96A3-2B4C-49B7-AA57-0860D9B2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2E94-E7D9-4E78-AFB3-139007EC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2400B-C11F-405B-83DB-DC1724F5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4E0A4-63F9-4FC2-8A6D-EB72AD01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7C0-844E-463A-8618-493A351A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0D77D-DEAD-4E13-A94A-15CA0418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8C836-AB0C-45ED-9ED4-1B07D603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D4979-29F2-4822-A91C-6000C2A7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5981-94F2-4EEA-AC86-3E22AB5B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23B12-5FBC-4F84-929A-CF7BCD27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3EC8F-9F2A-4A4B-80A7-8388FBC8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B713-5863-4FEE-95D1-EA5E53D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887BD-B119-49D5-B19F-49F8435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4F84E-2F87-415B-B62F-1B772870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0AEE1-CFAD-431C-9B8B-359B2B55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1F6-EF3D-4AD1-AE3A-89E30996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61D41-C2F6-4C8B-9E8B-B4F61952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829DA-E0B1-4261-801B-6F79D954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1261-6158-49EF-9062-52056A9F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9628A-8EEB-4991-B420-998A9F14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ADE9B-DD65-41EF-8C89-5B68511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5906A-212B-498A-BC78-6819D5D0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DCDF7-FAB5-421C-BA78-A602ED63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60528-3E40-443F-9B07-58E7E109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35BDA-AA51-4C19-AC45-111E5EEB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144D-9773-4779-8D5A-B884588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C8B-56DC-4883-9F5B-F645AA11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5F0D7-97BD-482C-B706-5FD4D5A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9FBEB-78E0-49C6-A057-A02B40AE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C228-083A-4EA5-B8F4-64106BEA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4A36-F64A-40B9-9928-B5A4414B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E5450-53BD-4EF9-91AA-4D917434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D2B2A-D653-4FDB-86D5-B7785CED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124CB-1D1F-4280-BC65-E9FEED51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E8E5D-B4AC-45EE-A57F-E26B80CB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A9FB-AD9E-4147-9018-8C69FE58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9F57-05B2-4F69-98CC-92ABA802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10F-4A22-40FB-A8DD-46C4D132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C014-9B2B-4817-8C93-43894AA5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4EF3-3C4D-4162-BF6A-5A31FF85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E4391-6388-4592-94FA-C2ED8E9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685CC-128B-4308-AD67-B774D35D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BF5A-94BE-44C7-BC2B-D4F264C0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0AB6-FAA2-4986-965C-5ACA9A97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5B908-3750-42E1-A69F-37E53819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44F46-1CC4-468A-88FA-73A2531E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7C383-A5D3-409A-9029-333DADBD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6143E-E34C-4C8C-9CB6-7835D18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DD50-2572-4472-B7E1-5D767ED85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E45-475B-4EEA-B34C-DA467023F6A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6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7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8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9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9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9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AA20-3DBD-4B1F-8D94-DECFF07B201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4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5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8C1-5895-4441-B12D-9A0E6F9E55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6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FFD0-0302-4244-B882-44E3B70F05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6F5F-BA24-4F7C-98AE-0B9483FC9E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5C41-F29A-40DC-94A0-C8EA3FEAEB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4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84D6-4D6E-448B-BAB0-3589A8CC95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8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71D-DEF4-43F1-B678-8AF7C337C9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2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3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3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4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1CDC-862C-4AB3-8FB1-C545471BBE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98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99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99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0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6904-801D-4AC6-9A29-7EF00BF892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762-DD2D-48D1-8C2C-11BC34A7B3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6FCD-7228-423D-9AF7-83166134C5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E3FE-2A6A-45C7-96B9-97AD7F22AC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0907-CC63-4B61-9EDF-C64F27D4CF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AC16-8379-4987-A97D-01AEC1E747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8CAC-3BB3-415A-9325-93875897E7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60C-A141-4655-832E-B4E4134CAA8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017F-FE26-4E30-800F-72E2944E476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6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611280" y="6922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ccff"/>
                </a:solidFill>
                <a:latin typeface="comic"/>
              </a:rPr>
              <a:t>EAST OR WES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258920" y="494172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5ffff"/>
                </a:solidFill>
                <a:latin typeface="comic"/>
              </a:rPr>
              <a:t>HOME IS BES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2"/>
          <a:stretch/>
        </p:blipFill>
        <p:spPr>
          <a:xfrm>
            <a:off x="4140360" y="2133720"/>
            <a:ext cx="4248000" cy="2832120"/>
          </a:xfrm>
          <a:prstGeom prst="rect">
            <a:avLst/>
          </a:prstGeom>
          <a:ln w="0">
            <a:noFill/>
          </a:ln>
        </p:spPr>
      </p:pic>
      <p:pic>
        <p:nvPicPr>
          <p:cNvPr id="1051" name="" descr=""/>
          <p:cNvPicPr/>
          <p:nvPr/>
        </p:nvPicPr>
        <p:blipFill>
          <a:blip r:embed="rId3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906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58560" y="406080"/>
            <a:ext cx="686916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Script MT Bold"/>
              </a:rPr>
              <a:t>Read and Translate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Max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happy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, Nick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sad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Макс счастливый, Ник печаль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man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tall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, the boy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Мужчина высокий, мальчик низк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market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noisy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 The park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quiet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Рынок шумный. Парк тих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streets are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clean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 The yard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dirty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Улицы чистые. Двор гряз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The prospect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wide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, but the street is </a:t>
            </a:r>
            <a:r>
              <a:rPr b="0" lang="en-US" sz="2800" spc="-1" strike="noStrike">
                <a:solidFill>
                  <a:srgbClr val="000066"/>
                </a:solidFill>
                <a:latin typeface="Copperplate Gothic Bold"/>
              </a:rPr>
              <a:t>narrow</a:t>
            </a: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pperplate Gothic Bold"/>
              </a:rPr>
              <a:t>Проспект широкий, но улица узк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1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1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cc"/>
                </a:solidFill>
                <a:latin typeface="Bookman Old Style"/>
              </a:rPr>
              <a:t>Cheltenham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5111280" y="1844280"/>
            <a:ext cx="4032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Cheltenham is a small clean town in the centre of England. It is a very beautiful town. The streets are long and wide. The houses are small. There is a garden with nice flowers in front of each house. There aren’t many cars in the streets, but there are a lot of noisy touris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ere most interesting garden is in the centre. There are always a lot of people there. They have picnics, play games or just have a rest in a quiet pla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14820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d and answer your teacher’s question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"/>
          <p:cNvSpPr/>
          <p:nvPr/>
        </p:nvSpPr>
        <p:spPr>
          <a:xfrm>
            <a:off x="684360" y="1773360"/>
            <a:ext cx="2879640" cy="1439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y village is the quietest plac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5076720" y="2852640"/>
            <a:ext cx="2592360" cy="1440000"/>
          </a:xfrm>
          <a:prstGeom prst="cloudCallout">
            <a:avLst>
              <a:gd name="adj1" fmla="val 50671"/>
              <a:gd name="adj2" fmla="val -9002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5435640" y="2924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in London. It’s the oldest and biggest city in Engla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195640" y="4437000"/>
            <a:ext cx="266364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 live on the 1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floor. It’s the tallest block of flats in the stre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3964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093080" y="17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547640" y="6165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1604"/>
                </a:solidFill>
                <a:latin typeface="comic"/>
              </a:rPr>
              <a:t>Look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22712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long + est = the long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big + est = the bigg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happy + est = the happi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tall + est = the tall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wide + est = the wid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+ clean + est = the clean</a:t>
            </a:r>
            <a:r>
              <a:rPr b="0" lang="en-US" sz="3200" spc="-1" strike="noStrike">
                <a:solidFill>
                  <a:srgbClr val="fc1604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c08d"/>
                </a:solidFill>
                <a:latin typeface="Showcard Gothic"/>
              </a:rPr>
              <a:t>Talk about your hometown,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ich is the longest str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o is the tallest in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o is the cleverest in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ich girl has the longest 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bat-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Who is the noisiest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98" fill="hold"/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98" fill="hold"/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98" fill="hold"/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98" fill="hold"/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898" fill="hold"/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Script MT Bold"/>
              </a:rPr>
              <a:t>Thank you for the less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5" dur="10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7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et’s revise the words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355640" y="1052280"/>
            <a:ext cx="40388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T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VIL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RI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THEAT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8436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P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Z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HOS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CIN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POLICE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R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MUS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BOO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SWIMMING P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0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117080" y="450720"/>
            <a:ext cx="686916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late the sentenc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2112840"/>
            <a:ext cx="7694640" cy="38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swimming pool in my t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museum near the theat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bank between the police station and the pa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shop behind my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 school in the corner of the stree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bat-Bold"/>
              </a:rPr>
              <a:t>Can you tell me the w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68000" y="2007720"/>
            <a:ext cx="82184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Use phras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"/>
          <p:cNvSpPr/>
          <p:nvPr/>
        </p:nvSpPr>
        <p:spPr>
          <a:xfrm>
            <a:off x="7308720" y="2708280"/>
            <a:ext cx="1440000" cy="100800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340000" y="2565360"/>
            <a:ext cx="1584360" cy="1224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716360" y="2781360"/>
            <a:ext cx="1800360" cy="1081080"/>
          </a:xfrm>
          <a:prstGeom prst="rightArrow">
            <a:avLst>
              <a:gd name="adj1" fmla="val 50000"/>
              <a:gd name="adj2" fmla="val 4163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rot="16200000">
            <a:off x="324000" y="2637000"/>
            <a:ext cx="1116000" cy="1116000"/>
          </a:xfrm>
          <a:custGeom>
            <a:avLst/>
            <a:gdLst>
              <a:gd name="textAreaLeft" fmla="*/ 371880 w 1116000"/>
              <a:gd name="textAreaRight" fmla="*/ 955800 w 1116000"/>
              <a:gd name="textAreaTop" fmla="*/ 642600 h 1116000"/>
              <a:gd name="textAreaBottom" fmla="*/ 955800 h 111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92360" y="5013360"/>
            <a:ext cx="151128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492360" y="4653000"/>
            <a:ext cx="1511280" cy="28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68360" y="3860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urn le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195640" y="3860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Go straight 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643280" y="249228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284720" y="378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Go past the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020000" y="3789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urn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492360" y="5373720"/>
            <a:ext cx="1511280" cy="287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203640" y="57340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ross the 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bat-Bold"/>
              </a:rPr>
              <a:t>Make up dialogue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use m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tell me the way to the to the supermarket, pl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Yes, it’s in Market street. Go straight on and turn le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the information. I’ll follow your ad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0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1187280" y="0"/>
            <a:ext cx="936720" cy="19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050920" y="0"/>
            <a:ext cx="865440" cy="16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0" y="1844640"/>
            <a:ext cx="2124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0" y="2205000"/>
            <a:ext cx="2195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0" y="3715920"/>
            <a:ext cx="2987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0" y="4149720"/>
            <a:ext cx="3276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0" y="5805360"/>
            <a:ext cx="327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0" y="6237000"/>
            <a:ext cx="3276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067280" y="5516640"/>
            <a:ext cx="720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268360" y="333360"/>
            <a:ext cx="648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916360" y="333360"/>
            <a:ext cx="576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1116000" y="105264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0" y="1052640"/>
            <a:ext cx="11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484280"/>
            <a:ext cx="395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140360" y="162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3492000" y="1989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92360" y="2276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3492000" y="278136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84360" y="2781360"/>
            <a:ext cx="1584000" cy="792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1116000" y="2997360"/>
            <a:ext cx="64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796000" y="2565360"/>
            <a:ext cx="1944720" cy="1079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0314000">
            <a:off x="6372000" y="5516280"/>
            <a:ext cx="2089080" cy="790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2627280" y="429264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443700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050560" y="5084640"/>
            <a:ext cx="792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050920" y="5229360"/>
            <a:ext cx="14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rot="20461200">
            <a:off x="4030200" y="264600"/>
            <a:ext cx="1295640" cy="765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476400">
            <a:off x="324000" y="4221000"/>
            <a:ext cx="165708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 rot="21058200">
            <a:off x="5632200" y="4512240"/>
            <a:ext cx="1296720" cy="706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ree"/>
          <p:cNvSpPr/>
          <p:nvPr/>
        </p:nvSpPr>
        <p:spPr>
          <a:xfrm>
            <a:off x="7236000" y="0"/>
            <a:ext cx="647640" cy="576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ree"/>
          <p:cNvSpPr/>
          <p:nvPr/>
        </p:nvSpPr>
        <p:spPr>
          <a:xfrm>
            <a:off x="8310600" y="0"/>
            <a:ext cx="833400" cy="6890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ree"/>
          <p:cNvSpPr/>
          <p:nvPr/>
        </p:nvSpPr>
        <p:spPr>
          <a:xfrm>
            <a:off x="7885080" y="333360"/>
            <a:ext cx="647640" cy="64944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940360" y="476280"/>
            <a:ext cx="503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6516720" y="62064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2843280" y="404640"/>
            <a:ext cx="381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3059280" y="620280"/>
            <a:ext cx="40338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659280" y="26028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77080" y="62064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140360" y="4076280"/>
            <a:ext cx="500364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24360" y="3645000"/>
            <a:ext cx="52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059280" y="1989000"/>
            <a:ext cx="8650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140360" y="414972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219640" y="6308640"/>
            <a:ext cx="28908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195640" y="2205000"/>
            <a:ext cx="7905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276720" y="414972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356000" y="6524640"/>
            <a:ext cx="14472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5364000" y="4724280"/>
            <a:ext cx="378000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651640" y="5229360"/>
            <a:ext cx="3492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500720" y="4952880"/>
            <a:ext cx="934920" cy="420840"/>
          </a:xfrm>
          <a:custGeom>
            <a:avLst/>
            <a:gdLst/>
            <a:ahLst/>
            <a:rect l="l" t="t" r="r" b="b"/>
            <a:pathLst>
              <a:path w="589" h="265">
                <a:moveTo>
                  <a:pt x="0" y="38"/>
                </a:moveTo>
                <a:cubicBezTo>
                  <a:pt x="132" y="19"/>
                  <a:pt x="265" y="0"/>
                  <a:pt x="363" y="38"/>
                </a:cubicBezTo>
                <a:cubicBezTo>
                  <a:pt x="461" y="76"/>
                  <a:pt x="559" y="227"/>
                  <a:pt x="589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219640" y="5734080"/>
            <a:ext cx="432000" cy="598320"/>
          </a:xfrm>
          <a:custGeom>
            <a:avLst/>
            <a:gdLst/>
            <a:ahLst/>
            <a:rect l="l" t="t" r="r" b="b"/>
            <a:pathLst>
              <a:path w="272" h="377">
                <a:moveTo>
                  <a:pt x="272" y="0"/>
                </a:moveTo>
                <a:cubicBezTo>
                  <a:pt x="272" y="128"/>
                  <a:pt x="272" y="257"/>
                  <a:pt x="227" y="317"/>
                </a:cubicBezTo>
                <a:cubicBezTo>
                  <a:pt x="182" y="377"/>
                  <a:pt x="38" y="355"/>
                  <a:pt x="0" y="3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276720" y="6237360"/>
            <a:ext cx="1079280" cy="334800"/>
          </a:xfrm>
          <a:custGeom>
            <a:avLst/>
            <a:gdLst/>
            <a:ahLst/>
            <a:rect l="l" t="t" r="r" b="b"/>
            <a:pathLst>
              <a:path w="680" h="211">
                <a:moveTo>
                  <a:pt x="0" y="0"/>
                </a:moveTo>
                <a:cubicBezTo>
                  <a:pt x="56" y="75"/>
                  <a:pt x="113" y="151"/>
                  <a:pt x="226" y="181"/>
                </a:cubicBezTo>
                <a:cubicBezTo>
                  <a:pt x="339" y="211"/>
                  <a:pt x="604" y="181"/>
                  <a:pt x="680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108240" y="5157720"/>
            <a:ext cx="671760" cy="647640"/>
          </a:xfrm>
          <a:custGeom>
            <a:avLst/>
            <a:gdLst/>
            <a:ahLst/>
            <a:rect l="l" t="t" r="r" b="b"/>
            <a:pathLst>
              <a:path w="423" h="408">
                <a:moveTo>
                  <a:pt x="423" y="0"/>
                </a:moveTo>
                <a:cubicBezTo>
                  <a:pt x="271" y="11"/>
                  <a:pt x="120" y="22"/>
                  <a:pt x="60" y="90"/>
                </a:cubicBezTo>
                <a:cubicBezTo>
                  <a:pt x="0" y="158"/>
                  <a:pt x="30" y="283"/>
                  <a:pt x="6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508720" y="0"/>
            <a:ext cx="3635280" cy="2492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156360" y="0"/>
            <a:ext cx="2987640" cy="2133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rot="20083800">
            <a:off x="324360" y="16999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rot="20579400">
            <a:off x="3132000" y="184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39640" y="443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rot="3342000">
            <a:off x="2343600" y="75996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195640" y="530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5796000" y="2852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ER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rot="21010200">
            <a:off x="5651640" y="47239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rot="20964600">
            <a:off x="6659640" y="5733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Y SH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rot="20778600">
            <a:off x="4140360" y="40428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rot="20551200">
            <a:off x="687600" y="1698120"/>
            <a:ext cx="39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KER’S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rot="3814800">
            <a:off x="2014200" y="3544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TR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96720" y="3789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 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859280" y="364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 STRE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rot="21169200">
            <a:off x="5651640" y="522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XFORD 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rot="21036600">
            <a:off x="32400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XFORD 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11280" y="342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wimming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Copperplate Gothic Bold"/>
              </a:rPr>
              <a:t>London is the capital of Great Britain. There are a lot of places of interest in it. They are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1"/>
          <a:stretch/>
        </p:blipFill>
        <p:spPr>
          <a:xfrm>
            <a:off x="684360" y="1627200"/>
            <a:ext cx="3292200" cy="221292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2"/>
          <a:stretch/>
        </p:blipFill>
        <p:spPr>
          <a:xfrm>
            <a:off x="7188120" y="4437000"/>
            <a:ext cx="1351080" cy="2041560"/>
          </a:xfrm>
          <a:prstGeom prst="rect">
            <a:avLst/>
          </a:prstGeom>
          <a:ln w="0">
            <a:noFill/>
          </a:ln>
        </p:spPr>
      </p:pic>
      <p:pic>
        <p:nvPicPr>
          <p:cNvPr id="1147" name="" descr=""/>
          <p:cNvPicPr/>
          <p:nvPr/>
        </p:nvPicPr>
        <p:blipFill>
          <a:blip r:embed="rId3"/>
          <a:stretch/>
        </p:blipFill>
        <p:spPr>
          <a:xfrm>
            <a:off x="684360" y="4581360"/>
            <a:ext cx="1309680" cy="197172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4"/>
          <a:stretch/>
        </p:blipFill>
        <p:spPr>
          <a:xfrm>
            <a:off x="5148360" y="1590840"/>
            <a:ext cx="3574800" cy="22986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2268360" y="6021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ower Bri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9272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26920" y="39337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he Houses of Parl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364000" y="6021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Big 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724360" y="393372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"/>
              </a:rPr>
              <a:t>Trafalgar Squ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39640" y="479736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ntiqua"/>
              </a:rPr>
              <a:t>Check yoursel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39640" y="5589360"/>
            <a:ext cx="8229600" cy="5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oper Black"/>
              </a:rPr>
              <a:t>1c, 2d, 3b, 4a, 5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54936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ntiqua"/>
              </a:rPr>
              <a:t>Read and 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39640" y="1844640"/>
            <a:ext cx="42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1.  Big 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2.  The Th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3.  The London E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4.   Haml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5.   Madame Tussau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894200" y="184464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a.  A 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b.  The biggest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c.  A b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d.  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Black"/>
              </a:rPr>
              <a:t>e.  A muse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5772240" cy="8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w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4360" y="1456920"/>
            <a:ext cx="7696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ppy – 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Счастливый – Печа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Tall – Sho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Высокий – Низ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Noisy – Qui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Шумный – Тих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Clean- Di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800"/>
                </a:solidFill>
                <a:latin typeface="Comic Sans MS"/>
              </a:rPr>
              <a:t>Чистый- Гряз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6bfb"/>
                </a:solidFill>
                <a:latin typeface="Comic Sans MS"/>
              </a:rPr>
              <a:t>Wide- Narr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fb"/>
                </a:solidFill>
                <a:latin typeface="Comic Sans MS"/>
              </a:rPr>
              <a:t>Широкий- Уз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6:48:50Z</dcterms:created>
  <dc:creator>Николай</dc:creator>
  <dc:description/>
  <dc:language>en-US</dc:language>
  <cp:lastModifiedBy>Admin</cp:lastModifiedBy>
  <dcterms:modified xsi:type="dcterms:W3CDTF">2009-02-16T17:20:54Z</dcterms:modified>
  <cp:revision>8</cp:revision>
  <dc:subject/>
  <dc:title>Слайд 1</dc:title>
</cp:coreProperties>
</file>