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62B-6CAC-4BBD-82CA-33C20593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9537-5604-42D5-B70E-15AE8346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199-5D94-42F5-B769-9CA42940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3148-CB55-483E-AE1E-7C477346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659F-11F4-4788-B14D-6425087C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A8A-07B1-4B7B-A804-21575A89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837-AE77-4B69-BC26-7C87C763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2AF-CAD0-4C96-BD5D-1E62719A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46D-6AD2-4B51-BAD8-A0B9F5E8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51AF-1BD3-44EB-9D71-D1B91B59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E85-ACDB-425C-8AB1-361F31AE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9DB-6D33-4A5D-8697-533AA7BD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7422-8465-40AD-AE9C-EC050F508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19560"/>
            <a:ext cx="8532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стер 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be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  … Wel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  am            b)    is         c)   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I  …   a pup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 is               b)  are         c)    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We  …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 is               b)   are        c)    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They  …   art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are              b)  is           c)    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He  …  a do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am              b)  are         c)    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69480" y="703440"/>
            <a:ext cx="92865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берите и  вставьте нужные местоим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am a pup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you             b) she         c) 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… is a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she              b) I             c) 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…   are   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I                   b) they        c) 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…  is a pup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she              b) I              c)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… are 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he               b)  we           c)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3800" y="1252080"/>
            <a:ext cx="866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противоположные по смыс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а в столбиках и напишите букву и цифру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cold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tan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white                                                        b)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good                                                         c)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inside                                                       d) 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sit down                                                   e)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young                                                       f) out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big                                                            g)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2720" y="1706400"/>
            <a:ext cx="78357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 слова с одинаковыми гласными зву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запишите их пар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                                                       rat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y                                                          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e                                                        sw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                                                  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eam                                                      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92520" y="693000"/>
            <a:ext cx="93830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бери правильный вариант перевод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ыр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, pencil, cheese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ен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( spring, eleven, autum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ниг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(book, pen, people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блок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 a banana, an apple, a tomat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сло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utter, cream, bac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" y="776520"/>
            <a:ext cx="876852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ремена го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is the weather  warm? The weather  is warm in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winter         b) spring        c)  sum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is the weather  hot? The weather  is hot  in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 autumn      b)  winter      c) sum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 When is the weather  cold? The weather  is cold  in 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winter        b) autumn      c) sp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 When is the weather  cool? The weather  is cool  in 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winter        b) autumn      c) sp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7560" y="322920"/>
            <a:ext cx="625248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nbow  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д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lour  is an apric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purple     b) green     c) 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colour  is an ap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black       b) brown    c)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at colour  is a toma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red           b) grey        c)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What colour  is a pota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white       b) orange     c)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What colour  is a ban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yellow      b) orange     c)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ертикал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бережь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етер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, where we can read book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л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… animal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горизонтал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is in winter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ожд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lour is strawberry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o make…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сочный замок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at is at the end of the w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05:49:25Z</dcterms:created>
  <dc:creator>stas</dc:creator>
  <dc:description/>
  <dc:language>en-US</dc:language>
  <cp:lastModifiedBy>stas</cp:lastModifiedBy>
  <dcterms:modified xsi:type="dcterms:W3CDTF">2010-04-27T17:27:40Z</dcterms:modified>
  <cp:revision>3</cp:revision>
  <dc:subject/>
  <dc:title>Слайд 1</dc:title>
</cp:coreProperties>
</file>