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CF6-212E-43B5-B01D-9FBB6A90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AD9-3F46-477B-89BA-FC2F2109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EA5-263A-466C-9CCF-474706E8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C0E-14F5-42CD-88BC-51359B47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4F4-32CB-4D36-813C-AFEDB07F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A4E-3C3F-40F7-ABD2-E04B19A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3AB-2DA8-4AD7-9746-F218D3A9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B05-B8D3-45B1-A3BD-FA4C345E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C30-80F2-4FA4-A051-B5BF224E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BC1-E43A-49BC-93F1-23F016BD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581-B25B-43F0-8611-E8A80E5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6AE-BA5A-43B2-8D37-9E556B30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759-B8BC-47F7-8C72-8EE6EFF6C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19560"/>
            <a:ext cx="853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тер 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b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  … Wel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  am            b)    is         c)   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I  …   a pup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 is               b)  are         c)    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e  …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 is               b)   are        c)    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They  …   art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are              b)  is           c)    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He  … 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am              b)  are         c)    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69480" y="703440"/>
            <a:ext cx="9286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берите и  вставьте нужные местоим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am a pup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you             b) she         c)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… is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she              b) I             c) 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…   are   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I                   b) they        c) 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…  is a pup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she              b) I              c)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… are 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he               b)  we           c)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3800" y="1252080"/>
            <a:ext cx="866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противоположные по смыс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а в столбиках и напишите букву и цифру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old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stan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white                                                        b)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good                                                         c)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inside                                                       d) 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sit down                                                   e)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young                                                       f)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big                                                            g)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2720" y="1706400"/>
            <a:ext cx="78357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слова с одинаковыми гласными зву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запишите их па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                                                       rat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y                                                          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                                                        sw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                                                        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am                                                      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92520" y="693000"/>
            <a:ext cx="93830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ери правильный вариант перево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ыр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, pencil, cheese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ен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( spring, eleven, autum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ниг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(book, pen, people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блок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 a banana, an apple, a toma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сл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utter, cream, baco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" y="776520"/>
            <a:ext cx="876852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ремена год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is the weather  warm? The weather  is warm in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winter         b) spring        c)  su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is the weather  hot? The weather  is hot  in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 autumn      b)  winter      c) su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 When is the weather  cold? The weather  is cold  in 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winter        b) autumn      c) sp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 When is the weather  cool? The weather  is cool  in 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winter        b) autumn      c) sp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560" y="322920"/>
            <a:ext cx="625248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nbow 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д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ur  is an apric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purple     b) green     c)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colour  is an ap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 black       b) brown    c)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colour  is a tom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red           b) grey        c)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at colour  is a pota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white       b) orange     c) 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at colour  is a ban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yellow      b) orange     c) 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ертикал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бережь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етер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, where we can read boo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л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… animal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горизонтал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is in winte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жд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lour is strawberry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o make…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очный замок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is at the end of the we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5:49:25Z</dcterms:created>
  <dc:creator>stas</dc:creator>
  <dc:description/>
  <dc:language>en-US</dc:language>
  <cp:lastModifiedBy>stas</cp:lastModifiedBy>
  <dcterms:modified xsi:type="dcterms:W3CDTF">2010-04-27T17:27:40Z</dcterms:modified>
  <cp:revision>3</cp:revision>
  <dc:subject/>
  <dc:title>Слайд 1</dc:title>
</cp:coreProperties>
</file>