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2D9-0861-40C2-8ADD-90F87B75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3E27-F4BD-447D-9843-72FC1B59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BC2D-5C03-46ED-9F85-6BCD8F27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296-A762-4D01-A2B8-45B5AB27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4D4-58F4-4C8C-AA94-68159D1D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7E5D-52AD-4100-B76A-A4FBD1EC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BB7E-B53D-4DA9-B1D3-298AA262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3585-2A9D-48D3-83C3-E2526EA2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F62-77D0-4FFA-944C-80EC83B1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319-DDE3-429F-BD1E-A407B5A6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6D2-1662-4C8C-B14D-E6A6AF47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9A7-F35C-49EA-90FB-D788BC72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4E7C-5DAC-4622-8810-007734891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" Target="slide3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synulya.www.nn.ru/users/foto/218656-2010-09-03-846496038.jpg" TargetMode="External"/><Relationship Id="rId3" Type="http://schemas.openxmlformats.org/officeDocument/2006/relationships/hyperlink" Target="http://synulya.www.nn.ru/users/foto/218656-2010-09-03-846496038.jpg" TargetMode="External"/><Relationship Id="rId4" Type="http://schemas.openxmlformats.org/officeDocument/2006/relationships/hyperlink" Target="http://synulya.www.nn.ru/users/foto/218656-2010-09-03-846496038.jpg" TargetMode="External"/><Relationship Id="rId5" Type="http://schemas.openxmlformats.org/officeDocument/2006/relationships/hyperlink" Target="http://synulya.www.nn.ru/users/foto/218656-2010-09-03-846496038.jpg" TargetMode="External"/><Relationship Id="rId6" Type="http://schemas.openxmlformats.org/officeDocument/2006/relationships/hyperlink" Target="http://synulya.www.nn.ru/users/foto/218656-2010-09-03-846496038.jpg" TargetMode="External"/><Relationship Id="rId7" Type="http://schemas.openxmlformats.org/officeDocument/2006/relationships/hyperlink" Target="http://synulya.www.nn.ru/users/foto/218656-2010-09-03-846496038.jpg" TargetMode="External"/><Relationship Id="rId8" Type="http://schemas.openxmlformats.org/officeDocument/2006/relationships/hyperlink" Target="http://synulya.www.nn.ru/users/foto/218656-2010-09-03-846496038.jpg" TargetMode="External"/><Relationship Id="rId9" Type="http://schemas.openxmlformats.org/officeDocument/2006/relationships/hyperlink" Target="http://synulya.www.nn.ru/users/foto/218656-2010-09-03-846496038.jpg" TargetMode="Externa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084720" y="4292640"/>
            <a:ext cx="3059280" cy="2565360"/>
            <a:chOff x="6084720" y="4292640"/>
            <a:chExt cx="3059280" cy="2565360"/>
          </a:xfrm>
        </p:grpSpPr>
        <p:pic>
          <p:nvPicPr>
            <p:cNvPr id="43" name="" descr="">
              <a:hlinkClick r:id="rId2" action="ppaction://hlinksldjump"/>
            </p:cNvPr>
            <p:cNvPicPr/>
            <p:nvPr/>
          </p:nvPicPr>
          <p:blipFill>
            <a:blip r:embed="rId3"/>
            <a:srcRect l="66547" t="62598" r="0" b="0"/>
            <a:stretch/>
          </p:blipFill>
          <p:spPr>
            <a:xfrm>
              <a:off x="6084720" y="4292640"/>
              <a:ext cx="3059280" cy="25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 txBox="1"/>
            <p:nvPr/>
          </p:nvSpPr>
          <p:spPr>
            <a:xfrm>
              <a:off x="7093080" y="5516640"/>
              <a:ext cx="158256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ЖМИ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5" name=""/>
          <p:cNvSpPr txBox="1"/>
          <p:nvPr/>
        </p:nvSpPr>
        <p:spPr>
          <a:xfrm>
            <a:off x="4894200" y="3933720"/>
            <a:ext cx="4249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>
                    <a:alpha val="88000"/>
                  </a:srgbClr>
                </a:solidFill>
                <a:latin typeface="Monotype Corsiva"/>
              </a:rPr>
              <a:t>Абаркина Елена Владимировна</a:t>
            </a:r>
            <a:endParaRPr b="1" lang="en-US" sz="2400" spc="1" strike="noStrike">
              <a:ln w="0">
                <a:noFill/>
              </a:ln>
              <a:solidFill>
                <a:srgbClr val="000000">
                  <a:alpha val="88000"/>
                </a:srgbClr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>
                    <a:alpha val="88000"/>
                  </a:srgbClr>
                </a:solidFill>
                <a:latin typeface="Monotype Corsiva"/>
              </a:rPr>
              <a:t>МБОУ "Верейская СОШ"</a:t>
            </a:r>
            <a:endParaRPr b="1" lang="en-US" sz="2400" spc="1" strike="noStrike">
              <a:ln w="0">
                <a:noFill/>
              </a:ln>
              <a:solidFill>
                <a:srgbClr val="000000">
                  <a:alpha val="88000"/>
                </a:srgbClr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>
                    <a:alpha val="88000"/>
                  </a:srgbClr>
                </a:solidFill>
                <a:latin typeface="Monotype Corsiva"/>
              </a:rPr>
              <a:t>Орехово-Зуевский район, посёлок Верея</a:t>
            </a:r>
            <a:endParaRPr b="1" lang="en-US" sz="2400" spc="1" strike="noStrike">
              <a:ln w="0">
                <a:noFill/>
              </a:ln>
              <a:solidFill>
                <a:srgbClr val="000000">
                  <a:alpha val="88000"/>
                </a:srgbClr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>
                    <a:alpha val="88000"/>
                  </a:srgbClr>
                </a:solidFill>
                <a:latin typeface="Monotype Corsiva"/>
              </a:rPr>
              <a:t>2013 год</a:t>
            </a:r>
            <a:endParaRPr b="1" lang="en-US" sz="2400" spc="1" strike="noStrike">
              <a:ln w="0">
                <a:noFill/>
              </a:ln>
              <a:solidFill>
                <a:srgbClr val="000000">
                  <a:alpha val="88000"/>
                </a:srgbClr>
              </a:solidFill>
              <a:latin typeface="Monotype Corsiva"/>
              <a:ea typeface="Monotype Corsiv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859280" y="2349360"/>
            <a:ext cx="3888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ловарные слова</a:t>
            </a:r>
            <a:endParaRPr b="0" lang="en-US" sz="44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1 класс</a:t>
            </a:r>
            <a:endParaRPr b="0" lang="en-US" sz="44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427640" y="1341360"/>
            <a:ext cx="4537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>
                    <a:alpha val="88000"/>
                  </a:srgbClr>
                </a:solidFill>
                <a:latin typeface="Monotype Corsiva"/>
              </a:rPr>
              <a:t>Интерактивный тренажёр</a:t>
            </a:r>
            <a:endParaRPr b="1" lang="en-US" sz="2400" spc="1" strike="noStrike">
              <a:ln w="0">
                <a:noFill/>
              </a:ln>
              <a:solidFill>
                <a:srgbClr val="000000">
                  <a:alpha val="88000"/>
                </a:srgbClr>
              </a:solidFill>
              <a:latin typeface="Monotype Corsiva"/>
              <a:ea typeface="Monotype Corsi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5" name=""/>
          <p:cNvSpPr txBox="1"/>
          <p:nvPr/>
        </p:nvSpPr>
        <p:spPr>
          <a:xfrm>
            <a:off x="3348000" y="3573360"/>
            <a:ext cx="345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450864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780000" y="364500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8" name="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1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2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4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4" name=""/>
          <p:cNvSpPr txBox="1"/>
          <p:nvPr/>
        </p:nvSpPr>
        <p:spPr>
          <a:xfrm>
            <a:off x="3203640" y="342900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  т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67280" y="4221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140360" y="342900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7" name="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5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5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3" name=""/>
          <p:cNvSpPr txBox="1"/>
          <p:nvPr/>
        </p:nvSpPr>
        <p:spPr>
          <a:xfrm>
            <a:off x="2556000" y="3357720"/>
            <a:ext cx="504036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  ранда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4149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59280" y="3429000"/>
            <a:ext cx="50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6" name="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8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42" name=""/>
          <p:cNvSpPr txBox="1"/>
          <p:nvPr/>
        </p:nvSpPr>
        <p:spPr>
          <a:xfrm>
            <a:off x="3132000" y="3357720"/>
            <a:ext cx="410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  бя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4365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51280" y="357336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5" name="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0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1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1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4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51" name=""/>
          <p:cNvSpPr txBox="1"/>
          <p:nvPr/>
        </p:nvSpPr>
        <p:spPr>
          <a:xfrm>
            <a:off x="2987640" y="3573360"/>
            <a:ext cx="42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  ль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08360" y="4365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708360" y="357336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4" name="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3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4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4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4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0" name=""/>
          <p:cNvSpPr txBox="1"/>
          <p:nvPr/>
        </p:nvSpPr>
        <p:spPr>
          <a:xfrm>
            <a:off x="2771640" y="3429000"/>
            <a:ext cx="475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уч   н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7280" y="429264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140360" y="342900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3" name="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6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7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7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4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9" name=""/>
          <p:cNvSpPr txBox="1"/>
          <p:nvPr/>
        </p:nvSpPr>
        <p:spPr>
          <a:xfrm>
            <a:off x="2843280" y="3429000"/>
            <a:ext cx="432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  б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4365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4000" y="357336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2" name="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9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0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8" name=""/>
          <p:cNvSpPr txBox="1"/>
          <p:nvPr/>
        </p:nvSpPr>
        <p:spPr>
          <a:xfrm>
            <a:off x="3348000" y="3573360"/>
            <a:ext cx="338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  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4437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076720" y="357336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1" name="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2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3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4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87" name=""/>
          <p:cNvSpPr txBox="1"/>
          <p:nvPr/>
        </p:nvSpPr>
        <p:spPr>
          <a:xfrm>
            <a:off x="3564000" y="3573360"/>
            <a:ext cx="33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яг   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16360" y="4365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716360" y="357336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0" name="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5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2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7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8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5280" y="620640"/>
            <a:ext cx="7416720" cy="3313080"/>
          </a:xfrm>
          <a:prstGeom prst="cloudCallout">
            <a:avLst>
              <a:gd name="adj1" fmla="val 25879"/>
              <a:gd name="adj2" fmla="val 80328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1268280"/>
            <a:ext cx="615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ы молодец! У тебя всё получило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если ошибся где-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 попытаться  ещё р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ми на моё изображение и, я увер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тебя больше не будет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64360" y="3860640"/>
            <a:ext cx="2879640" cy="27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84720" y="3716280"/>
            <a:ext cx="2874960" cy="295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620640"/>
            <a:ext cx="7416720" cy="3313080"/>
          </a:xfrm>
          <a:prstGeom prst="cloudCallout">
            <a:avLst>
              <a:gd name="adj1" fmla="val 25879"/>
              <a:gd name="adj2" fmla="val 80328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2240" y="1197000"/>
            <a:ext cx="6759720" cy="23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дравствуй, дорогой друг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ты хорошо знаешь правописание словарных сло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мы сейчас и провер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ми на моё изображение и выбирай кноп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нужной буквой. Чтобы перейти на следующий слайд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ми на изображение Черепах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2195640" y="189000"/>
            <a:ext cx="5111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чники Интернета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формление 1 слайда 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ynulya.www.nn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user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foto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218656-2010-09-03-846496038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формление 3-18 слайд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oobsh.ru/tw_files2/urls_1/110/d-109635/109635_html_47035238.jpg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ьвёнок на 19 слайд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http://www.klass39.ru/tag/baby-tim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ьвёнок на 2 слайд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http://psdmania.ru/psd-clipart/775-lvenok.ht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формление 20 слайда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http://gdekino.info/sites/default/files/styles/film_page_big/public/kadri/21.08.2012/155327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0"/>
          <a:stretch/>
        </p:blipFill>
        <p:spPr>
          <a:xfrm>
            <a:off x="6372360" y="4941720"/>
            <a:ext cx="172692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2" name=""/>
          <p:cNvSpPr txBox="1"/>
          <p:nvPr/>
        </p:nvSpPr>
        <p:spPr>
          <a:xfrm>
            <a:off x="2771640" y="3141720"/>
            <a:ext cx="475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  ро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48000" y="429408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419640" y="3430440"/>
            <a:ext cx="64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1" name=""/>
          <p:cNvSpPr txBox="1"/>
          <p:nvPr/>
        </p:nvSpPr>
        <p:spPr>
          <a:xfrm>
            <a:off x="2771640" y="3429000"/>
            <a:ext cx="475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   рев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429264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635280" y="342900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4" name="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0" name=""/>
          <p:cNvSpPr txBox="1"/>
          <p:nvPr/>
        </p:nvSpPr>
        <p:spPr>
          <a:xfrm>
            <a:off x="2771640" y="3357720"/>
            <a:ext cx="45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ев   ч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59280" y="4149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859280" y="3357720"/>
            <a:ext cx="72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3" name="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9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9" name=""/>
          <p:cNvSpPr txBox="1"/>
          <p:nvPr/>
        </p:nvSpPr>
        <p:spPr>
          <a:xfrm>
            <a:off x="3348000" y="3500280"/>
            <a:ext cx="352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вар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19640" y="4365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419640" y="3500280"/>
            <a:ext cx="64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2" name="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9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0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8" name=""/>
          <p:cNvSpPr txBox="1"/>
          <p:nvPr/>
        </p:nvSpPr>
        <p:spPr>
          <a:xfrm>
            <a:off x="2556000" y="3284640"/>
            <a:ext cx="496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   жур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429264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03640" y="3500280"/>
            <a:ext cx="64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1" name="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2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3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7" name=""/>
          <p:cNvSpPr txBox="1"/>
          <p:nvPr/>
        </p:nvSpPr>
        <p:spPr>
          <a:xfrm>
            <a:off x="2916360" y="3213000"/>
            <a:ext cx="453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  ск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5640" y="429264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067280" y="342900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0" name="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5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6" name=""/>
          <p:cNvSpPr txBox="1"/>
          <p:nvPr/>
        </p:nvSpPr>
        <p:spPr>
          <a:xfrm>
            <a:off x="2843280" y="3573360"/>
            <a:ext cx="45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   ш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8360" y="4365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708360" y="357336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8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9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10:10:57Z</dcterms:created>
  <dc:creator>Елена</dc:creator>
  <dc:description/>
  <dc:language>en-US</dc:language>
  <cp:lastModifiedBy>Елена</cp:lastModifiedBy>
  <dcterms:modified xsi:type="dcterms:W3CDTF">2013-07-07T11:29:06Z</dcterms:modified>
  <cp:revision>7</cp:revision>
  <dc:subject/>
  <dc:title>Слайд 1</dc:title>
</cp:coreProperties>
</file>