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188-E110-479E-94F6-63693A47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6B2-8D4C-4394-88BE-C1C6DF49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A5A-8E6C-49DE-A292-F6F8CEBE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E9F-1236-43FD-9194-AD4D3DDB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EFF-A5C2-4F45-B055-AE0DEB06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445-7C8D-452D-9B24-76E3E7DE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998-DA29-4743-A8FE-F77BFD31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3DB-C5D7-442E-8B9A-435C1AC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41A-1CEC-4539-A26A-E1FFEE03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FD4-E589-4FF8-B18B-DBBB3DF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0DF-AB60-48EC-B4C8-49C68F54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25E-8264-4F01-91C7-7370F76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5F89-55A5-4398-914E-A411F096B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564000" y="4581360"/>
            <a:ext cx="236376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300720" y="666900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2411280" y="2060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187280" y="1268280"/>
            <a:ext cx="6661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Табличное сложение и вычитание в пределах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1763640" y="184464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5219640" y="3068640"/>
            <a:ext cx="1657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4140360" y="4365720"/>
            <a:ext cx="160020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3924360" y="1916280"/>
            <a:ext cx="171144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5508720" y="3213000"/>
            <a:ext cx="163980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3564000" y="4221000"/>
            <a:ext cx="162540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2484360" y="2781360"/>
            <a:ext cx="14972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4643280" y="1916280"/>
            <a:ext cx="1584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800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3492360" y="1700280"/>
            <a:ext cx="1503360" cy="1001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5148360" y="393372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5148360" y="2852640"/>
            <a:ext cx="14810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3492360" y="2852640"/>
            <a:ext cx="149724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2987640" y="2565360"/>
            <a:ext cx="157644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4067280" y="3500280"/>
            <a:ext cx="1584360" cy="1063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5219640" y="4581360"/>
            <a:ext cx="1623960" cy="992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1908000" y="1557360"/>
            <a:ext cx="151308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4 –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5724360" y="2924280"/>
            <a:ext cx="151164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2340000" y="270828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3924360" y="3860640"/>
            <a:ext cx="16556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067280" y="1773360"/>
            <a:ext cx="165564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3203640" y="3213000"/>
            <a:ext cx="165744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4859280" y="44370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5"/>
          <p:cNvSpPr/>
          <p:nvPr/>
        </p:nvSpPr>
        <p:spPr>
          <a:xfrm>
            <a:off x="4932360" y="2205000"/>
            <a:ext cx="162396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2268360" y="1916280"/>
            <a:ext cx="156852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4356000" y="3573360"/>
            <a:ext cx="136836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3059280" y="2637000"/>
            <a:ext cx="140940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5435640" y="4581360"/>
            <a:ext cx="142380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1979640" y="1773360"/>
            <a:ext cx="136836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7 – 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219640" y="2637000"/>
            <a:ext cx="15699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24000" y="2637000"/>
            <a:ext cx="155412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3635280" y="1700280"/>
            <a:ext cx="149724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3635280" y="3573360"/>
            <a:ext cx="156852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3"/>
          <p:cNvSpPr/>
          <p:nvPr/>
        </p:nvSpPr>
        <p:spPr>
          <a:xfrm>
            <a:off x="3492360" y="2637000"/>
            <a:ext cx="1440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4"/>
          <p:cNvSpPr/>
          <p:nvPr/>
        </p:nvSpPr>
        <p:spPr>
          <a:xfrm>
            <a:off x="2195640" y="1773360"/>
            <a:ext cx="135252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5"/>
          <p:cNvSpPr/>
          <p:nvPr/>
        </p:nvSpPr>
        <p:spPr>
          <a:xfrm>
            <a:off x="3348000" y="4365720"/>
            <a:ext cx="14954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4859280" y="3500280"/>
            <a:ext cx="1513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3"/>
          <p:cNvSpPr/>
          <p:nvPr/>
        </p:nvSpPr>
        <p:spPr>
          <a:xfrm>
            <a:off x="1692360" y="1557360"/>
            <a:ext cx="151272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2700360" y="2492280"/>
            <a:ext cx="148104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4859280" y="4508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0" y="836640"/>
            <a:ext cx="8229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5"/>
          <p:cNvSpPr/>
          <p:nvPr/>
        </p:nvSpPr>
        <p:spPr>
          <a:xfrm>
            <a:off x="3708360" y="3500280"/>
            <a:ext cx="158436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8920" y="170028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3059280" y="4724280"/>
            <a:ext cx="477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Время: 1 мин. 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4284720" y="6165720"/>
            <a:ext cx="1909800" cy="52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4284720" y="5445000"/>
            <a:ext cx="1909800" cy="65736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372360" y="65865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161400" y="65214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Для выхода – нажмите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E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7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5508720" y="3789360"/>
            <a:ext cx="151272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4211640" y="2133720"/>
            <a:ext cx="1554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2268360" y="2133720"/>
            <a:ext cx="155268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5"/>
          <p:cNvSpPr/>
          <p:nvPr/>
        </p:nvSpPr>
        <p:spPr>
          <a:xfrm>
            <a:off x="3708360" y="3789360"/>
            <a:ext cx="1495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928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3"/>
          <p:cNvSpPr/>
          <p:nvPr/>
        </p:nvSpPr>
        <p:spPr>
          <a:xfrm>
            <a:off x="3564000" y="3357720"/>
            <a:ext cx="1368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4"/>
          <p:cNvSpPr/>
          <p:nvPr/>
        </p:nvSpPr>
        <p:spPr>
          <a:xfrm>
            <a:off x="3564000" y="2421000"/>
            <a:ext cx="133668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3564000" y="4292640"/>
            <a:ext cx="1368360" cy="847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3564000" y="1628640"/>
            <a:ext cx="135108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25236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3"/>
          <p:cNvSpPr/>
          <p:nvPr/>
        </p:nvSpPr>
        <p:spPr>
          <a:xfrm>
            <a:off x="4859280" y="4437000"/>
            <a:ext cx="156852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"/>
          <p:cNvSpPr/>
          <p:nvPr/>
        </p:nvSpPr>
        <p:spPr>
          <a:xfrm>
            <a:off x="2771640" y="2492280"/>
            <a:ext cx="14414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"/>
          <p:cNvSpPr/>
          <p:nvPr/>
        </p:nvSpPr>
        <p:spPr>
          <a:xfrm>
            <a:off x="1763640" y="155736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3708360" y="3429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3851280" y="3500280"/>
            <a:ext cx="14414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1908000" y="213372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3780000" y="2133720"/>
            <a:ext cx="143964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5508720" y="2133720"/>
            <a:ext cx="151128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5508720" y="2997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1908000" y="1989000"/>
            <a:ext cx="1511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427640" y="4005360"/>
            <a:ext cx="16570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313200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9280" y="98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4500720" y="1844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2987640" y="3213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1835280" y="1844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5292720" y="3933720"/>
            <a:ext cx="1655640" cy="935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3059280" y="2637000"/>
            <a:ext cx="1584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1763640" y="1773360"/>
            <a:ext cx="158436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4211640" y="3573360"/>
            <a:ext cx="1657440" cy="91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5508720" y="4508640"/>
            <a:ext cx="1495440" cy="855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3132000" y="3429000"/>
            <a:ext cx="164016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/>
          <p:cNvSpPr/>
          <p:nvPr/>
        </p:nvSpPr>
        <p:spPr>
          <a:xfrm>
            <a:off x="2124000" y="1773360"/>
            <a:ext cx="165600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4859280" y="2133720"/>
            <a:ext cx="1657440" cy="1069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5508720" y="4076640"/>
            <a:ext cx="165564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3276720" y="2421000"/>
            <a:ext cx="1657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3419640" y="4221000"/>
            <a:ext cx="155412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4932360" y="3284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1763640" y="1628640"/>
            <a:ext cx="151308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4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5292720" y="4653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1835280" y="1700280"/>
            <a:ext cx="16556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4067280" y="3645000"/>
            <a:ext cx="15523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2843280" y="2637000"/>
            <a:ext cx="158436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2-10-12T13:23:44Z</dcterms:modified>
  <cp:revision>722</cp:revision>
  <dc:subject/>
  <dc:title>Слайд 1</dc:title>
</cp:coreProperties>
</file>