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141-1AB8-447D-A3F6-6C6BB899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50F-4217-4B54-81BD-F9D57B88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603-AE8D-4D3D-A147-23D9AF4E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EDD-A4DB-4C44-B94D-768DC9CB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8CF-5414-4D21-AEF0-E66C9398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A5A-B1C5-4F7E-BAE2-C3C066A2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EB1-198C-42E3-BE71-34B651FC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7C9-A753-400C-9EC1-C0B025E7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434-438D-447A-81C5-9D9B35F8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B4F-E110-4C97-89F7-7DE43AEA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0BE-E604-459F-BD68-293D76F8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7FD-F7ED-42F1-B421-DB9A81C4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db7a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C083-6339-4368-9883-9B18DB365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Тренажёр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аблица с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66720" y="5105160"/>
            <a:ext cx="4496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286000" y="380880"/>
            <a:ext cx="5105520" cy="129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кролик864"/>
          <p:cNvPicPr/>
          <p:nvPr/>
        </p:nvPicPr>
        <p:blipFill>
          <a:blip r:embed="rId1"/>
          <a:stretch/>
        </p:blipFill>
        <p:spPr>
          <a:xfrm>
            <a:off x="457200" y="3505320"/>
            <a:ext cx="4038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7 +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4 +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+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+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1523880" y="5410080"/>
            <a:ext cx="58676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Ты 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>
            <a:hlinkClick r:id="" action="ppaction://hlinkshowjump?jump=previousslide"/>
          </p:cNvPr>
          <p:cNvSpPr/>
          <p:nvPr/>
        </p:nvSpPr>
        <p:spPr>
          <a:xfrm>
            <a:off x="7848720" y="57913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пятачок814"/>
          <p:cNvPicPr/>
          <p:nvPr/>
        </p:nvPicPr>
        <p:blipFill>
          <a:blip r:embed="rId1"/>
          <a:stretch/>
        </p:blipFill>
        <p:spPr>
          <a:xfrm>
            <a:off x="990720" y="228600"/>
            <a:ext cx="4572000" cy="45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352680" y="4495680"/>
            <a:ext cx="5486400" cy="1905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одумай ещё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>
            <a:hlinkClick r:id="" action="ppaction://hlinkshowjump?jump=previousslide"/>
          </p:cNvPr>
          <p:cNvSpPr/>
          <p:nvPr/>
        </p:nvSpPr>
        <p:spPr>
          <a:xfrm>
            <a:off x="830592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тигра"/>
          <p:cNvPicPr/>
          <p:nvPr/>
        </p:nvPicPr>
        <p:blipFill>
          <a:blip r:embed="rId1"/>
          <a:stretch/>
        </p:blipFill>
        <p:spPr>
          <a:xfrm>
            <a:off x="304920" y="990720"/>
            <a:ext cx="406224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Благодарим  за работу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mult-pict"/>
          <p:cNvPicPr/>
          <p:nvPr/>
        </p:nvPicPr>
        <p:blipFill>
          <a:blip r:embed="rId1"/>
          <a:stretch/>
        </p:blipFill>
        <p:spPr>
          <a:xfrm>
            <a:off x="1143000" y="1523880"/>
            <a:ext cx="746748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спользованные Интернет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bestgif.narod.ru/-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ани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+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4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>
            <a:hlinkClick r:id="rId3" action="ppaction://hlinksldjump"/>
          </p:cNvPr>
          <p:cNvSpPr/>
          <p:nvPr/>
        </p:nvSpPr>
        <p:spPr>
          <a:xfrm>
            <a:off x="4876920" y="266688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7 +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+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4 +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2 +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8 +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6 +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+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3-10-01T18:28:5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