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20.gif" ContentType="image/gif"/>
  <Override PartName="/ppt/media/image18.jpeg" ContentType="image/jpeg"/>
  <Override PartName="/ppt/media/image17.jpeg" ContentType="image/jpeg"/>
  <Override PartName="/ppt/media/image16.gif" ContentType="image/gif"/>
  <Override PartName="/ppt/media/image8.png" ContentType="image/png"/>
  <Override PartName="/ppt/media/image14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5F75-6D60-44E0-B69D-5980A8B28A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345E-8BCF-4B1C-B746-B5E59B3597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5BD4-2F40-4B8E-9473-6CD13B28106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A00A-A4D2-4183-9A54-B755EC048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C465-E6B7-4BBF-B9C3-26B09FC2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B209-0B17-495E-AFD3-203356DB4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0EC5-0FC5-488C-B316-E7A58E49C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1D1C-5723-47AD-B186-713B5A53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CCA1-E3B0-4F44-977F-1F675C05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E736-B32E-464E-B578-90C6EA74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D40A-E842-496F-9AC2-08E28A97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E9C3-9A02-4547-A600-D3E2E9B0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FFDC-55FB-4BBE-93EC-8C08C7F5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9C7A-074B-4B67-8D05-25BE54D7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1B2A-5ACD-47BE-B0A8-1E7C1F79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E53E-5F6B-485E-A3C3-BF54F7B0D8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" Target="slide8.xml"/><Relationship Id="rId4" Type="http://schemas.openxmlformats.org/officeDocument/2006/relationships/image" Target="../media/image6.jpeg"/><Relationship Id="rId5" Type="http://schemas.openxmlformats.org/officeDocument/2006/relationships/slide" Target="slide9.xml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8"/>
          <p:cNvSpPr txBox="1"/>
          <p:nvPr/>
        </p:nvSpPr>
        <p:spPr>
          <a:xfrm>
            <a:off x="3635280" y="1628640"/>
            <a:ext cx="25210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7 класс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49" name="WordArt 8"/>
          <p:cNvSpPr txBox="1"/>
          <p:nvPr/>
        </p:nvSpPr>
        <p:spPr>
          <a:xfrm>
            <a:off x="826920" y="2276640"/>
            <a:ext cx="799308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a50021"/>
                  </a:solidFill>
                  <a:miter/>
                </a:ln>
                <a:solidFill>
                  <a:srgbClr val="cc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ершину покоряем сообща</a:t>
            </a:r>
            <a:endParaRPr b="0" lang="en-US" sz="1800" spc="1" strike="noStrike">
              <a:ln w="12600">
                <a:solidFill>
                  <a:srgbClr val="a50021"/>
                </a:solidFill>
                <a:miter/>
              </a:ln>
              <a:solidFill>
                <a:srgbClr val="cc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a50021"/>
                  </a:solidFill>
                  <a:miter/>
                </a:ln>
                <a:solidFill>
                  <a:srgbClr val="cc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a50021"/>
                </a:solidFill>
                <a:miter/>
              </a:ln>
              <a:solidFill>
                <a:srgbClr val="cc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1908000" y="4292640"/>
            <a:ext cx="5626440" cy="21052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МОУ «Поярковская СОШ № 2»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учитель 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Гладченко Галина Викто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10"/>
          <p:cNvSpPr txBox="1"/>
          <p:nvPr/>
        </p:nvSpPr>
        <p:spPr>
          <a:xfrm>
            <a:off x="2268360" y="836640"/>
            <a:ext cx="489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рок географии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WordArt 14"/>
          <p:cNvSpPr txBox="1"/>
          <p:nvPr/>
        </p:nvSpPr>
        <p:spPr>
          <a:xfrm>
            <a:off x="1763640" y="3141720"/>
            <a:ext cx="6121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бобщение, повторение и проверка знаний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по теме: ЮЖНАЯ АМЕРИКА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6"/>
          <p:cNvSpPr txBox="1"/>
          <p:nvPr/>
        </p:nvSpPr>
        <p:spPr>
          <a:xfrm>
            <a:off x="2411280" y="260280"/>
            <a:ext cx="3673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физминутка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41" name="Picture 4" descr="17cf4c75a7617f6dc9951553ed8d0d2a"/>
          <p:cNvPicPr/>
          <p:nvPr/>
        </p:nvPicPr>
        <p:blipFill>
          <a:blip r:embed="rId1"/>
          <a:stretch/>
        </p:blipFill>
        <p:spPr>
          <a:xfrm>
            <a:off x="6300720" y="1557360"/>
            <a:ext cx="1462320" cy="1727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17cf4c75a7617f6dc9951553ed8d0d2a"/>
          <p:cNvPicPr/>
          <p:nvPr/>
        </p:nvPicPr>
        <p:blipFill>
          <a:blip r:embed="rId2"/>
          <a:stretch/>
        </p:blipFill>
        <p:spPr>
          <a:xfrm>
            <a:off x="4427640" y="2637000"/>
            <a:ext cx="1463400" cy="1728720"/>
          </a:xfrm>
          <a:prstGeom prst="rect">
            <a:avLst/>
          </a:prstGeom>
          <a:ln w="0">
            <a:noFill/>
          </a:ln>
        </p:spPr>
      </p:pic>
      <p:sp>
        <p:nvSpPr>
          <p:cNvPr id="143" name="Line 8"/>
          <p:cNvSpPr/>
          <p:nvPr/>
        </p:nvSpPr>
        <p:spPr>
          <a:xfrm flipV="1">
            <a:off x="1258920" y="907560"/>
            <a:ext cx="0" cy="237492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900000" y="1916280"/>
            <a:ext cx="115272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10"/>
          <p:cNvSpPr txBox="1"/>
          <p:nvPr/>
        </p:nvSpPr>
        <p:spPr>
          <a:xfrm>
            <a:off x="1116000" y="26028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6" name="WordArt 11"/>
          <p:cNvSpPr txBox="1"/>
          <p:nvPr/>
        </p:nvSpPr>
        <p:spPr>
          <a:xfrm>
            <a:off x="1116000" y="342900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Ю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7" name="Picture 12" descr="17cf4c75a7617f6dc9951553ed8d0d2a"/>
          <p:cNvPicPr/>
          <p:nvPr/>
        </p:nvPicPr>
        <p:blipFill>
          <a:blip r:embed="rId3"/>
          <a:stretch/>
        </p:blipFill>
        <p:spPr>
          <a:xfrm>
            <a:off x="2268360" y="3645000"/>
            <a:ext cx="1463760" cy="1728720"/>
          </a:xfrm>
          <a:prstGeom prst="rect">
            <a:avLst/>
          </a:prstGeom>
          <a:ln w="0">
            <a:noFill/>
          </a:ln>
        </p:spPr>
      </p:pic>
      <p:sp>
        <p:nvSpPr>
          <p:cNvPr id="148" name="WordArt 13"/>
          <p:cNvSpPr txBox="1"/>
          <p:nvPr/>
        </p:nvSpPr>
        <p:spPr>
          <a:xfrm>
            <a:off x="2195640" y="170028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9" name="WordArt 14"/>
          <p:cNvSpPr txBox="1"/>
          <p:nvPr/>
        </p:nvSpPr>
        <p:spPr>
          <a:xfrm>
            <a:off x="250920" y="1628640"/>
            <a:ext cx="304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0" name="AutoShape 15"/>
          <p:cNvSpPr/>
          <p:nvPr/>
        </p:nvSpPr>
        <p:spPr>
          <a:xfrm>
            <a:off x="7956720" y="5877000"/>
            <a:ext cx="790560" cy="691920"/>
          </a:xfrm>
          <a:custGeom>
            <a:avLst/>
            <a:gdLst>
              <a:gd name="textAreaLeft" fmla="*/ 44640 w 790560"/>
              <a:gd name="textAreaRight" fmla="*/ 745920 w 790560"/>
              <a:gd name="textAreaTop" fmla="*/ 44640 h 691920"/>
              <a:gd name="textAreaBottom" fmla="*/ 647280 h 691920"/>
            </a:gdLst>
            <a:ahLst/>
            <a:rect l="textAreaLeft" t="textAreaTop" r="textAreaRight" b="textAreaBottom"/>
            <a:pathLst>
              <a:path w="24678" h="21600">
                <a:moveTo>
                  <a:pt x="0" y="0"/>
                </a:moveTo>
                <a:lnTo>
                  <a:pt x="24678" y="0"/>
                </a:lnTo>
                <a:lnTo>
                  <a:pt x="24678" y="21600"/>
                </a:lnTo>
                <a:lnTo>
                  <a:pt x="0" y="21600"/>
                </a:lnTo>
                <a:close/>
              </a:path>
              <a:path fill="lightenLess" w="24678" h="21600">
                <a:moveTo>
                  <a:pt x="0" y="0"/>
                </a:moveTo>
                <a:lnTo>
                  <a:pt x="24678" y="0"/>
                </a:lnTo>
                <a:lnTo>
                  <a:pt x="23278" y="1400"/>
                </a:lnTo>
                <a:lnTo>
                  <a:pt x="1400" y="1400"/>
                </a:lnTo>
                <a:close/>
              </a:path>
              <a:path fill="darken" w="24678" h="21600">
                <a:moveTo>
                  <a:pt x="24678" y="0"/>
                </a:moveTo>
                <a:lnTo>
                  <a:pt x="24678" y="21600"/>
                </a:lnTo>
                <a:lnTo>
                  <a:pt x="23278" y="20200"/>
                </a:lnTo>
                <a:lnTo>
                  <a:pt x="23278" y="1400"/>
                </a:lnTo>
                <a:close/>
              </a:path>
              <a:path fill="darkenLess" w="24678" h="21600">
                <a:moveTo>
                  <a:pt x="246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8" y="20200"/>
                </a:lnTo>
                <a:close/>
              </a:path>
              <a:path fill="lighten" w="246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8" h="21600">
                <a:moveTo>
                  <a:pt x="5332" y="10800"/>
                </a:moveTo>
                <a:lnTo>
                  <a:pt x="19345" y="3794"/>
                </a:lnTo>
                <a:lnTo>
                  <a:pt x="1934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6"/>
          <p:cNvSpPr txBox="1"/>
          <p:nvPr/>
        </p:nvSpPr>
        <p:spPr>
          <a:xfrm>
            <a:off x="539640" y="260280"/>
            <a:ext cx="8136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Задание №4  Африка и Южная Америка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52" name="Picture 8" descr="Географическое положение Африки"/>
          <p:cNvPicPr/>
          <p:nvPr/>
        </p:nvPicPr>
        <p:blipFill>
          <a:blip r:embed="rId1"/>
          <a:srcRect l="17527" t="0" r="18567" b="0"/>
          <a:stretch/>
        </p:blipFill>
        <p:spPr>
          <a:xfrm>
            <a:off x="4262400" y="1197000"/>
            <a:ext cx="4556160" cy="4753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53" name="Picture 9" descr="Географ"/>
          <p:cNvPicPr/>
          <p:nvPr/>
        </p:nvPicPr>
        <p:blipFill>
          <a:blip r:embed="rId2"/>
          <a:srcRect l="32031" t="2835" r="22630" b="5032"/>
          <a:stretch/>
        </p:blipFill>
        <p:spPr>
          <a:xfrm>
            <a:off x="341280" y="1198440"/>
            <a:ext cx="3508560" cy="4751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54" name="AutoShape 10"/>
          <p:cNvSpPr/>
          <p:nvPr/>
        </p:nvSpPr>
        <p:spPr>
          <a:xfrm>
            <a:off x="7956720" y="6021360"/>
            <a:ext cx="863280" cy="620640"/>
          </a:xfrm>
          <a:custGeom>
            <a:avLst/>
            <a:gdLst>
              <a:gd name="textAreaLeft" fmla="*/ 39960 w 863280"/>
              <a:gd name="textAreaRight" fmla="*/ 823320 w 86328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0040" h="21600">
                <a:moveTo>
                  <a:pt x="0" y="0"/>
                </a:moveTo>
                <a:lnTo>
                  <a:pt x="30040" y="0"/>
                </a:lnTo>
                <a:lnTo>
                  <a:pt x="30040" y="21600"/>
                </a:lnTo>
                <a:lnTo>
                  <a:pt x="0" y="21600"/>
                </a:lnTo>
                <a:close/>
              </a:path>
              <a:path fill="lightenLess" w="30040" h="21600">
                <a:moveTo>
                  <a:pt x="0" y="0"/>
                </a:moveTo>
                <a:lnTo>
                  <a:pt x="30040" y="0"/>
                </a:lnTo>
                <a:lnTo>
                  <a:pt x="28640" y="1400"/>
                </a:lnTo>
                <a:lnTo>
                  <a:pt x="1400" y="1400"/>
                </a:lnTo>
                <a:close/>
              </a:path>
              <a:path fill="darken" w="30040" h="21600">
                <a:moveTo>
                  <a:pt x="30040" y="0"/>
                </a:moveTo>
                <a:lnTo>
                  <a:pt x="30040" y="21600"/>
                </a:lnTo>
                <a:lnTo>
                  <a:pt x="28640" y="20200"/>
                </a:lnTo>
                <a:lnTo>
                  <a:pt x="28640" y="1400"/>
                </a:lnTo>
                <a:close/>
              </a:path>
              <a:path fill="darkenLess" w="30040" h="21600">
                <a:moveTo>
                  <a:pt x="300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640" y="20200"/>
                </a:lnTo>
                <a:close/>
              </a:path>
              <a:path fill="lighten" w="300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040" h="21600">
                <a:moveTo>
                  <a:pt x="8013" y="10800"/>
                </a:moveTo>
                <a:lnTo>
                  <a:pt x="22026" y="3794"/>
                </a:lnTo>
                <a:lnTo>
                  <a:pt x="2202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6"/>
          <p:cNvSpPr txBox="1"/>
          <p:nvPr/>
        </p:nvSpPr>
        <p:spPr>
          <a:xfrm>
            <a:off x="539640" y="260280"/>
            <a:ext cx="828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Задание №5 Население и страны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56" name="Picture 3" descr="start"/>
          <p:cNvPicPr/>
          <p:nvPr/>
        </p:nvPicPr>
        <p:blipFill>
          <a:blip r:embed="rId1"/>
          <a:srcRect l="24472" t="7441" r="28252" b="354"/>
          <a:stretch/>
        </p:blipFill>
        <p:spPr>
          <a:xfrm>
            <a:off x="611280" y="1268280"/>
            <a:ext cx="3601800" cy="4684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57" name="Line 4"/>
          <p:cNvSpPr/>
          <p:nvPr/>
        </p:nvSpPr>
        <p:spPr>
          <a:xfrm>
            <a:off x="3635280" y="2637000"/>
            <a:ext cx="1224000" cy="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2268360" y="4292640"/>
            <a:ext cx="2735280" cy="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6"/>
          <p:cNvSpPr txBox="1"/>
          <p:nvPr/>
        </p:nvSpPr>
        <p:spPr>
          <a:xfrm>
            <a:off x="5003640" y="2349360"/>
            <a:ext cx="2233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разилия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0" name="WordArt 7"/>
          <p:cNvSpPr txBox="1"/>
          <p:nvPr/>
        </p:nvSpPr>
        <p:spPr>
          <a:xfrm>
            <a:off x="5003640" y="4005360"/>
            <a:ext cx="22338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ргентина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1" name="Oval 8"/>
          <p:cNvSpPr/>
          <p:nvPr/>
        </p:nvSpPr>
        <p:spPr>
          <a:xfrm>
            <a:off x="7380360" y="1989000"/>
            <a:ext cx="1297080" cy="1150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9"/>
          <p:cNvSpPr/>
          <p:nvPr/>
        </p:nvSpPr>
        <p:spPr>
          <a:xfrm>
            <a:off x="7380360" y="3716280"/>
            <a:ext cx="1297080" cy="1150920"/>
          </a:xfrm>
          <a:prstGeom prst="ellipse">
            <a:avLst/>
          </a:prstGeom>
          <a:solidFill>
            <a:srgbClr val="ffff00">
              <a:alpha val="9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7812000" y="5877000"/>
            <a:ext cx="936720" cy="720720"/>
          </a:xfrm>
          <a:custGeom>
            <a:avLst/>
            <a:gdLst>
              <a:gd name="textAreaLeft" fmla="*/ 46440 w 936720"/>
              <a:gd name="textAreaRight" fmla="*/ 890280 w 936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070" h="21600">
                <a:moveTo>
                  <a:pt x="0" y="0"/>
                </a:moveTo>
                <a:lnTo>
                  <a:pt x="28070" y="0"/>
                </a:lnTo>
                <a:lnTo>
                  <a:pt x="28070" y="21600"/>
                </a:lnTo>
                <a:lnTo>
                  <a:pt x="0" y="21600"/>
                </a:lnTo>
                <a:close/>
              </a:path>
              <a:path fill="lightenLess" w="28070" h="21600">
                <a:moveTo>
                  <a:pt x="0" y="0"/>
                </a:moveTo>
                <a:lnTo>
                  <a:pt x="28070" y="0"/>
                </a:lnTo>
                <a:lnTo>
                  <a:pt x="26670" y="1400"/>
                </a:lnTo>
                <a:lnTo>
                  <a:pt x="1400" y="1400"/>
                </a:lnTo>
                <a:close/>
              </a:path>
              <a:path fill="darken" w="28070" h="21600">
                <a:moveTo>
                  <a:pt x="28070" y="0"/>
                </a:moveTo>
                <a:lnTo>
                  <a:pt x="28070" y="21600"/>
                </a:lnTo>
                <a:lnTo>
                  <a:pt x="26670" y="20200"/>
                </a:lnTo>
                <a:lnTo>
                  <a:pt x="26670" y="1400"/>
                </a:lnTo>
                <a:close/>
              </a:path>
              <a:path fill="darkenLess" w="28070" h="21600">
                <a:moveTo>
                  <a:pt x="28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0" y="20200"/>
                </a:lnTo>
                <a:close/>
              </a:path>
              <a:path fill="lighten" w="28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0" h="21600">
                <a:moveTo>
                  <a:pt x="7029" y="10800"/>
                </a:moveTo>
                <a:lnTo>
                  <a:pt x="21042" y="3794"/>
                </a:lnTo>
                <a:lnTo>
                  <a:pt x="2104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WordArt 6"/>
          <p:cNvSpPr txBox="1"/>
          <p:nvPr/>
        </p:nvSpPr>
        <p:spPr>
          <a:xfrm>
            <a:off x="1332000" y="3357720"/>
            <a:ext cx="7416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пасибо за урок!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65" name="Picture 11" descr="bell-1"/>
          <p:cNvPicPr/>
          <p:nvPr/>
        </p:nvPicPr>
        <p:blipFill>
          <a:blip r:embed="rId1"/>
          <a:stretch/>
        </p:blipFill>
        <p:spPr>
          <a:xfrm>
            <a:off x="539640" y="189000"/>
            <a:ext cx="226872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6"/>
          <p:cNvSpPr txBox="1"/>
          <p:nvPr/>
        </p:nvSpPr>
        <p:spPr>
          <a:xfrm>
            <a:off x="1692360" y="333360"/>
            <a:ext cx="5759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амое...  Самое...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54" name="WordArt 22"/>
          <p:cNvSpPr txBox="1"/>
          <p:nvPr/>
        </p:nvSpPr>
        <p:spPr>
          <a:xfrm>
            <a:off x="3203640" y="1052640"/>
            <a:ext cx="28065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Озеро........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pic>
        <p:nvPicPr>
          <p:cNvPr id="55" name="Picture 7" descr="044_03"/>
          <p:cNvPicPr/>
          <p:nvPr/>
        </p:nvPicPr>
        <p:blipFill>
          <a:blip r:embed="rId1"/>
          <a:stretch/>
        </p:blipFill>
        <p:spPr>
          <a:xfrm>
            <a:off x="1619280" y="1773360"/>
            <a:ext cx="5904000" cy="382104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sp>
        <p:nvSpPr>
          <p:cNvPr id="56" name="WordArt 22"/>
          <p:cNvSpPr txBox="1"/>
          <p:nvPr/>
        </p:nvSpPr>
        <p:spPr>
          <a:xfrm>
            <a:off x="2771640" y="5805360"/>
            <a:ext cx="3313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Титикака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6"/>
          <p:cNvSpPr txBox="1"/>
          <p:nvPr/>
        </p:nvSpPr>
        <p:spPr>
          <a:xfrm>
            <a:off x="1692360" y="333360"/>
            <a:ext cx="5759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амое...  Самое...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58" name="WordArt 22"/>
          <p:cNvSpPr txBox="1"/>
          <p:nvPr/>
        </p:nvSpPr>
        <p:spPr>
          <a:xfrm>
            <a:off x="2340000" y="1125360"/>
            <a:ext cx="4248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Водопад.............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pic>
        <p:nvPicPr>
          <p:cNvPr id="59" name="Picture 5" descr="Водопад Анхель"/>
          <p:cNvPicPr/>
          <p:nvPr/>
        </p:nvPicPr>
        <p:blipFill>
          <a:blip r:embed="rId1"/>
          <a:srcRect l="0" t="4932" r="0" b="4536"/>
          <a:stretch/>
        </p:blipFill>
        <p:spPr>
          <a:xfrm>
            <a:off x="1692360" y="1773360"/>
            <a:ext cx="5832360" cy="396072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sp>
        <p:nvSpPr>
          <p:cNvPr id="60" name="WordArt 22"/>
          <p:cNvSpPr txBox="1"/>
          <p:nvPr/>
        </p:nvSpPr>
        <p:spPr>
          <a:xfrm>
            <a:off x="3276720" y="6021360"/>
            <a:ext cx="2520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Анхель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6"/>
          <p:cNvSpPr txBox="1"/>
          <p:nvPr/>
        </p:nvSpPr>
        <p:spPr>
          <a:xfrm>
            <a:off x="1692360" y="333360"/>
            <a:ext cx="5759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амое...  Самое...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2" name="WordArt 22"/>
          <p:cNvSpPr txBox="1"/>
          <p:nvPr/>
        </p:nvSpPr>
        <p:spPr>
          <a:xfrm>
            <a:off x="2484360" y="1125360"/>
            <a:ext cx="460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Горная цепь........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63" name="WordArt 22"/>
          <p:cNvSpPr txBox="1"/>
          <p:nvPr/>
        </p:nvSpPr>
        <p:spPr>
          <a:xfrm>
            <a:off x="3924360" y="5950080"/>
            <a:ext cx="1728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Анды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pic>
        <p:nvPicPr>
          <p:cNvPr id="64" name="Picture 6" descr="Амазонская низменность (сл"/>
          <p:cNvPicPr/>
          <p:nvPr/>
        </p:nvPicPr>
        <p:blipFill>
          <a:blip r:embed="rId1"/>
          <a:srcRect l="7323" t="3756" r="0" b="6236"/>
          <a:stretch/>
        </p:blipFill>
        <p:spPr>
          <a:xfrm>
            <a:off x="1979640" y="1844640"/>
            <a:ext cx="5832360" cy="377496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sp>
        <p:nvSpPr>
          <p:cNvPr id="65" name="Freeform 11"/>
          <p:cNvSpPr/>
          <p:nvPr/>
        </p:nvSpPr>
        <p:spPr>
          <a:xfrm>
            <a:off x="4273560" y="2060640"/>
            <a:ext cx="754200" cy="3529080"/>
          </a:xfrm>
          <a:custGeom>
            <a:avLst/>
            <a:gdLst/>
            <a:ahLst/>
            <a:rect l="l" t="t" r="r" b="b"/>
            <a:pathLst>
              <a:path w="475" h="2223">
                <a:moveTo>
                  <a:pt x="279" y="0"/>
                </a:moveTo>
                <a:cubicBezTo>
                  <a:pt x="248" y="30"/>
                  <a:pt x="218" y="61"/>
                  <a:pt x="188" y="91"/>
                </a:cubicBezTo>
                <a:cubicBezTo>
                  <a:pt x="158" y="121"/>
                  <a:pt x="120" y="152"/>
                  <a:pt x="97" y="182"/>
                </a:cubicBezTo>
                <a:cubicBezTo>
                  <a:pt x="74" y="212"/>
                  <a:pt x="67" y="242"/>
                  <a:pt x="52" y="272"/>
                </a:cubicBezTo>
                <a:cubicBezTo>
                  <a:pt x="37" y="302"/>
                  <a:pt x="14" y="333"/>
                  <a:pt x="7" y="363"/>
                </a:cubicBezTo>
                <a:cubicBezTo>
                  <a:pt x="0" y="393"/>
                  <a:pt x="7" y="424"/>
                  <a:pt x="7" y="454"/>
                </a:cubicBezTo>
                <a:cubicBezTo>
                  <a:pt x="7" y="484"/>
                  <a:pt x="0" y="514"/>
                  <a:pt x="7" y="544"/>
                </a:cubicBezTo>
                <a:cubicBezTo>
                  <a:pt x="14" y="574"/>
                  <a:pt x="22" y="605"/>
                  <a:pt x="52" y="635"/>
                </a:cubicBezTo>
                <a:cubicBezTo>
                  <a:pt x="82" y="665"/>
                  <a:pt x="158" y="703"/>
                  <a:pt x="188" y="726"/>
                </a:cubicBezTo>
                <a:cubicBezTo>
                  <a:pt x="218" y="749"/>
                  <a:pt x="210" y="756"/>
                  <a:pt x="233" y="771"/>
                </a:cubicBezTo>
                <a:cubicBezTo>
                  <a:pt x="256" y="786"/>
                  <a:pt x="301" y="802"/>
                  <a:pt x="324" y="817"/>
                </a:cubicBezTo>
                <a:cubicBezTo>
                  <a:pt x="347" y="832"/>
                  <a:pt x="346" y="839"/>
                  <a:pt x="369" y="862"/>
                </a:cubicBezTo>
                <a:cubicBezTo>
                  <a:pt x="392" y="885"/>
                  <a:pt x="445" y="915"/>
                  <a:pt x="460" y="953"/>
                </a:cubicBezTo>
                <a:cubicBezTo>
                  <a:pt x="475" y="991"/>
                  <a:pt x="467" y="1051"/>
                  <a:pt x="460" y="1089"/>
                </a:cubicBezTo>
                <a:cubicBezTo>
                  <a:pt x="453" y="1127"/>
                  <a:pt x="422" y="1150"/>
                  <a:pt x="415" y="1180"/>
                </a:cubicBezTo>
                <a:cubicBezTo>
                  <a:pt x="408" y="1210"/>
                  <a:pt x="423" y="1240"/>
                  <a:pt x="415" y="1270"/>
                </a:cubicBezTo>
                <a:cubicBezTo>
                  <a:pt x="407" y="1300"/>
                  <a:pt x="384" y="1323"/>
                  <a:pt x="369" y="1361"/>
                </a:cubicBezTo>
                <a:cubicBezTo>
                  <a:pt x="354" y="1399"/>
                  <a:pt x="339" y="1452"/>
                  <a:pt x="324" y="1497"/>
                </a:cubicBezTo>
                <a:cubicBezTo>
                  <a:pt x="309" y="1542"/>
                  <a:pt x="286" y="1588"/>
                  <a:pt x="279" y="1633"/>
                </a:cubicBezTo>
                <a:cubicBezTo>
                  <a:pt x="272" y="1678"/>
                  <a:pt x="287" y="1731"/>
                  <a:pt x="279" y="1769"/>
                </a:cubicBezTo>
                <a:cubicBezTo>
                  <a:pt x="271" y="1807"/>
                  <a:pt x="248" y="1815"/>
                  <a:pt x="233" y="1860"/>
                </a:cubicBezTo>
                <a:cubicBezTo>
                  <a:pt x="218" y="1905"/>
                  <a:pt x="195" y="1996"/>
                  <a:pt x="188" y="2041"/>
                </a:cubicBezTo>
                <a:cubicBezTo>
                  <a:pt x="181" y="2086"/>
                  <a:pt x="173" y="2102"/>
                  <a:pt x="188" y="2132"/>
                </a:cubicBezTo>
                <a:cubicBezTo>
                  <a:pt x="203" y="2162"/>
                  <a:pt x="264" y="2208"/>
                  <a:pt x="279" y="2223"/>
                </a:cubicBezTo>
              </a:path>
            </a:pathLst>
          </a:custGeom>
          <a:noFill/>
          <a:ln w="10152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6"/>
          <p:cNvSpPr txBox="1"/>
          <p:nvPr/>
        </p:nvSpPr>
        <p:spPr>
          <a:xfrm>
            <a:off x="1692360" y="333360"/>
            <a:ext cx="5759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амое...  Самое...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7" name="WordArt 22"/>
          <p:cNvSpPr txBox="1"/>
          <p:nvPr/>
        </p:nvSpPr>
        <p:spPr>
          <a:xfrm>
            <a:off x="1763640" y="1125360"/>
            <a:ext cx="6264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Точка западного полушария.....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68" name="WordArt 22"/>
          <p:cNvSpPr txBox="1"/>
          <p:nvPr/>
        </p:nvSpPr>
        <p:spPr>
          <a:xfrm>
            <a:off x="3924360" y="5950080"/>
            <a:ext cx="2160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Аконкагуа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pic>
        <p:nvPicPr>
          <p:cNvPr id="69" name="Picture 5" descr="Амазонская низменность (сл"/>
          <p:cNvPicPr/>
          <p:nvPr/>
        </p:nvPicPr>
        <p:blipFill>
          <a:blip r:embed="rId1"/>
          <a:srcRect l="7323" t="3756" r="0" b="6236"/>
          <a:stretch/>
        </p:blipFill>
        <p:spPr>
          <a:xfrm>
            <a:off x="1979640" y="1844640"/>
            <a:ext cx="5832360" cy="377496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pic>
        <p:nvPicPr>
          <p:cNvPr id="70" name="Picture 7" descr="Анды (сл"/>
          <p:cNvPicPr/>
          <p:nvPr/>
        </p:nvPicPr>
        <p:blipFill>
          <a:blip r:embed="rId2"/>
          <a:srcRect l="0" t="0" r="0" b="15497"/>
          <a:stretch/>
        </p:blipFill>
        <p:spPr>
          <a:xfrm>
            <a:off x="1979640" y="1844640"/>
            <a:ext cx="5905440" cy="374328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sp>
        <p:nvSpPr>
          <p:cNvPr id="71" name="Oval 8"/>
          <p:cNvSpPr/>
          <p:nvPr/>
        </p:nvSpPr>
        <p:spPr>
          <a:xfrm>
            <a:off x="4643280" y="4221000"/>
            <a:ext cx="216000" cy="2160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2"/>
          <p:cNvSpPr/>
          <p:nvPr/>
        </p:nvSpPr>
        <p:spPr>
          <a:xfrm>
            <a:off x="7451640" y="6093000"/>
            <a:ext cx="1224000" cy="57600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reeform 52"/>
          <p:cNvSpPr/>
          <p:nvPr/>
        </p:nvSpPr>
        <p:spPr>
          <a:xfrm>
            <a:off x="0" y="907920"/>
            <a:ext cx="8675640" cy="5113440"/>
          </a:xfrm>
          <a:custGeom>
            <a:avLst/>
            <a:gdLst/>
            <a:ahLst/>
            <a:rect l="l" t="t" r="r" b="b"/>
            <a:pathLst>
              <a:path w="5440" h="3241">
                <a:moveTo>
                  <a:pt x="0" y="3158"/>
                </a:moveTo>
                <a:cubicBezTo>
                  <a:pt x="257" y="3165"/>
                  <a:pt x="305" y="3179"/>
                  <a:pt x="503" y="3131"/>
                </a:cubicBezTo>
                <a:cubicBezTo>
                  <a:pt x="558" y="3149"/>
                  <a:pt x="505" y="3141"/>
                  <a:pt x="549" y="3122"/>
                </a:cubicBezTo>
                <a:cubicBezTo>
                  <a:pt x="563" y="3116"/>
                  <a:pt x="579" y="3116"/>
                  <a:pt x="594" y="3113"/>
                </a:cubicBezTo>
                <a:cubicBezTo>
                  <a:pt x="668" y="3100"/>
                  <a:pt x="751" y="3085"/>
                  <a:pt x="814" y="3040"/>
                </a:cubicBezTo>
                <a:cubicBezTo>
                  <a:pt x="845" y="3018"/>
                  <a:pt x="914" y="2985"/>
                  <a:pt x="914" y="2985"/>
                </a:cubicBezTo>
                <a:cubicBezTo>
                  <a:pt x="917" y="2973"/>
                  <a:pt x="913" y="2956"/>
                  <a:pt x="923" y="2948"/>
                </a:cubicBezTo>
                <a:cubicBezTo>
                  <a:pt x="926" y="2945"/>
                  <a:pt x="1020" y="2909"/>
                  <a:pt x="1033" y="2902"/>
                </a:cubicBezTo>
                <a:cubicBezTo>
                  <a:pt x="1073" y="2879"/>
                  <a:pt x="1111" y="2849"/>
                  <a:pt x="1152" y="2829"/>
                </a:cubicBezTo>
                <a:cubicBezTo>
                  <a:pt x="1173" y="2819"/>
                  <a:pt x="1198" y="2809"/>
                  <a:pt x="1216" y="2793"/>
                </a:cubicBezTo>
                <a:cubicBezTo>
                  <a:pt x="1227" y="2784"/>
                  <a:pt x="1285" y="2724"/>
                  <a:pt x="1298" y="2710"/>
                </a:cubicBezTo>
                <a:cubicBezTo>
                  <a:pt x="1337" y="2670"/>
                  <a:pt x="1314" y="2611"/>
                  <a:pt x="1371" y="2592"/>
                </a:cubicBezTo>
                <a:cubicBezTo>
                  <a:pt x="1389" y="2541"/>
                  <a:pt x="1369" y="2534"/>
                  <a:pt x="1426" y="2518"/>
                </a:cubicBezTo>
                <a:cubicBezTo>
                  <a:pt x="1429" y="2506"/>
                  <a:pt x="1435" y="2494"/>
                  <a:pt x="1435" y="2482"/>
                </a:cubicBezTo>
                <a:cubicBezTo>
                  <a:pt x="1435" y="2441"/>
                  <a:pt x="1407" y="2466"/>
                  <a:pt x="1435" y="2418"/>
                </a:cubicBezTo>
                <a:cubicBezTo>
                  <a:pt x="1442" y="2407"/>
                  <a:pt x="1454" y="2400"/>
                  <a:pt x="1463" y="2390"/>
                </a:cubicBezTo>
                <a:cubicBezTo>
                  <a:pt x="1494" y="2354"/>
                  <a:pt x="1523" y="2317"/>
                  <a:pt x="1554" y="2281"/>
                </a:cubicBezTo>
                <a:cubicBezTo>
                  <a:pt x="1563" y="2271"/>
                  <a:pt x="1575" y="2264"/>
                  <a:pt x="1582" y="2253"/>
                </a:cubicBezTo>
                <a:cubicBezTo>
                  <a:pt x="1597" y="2230"/>
                  <a:pt x="1602" y="2202"/>
                  <a:pt x="1618" y="2180"/>
                </a:cubicBezTo>
                <a:cubicBezTo>
                  <a:pt x="1624" y="2171"/>
                  <a:pt x="1631" y="2162"/>
                  <a:pt x="1637" y="2153"/>
                </a:cubicBezTo>
                <a:cubicBezTo>
                  <a:pt x="1645" y="2104"/>
                  <a:pt x="1651" y="2069"/>
                  <a:pt x="1673" y="2025"/>
                </a:cubicBezTo>
                <a:cubicBezTo>
                  <a:pt x="1688" y="1965"/>
                  <a:pt x="1695" y="1938"/>
                  <a:pt x="1728" y="1888"/>
                </a:cubicBezTo>
                <a:cubicBezTo>
                  <a:pt x="1739" y="1852"/>
                  <a:pt x="1763" y="1846"/>
                  <a:pt x="1783" y="1814"/>
                </a:cubicBezTo>
                <a:cubicBezTo>
                  <a:pt x="1804" y="1730"/>
                  <a:pt x="1787" y="1762"/>
                  <a:pt x="1819" y="1714"/>
                </a:cubicBezTo>
                <a:cubicBezTo>
                  <a:pt x="1822" y="1696"/>
                  <a:pt x="1824" y="1677"/>
                  <a:pt x="1829" y="1659"/>
                </a:cubicBezTo>
                <a:cubicBezTo>
                  <a:pt x="1833" y="1646"/>
                  <a:pt x="1844" y="1635"/>
                  <a:pt x="1847" y="1622"/>
                </a:cubicBezTo>
                <a:cubicBezTo>
                  <a:pt x="1865" y="1547"/>
                  <a:pt x="1875" y="1461"/>
                  <a:pt x="1883" y="1385"/>
                </a:cubicBezTo>
                <a:cubicBezTo>
                  <a:pt x="1867" y="1334"/>
                  <a:pt x="1899" y="1340"/>
                  <a:pt x="1911" y="1293"/>
                </a:cubicBezTo>
                <a:cubicBezTo>
                  <a:pt x="1945" y="1163"/>
                  <a:pt x="1920" y="1220"/>
                  <a:pt x="1957" y="1147"/>
                </a:cubicBezTo>
                <a:cubicBezTo>
                  <a:pt x="1967" y="1106"/>
                  <a:pt x="1969" y="1079"/>
                  <a:pt x="2011" y="1065"/>
                </a:cubicBezTo>
                <a:cubicBezTo>
                  <a:pt x="2028" y="1017"/>
                  <a:pt x="2053" y="970"/>
                  <a:pt x="2094" y="937"/>
                </a:cubicBezTo>
                <a:cubicBezTo>
                  <a:pt x="2127" y="911"/>
                  <a:pt x="2168" y="887"/>
                  <a:pt x="2194" y="854"/>
                </a:cubicBezTo>
                <a:cubicBezTo>
                  <a:pt x="2216" y="826"/>
                  <a:pt x="2224" y="788"/>
                  <a:pt x="2249" y="763"/>
                </a:cubicBezTo>
                <a:cubicBezTo>
                  <a:pt x="2272" y="740"/>
                  <a:pt x="2304" y="717"/>
                  <a:pt x="2331" y="699"/>
                </a:cubicBezTo>
                <a:cubicBezTo>
                  <a:pt x="2334" y="708"/>
                  <a:pt x="2331" y="726"/>
                  <a:pt x="2341" y="726"/>
                </a:cubicBezTo>
                <a:cubicBezTo>
                  <a:pt x="2356" y="726"/>
                  <a:pt x="2390" y="658"/>
                  <a:pt x="2405" y="644"/>
                </a:cubicBezTo>
                <a:cubicBezTo>
                  <a:pt x="2402" y="632"/>
                  <a:pt x="2391" y="620"/>
                  <a:pt x="2395" y="608"/>
                </a:cubicBezTo>
                <a:cubicBezTo>
                  <a:pt x="2399" y="597"/>
                  <a:pt x="2415" y="597"/>
                  <a:pt x="2423" y="589"/>
                </a:cubicBezTo>
                <a:cubicBezTo>
                  <a:pt x="2431" y="581"/>
                  <a:pt x="2435" y="571"/>
                  <a:pt x="2441" y="562"/>
                </a:cubicBezTo>
                <a:cubicBezTo>
                  <a:pt x="2444" y="553"/>
                  <a:pt x="2445" y="542"/>
                  <a:pt x="2450" y="534"/>
                </a:cubicBezTo>
                <a:cubicBezTo>
                  <a:pt x="2455" y="527"/>
                  <a:pt x="2465" y="524"/>
                  <a:pt x="2469" y="516"/>
                </a:cubicBezTo>
                <a:cubicBezTo>
                  <a:pt x="2491" y="473"/>
                  <a:pt x="2460" y="461"/>
                  <a:pt x="2514" y="443"/>
                </a:cubicBezTo>
                <a:cubicBezTo>
                  <a:pt x="2567" y="364"/>
                  <a:pt x="2591" y="322"/>
                  <a:pt x="2670" y="269"/>
                </a:cubicBezTo>
                <a:cubicBezTo>
                  <a:pt x="2700" y="209"/>
                  <a:pt x="2687" y="183"/>
                  <a:pt x="2752" y="150"/>
                </a:cubicBezTo>
                <a:cubicBezTo>
                  <a:pt x="2802" y="0"/>
                  <a:pt x="2952" y="17"/>
                  <a:pt x="3090" y="4"/>
                </a:cubicBezTo>
                <a:cubicBezTo>
                  <a:pt x="3132" y="31"/>
                  <a:pt x="3123" y="55"/>
                  <a:pt x="3154" y="86"/>
                </a:cubicBezTo>
                <a:cubicBezTo>
                  <a:pt x="3165" y="97"/>
                  <a:pt x="3180" y="103"/>
                  <a:pt x="3191" y="114"/>
                </a:cubicBezTo>
                <a:cubicBezTo>
                  <a:pt x="3202" y="125"/>
                  <a:pt x="3208" y="139"/>
                  <a:pt x="3218" y="150"/>
                </a:cubicBezTo>
                <a:cubicBezTo>
                  <a:pt x="3232" y="166"/>
                  <a:pt x="3264" y="196"/>
                  <a:pt x="3264" y="196"/>
                </a:cubicBezTo>
                <a:cubicBezTo>
                  <a:pt x="3276" y="235"/>
                  <a:pt x="3305" y="259"/>
                  <a:pt x="3319" y="297"/>
                </a:cubicBezTo>
                <a:cubicBezTo>
                  <a:pt x="3323" y="309"/>
                  <a:pt x="3320" y="324"/>
                  <a:pt x="3328" y="333"/>
                </a:cubicBezTo>
                <a:cubicBezTo>
                  <a:pt x="3344" y="352"/>
                  <a:pt x="3371" y="356"/>
                  <a:pt x="3392" y="370"/>
                </a:cubicBezTo>
                <a:cubicBezTo>
                  <a:pt x="3409" y="421"/>
                  <a:pt x="3454" y="446"/>
                  <a:pt x="3493" y="480"/>
                </a:cubicBezTo>
                <a:cubicBezTo>
                  <a:pt x="3531" y="512"/>
                  <a:pt x="3553" y="550"/>
                  <a:pt x="3593" y="580"/>
                </a:cubicBezTo>
                <a:cubicBezTo>
                  <a:pt x="3604" y="603"/>
                  <a:pt x="3606" y="631"/>
                  <a:pt x="3621" y="653"/>
                </a:cubicBezTo>
                <a:cubicBezTo>
                  <a:pt x="3633" y="671"/>
                  <a:pt x="3651" y="684"/>
                  <a:pt x="3666" y="699"/>
                </a:cubicBezTo>
                <a:cubicBezTo>
                  <a:pt x="3672" y="705"/>
                  <a:pt x="3685" y="717"/>
                  <a:pt x="3685" y="717"/>
                </a:cubicBezTo>
                <a:cubicBezTo>
                  <a:pt x="3713" y="805"/>
                  <a:pt x="3667" y="676"/>
                  <a:pt x="3721" y="772"/>
                </a:cubicBezTo>
                <a:cubicBezTo>
                  <a:pt x="3763" y="847"/>
                  <a:pt x="3699" y="780"/>
                  <a:pt x="3749" y="827"/>
                </a:cubicBezTo>
                <a:cubicBezTo>
                  <a:pt x="3752" y="836"/>
                  <a:pt x="3753" y="846"/>
                  <a:pt x="3758" y="854"/>
                </a:cubicBezTo>
                <a:cubicBezTo>
                  <a:pt x="3762" y="862"/>
                  <a:pt x="3772" y="865"/>
                  <a:pt x="3776" y="873"/>
                </a:cubicBezTo>
                <a:cubicBezTo>
                  <a:pt x="3784" y="890"/>
                  <a:pt x="3788" y="910"/>
                  <a:pt x="3794" y="928"/>
                </a:cubicBezTo>
                <a:cubicBezTo>
                  <a:pt x="3798" y="941"/>
                  <a:pt x="3807" y="952"/>
                  <a:pt x="3813" y="964"/>
                </a:cubicBezTo>
                <a:cubicBezTo>
                  <a:pt x="3828" y="1024"/>
                  <a:pt x="3833" y="1088"/>
                  <a:pt x="3849" y="1147"/>
                </a:cubicBezTo>
                <a:cubicBezTo>
                  <a:pt x="3860" y="1190"/>
                  <a:pt x="3889" y="1233"/>
                  <a:pt x="3904" y="1275"/>
                </a:cubicBezTo>
                <a:cubicBezTo>
                  <a:pt x="3923" y="1326"/>
                  <a:pt x="3942" y="1378"/>
                  <a:pt x="3959" y="1430"/>
                </a:cubicBezTo>
                <a:cubicBezTo>
                  <a:pt x="3966" y="1451"/>
                  <a:pt x="3987" y="1465"/>
                  <a:pt x="3995" y="1485"/>
                </a:cubicBezTo>
                <a:cubicBezTo>
                  <a:pt x="4014" y="1535"/>
                  <a:pt x="4021" y="1586"/>
                  <a:pt x="4050" y="1632"/>
                </a:cubicBezTo>
                <a:cubicBezTo>
                  <a:pt x="4055" y="1656"/>
                  <a:pt x="4064" y="1714"/>
                  <a:pt x="4078" y="1732"/>
                </a:cubicBezTo>
                <a:cubicBezTo>
                  <a:pt x="4103" y="1765"/>
                  <a:pt x="4133" y="1796"/>
                  <a:pt x="4151" y="1833"/>
                </a:cubicBezTo>
                <a:cubicBezTo>
                  <a:pt x="4171" y="1873"/>
                  <a:pt x="4175" y="1921"/>
                  <a:pt x="4206" y="1952"/>
                </a:cubicBezTo>
                <a:cubicBezTo>
                  <a:pt x="4220" y="2007"/>
                  <a:pt x="4247" y="2068"/>
                  <a:pt x="4279" y="2116"/>
                </a:cubicBezTo>
                <a:cubicBezTo>
                  <a:pt x="4297" y="2171"/>
                  <a:pt x="4292" y="2224"/>
                  <a:pt x="4325" y="2272"/>
                </a:cubicBezTo>
                <a:cubicBezTo>
                  <a:pt x="4344" y="2330"/>
                  <a:pt x="4360" y="2384"/>
                  <a:pt x="4370" y="2445"/>
                </a:cubicBezTo>
                <a:cubicBezTo>
                  <a:pt x="4381" y="2513"/>
                  <a:pt x="4383" y="2595"/>
                  <a:pt x="4434" y="2646"/>
                </a:cubicBezTo>
                <a:cubicBezTo>
                  <a:pt x="4454" y="2728"/>
                  <a:pt x="4425" y="2646"/>
                  <a:pt x="4471" y="2701"/>
                </a:cubicBezTo>
                <a:cubicBezTo>
                  <a:pt x="4492" y="2726"/>
                  <a:pt x="4484" y="2770"/>
                  <a:pt x="4507" y="2793"/>
                </a:cubicBezTo>
                <a:cubicBezTo>
                  <a:pt x="4606" y="2892"/>
                  <a:pt x="4527" y="2802"/>
                  <a:pt x="4590" y="2902"/>
                </a:cubicBezTo>
                <a:cubicBezTo>
                  <a:pt x="4618" y="2946"/>
                  <a:pt x="4657" y="2982"/>
                  <a:pt x="4681" y="3030"/>
                </a:cubicBezTo>
                <a:cubicBezTo>
                  <a:pt x="4740" y="3011"/>
                  <a:pt x="4710" y="3038"/>
                  <a:pt x="4745" y="3067"/>
                </a:cubicBezTo>
                <a:cubicBezTo>
                  <a:pt x="4756" y="3076"/>
                  <a:pt x="4770" y="3079"/>
                  <a:pt x="4782" y="3085"/>
                </a:cubicBezTo>
                <a:cubicBezTo>
                  <a:pt x="4824" y="3127"/>
                  <a:pt x="4861" y="3172"/>
                  <a:pt x="4919" y="3186"/>
                </a:cubicBezTo>
                <a:cubicBezTo>
                  <a:pt x="4968" y="3219"/>
                  <a:pt x="5046" y="3228"/>
                  <a:pt x="5102" y="3241"/>
                </a:cubicBezTo>
                <a:cubicBezTo>
                  <a:pt x="5189" y="3234"/>
                  <a:pt x="5214" y="3230"/>
                  <a:pt x="5285" y="3213"/>
                </a:cubicBezTo>
                <a:cubicBezTo>
                  <a:pt x="5337" y="3230"/>
                  <a:pt x="5403" y="3185"/>
                  <a:pt x="5440" y="3222"/>
                </a:cubicBezTo>
              </a:path>
            </a:pathLst>
          </a:custGeom>
          <a:blipFill rotWithShape="0">
            <a:blip r:embed="rId1">
              <a:alphaModFix amt="29000"/>
            </a:blip>
            <a:srcRect/>
            <a:tile tx="0" ty="0" sx="100000" sy="100000" algn="ctr"/>
          </a:blipFill>
          <a:ln w="126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57"/>
          <p:cNvSpPr/>
          <p:nvPr/>
        </p:nvSpPr>
        <p:spPr>
          <a:xfrm>
            <a:off x="3059280" y="765000"/>
            <a:ext cx="3025440" cy="2495880"/>
          </a:xfrm>
          <a:custGeom>
            <a:avLst/>
            <a:gdLst/>
            <a:ahLst/>
            <a:rect l="l" t="t" r="r" b="b"/>
            <a:pathLst>
              <a:path w="1796" h="1723">
                <a:moveTo>
                  <a:pt x="167" y="1106"/>
                </a:moveTo>
                <a:cubicBezTo>
                  <a:pt x="177" y="1073"/>
                  <a:pt x="179" y="1048"/>
                  <a:pt x="204" y="1024"/>
                </a:cubicBezTo>
                <a:cubicBezTo>
                  <a:pt x="218" y="968"/>
                  <a:pt x="209" y="999"/>
                  <a:pt x="231" y="932"/>
                </a:cubicBezTo>
                <a:cubicBezTo>
                  <a:pt x="238" y="911"/>
                  <a:pt x="268" y="877"/>
                  <a:pt x="268" y="877"/>
                </a:cubicBezTo>
                <a:cubicBezTo>
                  <a:pt x="290" y="812"/>
                  <a:pt x="256" y="887"/>
                  <a:pt x="313" y="841"/>
                </a:cubicBezTo>
                <a:cubicBezTo>
                  <a:pt x="321" y="835"/>
                  <a:pt x="319" y="822"/>
                  <a:pt x="323" y="813"/>
                </a:cubicBezTo>
                <a:cubicBezTo>
                  <a:pt x="340" y="780"/>
                  <a:pt x="337" y="787"/>
                  <a:pt x="368" y="777"/>
                </a:cubicBezTo>
                <a:cubicBezTo>
                  <a:pt x="387" y="717"/>
                  <a:pt x="360" y="775"/>
                  <a:pt x="405" y="740"/>
                </a:cubicBezTo>
                <a:cubicBezTo>
                  <a:pt x="420" y="728"/>
                  <a:pt x="428" y="708"/>
                  <a:pt x="441" y="694"/>
                </a:cubicBezTo>
                <a:cubicBezTo>
                  <a:pt x="452" y="643"/>
                  <a:pt x="455" y="590"/>
                  <a:pt x="469" y="539"/>
                </a:cubicBezTo>
                <a:cubicBezTo>
                  <a:pt x="474" y="520"/>
                  <a:pt x="470" y="493"/>
                  <a:pt x="487" y="484"/>
                </a:cubicBezTo>
                <a:cubicBezTo>
                  <a:pt x="511" y="472"/>
                  <a:pt x="560" y="448"/>
                  <a:pt x="560" y="448"/>
                </a:cubicBezTo>
                <a:cubicBezTo>
                  <a:pt x="603" y="384"/>
                  <a:pt x="579" y="406"/>
                  <a:pt x="624" y="374"/>
                </a:cubicBezTo>
                <a:cubicBezTo>
                  <a:pt x="640" y="327"/>
                  <a:pt x="620" y="356"/>
                  <a:pt x="670" y="356"/>
                </a:cubicBezTo>
                <a:cubicBezTo>
                  <a:pt x="679" y="356"/>
                  <a:pt x="688" y="350"/>
                  <a:pt x="697" y="347"/>
                </a:cubicBezTo>
                <a:cubicBezTo>
                  <a:pt x="721" y="324"/>
                  <a:pt x="733" y="302"/>
                  <a:pt x="761" y="283"/>
                </a:cubicBezTo>
                <a:cubicBezTo>
                  <a:pt x="770" y="234"/>
                  <a:pt x="783" y="203"/>
                  <a:pt x="771" y="155"/>
                </a:cubicBezTo>
                <a:cubicBezTo>
                  <a:pt x="793" y="88"/>
                  <a:pt x="761" y="168"/>
                  <a:pt x="807" y="109"/>
                </a:cubicBezTo>
                <a:cubicBezTo>
                  <a:pt x="813" y="102"/>
                  <a:pt x="811" y="90"/>
                  <a:pt x="816" y="82"/>
                </a:cubicBezTo>
                <a:cubicBezTo>
                  <a:pt x="821" y="75"/>
                  <a:pt x="829" y="70"/>
                  <a:pt x="835" y="64"/>
                </a:cubicBezTo>
                <a:cubicBezTo>
                  <a:pt x="848" y="23"/>
                  <a:pt x="870" y="19"/>
                  <a:pt x="908" y="0"/>
                </a:cubicBezTo>
                <a:cubicBezTo>
                  <a:pt x="975" y="13"/>
                  <a:pt x="1048" y="15"/>
                  <a:pt x="1109" y="45"/>
                </a:cubicBezTo>
                <a:cubicBezTo>
                  <a:pt x="1187" y="123"/>
                  <a:pt x="1254" y="214"/>
                  <a:pt x="1347" y="274"/>
                </a:cubicBezTo>
                <a:cubicBezTo>
                  <a:pt x="1369" y="319"/>
                  <a:pt x="1384" y="368"/>
                  <a:pt x="1420" y="402"/>
                </a:cubicBezTo>
                <a:cubicBezTo>
                  <a:pt x="1423" y="411"/>
                  <a:pt x="1423" y="422"/>
                  <a:pt x="1429" y="429"/>
                </a:cubicBezTo>
                <a:cubicBezTo>
                  <a:pt x="1436" y="438"/>
                  <a:pt x="1451" y="438"/>
                  <a:pt x="1456" y="448"/>
                </a:cubicBezTo>
                <a:cubicBezTo>
                  <a:pt x="1511" y="546"/>
                  <a:pt x="1428" y="456"/>
                  <a:pt x="1484" y="512"/>
                </a:cubicBezTo>
                <a:cubicBezTo>
                  <a:pt x="1504" y="572"/>
                  <a:pt x="1532" y="627"/>
                  <a:pt x="1557" y="685"/>
                </a:cubicBezTo>
                <a:cubicBezTo>
                  <a:pt x="1576" y="730"/>
                  <a:pt x="1588" y="786"/>
                  <a:pt x="1603" y="832"/>
                </a:cubicBezTo>
                <a:cubicBezTo>
                  <a:pt x="1607" y="844"/>
                  <a:pt x="1627" y="837"/>
                  <a:pt x="1639" y="841"/>
                </a:cubicBezTo>
                <a:cubicBezTo>
                  <a:pt x="1652" y="846"/>
                  <a:pt x="1664" y="853"/>
                  <a:pt x="1676" y="859"/>
                </a:cubicBezTo>
                <a:cubicBezTo>
                  <a:pt x="1685" y="886"/>
                  <a:pt x="1694" y="914"/>
                  <a:pt x="1703" y="941"/>
                </a:cubicBezTo>
                <a:cubicBezTo>
                  <a:pt x="1706" y="950"/>
                  <a:pt x="1712" y="969"/>
                  <a:pt x="1712" y="969"/>
                </a:cubicBezTo>
                <a:cubicBezTo>
                  <a:pt x="1715" y="1002"/>
                  <a:pt x="1713" y="1036"/>
                  <a:pt x="1721" y="1069"/>
                </a:cubicBezTo>
                <a:cubicBezTo>
                  <a:pt x="1723" y="1078"/>
                  <a:pt x="1737" y="1080"/>
                  <a:pt x="1740" y="1088"/>
                </a:cubicBezTo>
                <a:cubicBezTo>
                  <a:pt x="1749" y="1111"/>
                  <a:pt x="1752" y="1137"/>
                  <a:pt x="1758" y="1161"/>
                </a:cubicBezTo>
                <a:cubicBezTo>
                  <a:pt x="1761" y="1172"/>
                  <a:pt x="1796" y="1179"/>
                  <a:pt x="1785" y="1179"/>
                </a:cubicBezTo>
                <a:cubicBezTo>
                  <a:pt x="1749" y="1179"/>
                  <a:pt x="1728" y="1133"/>
                  <a:pt x="1694" y="1124"/>
                </a:cubicBezTo>
                <a:cubicBezTo>
                  <a:pt x="1670" y="1117"/>
                  <a:pt x="1621" y="1106"/>
                  <a:pt x="1621" y="1106"/>
                </a:cubicBezTo>
                <a:cubicBezTo>
                  <a:pt x="1604" y="1095"/>
                  <a:pt x="1582" y="1091"/>
                  <a:pt x="1566" y="1078"/>
                </a:cubicBezTo>
                <a:cubicBezTo>
                  <a:pt x="1526" y="1044"/>
                  <a:pt x="1554" y="1047"/>
                  <a:pt x="1520" y="1024"/>
                </a:cubicBezTo>
                <a:cubicBezTo>
                  <a:pt x="1509" y="1016"/>
                  <a:pt x="1494" y="1014"/>
                  <a:pt x="1484" y="1005"/>
                </a:cubicBezTo>
                <a:cubicBezTo>
                  <a:pt x="1461" y="986"/>
                  <a:pt x="1441" y="962"/>
                  <a:pt x="1420" y="941"/>
                </a:cubicBezTo>
                <a:cubicBezTo>
                  <a:pt x="1405" y="926"/>
                  <a:pt x="1374" y="896"/>
                  <a:pt x="1374" y="896"/>
                </a:cubicBezTo>
                <a:cubicBezTo>
                  <a:pt x="1368" y="884"/>
                  <a:pt x="1364" y="870"/>
                  <a:pt x="1356" y="859"/>
                </a:cubicBezTo>
                <a:cubicBezTo>
                  <a:pt x="1348" y="848"/>
                  <a:pt x="1334" y="843"/>
                  <a:pt x="1328" y="832"/>
                </a:cubicBezTo>
                <a:cubicBezTo>
                  <a:pt x="1311" y="803"/>
                  <a:pt x="1294" y="746"/>
                  <a:pt x="1283" y="713"/>
                </a:cubicBezTo>
                <a:cubicBezTo>
                  <a:pt x="1253" y="878"/>
                  <a:pt x="1240" y="1038"/>
                  <a:pt x="1228" y="1206"/>
                </a:cubicBezTo>
                <a:cubicBezTo>
                  <a:pt x="1269" y="1291"/>
                  <a:pt x="1255" y="1249"/>
                  <a:pt x="1255" y="1417"/>
                </a:cubicBezTo>
                <a:cubicBezTo>
                  <a:pt x="1255" y="1452"/>
                  <a:pt x="1228" y="1517"/>
                  <a:pt x="1228" y="1517"/>
                </a:cubicBezTo>
                <a:cubicBezTo>
                  <a:pt x="1206" y="1453"/>
                  <a:pt x="1215" y="1480"/>
                  <a:pt x="1200" y="1435"/>
                </a:cubicBezTo>
                <a:cubicBezTo>
                  <a:pt x="1197" y="1426"/>
                  <a:pt x="1191" y="1408"/>
                  <a:pt x="1191" y="1408"/>
                </a:cubicBezTo>
                <a:cubicBezTo>
                  <a:pt x="1181" y="1334"/>
                  <a:pt x="1153" y="1269"/>
                  <a:pt x="1136" y="1197"/>
                </a:cubicBezTo>
                <a:cubicBezTo>
                  <a:pt x="1132" y="1153"/>
                  <a:pt x="1154" y="961"/>
                  <a:pt x="1081" y="914"/>
                </a:cubicBezTo>
                <a:cubicBezTo>
                  <a:pt x="1075" y="905"/>
                  <a:pt x="1072" y="893"/>
                  <a:pt x="1063" y="886"/>
                </a:cubicBezTo>
                <a:cubicBezTo>
                  <a:pt x="1056" y="880"/>
                  <a:pt x="1041" y="885"/>
                  <a:pt x="1036" y="877"/>
                </a:cubicBezTo>
                <a:cubicBezTo>
                  <a:pt x="1024" y="855"/>
                  <a:pt x="1017" y="804"/>
                  <a:pt x="1017" y="804"/>
                </a:cubicBezTo>
                <a:cubicBezTo>
                  <a:pt x="1001" y="837"/>
                  <a:pt x="997" y="870"/>
                  <a:pt x="972" y="896"/>
                </a:cubicBezTo>
                <a:cubicBezTo>
                  <a:pt x="953" y="971"/>
                  <a:pt x="979" y="895"/>
                  <a:pt x="935" y="960"/>
                </a:cubicBezTo>
                <a:cubicBezTo>
                  <a:pt x="930" y="968"/>
                  <a:pt x="932" y="979"/>
                  <a:pt x="926" y="987"/>
                </a:cubicBezTo>
                <a:cubicBezTo>
                  <a:pt x="916" y="1001"/>
                  <a:pt x="901" y="1012"/>
                  <a:pt x="889" y="1024"/>
                </a:cubicBezTo>
                <a:cubicBezTo>
                  <a:pt x="881" y="1072"/>
                  <a:pt x="874" y="1108"/>
                  <a:pt x="853" y="1152"/>
                </a:cubicBezTo>
                <a:cubicBezTo>
                  <a:pt x="836" y="1289"/>
                  <a:pt x="831" y="1397"/>
                  <a:pt x="825" y="1545"/>
                </a:cubicBezTo>
                <a:cubicBezTo>
                  <a:pt x="842" y="1592"/>
                  <a:pt x="810" y="1626"/>
                  <a:pt x="825" y="1673"/>
                </a:cubicBezTo>
                <a:cubicBezTo>
                  <a:pt x="821" y="1686"/>
                  <a:pt x="815" y="1723"/>
                  <a:pt x="789" y="1718"/>
                </a:cubicBezTo>
                <a:cubicBezTo>
                  <a:pt x="762" y="1713"/>
                  <a:pt x="716" y="1682"/>
                  <a:pt x="716" y="1682"/>
                </a:cubicBezTo>
                <a:cubicBezTo>
                  <a:pt x="679" y="1567"/>
                  <a:pt x="716" y="1412"/>
                  <a:pt x="725" y="1289"/>
                </a:cubicBezTo>
                <a:cubicBezTo>
                  <a:pt x="723" y="1249"/>
                  <a:pt x="715" y="1042"/>
                  <a:pt x="707" y="978"/>
                </a:cubicBezTo>
                <a:cubicBezTo>
                  <a:pt x="706" y="968"/>
                  <a:pt x="703" y="958"/>
                  <a:pt x="697" y="950"/>
                </a:cubicBezTo>
                <a:cubicBezTo>
                  <a:pt x="677" y="926"/>
                  <a:pt x="625" y="878"/>
                  <a:pt x="597" y="859"/>
                </a:cubicBezTo>
                <a:cubicBezTo>
                  <a:pt x="594" y="850"/>
                  <a:pt x="597" y="835"/>
                  <a:pt x="588" y="832"/>
                </a:cubicBezTo>
                <a:cubicBezTo>
                  <a:pt x="576" y="827"/>
                  <a:pt x="562" y="835"/>
                  <a:pt x="551" y="841"/>
                </a:cubicBezTo>
                <a:cubicBezTo>
                  <a:pt x="509" y="862"/>
                  <a:pt x="485" y="891"/>
                  <a:pt x="441" y="905"/>
                </a:cubicBezTo>
                <a:cubicBezTo>
                  <a:pt x="416" y="979"/>
                  <a:pt x="454" y="891"/>
                  <a:pt x="405" y="941"/>
                </a:cubicBezTo>
                <a:cubicBezTo>
                  <a:pt x="395" y="951"/>
                  <a:pt x="395" y="967"/>
                  <a:pt x="387" y="978"/>
                </a:cubicBezTo>
                <a:cubicBezTo>
                  <a:pt x="347" y="1038"/>
                  <a:pt x="284" y="1109"/>
                  <a:pt x="213" y="1133"/>
                </a:cubicBezTo>
                <a:cubicBezTo>
                  <a:pt x="184" y="1162"/>
                  <a:pt x="160" y="1175"/>
                  <a:pt x="121" y="1188"/>
                </a:cubicBezTo>
                <a:cubicBezTo>
                  <a:pt x="112" y="1194"/>
                  <a:pt x="102" y="1199"/>
                  <a:pt x="94" y="1206"/>
                </a:cubicBezTo>
                <a:cubicBezTo>
                  <a:pt x="87" y="1212"/>
                  <a:pt x="84" y="1222"/>
                  <a:pt x="76" y="1225"/>
                </a:cubicBezTo>
                <a:cubicBezTo>
                  <a:pt x="0" y="1256"/>
                  <a:pt x="3" y="1216"/>
                  <a:pt x="3" y="1252"/>
                </a:cubicBezTo>
                <a:lnTo>
                  <a:pt x="72" y="1195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8"/>
          <p:cNvSpPr/>
          <p:nvPr/>
        </p:nvSpPr>
        <p:spPr>
          <a:xfrm>
            <a:off x="539640" y="333360"/>
            <a:ext cx="2305080" cy="865080"/>
          </a:xfrm>
          <a:prstGeom prst="cloudCallout">
            <a:avLst>
              <a:gd name="adj1" fmla="val -22106"/>
              <a:gd name="adj2" fmla="val 17337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9"/>
          <p:cNvSpPr/>
          <p:nvPr/>
        </p:nvSpPr>
        <p:spPr>
          <a:xfrm rot="10800000">
            <a:off x="6372360" y="403920"/>
            <a:ext cx="2482560" cy="792360"/>
          </a:xfrm>
          <a:prstGeom prst="cloudCallout">
            <a:avLst>
              <a:gd name="adj1" fmla="val -40666"/>
              <a:gd name="adj2" fmla="val 51402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60"/>
          <p:cNvSpPr/>
          <p:nvPr/>
        </p:nvSpPr>
        <p:spPr>
          <a:xfrm rot="10800000">
            <a:off x="5219640" y="0"/>
            <a:ext cx="1656000" cy="433440"/>
          </a:xfrm>
          <a:prstGeom prst="cloudCallout">
            <a:avLst>
              <a:gd name="adj1" fmla="val -17787"/>
              <a:gd name="adj2" fmla="val 18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2"/>
          <p:cNvSpPr/>
          <p:nvPr/>
        </p:nvSpPr>
        <p:spPr>
          <a:xfrm>
            <a:off x="0" y="3284640"/>
            <a:ext cx="6372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3"/>
          <p:cNvSpPr/>
          <p:nvPr/>
        </p:nvSpPr>
        <p:spPr>
          <a:xfrm>
            <a:off x="0" y="4292640"/>
            <a:ext cx="6877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4"/>
          <p:cNvSpPr/>
          <p:nvPr/>
        </p:nvSpPr>
        <p:spPr>
          <a:xfrm flipV="1">
            <a:off x="0" y="5229360"/>
            <a:ext cx="716436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5"/>
          <p:cNvSpPr/>
          <p:nvPr/>
        </p:nvSpPr>
        <p:spPr>
          <a:xfrm>
            <a:off x="0" y="2421000"/>
            <a:ext cx="6084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6"/>
          <p:cNvSpPr/>
          <p:nvPr/>
        </p:nvSpPr>
        <p:spPr>
          <a:xfrm>
            <a:off x="0" y="4869000"/>
            <a:ext cx="37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2. Особенности прир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7"/>
          <p:cNvSpPr/>
          <p:nvPr/>
        </p:nvSpPr>
        <p:spPr>
          <a:xfrm>
            <a:off x="360" y="3860640"/>
            <a:ext cx="24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3. Природные з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8"/>
          <p:cNvSpPr/>
          <p:nvPr/>
        </p:nvSpPr>
        <p:spPr>
          <a:xfrm>
            <a:off x="3240" y="2852640"/>
            <a:ext cx="34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4. Африка и Южная Амер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9"/>
          <p:cNvSpPr/>
          <p:nvPr/>
        </p:nvSpPr>
        <p:spPr>
          <a:xfrm>
            <a:off x="4320" y="5589720"/>
            <a:ext cx="29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1. Географическая ка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0"/>
          <p:cNvSpPr/>
          <p:nvPr/>
        </p:nvSpPr>
        <p:spPr>
          <a:xfrm>
            <a:off x="3960" y="1989000"/>
            <a:ext cx="27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5. Население и ст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71"/>
          <p:cNvSpPr/>
          <p:nvPr/>
        </p:nvSpPr>
        <p:spPr>
          <a:xfrm>
            <a:off x="0" y="5950080"/>
            <a:ext cx="8532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2"/>
          <p:cNvSpPr/>
          <p:nvPr/>
        </p:nvSpPr>
        <p:spPr>
          <a:xfrm>
            <a:off x="2990520" y="476280"/>
            <a:ext cx="248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г. Аконкагуа  6960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3"/>
          <p:cNvSpPr/>
          <p:nvPr/>
        </p:nvSpPr>
        <p:spPr>
          <a:xfrm>
            <a:off x="972000" y="6237360"/>
            <a:ext cx="130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«Вулка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7"/>
          <p:cNvSpPr/>
          <p:nvPr/>
        </p:nvSpPr>
        <p:spPr>
          <a:xfrm>
            <a:off x="3059280" y="623736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«Луч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8"/>
          <p:cNvSpPr/>
          <p:nvPr/>
        </p:nvSpPr>
        <p:spPr>
          <a:xfrm>
            <a:off x="4572000" y="6237360"/>
            <a:ext cx="11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«Ист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9"/>
          <p:cNvSpPr/>
          <p:nvPr/>
        </p:nvSpPr>
        <p:spPr>
          <a:xfrm>
            <a:off x="6660000" y="623736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«Рост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81"/>
          <p:cNvSpPr txBox="1"/>
          <p:nvPr/>
        </p:nvSpPr>
        <p:spPr>
          <a:xfrm>
            <a:off x="7956720" y="4797360"/>
            <a:ext cx="720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-1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4" name="WordArt 82"/>
          <p:cNvSpPr txBox="1"/>
          <p:nvPr/>
        </p:nvSpPr>
        <p:spPr>
          <a:xfrm>
            <a:off x="7956720" y="5516640"/>
            <a:ext cx="6476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0-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WordArt 83"/>
          <p:cNvSpPr txBox="1"/>
          <p:nvPr/>
        </p:nvSpPr>
        <p:spPr>
          <a:xfrm>
            <a:off x="7740720" y="3789360"/>
            <a:ext cx="936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-1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6" name="WordArt 84"/>
          <p:cNvSpPr txBox="1"/>
          <p:nvPr/>
        </p:nvSpPr>
        <p:spPr>
          <a:xfrm>
            <a:off x="7740720" y="2924280"/>
            <a:ext cx="936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5- 2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WordArt 85"/>
          <p:cNvSpPr txBox="1"/>
          <p:nvPr/>
        </p:nvSpPr>
        <p:spPr>
          <a:xfrm>
            <a:off x="7667640" y="2133720"/>
            <a:ext cx="936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- 2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AutoShape 92">
            <a:hlinkClick r:id="" action="ppaction://hlinkshowjump?jump=nextslide"/>
          </p:cNvPr>
          <p:cNvSpPr/>
          <p:nvPr/>
        </p:nvSpPr>
        <p:spPr>
          <a:xfrm>
            <a:off x="6588000" y="551664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93">
            <a:hlinkClick r:id="rId3" action="ppaction://hlinksldjump"/>
          </p:cNvPr>
          <p:cNvSpPr/>
          <p:nvPr/>
        </p:nvSpPr>
        <p:spPr>
          <a:xfrm>
            <a:off x="6516720" y="472428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3794"/>
                </a:moveTo>
                <a:lnTo>
                  <a:pt x="24274" y="10800"/>
                </a:lnTo>
                <a:lnTo>
                  <a:pt x="10261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4">
            <a:hlinkClick r:id="rId5" action="ppaction://hlinksldjump"/>
          </p:cNvPr>
          <p:cNvSpPr/>
          <p:nvPr/>
        </p:nvSpPr>
        <p:spPr>
          <a:xfrm>
            <a:off x="6227640" y="378936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95"/>
          <p:cNvSpPr/>
          <p:nvPr/>
        </p:nvSpPr>
        <p:spPr>
          <a:xfrm>
            <a:off x="5724360" y="278136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3794"/>
                </a:moveTo>
                <a:lnTo>
                  <a:pt x="22086" y="10800"/>
                </a:lnTo>
                <a:lnTo>
                  <a:pt x="8073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6"/>
          <p:cNvSpPr/>
          <p:nvPr/>
        </p:nvSpPr>
        <p:spPr>
          <a:xfrm>
            <a:off x="3708360" y="335772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физмину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97"/>
          <p:cNvSpPr/>
          <p:nvPr/>
        </p:nvSpPr>
        <p:spPr>
          <a:xfrm>
            <a:off x="5508720" y="335772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14409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8818" h="21600">
                <a:moveTo>
                  <a:pt x="14409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8818" h="21600">
                <a:moveTo>
                  <a:pt x="11833" y="8224"/>
                </a:moveTo>
                <a:lnTo>
                  <a:pt x="15697" y="8224"/>
                </a:lnTo>
                <a:lnTo>
                  <a:pt x="15697" y="15221"/>
                </a:lnTo>
                <a:lnTo>
                  <a:pt x="16985" y="15221"/>
                </a:lnTo>
                <a:lnTo>
                  <a:pt x="16985" y="16144"/>
                </a:lnTo>
                <a:lnTo>
                  <a:pt x="11833" y="16144"/>
                </a:lnTo>
                <a:lnTo>
                  <a:pt x="11833" y="15221"/>
                </a:lnTo>
                <a:lnTo>
                  <a:pt x="13121" y="15221"/>
                </a:lnTo>
                <a:lnTo>
                  <a:pt x="13121" y="9129"/>
                </a:lnTo>
                <a:lnTo>
                  <a:pt x="11833" y="9129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98"/>
          <p:cNvSpPr/>
          <p:nvPr/>
        </p:nvSpPr>
        <p:spPr>
          <a:xfrm>
            <a:off x="5435640" y="184464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3794"/>
                </a:moveTo>
                <a:lnTo>
                  <a:pt x="21412" y="10800"/>
                </a:lnTo>
                <a:lnTo>
                  <a:pt x="7400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99"/>
          <p:cNvSpPr/>
          <p:nvPr/>
        </p:nvSpPr>
        <p:spPr>
          <a:xfrm>
            <a:off x="4427640" y="836640"/>
            <a:ext cx="576000" cy="64764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47640"/>
              <a:gd name="textAreaBottom" fmla="*/ 610560 h 647640"/>
            </a:gdLst>
            <a:ahLst/>
            <a:rect l="textAreaLeft" t="textAreaTop" r="textAreaRight" b="textAreaBottom"/>
            <a:pathLst>
              <a:path w="21600" h="24285">
                <a:moveTo>
                  <a:pt x="0" y="0"/>
                </a:moveTo>
                <a:lnTo>
                  <a:pt x="21600" y="0"/>
                </a:lnTo>
                <a:lnTo>
                  <a:pt x="21600" y="24285"/>
                </a:lnTo>
                <a:lnTo>
                  <a:pt x="0" y="24285"/>
                </a:lnTo>
                <a:close/>
              </a:path>
              <a:path fill="lightenLess" w="21600" h="242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5">
                <a:moveTo>
                  <a:pt x="21600" y="0"/>
                </a:moveTo>
                <a:lnTo>
                  <a:pt x="21600" y="24285"/>
                </a:lnTo>
                <a:lnTo>
                  <a:pt x="20200" y="22885"/>
                </a:lnTo>
                <a:lnTo>
                  <a:pt x="20200" y="1400"/>
                </a:lnTo>
                <a:close/>
              </a:path>
              <a:path fill="darkenLess" w="21600" h="24285">
                <a:moveTo>
                  <a:pt x="21600" y="24285"/>
                </a:moveTo>
                <a:lnTo>
                  <a:pt x="0" y="24285"/>
                </a:lnTo>
                <a:lnTo>
                  <a:pt x="1400" y="22885"/>
                </a:lnTo>
                <a:lnTo>
                  <a:pt x="20200" y="22885"/>
                </a:lnTo>
                <a:close/>
              </a:path>
              <a:path fill="lighten" w="21600" h="24285">
                <a:moveTo>
                  <a:pt x="0" y="2428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5"/>
                </a:lnTo>
                <a:close/>
              </a:path>
              <a:path fill="darken" w="21600" h="24285">
                <a:moveTo>
                  <a:pt x="10800" y="5179"/>
                </a:moveTo>
                <a:lnTo>
                  <a:pt x="13376" y="7791"/>
                </a:lnTo>
                <a:lnTo>
                  <a:pt x="13376" y="6050"/>
                </a:lnTo>
                <a:lnTo>
                  <a:pt x="15152" y="6050"/>
                </a:lnTo>
                <a:lnTo>
                  <a:pt x="15152" y="9566"/>
                </a:lnTo>
                <a:lnTo>
                  <a:pt x="17763" y="12142"/>
                </a:lnTo>
                <a:lnTo>
                  <a:pt x="16109" y="12142"/>
                </a:lnTo>
                <a:lnTo>
                  <a:pt x="16109" y="19332"/>
                </a:lnTo>
                <a:lnTo>
                  <a:pt x="5491" y="19332"/>
                </a:lnTo>
                <a:lnTo>
                  <a:pt x="5491" y="12142"/>
                </a:lnTo>
                <a:lnTo>
                  <a:pt x="3837" y="12142"/>
                </a:lnTo>
                <a:close/>
              </a:path>
              <a:path fill="darkenLess" w="21600" h="24285">
                <a:moveTo>
                  <a:pt x="13376" y="7791"/>
                </a:moveTo>
                <a:lnTo>
                  <a:pt x="13376" y="6050"/>
                </a:lnTo>
                <a:lnTo>
                  <a:pt x="15152" y="6050"/>
                </a:lnTo>
                <a:lnTo>
                  <a:pt x="15152" y="9566"/>
                </a:lnTo>
                <a:close/>
              </a:path>
              <a:path fill="darkenLess" w="21600" h="24285">
                <a:moveTo>
                  <a:pt x="9877" y="15641"/>
                </a:moveTo>
                <a:lnTo>
                  <a:pt x="11723" y="15641"/>
                </a:lnTo>
                <a:lnTo>
                  <a:pt x="11723" y="19332"/>
                </a:lnTo>
                <a:lnTo>
                  <a:pt x="16109" y="19332"/>
                </a:lnTo>
                <a:lnTo>
                  <a:pt x="16109" y="12142"/>
                </a:lnTo>
                <a:lnTo>
                  <a:pt x="5491" y="12142"/>
                </a:lnTo>
                <a:lnTo>
                  <a:pt x="5491" y="19332"/>
                </a:lnTo>
                <a:lnTo>
                  <a:pt x="9877" y="193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6"/>
          <p:cNvSpPr txBox="1"/>
          <p:nvPr/>
        </p:nvSpPr>
        <p:spPr>
          <a:xfrm>
            <a:off x="539640" y="260280"/>
            <a:ext cx="8425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Задание №1 Географическая карта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07" name="Picture 6" descr="Рельеф Южной Америки"/>
          <p:cNvPicPr/>
          <p:nvPr/>
        </p:nvPicPr>
        <p:blipFill>
          <a:blip r:embed="rId1"/>
          <a:srcRect l="17527" t="2835" r="8362" b="3472"/>
          <a:stretch/>
        </p:blipFill>
        <p:spPr>
          <a:xfrm>
            <a:off x="1403280" y="981000"/>
            <a:ext cx="6405480" cy="539928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sp>
        <p:nvSpPr>
          <p:cNvPr id="108" name="WordArt 7"/>
          <p:cNvSpPr txBox="1"/>
          <p:nvPr/>
        </p:nvSpPr>
        <p:spPr>
          <a:xfrm>
            <a:off x="4140360" y="6021360"/>
            <a:ext cx="86508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. 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WordArt 10"/>
          <p:cNvSpPr txBox="1"/>
          <p:nvPr/>
        </p:nvSpPr>
        <p:spPr>
          <a:xfrm>
            <a:off x="6804000" y="2421000"/>
            <a:ext cx="36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" name="WordArt 11"/>
          <p:cNvSpPr txBox="1"/>
          <p:nvPr/>
        </p:nvSpPr>
        <p:spPr>
          <a:xfrm>
            <a:off x="2987640" y="3500280"/>
            <a:ext cx="3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WordArt 12"/>
          <p:cNvSpPr txBox="1"/>
          <p:nvPr/>
        </p:nvSpPr>
        <p:spPr>
          <a:xfrm>
            <a:off x="4067280" y="2060640"/>
            <a:ext cx="396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2" name="WordArt 13"/>
          <p:cNvSpPr txBox="1"/>
          <p:nvPr/>
        </p:nvSpPr>
        <p:spPr>
          <a:xfrm>
            <a:off x="4067280" y="4292640"/>
            <a:ext cx="39672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WordArt 14"/>
          <p:cNvSpPr txBox="1"/>
          <p:nvPr/>
        </p:nvSpPr>
        <p:spPr>
          <a:xfrm>
            <a:off x="4716360" y="4149720"/>
            <a:ext cx="39708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4" name="WordArt 15"/>
          <p:cNvSpPr txBox="1"/>
          <p:nvPr/>
        </p:nvSpPr>
        <p:spPr>
          <a:xfrm>
            <a:off x="4500720" y="1413000"/>
            <a:ext cx="39672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" name="WordArt 16"/>
          <p:cNvSpPr txBox="1"/>
          <p:nvPr/>
        </p:nvSpPr>
        <p:spPr>
          <a:xfrm>
            <a:off x="3276720" y="1197000"/>
            <a:ext cx="46980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" name="WordArt 17"/>
          <p:cNvSpPr txBox="1"/>
          <p:nvPr/>
        </p:nvSpPr>
        <p:spPr>
          <a:xfrm>
            <a:off x="4211640" y="3141720"/>
            <a:ext cx="39672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7" name="WordArt 18"/>
          <p:cNvSpPr txBox="1"/>
          <p:nvPr/>
        </p:nvSpPr>
        <p:spPr>
          <a:xfrm>
            <a:off x="5435640" y="3213000"/>
            <a:ext cx="865080" cy="33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. 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8" name="AutoShape 19">
            <a:hlinkClick r:id="" action="ppaction://hlinkshowjump?jump=previousslide"/>
          </p:cNvPr>
          <p:cNvSpPr/>
          <p:nvPr/>
        </p:nvSpPr>
        <p:spPr>
          <a:xfrm>
            <a:off x="8101080" y="5950080"/>
            <a:ext cx="826920" cy="647640"/>
          </a:xfrm>
          <a:custGeom>
            <a:avLst/>
            <a:gdLst>
              <a:gd name="textAreaLeft" fmla="*/ 41760 w 826920"/>
              <a:gd name="textAreaRight" fmla="*/ 785160 w 826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7576" h="21600">
                <a:moveTo>
                  <a:pt x="0" y="0"/>
                </a:moveTo>
                <a:lnTo>
                  <a:pt x="27576" y="0"/>
                </a:lnTo>
                <a:lnTo>
                  <a:pt x="27576" y="21600"/>
                </a:lnTo>
                <a:lnTo>
                  <a:pt x="0" y="21600"/>
                </a:lnTo>
                <a:close/>
              </a:path>
              <a:path fill="lightenLess" w="27576" h="21600">
                <a:moveTo>
                  <a:pt x="0" y="0"/>
                </a:moveTo>
                <a:lnTo>
                  <a:pt x="27576" y="0"/>
                </a:lnTo>
                <a:lnTo>
                  <a:pt x="26176" y="1400"/>
                </a:lnTo>
                <a:lnTo>
                  <a:pt x="1400" y="1400"/>
                </a:lnTo>
                <a:close/>
              </a:path>
              <a:path fill="darken" w="27576" h="21600">
                <a:moveTo>
                  <a:pt x="27576" y="0"/>
                </a:moveTo>
                <a:lnTo>
                  <a:pt x="27576" y="21600"/>
                </a:lnTo>
                <a:lnTo>
                  <a:pt x="26176" y="20200"/>
                </a:lnTo>
                <a:lnTo>
                  <a:pt x="26176" y="1400"/>
                </a:lnTo>
                <a:close/>
              </a:path>
              <a:path fill="darkenLess" w="27576" h="21600">
                <a:moveTo>
                  <a:pt x="2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76" y="20200"/>
                </a:lnTo>
                <a:close/>
              </a:path>
              <a:path fill="lighten" w="2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76" h="21600">
                <a:moveTo>
                  <a:pt x="6782" y="10800"/>
                </a:moveTo>
                <a:lnTo>
                  <a:pt x="20794" y="3794"/>
                </a:lnTo>
                <a:lnTo>
                  <a:pt x="207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6"/>
          <p:cNvSpPr txBox="1"/>
          <p:nvPr/>
        </p:nvSpPr>
        <p:spPr>
          <a:xfrm>
            <a:off x="539640" y="260280"/>
            <a:ext cx="7993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Задание №2 Особенности природы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558360" y="921240"/>
            <a:ext cx="8011080" cy="558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990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cc"/>
                </a:solidFill>
                <a:uFillTx/>
                <a:latin typeface="Arial"/>
              </a:rPr>
              <a:t>Для 1 групп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990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990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латформа, горы, изотерма, Бразильское, Вулк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990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990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cc"/>
                </a:solidFill>
                <a:uFillTx/>
                <a:latin typeface="Arial"/>
              </a:rPr>
              <a:t>Для 2 групп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990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990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ассаты, Ла-Платская, осадки, климат, умерен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990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990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cc"/>
                </a:solidFill>
                <a:uFillTx/>
                <a:latin typeface="Arial"/>
              </a:rPr>
              <a:t>Для 3 групп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990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990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Игуасу, Парана, режим, Маракайбо, Веспуч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990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990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cc"/>
                </a:solidFill>
                <a:uFillTx/>
                <a:latin typeface="Arial"/>
              </a:rPr>
              <a:t>Для 4 групп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990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990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ельва, Сейба, саванна, Анхель, пам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"/>
          <p:cNvSpPr/>
          <p:nvPr/>
        </p:nvSpPr>
        <p:spPr>
          <a:xfrm flipV="1">
            <a:off x="3419640" y="1700280"/>
            <a:ext cx="1584000" cy="433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 flipV="1">
            <a:off x="2268360" y="3141720"/>
            <a:ext cx="1584360" cy="433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7"/>
          <p:cNvSpPr/>
          <p:nvPr/>
        </p:nvSpPr>
        <p:spPr>
          <a:xfrm flipV="1">
            <a:off x="6443640" y="4653000"/>
            <a:ext cx="1584360" cy="433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 flipV="1">
            <a:off x="5148360" y="6021360"/>
            <a:ext cx="1584360" cy="433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9"/>
          <p:cNvSpPr/>
          <p:nvPr/>
        </p:nvSpPr>
        <p:spPr>
          <a:xfrm>
            <a:off x="8172360" y="6093000"/>
            <a:ext cx="792360" cy="576000"/>
          </a:xfrm>
          <a:custGeom>
            <a:avLst/>
            <a:gdLst>
              <a:gd name="textAreaLeft" fmla="*/ 37080 w 792360"/>
              <a:gd name="textAreaRight" fmla="*/ 755280 w 792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708" h="21600">
                <a:moveTo>
                  <a:pt x="0" y="0"/>
                </a:moveTo>
                <a:lnTo>
                  <a:pt x="29708" y="0"/>
                </a:lnTo>
                <a:lnTo>
                  <a:pt x="29708" y="21600"/>
                </a:lnTo>
                <a:lnTo>
                  <a:pt x="0" y="21600"/>
                </a:lnTo>
                <a:close/>
              </a:path>
              <a:path fill="lightenLess" w="29708" h="21600">
                <a:moveTo>
                  <a:pt x="0" y="0"/>
                </a:moveTo>
                <a:lnTo>
                  <a:pt x="29708" y="0"/>
                </a:lnTo>
                <a:lnTo>
                  <a:pt x="28308" y="1400"/>
                </a:lnTo>
                <a:lnTo>
                  <a:pt x="1400" y="1400"/>
                </a:lnTo>
                <a:close/>
              </a:path>
              <a:path fill="darken" w="29708" h="21600">
                <a:moveTo>
                  <a:pt x="29708" y="0"/>
                </a:moveTo>
                <a:lnTo>
                  <a:pt x="29708" y="21600"/>
                </a:lnTo>
                <a:lnTo>
                  <a:pt x="28308" y="20200"/>
                </a:lnTo>
                <a:lnTo>
                  <a:pt x="28308" y="1400"/>
                </a:lnTo>
                <a:close/>
              </a:path>
              <a:path fill="darkenLess" w="29708" h="21600">
                <a:moveTo>
                  <a:pt x="29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8" y="20200"/>
                </a:lnTo>
                <a:close/>
              </a:path>
              <a:path fill="lighten" w="29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8" h="21600">
                <a:moveTo>
                  <a:pt x="7848" y="10800"/>
                </a:moveTo>
                <a:lnTo>
                  <a:pt x="21861" y="3794"/>
                </a:lnTo>
                <a:lnTo>
                  <a:pt x="21861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9" descr="int11"/>
          <p:cNvPicPr/>
          <p:nvPr/>
        </p:nvPicPr>
        <p:blipFill>
          <a:blip r:embed="rId1"/>
          <a:stretch/>
        </p:blipFill>
        <p:spPr>
          <a:xfrm>
            <a:off x="1979640" y="1052640"/>
            <a:ext cx="5904000" cy="4427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7" name="WordArt 6"/>
          <p:cNvSpPr txBox="1"/>
          <p:nvPr/>
        </p:nvSpPr>
        <p:spPr>
          <a:xfrm>
            <a:off x="539640" y="260280"/>
            <a:ext cx="8136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Задание №3  Природные зоны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28" name="Picture 4" descr="ani4"/>
          <p:cNvPicPr/>
          <p:nvPr/>
        </p:nvPicPr>
        <p:blipFill>
          <a:blip r:embed="rId2"/>
          <a:stretch/>
        </p:blipFill>
        <p:spPr>
          <a:xfrm>
            <a:off x="2124000" y="1197000"/>
            <a:ext cx="5832720" cy="4373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9" name="WordArt 5"/>
          <p:cNvSpPr txBox="1"/>
          <p:nvPr/>
        </p:nvSpPr>
        <p:spPr>
          <a:xfrm>
            <a:off x="250920" y="1197000"/>
            <a:ext cx="1296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1 группа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30" name="WordArt 5"/>
          <p:cNvSpPr txBox="1"/>
          <p:nvPr/>
        </p:nvSpPr>
        <p:spPr>
          <a:xfrm>
            <a:off x="250920" y="1916280"/>
            <a:ext cx="129672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2 группа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250920" y="2781360"/>
            <a:ext cx="129672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3 группа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32" name="WordArt 5"/>
          <p:cNvSpPr txBox="1"/>
          <p:nvPr/>
        </p:nvSpPr>
        <p:spPr>
          <a:xfrm>
            <a:off x="250920" y="3645000"/>
            <a:ext cx="129672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4 группа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33" name="Picture 13" descr="org6"/>
          <p:cNvPicPr/>
          <p:nvPr/>
        </p:nvPicPr>
        <p:blipFill>
          <a:blip r:embed="rId3"/>
          <a:stretch/>
        </p:blipFill>
        <p:spPr>
          <a:xfrm>
            <a:off x="2268360" y="1341360"/>
            <a:ext cx="5761080" cy="4321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34" name="Picture 14" descr="bro2"/>
          <p:cNvPicPr/>
          <p:nvPr/>
        </p:nvPicPr>
        <p:blipFill>
          <a:blip r:embed="rId4"/>
          <a:stretch/>
        </p:blipFill>
        <p:spPr>
          <a:xfrm>
            <a:off x="2411280" y="1557360"/>
            <a:ext cx="5832720" cy="4375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35" name="Picture 15" descr="org5"/>
          <p:cNvPicPr/>
          <p:nvPr/>
        </p:nvPicPr>
        <p:blipFill>
          <a:blip r:embed="rId5"/>
          <a:stretch/>
        </p:blipFill>
        <p:spPr>
          <a:xfrm>
            <a:off x="2556000" y="1773360"/>
            <a:ext cx="5832360" cy="4375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36" name="Picture 16" descr="jag1"/>
          <p:cNvPicPr/>
          <p:nvPr/>
        </p:nvPicPr>
        <p:blipFill>
          <a:blip r:embed="rId6"/>
          <a:stretch/>
        </p:blipFill>
        <p:spPr>
          <a:xfrm>
            <a:off x="2700360" y="1916280"/>
            <a:ext cx="5904000" cy="4427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37" name="Picture 17" descr="044_06"/>
          <p:cNvPicPr/>
          <p:nvPr/>
        </p:nvPicPr>
        <p:blipFill>
          <a:blip r:embed="rId7"/>
          <a:stretch/>
        </p:blipFill>
        <p:spPr>
          <a:xfrm>
            <a:off x="2843280" y="2060640"/>
            <a:ext cx="3043080" cy="4608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38" name="Picture 18" descr="036_07"/>
          <p:cNvPicPr/>
          <p:nvPr/>
        </p:nvPicPr>
        <p:blipFill>
          <a:blip r:embed="rId8"/>
          <a:stretch/>
        </p:blipFill>
        <p:spPr>
          <a:xfrm>
            <a:off x="6012000" y="2060640"/>
            <a:ext cx="2714400" cy="4537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39" name="AutoShape 19"/>
          <p:cNvSpPr/>
          <p:nvPr/>
        </p:nvSpPr>
        <p:spPr>
          <a:xfrm>
            <a:off x="539640" y="6165720"/>
            <a:ext cx="719280" cy="503280"/>
          </a:xfrm>
          <a:custGeom>
            <a:avLst/>
            <a:gdLst>
              <a:gd name="textAreaLeft" fmla="*/ 32400 w 719280"/>
              <a:gd name="textAreaRight" fmla="*/ 686880 w 71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64" h="21600">
                <a:moveTo>
                  <a:pt x="0" y="0"/>
                </a:moveTo>
                <a:lnTo>
                  <a:pt x="30864" y="0"/>
                </a:lnTo>
                <a:lnTo>
                  <a:pt x="30864" y="21600"/>
                </a:lnTo>
                <a:lnTo>
                  <a:pt x="0" y="21600"/>
                </a:lnTo>
                <a:close/>
              </a:path>
              <a:path fill="lightenLess" w="30864" h="21600">
                <a:moveTo>
                  <a:pt x="0" y="0"/>
                </a:moveTo>
                <a:lnTo>
                  <a:pt x="30864" y="0"/>
                </a:lnTo>
                <a:lnTo>
                  <a:pt x="29464" y="1400"/>
                </a:lnTo>
                <a:lnTo>
                  <a:pt x="1400" y="1400"/>
                </a:lnTo>
                <a:close/>
              </a:path>
              <a:path fill="darken" w="30864" h="21600">
                <a:moveTo>
                  <a:pt x="30864" y="0"/>
                </a:moveTo>
                <a:lnTo>
                  <a:pt x="30864" y="21600"/>
                </a:lnTo>
                <a:lnTo>
                  <a:pt x="29464" y="20200"/>
                </a:lnTo>
                <a:lnTo>
                  <a:pt x="29464" y="1400"/>
                </a:lnTo>
                <a:close/>
              </a:path>
              <a:path fill="darkenLess" w="30864" h="21600">
                <a:moveTo>
                  <a:pt x="30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64" y="20200"/>
                </a:lnTo>
                <a:close/>
              </a:path>
              <a:path fill="lighten" w="30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64" h="21600">
                <a:moveTo>
                  <a:pt x="8425" y="10800"/>
                </a:moveTo>
                <a:lnTo>
                  <a:pt x="22438" y="3794"/>
                </a:lnTo>
                <a:lnTo>
                  <a:pt x="2243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14:56:28Z</dcterms:created>
  <dc:creator>www.PHILka.RU</dc:creator>
  <dc:description/>
  <dc:language>en-US</dc:language>
  <cp:lastModifiedBy>user</cp:lastModifiedBy>
  <dcterms:modified xsi:type="dcterms:W3CDTF">2014-01-20T11:20:46Z</dcterms:modified>
  <cp:revision>8</cp:revision>
  <dc:subject/>
  <dc:title>Слайд 1</dc:title>
</cp:coreProperties>
</file>