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wmf" ContentType="image/x-wmf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Произвольный показ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DA8-868F-4AEA-9A9A-5511CEBC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EF-8253-488B-94FD-DC5AC17A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E00-7103-413F-AB64-E3AB73FE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C65-60C3-4BA8-88F1-3A9345A9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A38-320B-4827-946C-31CB8345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1FF-0DE5-48C0-8BEC-39B3942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03A-B775-491E-9689-674227A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C8A-B215-4BE6-A023-2AFCF48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3D7-CC6A-4135-8962-97CD2669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44D-66AF-41A7-BDF9-981B711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35D-F273-47F3-9AF7-96CA077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FE2-EEE9-41CD-844A-580C76A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186-B213-4679-A53D-AE4C7ACA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258920" y="0"/>
            <a:ext cx="6697800" cy="27082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24196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00"/>
                </a:solidFill>
                <a:latin typeface="Comic Sans MS"/>
              </a:rPr>
              <a:t>Эрзянь келенть сюпавчизэ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84360" y="2565360"/>
            <a:ext cx="8208720" cy="930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340000" y="3500280"/>
            <a:ext cx="5256360" cy="990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826920" y="2781360"/>
            <a:ext cx="662472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елесь -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нек эрзянь келесь!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ак морот ды сёрмадт стихть.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н ней гайги масторонь келес,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йсэнек пек васов вети.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И.Пиняев.)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5912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-262080"/>
            <a:ext cx="8281800" cy="684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62000" y="993600"/>
            <a:ext cx="5670720" cy="369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50920" y="458640"/>
            <a:ext cx="55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Теемс валрись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2000" y="243828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Impact"/>
              </a:rPr>
              <a:t>1. Мон, вечкемс, кель, тири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3879720"/>
            <a:ext cx="65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Impact"/>
              </a:rPr>
              <a:t>2. Кортамс, кель, тетя, ава, эрзя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560" y="277920"/>
            <a:ext cx="81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Валмеревкст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5416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Тиринь келенть танстезэ- теке тиринь аванть ловсоз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А онкстави сень питнезэ, кона вечки чачома келенз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Ёминдеряй келесь </a:t>
            </a: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 ёми раськеськ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81280" y="549360"/>
            <a:ext cx="73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Муемс сино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141640" y="1600200"/>
          <a:ext cx="6543720" cy="4529160"/>
        </p:xfrm>
        <a:graphic>
          <a:graphicData uri="http://schemas.openxmlformats.org/drawingml/2006/table">
            <a:tbl>
              <a:tblPr/>
              <a:tblGrid>
                <a:gridCol w="3271680"/>
                <a:gridCol w="3272040"/>
              </a:tblGrid>
              <a:tr h="452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410200" y="1900080"/>
            <a:ext cx="2094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ёр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т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меляв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юха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шашто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энгамо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эртя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89840" y="1989000"/>
            <a:ext cx="217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рис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ойм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вачкод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аволя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анокст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мол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7224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92000" y="458640"/>
            <a:ext cx="711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Impact"/>
              </a:rPr>
              <a:t>Абрамов К. 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0560" y="1719360"/>
            <a:ext cx="3872160" cy="45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661080" y="2077920"/>
            <a:ext cx="2482920" cy="23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751280" y="3699000"/>
            <a:ext cx="1889280" cy="243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832360" y="2438280"/>
            <a:ext cx="151128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551640" y="4419720"/>
            <a:ext cx="1890720" cy="216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572000" y="1808280"/>
            <a:ext cx="1620720" cy="188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32000" y="6219720"/>
            <a:ext cx="26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 1914 – 2008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елезэ валаня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аро тевенть кисэ шныть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ерянь теят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ундось мазый цеця куросо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ерянь ушодкс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лске валдомгады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лтнэ: кизэсь – сюросо, паро а неят, тевезэ казямо, чокшне чополгады, беряненть кис сёвныть, берянь прядов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1280" y="1089000"/>
            <a:ext cx="880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Паро тевенть кисэ шныть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Келезэ валаня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 теят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Паро валось кеж ёмавты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 ушодкс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Тонавтнемась пштилгавты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Impact"/>
              </a:rPr>
              <a:t>Нузяксчись ношкалгавты, паро а неят, тевезэ казямо, берянесь тюрьгавты, беряненть кис сёвныть, берянь прядовкс</a:t>
            </a:r>
            <a:r>
              <a:rPr b="0" lang="ru-RU" sz="2400" spc="-1" strike="noStrike">
                <a:solidFill>
                  <a:srgbClr val="006600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0560" y="368280"/>
            <a:ext cx="81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Impact"/>
              </a:rPr>
              <a:t>Налксема  </a:t>
            </a: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   « Кие седе курок 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835640"/>
            <a:ext cx="91440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Витя чийсь ульцянть кувалт прянь-полдань синде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Эйкакшось пижеть-ожот ранги: кадовсь кудос ськамонз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Цела чи вешнинь эйсэнзэ – прок ведьс вая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33156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Impact"/>
              </a:rPr>
              <a:t>Муинк валонь кемекставозь сюлмавкстнэ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6520" y="1977840"/>
            <a:ext cx="8854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Тунда, зярдо чадыть лейтне, пургонд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ашо …</a:t>
            </a:r>
            <a:r>
              <a:rPr b="0" i="1" lang="ru-RU" sz="2800" spc="-1" strike="noStrike">
                <a:solidFill>
                  <a:srgbClr val="ff66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Покш, раужо пеленть ёндо гуекс менчезь кивчкадсь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Нармушкатне вечкить пизэть,  а эйкакштне – ман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640" y="30780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Impact"/>
              </a:rPr>
              <a:t>Муинк эрявикс валон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6440" y="2629800"/>
            <a:ext cx="9007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Паро мельсэ ёвтасак – ламбам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 </a:t>
            </a: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кежейстэ ёвтасак – сэп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41280" y="27792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Impact"/>
              </a:rPr>
              <a:t>содамоёв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9640" y="1883880"/>
            <a:ext cx="8528760" cy="4718880"/>
          </a:xfrm>
          <a:prstGeom prst="rect">
            <a:avLst/>
          </a:prstGeom>
          <a:solidFill>
            <a:srgbClr val="0000ff">
              <a:alpha val="36000"/>
            </a:srgbClr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Арсемс а покш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валморыне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 тиринь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ел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ёрмадомс сёрмадовкс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уемс валмеревкст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20920" y="549360"/>
            <a:ext cx="40514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донь тевес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flipH="1" rot="41400">
            <a:off x="7836840" y="5228640"/>
            <a:ext cx="1290600" cy="163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7640" y="1251000"/>
            <a:ext cx="9249120" cy="5310360"/>
          </a:xfrm>
          <a:prstGeom prst="roundRect">
            <a:avLst>
              <a:gd name="adj" fmla="val 16667"/>
            </a:avLst>
          </a:prstGeom>
          <a:solidFill>
            <a:srgbClr val="66ccff">
              <a:alpha val="18000"/>
            </a:srgbClr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домкалгавтомс ды келейгавтомс тонавтницятнень содамочист эрзянь кельден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едстямс ды кемекстамс лексикань коряс ютазь материалон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стомс вечкеманть</a:t>
            </a: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 тиринь келен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н</a:t>
            </a: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277920"/>
            <a:ext cx="828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cc"/>
                </a:solidFill>
                <a:latin typeface="Impact"/>
              </a:rPr>
              <a:t>Бажамотн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рзянь кель, тон валскень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ровжорчонь гай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н певтеме мазый мо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ельме ведень тан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0560" y="-1567080"/>
            <a:ext cx="8012160" cy="89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Эрзянь кель, тон валскень зор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Норовжорчонь гай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Тон певтеме мазый мор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Кельме ведень тан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41280" y="277920"/>
            <a:ext cx="64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пиграфось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3440" cy="71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41280" y="277920"/>
            <a:ext cx="697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адрясто содам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1640" y="153828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ечкем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317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02000" y="2708280"/>
            <a:ext cx="52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анстом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62000" y="3879720"/>
            <a:ext cx="718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ды сюпалгавтом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329000"/>
            <a:ext cx="943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тиринь</a:t>
            </a: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келенть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87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Эрзянь сёрмадейтне тиринь кельден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71640" y="2798640"/>
            <a:ext cx="1979640" cy="27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2720" y="3338640"/>
            <a:ext cx="197964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7732" t="0" r="10810" b="0"/>
          <a:stretch/>
        </p:blipFill>
        <p:spPr>
          <a:xfrm>
            <a:off x="7253280" y="3789360"/>
            <a:ext cx="1890720" cy="2619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41280" y="243828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51280" y="549900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Е. Пят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560" y="51386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С. Люл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2360" y="6400800"/>
            <a:ext cx="17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А. Дор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61280" y="639936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Ч. Журав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277920"/>
            <a:ext cx="21542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81280" y="4419720"/>
            <a:ext cx="60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Ванькс сон, теке сэнь менеле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Лисьмапрянь чудиця вед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Цивтёрдыця зоря теште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Пекшень цветстэ саезь ме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                         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Е . Пят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280" y="333864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14 – 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1640" y="3249720"/>
            <a:ext cx="1800360" cy="270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2000" y="3068640"/>
            <a:ext cx="5033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Тиринь мастор, вечкень ве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Седеем кецни тонь к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Мон пек векса эсень ке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А стувтса меельце ч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Эрзянь кель, Эрзянь кел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Ашо килей, чуди 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Чольдердиця горнип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Гайсэ морыця цё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                                    </a:t>
            </a: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С. Люл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1400" y="60516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22 –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50200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11607" b="12390"/>
          <a:stretch/>
        </p:blipFill>
        <p:spPr>
          <a:xfrm>
            <a:off x="6186600" y="2798640"/>
            <a:ext cx="2706480" cy="369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699000"/>
            <a:ext cx="66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Россиясо, ансяк Россияс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Гайгезь гайги тиринь эрзянь кел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,Сонзэ эйсэ кортат – ёжось ка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Сонзэ эйсэ морат  - ливти мел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А. Доро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12000" y="639936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(1947</a:t>
            </a: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0" b="30101"/>
          <a:stretch/>
        </p:blipFill>
        <p:spPr>
          <a:xfrm>
            <a:off x="341280" y="1449360"/>
            <a:ext cx="3138480" cy="386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45864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ь ине оймень виен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Авань моротнестэ саинь м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Седе гайтев эзинь марсе 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Ды а содан седе чевте, 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мон кенярдан тонь кис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Ламо масторт содыть тондеть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 – мазый цецянь киз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 – Равов прыця 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Impact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ff0066"/>
                </a:solidFill>
                <a:latin typeface="Impact"/>
              </a:rPr>
              <a:t>Ч. Журав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585936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3:12Z</dcterms:created>
  <dc:creator>ROMAN</dc:creator>
  <dc:description/>
  <dc:language>en-US</dc:language>
  <cp:lastModifiedBy>1</cp:lastModifiedBy>
  <dcterms:modified xsi:type="dcterms:W3CDTF">2013-04-22T03:50:23Z</dcterms:modified>
  <cp:revision>116</cp:revision>
  <dc:subject/>
  <dc:title>Слайд 1</dc:title>
</cp:coreProperties>
</file>