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wmf" ContentType="image/x-wmf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Произвольный показ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FD3-CE61-4F01-A235-65870578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7AC-39BE-4840-9519-094923B1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620-D27C-4424-8AB8-4847E514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7F2-E990-486D-820E-363384ED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F60-DEFB-4E39-861F-3C544DB4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874-1B02-4C9F-AD9B-28DBE111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C6F-2EE0-4A54-91DA-54B8E97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17C-E04F-429B-B702-5157A5A7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7FD-4F88-416D-89A0-4262687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278-B1A3-4AD0-BD53-FBFD930D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19E-1E29-4C7B-AD94-88FADA6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0B4-992E-4662-AA67-5B894A40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2E5-33D8-4E2D-BB83-CC2817D1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258920" y="0"/>
            <a:ext cx="6697800" cy="27082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24196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3300"/>
                </a:solidFill>
                <a:latin typeface="Comic Sans MS"/>
              </a:rPr>
              <a:t>Эрзянь келенть сюпавчизэ.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84360" y="2565360"/>
            <a:ext cx="8208720" cy="930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340000" y="3500280"/>
            <a:ext cx="5256360" cy="990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826920" y="2781360"/>
            <a:ext cx="662472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 келесь -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нек эрзянь келесь!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ак морот ды сёрмадт стихть.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н ней гайги масторонь келес,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йсэнек пек васов вети.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И.Пиняев.)</a:t>
            </a:r>
            <a:endParaRPr b="1" i="1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5912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-262080"/>
            <a:ext cx="8281800" cy="684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62000" y="993600"/>
            <a:ext cx="5670720" cy="3695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50920" y="458640"/>
            <a:ext cx="55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Теемс валрись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32000" y="2438280"/>
            <a:ext cx="63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Impact"/>
              </a:rPr>
              <a:t>1. Мон, вечкемс, кель, тири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3879720"/>
            <a:ext cx="65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Impact"/>
              </a:rPr>
              <a:t>2. Кортамс, кель, тетя, ава, эрзя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560" y="277920"/>
            <a:ext cx="81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Валмеревкст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54160"/>
            <a:ext cx="91440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Тиринь келенть танстезэ- теке тиринь аванть ловсоз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А онкстави сень питнезэ, кона вечки чачома келенз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Ёминдеряй келесь </a:t>
            </a: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-</a:t>
            </a: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 ёми раськеськ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81280" y="549360"/>
            <a:ext cx="73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Муемс сино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141640" y="1600200"/>
          <a:ext cx="6543720" cy="4529160"/>
        </p:xfrm>
        <a:graphic>
          <a:graphicData uri="http://schemas.openxmlformats.org/drawingml/2006/table">
            <a:tbl>
              <a:tblPr/>
              <a:tblGrid>
                <a:gridCol w="3271680"/>
                <a:gridCol w="3272040"/>
              </a:tblGrid>
              <a:tr h="4529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410200" y="1900080"/>
            <a:ext cx="2094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ёр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т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меляв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юха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шашто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энгамо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эртя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89840" y="1989000"/>
            <a:ext cx="217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рис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ойм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вачкод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аволя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анокста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молем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7224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92000" y="458640"/>
            <a:ext cx="711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Impact"/>
              </a:rPr>
              <a:t>Абрамов К. 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0560" y="1719360"/>
            <a:ext cx="3872160" cy="45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661080" y="2077920"/>
            <a:ext cx="2482920" cy="23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751280" y="3699000"/>
            <a:ext cx="1889280" cy="243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5832360" y="2438280"/>
            <a:ext cx="151128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6551640" y="4419720"/>
            <a:ext cx="1890720" cy="216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4572000" y="1808280"/>
            <a:ext cx="1620720" cy="1884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32000" y="6219720"/>
            <a:ext cx="26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 1914 – 2008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Келезэ валаня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аро тевенть кисэ шныть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ерянь теят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ундось мазый цеця куросо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Берянь ушодкс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лске валдомгады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алтнэ: кизэсь – сюросо, паро а неят, тевезэ казямо, чокшне чополгады, беряненть кис сёвныть, берянь прядовк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1280" y="1089000"/>
            <a:ext cx="880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Паро тевенть кисэ шныть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Келезэ валаня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 теят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Паро валось кеж ёмавты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Берянь ушодкс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Impact"/>
              </a:rPr>
              <a:t>Тонавтнемась пштилгавты,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Impact"/>
              </a:rPr>
              <a:t>Нузяксчись ношкалгавты, паро а неят, тевезэ казямо, берянесь тюрьгавты, беряненть кис сёвныть, берянь прядовкс</a:t>
            </a:r>
            <a:r>
              <a:rPr b="0" lang="ru-RU" sz="2400" spc="-1" strike="noStrike">
                <a:solidFill>
                  <a:srgbClr val="006600"/>
                </a:solidFill>
                <a:latin typeface="Impac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0560" y="368280"/>
            <a:ext cx="81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Impact"/>
              </a:rPr>
              <a:t>Налксема  </a:t>
            </a:r>
            <a:r>
              <a:rPr b="0" lang="ru-RU" sz="4000" spc="-1" strike="noStrike">
                <a:solidFill>
                  <a:srgbClr val="ff0000"/>
                </a:solidFill>
                <a:latin typeface="Impact"/>
              </a:rPr>
              <a:t>   « Кие седе курок 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1835640"/>
            <a:ext cx="91440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Витя чийсь ульцянть кувалт прянь-полдань синде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Эйкакшось пижеть-ожот ранги: кадовсь кудос ськамонз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66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Impact"/>
              </a:rPr>
              <a:t>Цела чи вешнинь эйсэнзэ – прок ведьс вая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33156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Impact"/>
              </a:rPr>
              <a:t>Муинк валонь кемекставозь сюлмавкстнэ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36520" y="1977840"/>
            <a:ext cx="8854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Тунда, зярдо чадыть лейтне, пургонд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ашо …</a:t>
            </a:r>
            <a:r>
              <a:rPr b="0" i="1" lang="ru-RU" sz="2800" spc="-1" strike="noStrike">
                <a:solidFill>
                  <a:srgbClr val="ff6600"/>
                </a:solidFill>
                <a:latin typeface="Impac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Покш, раужо пеленть ёндо гуекс менчезь кивчкадсь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ff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Impact"/>
              </a:rPr>
              <a:t>Нармушкатне вечкить пизэть,  а эйкакштне – мане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640" y="307800"/>
            <a:ext cx="73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Impact"/>
              </a:rPr>
              <a:t>Муинк эрявикс валон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6440" y="2629800"/>
            <a:ext cx="90075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ff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Impact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Паро мельсэ ёвтасак – ламбам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 </a:t>
            </a:r>
            <a:r>
              <a:rPr b="0" i="1" lang="ru-RU" sz="4000" spc="-1" strike="noStrike">
                <a:solidFill>
                  <a:srgbClr val="009900"/>
                </a:solidFill>
                <a:latin typeface="Impact"/>
              </a:rPr>
              <a:t>кежейстэ ёвтасак – сэп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41280" y="27792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Impact"/>
              </a:rPr>
              <a:t>содамоёвк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9640" y="1883880"/>
            <a:ext cx="8528760" cy="4718880"/>
          </a:xfrm>
          <a:prstGeom prst="rect">
            <a:avLst/>
          </a:prstGeom>
          <a:solidFill>
            <a:srgbClr val="0000ff">
              <a:alpha val="36000"/>
            </a:srgbClr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Арсемс а покш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валморыне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 тиринь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ел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ь</a:t>
            </a:r>
            <a:r>
              <a:rPr b="1" lang="fi-FI" sz="4000" spc="-1" strike="noStrike">
                <a:solidFill>
                  <a:srgbClr val="ffff00"/>
                </a:solidFill>
                <a:latin typeface="Arial"/>
              </a:rPr>
              <a:t>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ёрмадомс сёрмадовкс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Муемс валмеревкст тиринь кель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320920" y="549360"/>
            <a:ext cx="405144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донь тевес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 flipH="1" rot="41400">
            <a:off x="7836840" y="5228640"/>
            <a:ext cx="1290600" cy="163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7640" y="1251000"/>
            <a:ext cx="9249120" cy="5310360"/>
          </a:xfrm>
          <a:prstGeom prst="roundRect">
            <a:avLst>
              <a:gd name="adj" fmla="val 16667"/>
            </a:avLst>
          </a:prstGeom>
          <a:solidFill>
            <a:srgbClr val="66ccff">
              <a:alpha val="18000"/>
            </a:srgbClr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домкалгавтомс ды келейгавтомс тонавтницятнень содамочист эрзянь кельден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едстямс ды кемекстамс лексикань коряс ютазь материалон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стомс вечкеманть</a:t>
            </a: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 тиринь келен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н</a:t>
            </a:r>
            <a:r>
              <a:rPr b="1" lang="fi-FI" sz="3600" spc="-1" strike="noStrike">
                <a:solidFill>
                  <a:srgbClr val="ff0000"/>
                </a:solidFill>
                <a:latin typeface="Times New Roman"/>
              </a:rPr>
              <a:t>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277920"/>
            <a:ext cx="828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00cc"/>
                </a:solidFill>
                <a:latin typeface="Impact"/>
              </a:rPr>
              <a:t>Бажамотн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рзянь кель, тон валскень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ровжорчонь гай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н певтеме мазый мор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ельме ведень тан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0560" y="-1567080"/>
            <a:ext cx="8012160" cy="89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Эрзянь кель, тон валскень зор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Норовжорчонь гай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Тон певтеме мазый мор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Impact"/>
              </a:rPr>
              <a:t>Кельме ведень тан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41280" y="277920"/>
            <a:ext cx="648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пиграфось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3440" cy="71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41280" y="277920"/>
            <a:ext cx="697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адрясто содам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41640" y="1538280"/>
            <a:ext cx="43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ечкем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317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02000" y="2708280"/>
            <a:ext cx="52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ванстом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62000" y="3879720"/>
            <a:ext cx="718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Impact"/>
              </a:rPr>
              <a:t>ды сюпалгавтом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329000"/>
            <a:ext cx="943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тиринь</a:t>
            </a: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ru-RU" sz="6600" spc="-1" strike="noStrike">
                <a:solidFill>
                  <a:srgbClr val="ff0000"/>
                </a:solidFill>
                <a:latin typeface="Impact"/>
              </a:rPr>
              <a:t>келенть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87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Impact"/>
              </a:rPr>
              <a:t>Эрзянь сёрмадейтне тиринь кельден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71640" y="2798640"/>
            <a:ext cx="1979640" cy="27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22720" y="3338640"/>
            <a:ext cx="197964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rcRect l="7732" t="0" r="10810" b="0"/>
          <a:stretch/>
        </p:blipFill>
        <p:spPr>
          <a:xfrm>
            <a:off x="7253280" y="3789360"/>
            <a:ext cx="1890720" cy="2619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41280" y="243828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951280" y="549900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Е. Пят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0560" y="51386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С. Люл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02360" y="6400800"/>
            <a:ext cx="170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А. Дор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61280" y="6399360"/>
            <a:ext cx="17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Ч. Журав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277920"/>
            <a:ext cx="215424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81280" y="4419720"/>
            <a:ext cx="603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Ванькс сон, теке сэнь менеле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Лисьмапрянь чудиця вед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Цивтёрдыця зоря теште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Пекшень цветстэ саезь мед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                         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Е . Пят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280" y="333864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14 – 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1640" y="3249720"/>
            <a:ext cx="1800360" cy="270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2000" y="3068640"/>
            <a:ext cx="5033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Тиринь мастор, вечкень ве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Седеем кецни тонь ки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Мон пек векса эсень кел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А стувтса меельце ч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Эрзянь кель, Эрзянь кель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Ашо килей, чуди 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Чольдердиця горнип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Гайсэ морыця цё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                                    </a:t>
            </a:r>
            <a:r>
              <a:rPr b="0" i="1" lang="ru-RU" sz="2400" spc="-1" strike="noStrike">
                <a:solidFill>
                  <a:srgbClr val="ff0066"/>
                </a:solidFill>
                <a:latin typeface="Impact"/>
              </a:rPr>
              <a:t>С. Люля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1400" y="60516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22 –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50200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11607" b="12390"/>
          <a:stretch/>
        </p:blipFill>
        <p:spPr>
          <a:xfrm>
            <a:off x="6186600" y="2798640"/>
            <a:ext cx="2706480" cy="369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699000"/>
            <a:ext cx="666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Россиясо, ансяк Россияс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Гайгезь гайги тиринь эрзянь кел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,Сонзэ эйсэ кортат – ёжось ка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Сонзэ эйсэ морат  - ливти меле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ff0066"/>
                </a:solidFill>
                <a:latin typeface="Impact"/>
              </a:rPr>
              <a:t>А. Доро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12000" y="639936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(1947</a:t>
            </a: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0" t="0" r="0" b="30101"/>
          <a:stretch/>
        </p:blipFill>
        <p:spPr>
          <a:xfrm>
            <a:off x="341280" y="1449360"/>
            <a:ext cx="3138480" cy="386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492360" y="458640"/>
            <a:ext cx="504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ь ине оймень виен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Авань моротнестэ саинь м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Седе гайтев эзинь марсе 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Ды а содан седе чевте, 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мон кенярдан тонь кис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Ламо масторт содыть тондеть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 – мазый цецянь киз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Impact"/>
              </a:rPr>
              <a:t>Эрзянь кель, тон – Равов прыця 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Impact"/>
              </a:rPr>
              <a:t>                                                 </a:t>
            </a:r>
            <a:r>
              <a:rPr b="0" i="1" lang="ru-RU" sz="1800" spc="-1" strike="noStrike">
                <a:solidFill>
                  <a:srgbClr val="ff0066"/>
                </a:solidFill>
                <a:latin typeface="Impact"/>
              </a:rPr>
              <a:t>Ч. Журавлё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585936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mpact"/>
              </a:rPr>
              <a:t>(19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10:23:12Z</dcterms:created>
  <dc:creator>ROMAN</dc:creator>
  <dc:description/>
  <dc:language>en-US</dc:language>
  <cp:lastModifiedBy>1</cp:lastModifiedBy>
  <dcterms:modified xsi:type="dcterms:W3CDTF">2013-04-22T03:50:23Z</dcterms:modified>
  <cp:revision>116</cp:revision>
  <dc:subject/>
  <dc:title>Слайд 1</dc:title>
</cp:coreProperties>
</file>