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10.wmf" ContentType="image/x-wmf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D2D-A24D-46C5-BC66-656CF0CF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B1B2-53A1-4F7D-9C57-07AA367C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8FF4-8A3D-4F80-A1CF-53A8118E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B690-A332-47A8-B06A-91DE2889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80E6-3D84-454B-8B54-294D592B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CCC5-12CE-4728-8A25-5E8652BE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484F-8E73-4225-80C4-2A1BBAFE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7C0C-7AA5-4B24-925F-C40BA9A3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066B-4437-4A8B-A066-E53CF76F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AEB1-588F-4793-8357-4475B3BE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515F-DA92-4F21-B01C-B3490A77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A550-4FA8-4058-9D3B-822C4FD0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125B-9B97-41BE-82C5-DA7701B3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C32B-5435-4641-A2AD-3C6A6761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7CC8-3447-40ED-8E0F-8C928A32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A4FB-2864-4E16-8A8A-257D401E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D305-2975-44C7-A391-8775835E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3C6F9-1FE3-4FA8-BCFD-1E744649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752A6-EBD3-4E55-B54E-751A9E52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6FBFC-2C6C-479E-A073-4E769B52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3921E-3085-4CE8-A4AF-67FF412C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BA260-B40E-4A69-92BC-3C76335B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6D2-E91B-4A48-B64F-C93A2B58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2B729-F7D1-4340-B9A6-11EC1A1E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9CD58-1411-4E46-A865-99BF4E3F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80F34-9A50-4550-BDD3-2F1DB3EC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C9340-EA11-4223-AD76-C9DBEA7D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CC016-1FAB-4C79-B2A4-D90362DF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2183F-A9AB-4A05-9DCA-F5A280E5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609F6-9E7C-4FD3-9E34-B7853BA9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87D27-9EE5-49A5-B54C-8798DFE6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54799-5803-4B81-9CED-FE9A28F9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5C2E6-B85A-4169-8FCF-3730FDE3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24B-ACD0-44E7-978A-FCF7FB1D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9AAED-B505-4E89-A719-FF9316A9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EF355-B895-452C-8DC2-45D13BC7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9141A-2E1A-4A16-95EC-CEBE124F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59817-4601-4DB8-859C-5ED4AB71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28087-A6EC-4317-8379-EDF45DCA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E5340-2EA3-406F-A651-A7F062B5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705D1-9B43-41E3-A49D-9DBD88D3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75741-3B0B-400C-86E3-73DB0F9D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3BCB9-B927-4D5C-99EA-51E4E2EF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69C-11D1-4C66-BAFE-74DE7FB7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B3E9-D89A-4C07-8F30-E10591C4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648-54B0-4C32-83CC-4335CD9E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B69-4538-4B22-B8A2-6C7DB086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A445-41D8-4289-AE53-007839AF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28CE-E6A3-4200-B35F-9F8409E1BF6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C55B-FA69-4E90-A8C9-F201587B5FE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57E3-87DF-4D7E-ABE0-F0F3AFBE168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B11A-99C0-4B9F-A4DF-6AAB52015FD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8f8f8"/>
                </a:solidFill>
                <a:latin typeface="Arial Narrow"/>
              </a:rPr>
              <a:t>Учитель биологии- Нежибецкая Елена Сергеевна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8f8f8"/>
                </a:solidFill>
                <a:latin typeface="Arial Narrow"/>
              </a:rPr>
              <a:t>ГБОУ школа №459 Спб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ТЕМА УРОКА:РАСЫ ЧЕЛОВЕКА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11 КЛАСС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Picture 13" descr="4 руки"/>
          <p:cNvPicPr/>
          <p:nvPr/>
        </p:nvPicPr>
        <p:blipFill>
          <a:blip r:embed="rId1"/>
          <a:stretch/>
        </p:blipFill>
        <p:spPr>
          <a:xfrm>
            <a:off x="1905120" y="1943280"/>
            <a:ext cx="5333760" cy="342900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4" descr=""/>
          <p:cNvPicPr/>
          <p:nvPr/>
        </p:nvPicPr>
        <p:blipFill>
          <a:blip r:embed="rId2"/>
          <a:stretch/>
        </p:blipFill>
        <p:spPr>
          <a:xfrm>
            <a:off x="1663560" y="92160"/>
            <a:ext cx="584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ЦЕЛИ УРОКА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Познакомить учащихся с типами человеческих ра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 Объяснить взаимосвязь внешних признаков рас с географией их расселения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научиться уважительно относится к мнению одноклассников; развивать умение работы в коллективе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ТО ТАКОЕ РАСА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Arial Narrow"/>
              </a:rPr>
              <a:t>Раса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(фр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rase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 – род, порода, племя)– исторически сложившаяся внутривидовая группировка популяции вида Человек разумный, характеризующаяся определенными наследственными признаками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Рисунок 3" descr="Расы.jpg"/>
          <p:cNvPicPr/>
          <p:nvPr/>
        </p:nvPicPr>
        <p:blipFill>
          <a:blip r:embed="rId1"/>
          <a:stretch/>
        </p:blipFill>
        <p:spPr>
          <a:xfrm>
            <a:off x="2143080" y="4786200"/>
            <a:ext cx="5143680" cy="1857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Arial Narrow"/>
              </a:rPr>
              <a:t>ТРИ БОЛЬШИЕ РАСЫ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85920"/>
            <a:ext cx="91440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Narrow"/>
              </a:rPr>
              <a:t>Европеоидная    Монголоидная      Негроидная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6" name="Рисунок 3" descr="Шумахер.jpg"/>
          <p:cNvPicPr/>
          <p:nvPr/>
        </p:nvPicPr>
        <p:blipFill>
          <a:blip r:embed="rId1"/>
          <a:stretch/>
        </p:blipFill>
        <p:spPr>
          <a:xfrm>
            <a:off x="0" y="2143080"/>
            <a:ext cx="2847960" cy="42670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4" descr="Мао Дзэдун.jpg"/>
          <p:cNvPicPr/>
          <p:nvPr/>
        </p:nvPicPr>
        <p:blipFill>
          <a:blip r:embed="rId2"/>
          <a:stretch/>
        </p:blipFill>
        <p:spPr>
          <a:xfrm>
            <a:off x="2857680" y="2143080"/>
            <a:ext cx="3200400" cy="41720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5" descr="Наоми Кемпбелл.jpg"/>
          <p:cNvPicPr/>
          <p:nvPr/>
        </p:nvPicPr>
        <p:blipFill>
          <a:blip r:embed="rId3"/>
          <a:stretch/>
        </p:blipFill>
        <p:spPr>
          <a:xfrm>
            <a:off x="5943600" y="2143080"/>
            <a:ext cx="32004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 Narrow"/>
              </a:rPr>
              <a:t>ХАРАКТЕРИСТИКА ЧЕЛОВЕЧЕСКИХ РАС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57120" y="1285920"/>
          <a:ext cx="8429760" cy="3606840"/>
        </p:xfrm>
        <a:graphic>
          <a:graphicData uri="http://schemas.openxmlformats.org/drawingml/2006/table">
            <a:tbl>
              <a:tblPr/>
              <a:tblGrid>
                <a:gridCol w="1928880"/>
                <a:gridCol w="2071800"/>
                <a:gridCol w="2286000"/>
                <a:gridCol w="2143080"/>
              </a:tblGrid>
              <a:tr h="3715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сти р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гроид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вропеоид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нголоид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0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Цвет кож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Цвет и форма вол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Форма но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рез и цвет гл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Особенности гу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 Narrow"/>
              </a:rPr>
              <a:t>КАК ВОЗНИКЛИ РАСЫ, И КАКИЕ УСЛОВИЯ СПОСОБСТВОВАЛИ ИХ ОБРАЗОВАНИЮ?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429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Какое значение имеют расовые особенности для жизнедеятельности человека?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Что является причинами образования рас?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3" name="Рисунок 3" descr="расселениу рас.gif"/>
          <p:cNvPicPr/>
          <p:nvPr/>
        </p:nvPicPr>
        <p:blipFill>
          <a:blip r:embed="rId1"/>
          <a:stretch/>
        </p:blipFill>
        <p:spPr>
          <a:xfrm>
            <a:off x="500040" y="0"/>
            <a:ext cx="8072640" cy="47149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379440" y="4643280"/>
            <a:ext cx="8719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 — прародина человечества и расселение из не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 — первичный западный очаг расообразования и расселение протоавстралоид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 — расселение протоевропеоид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 — расселение протонегроид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 — первичный восточный очаг расообразования и расселение протоамериканоид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 — североамериканский третичный очаг и расселение из нег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7 — центрально-южноамериканский очаг и расселение из н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 Narrow"/>
              </a:rPr>
              <a:t>ЕДИНСТВО И ПОЛНОЦЕННОСТЬ РАС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6" name="Picture 7" descr="цвет кожи"/>
          <p:cNvPicPr/>
          <p:nvPr/>
        </p:nvPicPr>
        <p:blipFill>
          <a:blip r:embed="rId1"/>
          <a:stretch/>
        </p:blipFill>
        <p:spPr>
          <a:xfrm>
            <a:off x="214200" y="1714680"/>
            <a:ext cx="4267440" cy="283824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4"/>
          <p:cNvSpPr/>
          <p:nvPr/>
        </p:nvSpPr>
        <p:spPr>
          <a:xfrm>
            <a:off x="4429080" y="142884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Расизм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– это убеждение в том, что одни люди превосходят других, потому что принадлежат к какой-то конкретной расе, каждой из которых свойственны определенные черты характера и повед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погромы"/>
          <p:cNvPicPr/>
          <p:nvPr/>
        </p:nvPicPr>
        <p:blipFill>
          <a:blip r:embed="rId2"/>
          <a:stretch/>
        </p:blipFill>
        <p:spPr>
          <a:xfrm>
            <a:off x="5143680" y="414324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6"/>
          <p:cNvSpPr/>
          <p:nvPr/>
        </p:nvSpPr>
        <p:spPr>
          <a:xfrm>
            <a:off x="428760" y="4786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21 марта - Международный день борьбы за ликвидацию расовой дискримин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Arial Narrow"/>
              </a:rPr>
              <a:t>ДОМАШНЕЕ ЗАДАНИЕ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. § 73,, с285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. Найдите в дополнительной литературе, что такое толерантность, ксенофобия, антисемитизм?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2" name="Рисунок 6" descr="C:\Documents and Settings\Dale\Local Settings\Temporary Internet Files\Content.IE5\O5UNK1QF\MCj03701400000[1].wmf"/>
          <p:cNvPicPr/>
          <p:nvPr/>
        </p:nvPicPr>
        <p:blipFill>
          <a:blip r:embed="rId1"/>
          <a:stretch/>
        </p:blipFill>
        <p:spPr>
          <a:xfrm>
            <a:off x="6929280" y="4786200"/>
            <a:ext cx="17431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 Narrow"/>
              </a:rPr>
              <a:t>ВОПРОСИТЕЛЬНЫЕ СЛОВА ДЛЯ ЗАДАНИЯ «СОСТАВЬ ВОПРОСЫ ОДНОКЛАССНИКУ»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В чем различие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Что называется…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Что будет если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Верно ли, что..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очему вы думаете, что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Объясните почему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Какой... Где... Когда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5" name="Picture 4" descr="MCj04344110000[1]"/>
          <p:cNvPicPr/>
          <p:nvPr/>
        </p:nvPicPr>
        <p:blipFill>
          <a:blip r:embed="rId1"/>
          <a:stretch/>
        </p:blipFill>
        <p:spPr>
          <a:xfrm>
            <a:off x="6786720" y="4786200"/>
            <a:ext cx="1625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6:11:04Z</dcterms:created>
  <dc:creator>Dale</dc:creator>
  <dc:description/>
  <dc:language>en-US</dc:language>
  <cp:lastModifiedBy>Александр</cp:lastModifiedBy>
  <dcterms:modified xsi:type="dcterms:W3CDTF">2014-03-12T15:23:41Z</dcterms:modified>
  <cp:revision>16</cp:revision>
  <dc:subject/>
  <dc:title>Расы человека</dc:title>
</cp:coreProperties>
</file>