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56D-B1AE-418F-A14D-384F21C0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12D-83B2-44F1-B8C8-56EFF2FA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B7A-D76F-4C16-9F1C-F2B53637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F01-BBD8-422A-A09F-D49F2DA1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4BE-2C7C-47B8-9AEB-27D42872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B8B7-AD4D-459B-869D-EBEFDF8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E5DF-B599-4751-A914-E996766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1526-0A9F-4DF4-9743-0E097183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163F-AF05-49E2-917C-03274982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23A0-E502-4474-BE67-CD5E3909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EC6D-6C06-444F-9C04-DBD593D9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6A3-A48B-4CF1-A01C-FDAA0E4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F6F7-E1A8-47AF-B44B-9C8A614A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5FB3-C6D7-40D8-9985-679D1881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E5C9-E80D-4A75-BC44-C030048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22CB-74C2-4EFC-B1EE-3B568492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BB7-FC96-4D85-A3E6-8737BEAA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5981-3C1A-448A-9227-5EC6FF12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6CB9-2986-4B51-8320-A4DF97FF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B51E-460C-45CD-868C-A7779CDF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2761-AD1E-4B68-B1DA-72B0653A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C235-3038-44F7-B7DE-25A8B090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A11-CAB6-4C21-826C-FEA7F89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09E9-5AA9-4D0B-9163-C16D92D2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DD41-54C5-495A-BF42-530C707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9AB9-4C4D-4A85-A38A-D1BA47D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819E-2F56-4B98-9246-9EC8008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764D-FF2A-4F23-A01E-76B0EE3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7426-7F54-4A76-9DF7-B55D696B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DB95-7010-4924-8464-DC7F3572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58FA-71C9-4BDC-8F6B-87032735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A65E-C8C5-4F5C-94C6-6A7775DB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F0B5-2DD4-483B-824E-9E953863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AC4-415B-4963-BF90-C848652D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D320-4A1E-40AF-93AD-A43B06E5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52568-9274-4CD7-9B67-D0B0670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4ED0-4289-451C-B7DC-BB17CAE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36AA-A7FF-4521-80C7-594C09C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0DF1-B8B9-40FB-936C-ED3D9D5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C458-EFF3-4155-8C33-C006FA3D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79AB-9D23-487A-930F-9A924204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0F9F-2F35-4FBA-854B-365BD9EC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A814-7BA6-4176-9E05-CD7F5C06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D97-ADE6-45EC-ABA0-B86B9B39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FB2-42AA-46C1-888D-C6C3F7AF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A38-E9A8-4922-8DFE-67B70300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2BD-5FDD-4240-8458-EFEB364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137-DA35-47A8-BC6C-41EC95E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5A49-6938-4447-BD12-FDFAEB6CE34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6CB0-05EB-42A2-BF6F-6810866482F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EC2B-F214-4451-A70A-1DB0ECD126F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9ABF-5B67-4F41-8544-6EE61E401D5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Учитель биологии- Нежибецкая Елена Сергеев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ГБОУ школа №459 Спб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ТЕМА УРОКА:РАСЫ ЧЕЛОВЕ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13" descr="4 руки"/>
          <p:cNvPicPr/>
          <p:nvPr/>
        </p:nvPicPr>
        <p:blipFill>
          <a:blip r:embed="rId1"/>
          <a:stretch/>
        </p:blipFill>
        <p:spPr>
          <a:xfrm>
            <a:off x="1905120" y="1943280"/>
            <a:ext cx="533376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663560" y="92160"/>
            <a:ext cx="584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И УРОК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Познакомить учащихся с типами человеческих ра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Объяснить взаимосвязь внешних признаков рас с географией их расселени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аучиться уважительно относится к мнению одноклассников; развивать умение работы в коллектив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ТО ТАКОЕ РАСА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Раса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фр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rase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род, порода, племя)– исторически сложившаяся внутривидовая группировка популяции вида Человек разумный, характеризующаяся определенными наследственными признак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3" descr="Расы.jpg"/>
          <p:cNvPicPr/>
          <p:nvPr/>
        </p:nvPicPr>
        <p:blipFill>
          <a:blip r:embed="rId1"/>
          <a:stretch/>
        </p:blipFill>
        <p:spPr>
          <a:xfrm>
            <a:off x="2143080" y="4786200"/>
            <a:ext cx="5143680" cy="18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ТРИ БОЛЬШИЕ РАСЫ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8592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Narrow"/>
              </a:rPr>
              <a:t>Европеоидная    Монголоидная      Негроидная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Рисунок 3" descr="Шумахер.jpg"/>
          <p:cNvPicPr/>
          <p:nvPr/>
        </p:nvPicPr>
        <p:blipFill>
          <a:blip r:embed="rId1"/>
          <a:stretch/>
        </p:blipFill>
        <p:spPr>
          <a:xfrm>
            <a:off x="0" y="214308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Мао Дзэдун.jpg"/>
          <p:cNvPicPr/>
          <p:nvPr/>
        </p:nvPicPr>
        <p:blipFill>
          <a:blip r:embed="rId2"/>
          <a:stretch/>
        </p:blipFill>
        <p:spPr>
          <a:xfrm>
            <a:off x="2857680" y="2143080"/>
            <a:ext cx="3200400" cy="4172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Наоми Кемпбелл.jpg"/>
          <p:cNvPicPr/>
          <p:nvPr/>
        </p:nvPicPr>
        <p:blipFill>
          <a:blip r:embed="rId3"/>
          <a:stretch/>
        </p:blipFill>
        <p:spPr>
          <a:xfrm>
            <a:off x="5943600" y="2143080"/>
            <a:ext cx="3200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ХАРАКТЕРИСТИКА ЧЕЛОВЕЧЕСКИХ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7120" y="1285920"/>
          <a:ext cx="8429760" cy="3606840"/>
        </p:xfrm>
        <a:graphic>
          <a:graphicData uri="http://schemas.openxmlformats.org/drawingml/2006/table">
            <a:tbl>
              <a:tblPr/>
              <a:tblGrid>
                <a:gridCol w="1928880"/>
                <a:gridCol w="2071800"/>
                <a:gridCol w="2286000"/>
                <a:gridCol w="2143080"/>
              </a:tblGrid>
              <a:tr h="3715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р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гр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гол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Цвет и форма вол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рез и цвет гл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Особенности г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КАК ВОЗНИКЛИ РАСЫ, И КАКИЕ УСЛОВИЯ СПОСОБСТВОВАЛИ ИХ ОБРАЗОВАНИЮ?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е значение имеют расовые особенности для жизнедеятельности человека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является причинами образования рас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Рисунок 3" descr="расселениу рас.gif"/>
          <p:cNvPicPr/>
          <p:nvPr/>
        </p:nvPicPr>
        <p:blipFill>
          <a:blip r:embed="rId1"/>
          <a:stretch/>
        </p:blipFill>
        <p:spPr>
          <a:xfrm>
            <a:off x="500040" y="0"/>
            <a:ext cx="8072640" cy="4714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379440" y="4643280"/>
            <a:ext cx="871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— прародина человечества и расселение из не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 — первичный западный очаг расообразования и расселение протоавстрал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— расселение протоевропе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 — расселение протонегрои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 — первичный восточный очаг расообразования и расселение протоамерикан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 — североамериканский третичный очаг и расселение из не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 — центрально-южноамериканский очаг и расселение из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ЕДИНСТВО И ПОЛНОЦЕННОСТЬ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7" descr="цвет кожи"/>
          <p:cNvPicPr/>
          <p:nvPr/>
        </p:nvPicPr>
        <p:blipFill>
          <a:blip r:embed="rId1"/>
          <a:stretch/>
        </p:blipFill>
        <p:spPr>
          <a:xfrm>
            <a:off x="214200" y="1714680"/>
            <a:ext cx="4267440" cy="28382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429080" y="14288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сиз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это убеждение в том, что одни люди превосходят других, потому что принадлежат к какой-то конкретной расе, каждой из которых свойственны определенные черты характера и п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погромы"/>
          <p:cNvPicPr/>
          <p:nvPr/>
        </p:nvPicPr>
        <p:blipFill>
          <a:blip r:embed="rId2"/>
          <a:stretch/>
        </p:blipFill>
        <p:spPr>
          <a:xfrm>
            <a:off x="5143680" y="414324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428760" y="47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1 марта - Международный день борьбы за ликвидацию расовой дискримин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ДОМАШНЕЕ ЗАДАНИ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§ 73,, с285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Найдите в дополнительной литературе, что такое толерантность, ксенофобия, антисемитизм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Рисунок 6" descr="C:\Documents and Settings\Dale\Local Settings\Temporary Internet Files\Content.IE5\O5UNK1QF\MCj03701400000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43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 Narrow"/>
              </a:rPr>
              <a:t>ВОПРОСИТЕЛЬНЫЕ СЛОВА ДЛЯ ЗАДАНИЯ «СОСТАВЬ ВОПРОСЫ ОДНОКЛАССНИКУ»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чем различие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называется…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будет если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ерно ли, что..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чему вы думаете, что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ъясните почему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й... Где... Когд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MCj04344110000[1]"/>
          <p:cNvPicPr/>
          <p:nvPr/>
        </p:nvPicPr>
        <p:blipFill>
          <a:blip r:embed="rId1"/>
          <a:stretch/>
        </p:blipFill>
        <p:spPr>
          <a:xfrm>
            <a:off x="6786720" y="478620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1:04Z</dcterms:created>
  <dc:creator>Dale</dc:creator>
  <dc:description/>
  <dc:language>en-US</dc:language>
  <cp:lastModifiedBy>Александр</cp:lastModifiedBy>
  <dcterms:modified xsi:type="dcterms:W3CDTF">2014-03-12T15:23:41Z</dcterms:modified>
  <cp:revision>16</cp:revision>
  <dc:subject/>
  <dc:title>Расы человека</dc:title>
</cp:coreProperties>
</file>