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1.wmf" ContentType="image/x-wmf"/>
  <Override PartName="/ppt/media/image8.jpeg" ContentType="image/jpeg"/>
  <Override PartName="/ppt/media/image10.wmf" ContentType="image/x-wmf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E1C7-319F-4B8F-BC02-9067A34C6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CFFD-CBDD-46F9-8A75-3750AE55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CC08-B6ED-46CF-A7D6-E397ACBD6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A1AD-FC1A-42FD-BE1E-0B07A4C19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C3FC-11F0-462D-A102-05B44432B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2640-A4AC-4411-94C6-59099208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5C30-9401-4CF6-A087-06560F07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EDFB-4F03-4C59-9EBE-9BF32F3E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7E1C-B461-4474-90BD-A76A5BB2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B583-9036-4205-8FC1-E8788703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50A3-7BCE-48DF-A1F7-6417C793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AB5A-7F0F-44FE-B6FF-60F7F7F0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1629-701B-4CE5-A6FB-59382734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36C3-5A0B-44DE-9553-FD12D063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24C7-6D29-4C76-AA8D-F4C4ED38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324E-684C-4970-A686-58FB8288A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9253-6B94-4A58-B437-F169E51A5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4C93A-EBDC-4779-ADAB-6D7097922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A4702-5D97-4012-B880-1C667409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618BF-BBB4-468F-BE41-38D746FF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EAD43-775E-43EA-8B01-45689202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880C9-E64C-46D3-A2E8-C2FD183C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A234-F8B9-408B-8C44-E316C12B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F2953-D6E8-49B7-B858-A4EA332A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C1172-9572-4DCD-BA41-D665D4ED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380BD-838D-455E-A4C6-572FC059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6F298-7237-4900-952C-8DCE95FE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89759-6ACC-4300-A6A8-5DA6B666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D7296-7828-44EC-831C-FD8DC6C62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7399B-4225-4166-8811-D4929BBDE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DB82E-8C0B-4A9E-A0DA-E123D196A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B0218-DAF7-4157-9507-CE362F35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06314-DB55-4748-B813-4C251CB3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2593-3B09-4BAF-B847-B6CE7E82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D7CEE-A29A-4471-B12F-482ECBC7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43A78-5734-45BA-9354-15CB8090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7C2C0-B404-44B5-A29E-C798E3AF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E7E89-ADAD-4A74-A42E-492DFAED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345C3-C32F-421F-BB62-4009E3CD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82CBB-6D3A-4DED-902A-7188867D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E01AA-4E23-463B-8C3A-2ECDB522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F93E8-11E1-490B-A66F-65560F34E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8B9FF-8F45-4FF3-98EF-937911592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62D8-594D-4EF3-86AC-966A58F8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A51B-082E-4C58-A2C9-1F6B1654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2334-C70F-47C5-9D64-2BB0A16A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70F9-CE5E-4828-AAF9-2A193EC3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79C2-2DB7-4976-92EE-A4A6ACE3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30C3-C269-4935-99BC-523F6AF3368C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8427-C4BF-44A8-918E-EE278BBB8C0B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1900-F062-4F9E-B9E5-36F2B17CA124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488E-924B-4523-ADBE-6F831AC134D6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8f8f8"/>
                </a:solidFill>
                <a:latin typeface="Arial Narrow"/>
              </a:rPr>
              <a:t>Учитель биологии- Нежибецкая Елена Сергеевна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8f8f8"/>
                </a:solidFill>
                <a:latin typeface="Arial Narrow"/>
              </a:rPr>
              <a:t>ГБОУ школа №459 Спб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785880" y="78552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 Narrow"/>
              </a:rPr>
              <a:t>ТЕМА УРОКА:РАСЫ ЧЕЛОВЕКА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 Narrow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 Narrow"/>
              </a:rPr>
              <a:t>11 КЛАСС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7" name="Picture 13" descr="4 руки"/>
          <p:cNvPicPr/>
          <p:nvPr/>
        </p:nvPicPr>
        <p:blipFill>
          <a:blip r:embed="rId1"/>
          <a:stretch/>
        </p:blipFill>
        <p:spPr>
          <a:xfrm>
            <a:off x="1905120" y="1943280"/>
            <a:ext cx="5333760" cy="3429000"/>
          </a:xfrm>
          <a:prstGeom prst="rect">
            <a:avLst/>
          </a:prstGeom>
          <a:ln w="0">
            <a:noFill/>
          </a:ln>
        </p:spPr>
      </p:pic>
      <p:pic>
        <p:nvPicPr>
          <p:cNvPr id="198" name="Прямоугольник 4" descr=""/>
          <p:cNvPicPr/>
          <p:nvPr/>
        </p:nvPicPr>
        <p:blipFill>
          <a:blip r:embed="rId2"/>
          <a:stretch/>
        </p:blipFill>
        <p:spPr>
          <a:xfrm>
            <a:off x="1663560" y="92160"/>
            <a:ext cx="58406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ЦЕЛИ УРОКА: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-Познакомить учащихся с типами человеческих рас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- Объяснить взаимосвязь внешних признаков рас с географией их расселения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научиться уважительно относится к мнению одноклассников; развивать умение работы в коллективе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ТО ТАКОЕ РАСА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ru-RU" sz="4000" spc="-1" strike="noStrike">
                <a:solidFill>
                  <a:srgbClr val="002060"/>
                </a:solidFill>
                <a:latin typeface="Arial Narrow"/>
              </a:rPr>
              <a:t>Раса 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(фр.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rase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 – род, порода, племя)– исторически сложившаяся внутривидовая группировка популяции вида Человек разумный, характеризующаяся определенными наследственными признаками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3" name="Рисунок 3" descr="Расы.jpg"/>
          <p:cNvPicPr/>
          <p:nvPr/>
        </p:nvPicPr>
        <p:blipFill>
          <a:blip r:embed="rId1"/>
          <a:stretch/>
        </p:blipFill>
        <p:spPr>
          <a:xfrm>
            <a:off x="2143080" y="4786200"/>
            <a:ext cx="5143680" cy="18576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Arial Narrow"/>
              </a:rPr>
              <a:t>ТРИ БОЛЬШИЕ РАСЫ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1285920"/>
            <a:ext cx="91440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 Narrow"/>
              </a:rPr>
              <a:t>Европеоидная    Монголоидная      Негроидная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6" name="Рисунок 3" descr="Шумахер.jpg"/>
          <p:cNvPicPr/>
          <p:nvPr/>
        </p:nvPicPr>
        <p:blipFill>
          <a:blip r:embed="rId1"/>
          <a:stretch/>
        </p:blipFill>
        <p:spPr>
          <a:xfrm>
            <a:off x="0" y="2143080"/>
            <a:ext cx="2847960" cy="42670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4" descr="Мао Дзэдун.jpg"/>
          <p:cNvPicPr/>
          <p:nvPr/>
        </p:nvPicPr>
        <p:blipFill>
          <a:blip r:embed="rId2"/>
          <a:stretch/>
        </p:blipFill>
        <p:spPr>
          <a:xfrm>
            <a:off x="2857680" y="2143080"/>
            <a:ext cx="3200400" cy="417204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5" descr="Наоми Кемпбелл.jpg"/>
          <p:cNvPicPr/>
          <p:nvPr/>
        </p:nvPicPr>
        <p:blipFill>
          <a:blip r:embed="rId3"/>
          <a:stretch/>
        </p:blipFill>
        <p:spPr>
          <a:xfrm>
            <a:off x="5943600" y="2143080"/>
            <a:ext cx="320040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 Narrow"/>
              </a:rPr>
              <a:t>ХАРАКТЕРИСТИКА ЧЕЛОВЕЧЕСКИХ РАС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57120" y="1285920"/>
          <a:ext cx="8429760" cy="3606840"/>
        </p:xfrm>
        <a:graphic>
          <a:graphicData uri="http://schemas.openxmlformats.org/drawingml/2006/table">
            <a:tbl>
              <a:tblPr/>
              <a:tblGrid>
                <a:gridCol w="1928880"/>
                <a:gridCol w="2071800"/>
                <a:gridCol w="2286000"/>
                <a:gridCol w="2143080"/>
              </a:tblGrid>
              <a:tr h="37152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обенности ра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гроид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вропеоид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нголоид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500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Цвет кож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Цвет и форма воло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7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Форма но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азрез и цвет гла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Особенности гу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 Narrow"/>
              </a:rPr>
              <a:t>КАК ВОЗНИКЛИ РАСЫ, И КАКИЕ УСЛОВИЯ СПОСОБСТВОВАЛИ ИХ ОБРАЗОВАНИЮ?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4296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Какое значение имеют расовые особенности для жизнедеятельности человека?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Что является причинами образования рас?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3" name="Рисунок 3" descr="расселениу рас.gif"/>
          <p:cNvPicPr/>
          <p:nvPr/>
        </p:nvPicPr>
        <p:blipFill>
          <a:blip r:embed="rId1"/>
          <a:stretch/>
        </p:blipFill>
        <p:spPr>
          <a:xfrm>
            <a:off x="500040" y="0"/>
            <a:ext cx="8072640" cy="4714920"/>
          </a:xfrm>
          <a:prstGeom prst="rect">
            <a:avLst/>
          </a:prstGeom>
          <a:ln w="0">
            <a:noFill/>
          </a:ln>
        </p:spPr>
      </p:pic>
      <p:sp>
        <p:nvSpPr>
          <p:cNvPr id="184" name="TextBox 4"/>
          <p:cNvSpPr/>
          <p:nvPr/>
        </p:nvSpPr>
        <p:spPr>
          <a:xfrm>
            <a:off x="379440" y="4643280"/>
            <a:ext cx="8719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 — прародина человечества и расселение из нее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 — первичный западный очаг расообразования и расселение протоавстралоидов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 — расселение протоевропеоидов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4 — расселение протонегроид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5 — первичный восточный очаг расообразования и расселение протоамериканоидов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6 — североамериканский третичный очаг и расселение из нег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7 — центрально-южноамериканский очаг и расселение из не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 Narrow"/>
              </a:rPr>
              <a:t>ЕДИНСТВО И ПОЛНОЦЕННОСТЬ РАС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6" name="Picture 7" descr="цвет кожи"/>
          <p:cNvPicPr/>
          <p:nvPr/>
        </p:nvPicPr>
        <p:blipFill>
          <a:blip r:embed="rId1"/>
          <a:stretch/>
        </p:blipFill>
        <p:spPr>
          <a:xfrm>
            <a:off x="214200" y="1714680"/>
            <a:ext cx="4267440" cy="283824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4"/>
          <p:cNvSpPr/>
          <p:nvPr/>
        </p:nvSpPr>
        <p:spPr>
          <a:xfrm>
            <a:off x="4429080" y="1428840"/>
            <a:ext cx="4572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Расизм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– это убеждение в том, что одни люди превосходят других, потому что принадлежат к какой-то конкретной расе, каждой из которых свойственны определенные черты характера и повед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6" descr="погромы"/>
          <p:cNvPicPr/>
          <p:nvPr/>
        </p:nvPicPr>
        <p:blipFill>
          <a:blip r:embed="rId2"/>
          <a:stretch/>
        </p:blipFill>
        <p:spPr>
          <a:xfrm>
            <a:off x="5143680" y="4143240"/>
            <a:ext cx="3600360" cy="251964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оугольник 6"/>
          <p:cNvSpPr/>
          <p:nvPr/>
        </p:nvSpPr>
        <p:spPr>
          <a:xfrm>
            <a:off x="428760" y="47862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21 марта - Международный день борьбы за ликвидацию расовой дискримина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Arial Narrow"/>
              </a:rPr>
              <a:t>ДОМАШНЕЕ ЗАДАНИЕ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1. § 73,, с285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2. Найдите в дополнительной литературе, что такое толерантность, ксенофобия, антисемитизм?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2" name="Рисунок 6" descr="C:\Documents and Settings\Dale\Local Settings\Temporary Internet Files\Content.IE5\O5UNK1QF\MCj03701400000[1].wmf"/>
          <p:cNvPicPr/>
          <p:nvPr/>
        </p:nvPicPr>
        <p:blipFill>
          <a:blip r:embed="rId1"/>
          <a:stretch/>
        </p:blipFill>
        <p:spPr>
          <a:xfrm>
            <a:off x="6929280" y="4786200"/>
            <a:ext cx="174312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Arial Narrow"/>
              </a:rPr>
              <a:t>ВОПРОСИТЕЛЬНЫЕ СЛОВА ДЛЯ ЗАДАНИЯ «СОСТАВЬ ВОПРОСЫ ОДНОКЛАССНИКУ»</a:t>
            </a: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В чем различие...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Что называется…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Что будет если...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Верно ли, что..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Почему вы думаете, что...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Объясните почему...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Какой... Где... Когда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5" name="Picture 4" descr="MCj04344110000[1]"/>
          <p:cNvPicPr/>
          <p:nvPr/>
        </p:nvPicPr>
        <p:blipFill>
          <a:blip r:embed="rId1"/>
          <a:stretch/>
        </p:blipFill>
        <p:spPr>
          <a:xfrm>
            <a:off x="6786720" y="4786200"/>
            <a:ext cx="1625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1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1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6:11:04Z</dcterms:created>
  <dc:creator>Dale</dc:creator>
  <dc:description/>
  <dc:language>en-US</dc:language>
  <cp:lastModifiedBy>Александр</cp:lastModifiedBy>
  <dcterms:modified xsi:type="dcterms:W3CDTF">2014-03-12T15:23:41Z</dcterms:modified>
  <cp:revision>16</cp:revision>
  <dc:subject/>
  <dc:title>Расы человека</dc:title>
</cp:coreProperties>
</file>