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1.wmf" ContentType="image/x-wmf"/>
  <Override PartName="/ppt/media/image8.jpeg" ContentType="image/jpeg"/>
  <Override PartName="/ppt/media/image10.wmf" ContentType="image/x-wmf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C4E0-0CF4-4A4D-86E7-4609F6FE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719C-B0F6-40BD-A394-491016EA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9DB8-5A7C-4A38-BBBE-662E48FE7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B58F-2252-49D9-ACB9-C669AC4BB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B446-7C41-48C9-8E30-71D8B8D7C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0335-E3CB-4ECC-A05A-0C867DA4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6FFD-1E25-41BA-B5A1-FE881C68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DF15-5052-4F55-B83F-A31FF7E8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F614-6028-404E-A910-88C4608C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5DF5-D75A-4E62-B8EB-DA8181ED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A612-0BE9-48B1-9014-2DFE2517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20A9-033D-4701-8039-913CBF11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8F45-5B24-4031-8D89-6DC85D49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41B5-82B6-4196-BCA1-14B82A2F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F457-8FEC-4CFC-8239-1A67A674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8C77-E2AB-4174-B0AC-2DDA1D559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60CC-BF71-465A-9BE7-FD60D7CC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40775-E5C2-469D-917F-47822A87F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01237-474D-4932-B407-BC0F8E91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D2562-52A3-4CCB-B47C-B0323B14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1D96B-A8A8-4F14-B6B1-03FE4764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05112-9416-4F93-B161-9C0D0302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99DC-ABE8-4853-92DE-14A73067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CC6F8-C3FD-4A6B-8E84-397775BD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2B702-16F4-4757-810E-F74642BE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F7269-A6AD-44DD-8874-31BB3B04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A941B-FC9F-4480-BB58-332A64C4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F3A79-4BAC-426F-AD13-72D54701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85E9E-63E8-4689-85C8-E32B9EAB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B392C-1BBF-466E-B060-39F06C883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0509E-DE03-4D90-96DB-40309CDBD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C17DE-D56E-4B55-9EA0-0B31D8FC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AEC0B-6962-49FE-B185-453260F7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D3F4-77E9-432B-BB59-B72AD772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A9EDB-8CF9-45AD-BB89-3851E5C7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E0614-9CDA-4F65-A3C1-A84F8E9D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2237B-D198-4A71-ADD2-B31EADE4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935A5-5F58-4446-9544-252E8BDB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58748-DE96-4E1C-867F-2B2D90BF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95BF5-4394-4376-8211-71E5A46C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7D685-4C87-44DB-AEFB-EFCD7E98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F06C8-97DD-4638-A6A7-A6CCCDA7B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D3FC2-1F32-48DD-ADE3-02375FCCA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AB8A-187D-4E56-8D14-42392723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1625-03AD-4569-B760-0E124348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6B7E-514E-4B8C-9B72-63DA9781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B2DD-7F3E-49FA-B21F-D289E282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6CAB-2BB6-4E7A-A378-9BC041CA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3C15-EE03-46FB-9CB2-2DE0791C615A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051E-2358-4288-A2F7-9A93591AFA68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A5E0-91DD-4D4D-A0D2-A21271FA409D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C1DA-1667-4D0E-A0E7-94E47BB4C9BC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8f8f8"/>
                </a:solidFill>
                <a:latin typeface="Arial Narrow"/>
              </a:rPr>
              <a:t>Учитель биологии- Нежибецкая Елена Сергеевна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8f8f8"/>
                </a:solidFill>
                <a:latin typeface="Arial Narrow"/>
              </a:rPr>
              <a:t>ГБОУ школа №459 Спб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785880" y="78552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Narrow"/>
              </a:rPr>
              <a:t>ТЕМА УРОКА:РАСЫ ЧЕЛОВЕКА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 Narrow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 Narrow"/>
              </a:rPr>
              <a:t>11 КЛАСС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7" name="Picture 13" descr="4 руки"/>
          <p:cNvPicPr/>
          <p:nvPr/>
        </p:nvPicPr>
        <p:blipFill>
          <a:blip r:embed="rId1"/>
          <a:stretch/>
        </p:blipFill>
        <p:spPr>
          <a:xfrm>
            <a:off x="1905120" y="1943280"/>
            <a:ext cx="5333760" cy="342900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4" descr=""/>
          <p:cNvPicPr/>
          <p:nvPr/>
        </p:nvPicPr>
        <p:blipFill>
          <a:blip r:embed="rId2"/>
          <a:stretch/>
        </p:blipFill>
        <p:spPr>
          <a:xfrm>
            <a:off x="1663560" y="92160"/>
            <a:ext cx="5840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ЦЕЛИ УРОКА: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-Познакомить учащихся с типами человеческих рас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- Объяснить взаимосвязь внешних признаков рас с географией их расселения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научиться уважительно относится к мнению одноклассников; развивать умение работы в коллективе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ТО ТАКОЕ РАСА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Arial Narrow"/>
              </a:rPr>
              <a:t>Раса 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(фр.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rase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 – род, порода, племя)– исторически сложившаяся внутривидовая группировка популяции вида Человек разумный, характеризующаяся определенными наследственными признаками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3" name="Рисунок 3" descr="Расы.jpg"/>
          <p:cNvPicPr/>
          <p:nvPr/>
        </p:nvPicPr>
        <p:blipFill>
          <a:blip r:embed="rId1"/>
          <a:stretch/>
        </p:blipFill>
        <p:spPr>
          <a:xfrm>
            <a:off x="2143080" y="4786200"/>
            <a:ext cx="5143680" cy="18576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Arial Narrow"/>
              </a:rPr>
              <a:t>ТРИ БОЛЬШИЕ РАСЫ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1285920"/>
            <a:ext cx="91440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Narrow"/>
              </a:rPr>
              <a:t>Европеоидная    Монголоидная      Негроидная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6" name="Рисунок 3" descr="Шумахер.jpg"/>
          <p:cNvPicPr/>
          <p:nvPr/>
        </p:nvPicPr>
        <p:blipFill>
          <a:blip r:embed="rId1"/>
          <a:stretch/>
        </p:blipFill>
        <p:spPr>
          <a:xfrm>
            <a:off x="0" y="2143080"/>
            <a:ext cx="2847960" cy="42670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4" descr="Мао Дзэдун.jpg"/>
          <p:cNvPicPr/>
          <p:nvPr/>
        </p:nvPicPr>
        <p:blipFill>
          <a:blip r:embed="rId2"/>
          <a:stretch/>
        </p:blipFill>
        <p:spPr>
          <a:xfrm>
            <a:off x="2857680" y="2143080"/>
            <a:ext cx="3200400" cy="417204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5" descr="Наоми Кемпбелл.jpg"/>
          <p:cNvPicPr/>
          <p:nvPr/>
        </p:nvPicPr>
        <p:blipFill>
          <a:blip r:embed="rId3"/>
          <a:stretch/>
        </p:blipFill>
        <p:spPr>
          <a:xfrm>
            <a:off x="5943600" y="2143080"/>
            <a:ext cx="320040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 Narrow"/>
              </a:rPr>
              <a:t>ХАРАКТЕРИСТИКА ЧЕЛОВЕЧЕСКИХ РАС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57120" y="1285920"/>
          <a:ext cx="8429760" cy="3606840"/>
        </p:xfrm>
        <a:graphic>
          <a:graphicData uri="http://schemas.openxmlformats.org/drawingml/2006/table">
            <a:tbl>
              <a:tblPr/>
              <a:tblGrid>
                <a:gridCol w="1928880"/>
                <a:gridCol w="2071800"/>
                <a:gridCol w="2286000"/>
                <a:gridCol w="2143080"/>
              </a:tblGrid>
              <a:tr h="37152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обенности ра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гроид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вропеоид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нголоид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500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Цвет кож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Цвет и форма воло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7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Форма но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азрез и цвет гл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Особенности гу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 Narrow"/>
              </a:rPr>
              <a:t>КАК ВОЗНИКЛИ РАСЫ, И КАКИЕ УСЛОВИЯ СПОСОБСТВОВАЛИ ИХ ОБРАЗОВАНИЮ?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4296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Какое значение имеют расовые особенности для жизнедеятельности человека?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Что является причинами образования рас?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3" name="Рисунок 3" descr="расселениу рас.gif"/>
          <p:cNvPicPr/>
          <p:nvPr/>
        </p:nvPicPr>
        <p:blipFill>
          <a:blip r:embed="rId1"/>
          <a:stretch/>
        </p:blipFill>
        <p:spPr>
          <a:xfrm>
            <a:off x="500040" y="0"/>
            <a:ext cx="8072640" cy="4714920"/>
          </a:xfrm>
          <a:prstGeom prst="rect">
            <a:avLst/>
          </a:prstGeom>
          <a:ln w="0">
            <a:noFill/>
          </a:ln>
        </p:spPr>
      </p:pic>
      <p:sp>
        <p:nvSpPr>
          <p:cNvPr id="184" name="TextBox 4"/>
          <p:cNvSpPr/>
          <p:nvPr/>
        </p:nvSpPr>
        <p:spPr>
          <a:xfrm>
            <a:off x="379440" y="4643280"/>
            <a:ext cx="8719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 — прародина человечества и расселение из нее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 — первичный западный очаг расообразования и расселение протоавстралоидов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 — расселение протоевропеоидов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4 — расселение протонегроид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5 — первичный восточный очаг расообразования и расселение протоамериканоидов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6 — североамериканский третичный очаг и расселение из нег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7 — центрально-южноамериканский очаг и расселение из н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 Narrow"/>
              </a:rPr>
              <a:t>ЕДИНСТВО И ПОЛНОЦЕННОСТЬ РАС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6" name="Picture 7" descr="цвет кожи"/>
          <p:cNvPicPr/>
          <p:nvPr/>
        </p:nvPicPr>
        <p:blipFill>
          <a:blip r:embed="rId1"/>
          <a:stretch/>
        </p:blipFill>
        <p:spPr>
          <a:xfrm>
            <a:off x="214200" y="1714680"/>
            <a:ext cx="4267440" cy="283824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4"/>
          <p:cNvSpPr/>
          <p:nvPr/>
        </p:nvSpPr>
        <p:spPr>
          <a:xfrm>
            <a:off x="4429080" y="1428840"/>
            <a:ext cx="4572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Расизм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– это убеждение в том, что одни люди превосходят других, потому что принадлежат к какой-то конкретной расе, каждой из которых свойственны определенные черты характера и повед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6" descr="погромы"/>
          <p:cNvPicPr/>
          <p:nvPr/>
        </p:nvPicPr>
        <p:blipFill>
          <a:blip r:embed="rId2"/>
          <a:stretch/>
        </p:blipFill>
        <p:spPr>
          <a:xfrm>
            <a:off x="5143680" y="4143240"/>
            <a:ext cx="3600360" cy="251964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6"/>
          <p:cNvSpPr/>
          <p:nvPr/>
        </p:nvSpPr>
        <p:spPr>
          <a:xfrm>
            <a:off x="428760" y="47862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21 марта - Международный день борьбы за ликвидацию расовой дискримина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Arial Narrow"/>
              </a:rPr>
              <a:t>ДОМАШНЕЕ ЗАДАНИЕ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1. § 73,, с285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2. Найдите в дополнительной литературе, что такое толерантность, ксенофобия, антисемитизм?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2" name="Рисунок 6" descr="C:\Documents and Settings\Dale\Local Settings\Temporary Internet Files\Content.IE5\O5UNK1QF\MCj03701400000[1].wmf"/>
          <p:cNvPicPr/>
          <p:nvPr/>
        </p:nvPicPr>
        <p:blipFill>
          <a:blip r:embed="rId1"/>
          <a:stretch/>
        </p:blipFill>
        <p:spPr>
          <a:xfrm>
            <a:off x="6929280" y="4786200"/>
            <a:ext cx="174312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Arial Narrow"/>
              </a:rPr>
              <a:t>ВОПРОСИТЕЛЬНЫЕ СЛОВА ДЛЯ ЗАДАНИЯ «СОСТАВЬ ВОПРОСЫ ОДНОКЛАССНИКУ»</a:t>
            </a: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В чем различие...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Что называется…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Что будет если...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Верно ли, что..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Почему вы думаете, что...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Объясните почему...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Какой... Где... Когда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5" name="Picture 4" descr="MCj04344110000[1]"/>
          <p:cNvPicPr/>
          <p:nvPr/>
        </p:nvPicPr>
        <p:blipFill>
          <a:blip r:embed="rId1"/>
          <a:stretch/>
        </p:blipFill>
        <p:spPr>
          <a:xfrm>
            <a:off x="6786720" y="4786200"/>
            <a:ext cx="1625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1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6:11:04Z</dcterms:created>
  <dc:creator>Dale</dc:creator>
  <dc:description/>
  <dc:language>en-US</dc:language>
  <cp:lastModifiedBy>Александр</cp:lastModifiedBy>
  <dcterms:modified xsi:type="dcterms:W3CDTF">2014-03-12T15:23:41Z</dcterms:modified>
  <cp:revision>16</cp:revision>
  <dc:subject/>
  <dc:title>Расы человека</dc:title>
</cp:coreProperties>
</file>