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8.jpeg" ContentType="image/jpeg"/>
  <Override PartName="/ppt/media/image7.jpeg" ContentType="image/jpeg"/>
  <Override PartName="/ppt/media/image28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dt" idx="16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17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18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3E114-1C22-4AD5-A864-1E6214FDF6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461DA-BCEF-427F-9964-8FE60ED13C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7D01E-FCB1-4E07-AA71-A9F317B1D4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32FEE-309A-46F6-878E-24AA83C718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48CFF-38A0-4363-930C-BA2FF69F6D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24696-E46E-4C42-84E0-886568A2E8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EA780-CCB5-4C5F-904E-0AFFE6A93E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ABEA0-52C5-4626-8FA7-94878CA48D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C1EFE-1EE1-4088-B89A-593E92A140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6A44E-C11D-4F6B-85B3-DB4FE3AEF9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E857F-0129-4B76-8729-4256CF5070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26442-4CB2-4B6E-83BC-F556920F47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80024-A3BB-4230-A112-970819924E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01527-8224-47B5-B2CD-71B0E48C84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3723D-A238-4524-97CF-529FDFE66A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E25B-55C3-4074-BFFC-10BD09083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5DA6-561E-4C90-9B5D-2A37A9D7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3CD7-1925-471E-B07F-D36BF6FE5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A57E-CD60-4003-B76B-C4223AA41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B483-E4C2-44FE-98EE-E7C3C012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DF84-21B5-4194-8ECD-B2A72DAC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B490-E1B6-4985-9BEA-E4B71CE8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A865-7B96-4811-8AF2-B77A1386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A3BA-F99C-41A4-9BBB-AAB5F5E4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7208-F3C9-40D5-9909-33AE77FA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DE3E-0584-4B2E-85FE-A28DC14C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452E-F0E0-42F7-9017-F27167C2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092A-4FE4-4630-84CA-BC2B65F5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C87B-549E-4DF5-A5C7-5F294D88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E913-286D-4B59-AE6C-58C83CE0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EA98-1E73-4EAD-B444-C0DD4D3D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9E4A-FEB3-4ADA-929C-EC2E435F4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6B935-1E58-4A7F-B65B-1B4959D5D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3C33B-575D-4F8F-90F7-C50BBFB6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E1AC4-0329-4D7F-861E-9E8FC34E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BADC2-361B-4D32-8F43-21E7C646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3D61F-2676-4128-8F4A-719DB3CD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E8D9-DCAB-4AF1-BDB1-02B539FC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9E321-5149-4206-BC40-C7C1EB41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9953A-EEAA-4FA2-BF1A-EE096F5D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EA907-9A6D-4F4E-86D5-E1A24F11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89C4F-3D96-4B2F-A830-26501398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D6216-712F-43CF-ACCC-B383C190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EEF37-0D4D-491C-B955-18C1EF02B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92CA3-D9D0-4F6B-8BCD-8D2C330CA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08400-169A-4FFD-AE85-0D39C6E21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0CFB5-2B37-4280-B92E-E8E42243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FF024-5C67-4515-BE9C-112A1DDD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3561-800A-43FC-841B-F9C7C9F3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2743D-1FA2-4C82-A1DF-46AD770F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52C4D-7753-4DCF-9E16-54B54015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67418-8B8D-4DB2-ADDA-D241470D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6A421-9A50-4B1D-A608-6E40CBF9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0BDD7-3195-421A-87F4-4F117E88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40A67-FFA6-475A-B4CC-69E3092C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6BB97-F46B-4F05-A21D-4B9316CC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C73E2-B4F1-497F-873A-D0C52E60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B638E-87A3-48C7-9F0A-88E628BC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AF48B-ADC7-48A4-AF86-8CEB499F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1E1D-CCC0-4E47-A660-B268AE27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BB1BB-3936-4C9F-AE2A-FC1290DF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FC486-511B-4C94-8671-FF25C882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5A0A2-6223-49E1-869B-CD3A57A4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060B6-0616-403C-8F93-86F63E0D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865FC-5311-4A78-8C4D-35B8DB9E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89E09-1515-477D-9CF8-AB6ADDB9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127DD-D802-4BDD-8C4F-20A9AC8D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EA0A8-A988-4FA3-907B-636A26B3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9A5D0-DB9D-4A46-8127-00B9AFE7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7E9FF-E21E-4687-A859-C96296D3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F40B-33DA-4EC9-9379-AE98CF2D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BBCB4-9C0E-4324-9AAA-EF07A613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FDED-F5C6-420D-9729-3026CCC1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00F2-DF85-4252-96A5-26911632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2F4A-99FD-4052-9427-33C77AA9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368C9-D8F6-41D0-BA13-4E4D7032889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0AD09-3F42-4E33-93CF-1311FED04C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79620-356F-4E46-AA31-1B01A88D20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89BFA-7352-400D-B443-20E0B83CE8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4A2E6-905F-466F-A3AA-0ED9610A95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2.keck.hawaii.edu/optics/lgsao/lgsbasics.html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%C4%E8%F0%E0%EA,_%CF%EE%EB%FC_%C0%E4%F0%E8%E5%ED_%CC%EE%F0%E8%F1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79;&#1077;&#1088;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za-nauku.mipt.ru/hardcopies/2004/1664/firstlaser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ru.wikipedia.org/wiki/%CC%E0%E9%EC%E0%ED,_%D2%E5%EE%E4%EE%F0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hyperlink" Target="http://ru.wikipedia.org/wiki/%C1%E0%F1%EE%E2,_%CD%E8%EA%EE%EB%E0%E9_%C3%E5%ED%ED%E0%E4%E8%E5%E2%E8%F7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ru.wikipedia.org/wiki/%D2%E0%F3%ED%F1,_%D7%E0%F0%EB%E7_%D5%E0%F0%E4" TargetMode="External"/><Relationship Id="rId8" Type="http://schemas.openxmlformats.org/officeDocument/2006/relationships/hyperlink" Target="http://ru.wikipedia.org/wiki/%CF%F0%EE%F5%EE%F0%EE%E2,_%C0%EB%E5%EA%F1%E0%ED%E4%F0_%CC%E8%F5%E0%E9%EB%EE%E2%E8%F7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hyperlink" Target="http://ru.wikipedia.org/wiki/%D1%EF%EE%ED%F2%E0%ED%ED%EE%E5_%E8%E7%EB%F3%F7%E5%ED%E8%E5" TargetMode="External"/><Relationship Id="rId5" Type="http://schemas.openxmlformats.org/officeDocument/2006/relationships/hyperlink" Target="http://ru.wikipedia.org/wiki/%C2%FB%ED%F3%E6%E4%E5%ED%ED%EE%E5_%E8%E7%EB%F3%F7%E5%ED%E8%E5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hipdip.ru/video/id000280971/" TargetMode="External"/><Relationship Id="rId2" Type="http://schemas.openxmlformats.org/officeDocument/2006/relationships/hyperlink" Target="http://silris.blogspot.ru/2013/02/blog-post.html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ru.wikipedia.org/wiki/&#1042;&#1080;&#1076;&#1099;_&#1083;&#1072;&#1079;&#1077;&#1088;&#1086;&#1074;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871640" y="360000"/>
            <a:ext cx="7848720" cy="6659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11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111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Ravie"/>
              </a:rPr>
              <a:t>ЛАЗЕР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полн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ца 10 класса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БОУ СОШ №135 г.Каза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едоровичева Ал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6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2160720" y="7020000"/>
            <a:ext cx="5940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зань    20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360000" y="539280"/>
            <a:ext cx="9396360" cy="648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Создание искусственных звез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   искусственная опорная звез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ооруж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Лазерное наве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ая лазерная рак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  Лазерный дально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6300720" y="1079640"/>
            <a:ext cx="3238560" cy="3419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"/>
          <p:cNvPicPr/>
          <p:nvPr/>
        </p:nvPicPr>
        <p:blipFill>
          <a:blip r:embed="rId3"/>
          <a:stretch/>
        </p:blipFill>
        <p:spPr>
          <a:xfrm>
            <a:off x="469800" y="3600360"/>
            <a:ext cx="3490920" cy="3780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"/>
          <p:cNvPicPr/>
          <p:nvPr/>
        </p:nvPicPr>
        <p:blipFill>
          <a:blip r:embed="rId4"/>
          <a:stretch/>
        </p:blipFill>
        <p:spPr>
          <a:xfrm>
            <a:off x="4530600" y="5040360"/>
            <a:ext cx="482940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503280" y="720720"/>
            <a:ext cx="903600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омыш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 Грави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 Фотолитогра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539640" y="1619280"/>
            <a:ext cx="3419640" cy="3060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"/>
          <p:cNvPicPr/>
          <p:nvPr/>
        </p:nvPicPr>
        <p:blipFill>
          <a:blip r:embed="rId2"/>
          <a:stretch/>
        </p:blipFill>
        <p:spPr>
          <a:xfrm>
            <a:off x="4859280" y="1619280"/>
            <a:ext cx="4210200" cy="3060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3"/>
          <a:stretch/>
        </p:blipFill>
        <p:spPr>
          <a:xfrm>
            <a:off x="3780000" y="4859280"/>
            <a:ext cx="405576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502920" y="720720"/>
            <a:ext cx="921708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едиц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Лазерная коррекция з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 Лазерная стома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5219640" y="1006560"/>
            <a:ext cx="3959280" cy="29527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5219640" y="4319640"/>
            <a:ext cx="395928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60360" y="360360"/>
            <a:ext cx="9360000" cy="684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зерные шоу                   Лазерный уровень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зерные коррекции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539640" y="720720"/>
            <a:ext cx="2700360" cy="3060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3959280" y="720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360360" y="4500720"/>
            <a:ext cx="3419640" cy="2519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"/>
          <p:cNvPicPr/>
          <p:nvPr/>
        </p:nvPicPr>
        <p:blipFill>
          <a:blip r:embed="rId4"/>
          <a:stretch/>
        </p:blipFill>
        <p:spPr>
          <a:xfrm>
            <a:off x="3959280" y="4319640"/>
            <a:ext cx="2965320" cy="27003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"/>
          <p:cNvPicPr/>
          <p:nvPr/>
        </p:nvPicPr>
        <p:blipFill>
          <a:blip r:embed="rId5"/>
          <a:stretch/>
        </p:blipFill>
        <p:spPr>
          <a:xfrm>
            <a:off x="7199280" y="4319640"/>
            <a:ext cx="270036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спользуемые ресурс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39640" y="1260360"/>
            <a:ext cx="936000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57200" indent="-4572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вятков Н. Д. Применение электроники в медицине и биоло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зическая энциклопедия под редакцией А.М.Прохо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расов Л. В. Физика процессов в генераторах когерентного оптического излуч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50-летию создания лазеров (рус.) // УФН. — 20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нет ресур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1"/>
          <p:cNvSpPr/>
          <p:nvPr/>
        </p:nvSpPr>
        <p:spPr>
          <a:xfrm>
            <a:off x="4753080" y="5292720"/>
            <a:ext cx="5038560" cy="16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9840" algn="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боту выполни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ница 10 класса 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БОУ СОШ №135 г.Казан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доровичева Али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уководитель: учитель физ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.Б.Широк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68360" y="1760400"/>
            <a:ext cx="8531280" cy="291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«Готовые к решению еще неизвестных пробле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 Определение лазе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 Открытия и уче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 Спонтанное и вынужденное изл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 Принцип действия и устройство лаз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 Виды лаз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  Приме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.  Используемые 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140000" y="682200"/>
            <a:ext cx="5219640" cy="6877080"/>
          </a:xfrm>
          <a:prstGeom prst="rect">
            <a:avLst/>
          </a:prstGeom>
          <a:noFill/>
          <a:ln w="0">
            <a:noFill/>
          </a:ln>
        </p:spPr>
        <p:txBody>
          <a:bodyPr lIns="0" rIns="0" tIns="30600" bIns="0" anchor="ctr">
            <a:noAutofit/>
          </a:bodyPr>
          <a:p>
            <a:pPr marL="343080" indent="-339840">
              <a:lnSpc>
                <a:spcPct val="89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Ещё в 1916 году Эйнштейн предсказал существование вынужденного излучения - физического базиса действия любого лазера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9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С момента своего открытия лазеры получили "звание" "готовых решений ещё не известных проблем"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9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9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Строгое теоретическое обоснование в рамках квантовой механики это явление получило в работах английского физика-теоретика  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Courier New"/>
                <a:hlinkClick r:id="rId1"/>
              </a:rPr>
              <a:t>П. Дирака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в 1927—1930 г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2"/>
          <a:stretch/>
        </p:blipFill>
        <p:spPr>
          <a:xfrm>
            <a:off x="539640" y="539640"/>
            <a:ext cx="3060720" cy="3060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"/>
          <p:cNvPicPr/>
          <p:nvPr/>
        </p:nvPicPr>
        <p:blipFill>
          <a:blip r:embed="rId3"/>
          <a:stretch/>
        </p:blipFill>
        <p:spPr>
          <a:xfrm>
            <a:off x="539640" y="3780000"/>
            <a:ext cx="3060720" cy="34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60360" y="178920"/>
            <a:ext cx="936000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Ла́зе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англ.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laser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акроним от англ.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ght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mplification by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timulated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mission of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adiation) — усиление света посредством вынужденного изл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ти́ческий ква́нтовый генера́тор — устройство, преобразующее энергию накачки  в энергию когерентного, монохроматического, поляризованного и узконаправленного потока изл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719280" y="4273560"/>
            <a:ext cx="5759280" cy="32400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3"/>
          <p:cNvSpPr/>
          <p:nvPr/>
        </p:nvSpPr>
        <p:spPr>
          <a:xfrm>
            <a:off x="6148440" y="6807240"/>
            <a:ext cx="39592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Первый лаз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" descr=""/>
          <p:cNvPicPr/>
          <p:nvPr/>
        </p:nvPicPr>
        <p:blipFill>
          <a:blip r:embed="rId1"/>
          <a:stretch/>
        </p:blipFill>
        <p:spPr>
          <a:xfrm>
            <a:off x="7020000" y="3959280"/>
            <a:ext cx="2408040" cy="306072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2"/>
          <p:cNvSpPr/>
          <p:nvPr/>
        </p:nvSpPr>
        <p:spPr>
          <a:xfrm>
            <a:off x="6659640" y="7199280"/>
            <a:ext cx="27003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Майман, Теод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3"/>
          <a:stretch/>
        </p:blipFill>
        <p:spPr>
          <a:xfrm>
            <a:off x="3273480" y="539640"/>
            <a:ext cx="3206520" cy="2880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"/>
          <p:cNvPicPr/>
          <p:nvPr/>
        </p:nvPicPr>
        <p:blipFill>
          <a:blip r:embed="rId4"/>
          <a:stretch/>
        </p:blipFill>
        <p:spPr>
          <a:xfrm>
            <a:off x="6929280" y="539640"/>
            <a:ext cx="2249640" cy="27003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5"/>
          <p:cNvSpPr/>
          <p:nvPr/>
        </p:nvSpPr>
        <p:spPr>
          <a:xfrm>
            <a:off x="6772320" y="3419640"/>
            <a:ext cx="25876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marL="431640" indent="-320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Басов Н.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0" y="3780000"/>
            <a:ext cx="70200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t">
            <a:noAutofit/>
          </a:bodyPr>
          <a:p>
            <a:pPr marL="431640" indent="-320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954 год: первый микроволновой генератор — мазер на аммиаке ( амереканский физик Ч. Таунс, советские физики Басов Н.Г. и Прохоров А.М. — Нобелевская премия по физике 1964 года)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6"/>
          <a:stretch/>
        </p:blipFill>
        <p:spPr>
          <a:xfrm>
            <a:off x="539640" y="519120"/>
            <a:ext cx="2340000" cy="27208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8"/>
          <p:cNvSpPr/>
          <p:nvPr/>
        </p:nvSpPr>
        <p:spPr>
          <a:xfrm>
            <a:off x="539640" y="3419640"/>
            <a:ext cx="341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marL="431640" indent="-320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Ч.Таун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179280" y="5219640"/>
            <a:ext cx="6300720" cy="18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t">
            <a:noAutofit/>
          </a:bodyPr>
          <a:p>
            <a:pPr marL="431640" indent="-320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 июля 1960 года американский физик Теодор Майман провел презентацию первого лазера. Лазер представлял собой монокристалл искусственного рубина, который создавал интенсивное излучение красного цве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2519280" y="3419640"/>
            <a:ext cx="30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А.М.Прох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78920" y="262080"/>
            <a:ext cx="5940360" cy="2474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онтанное и вынужденное излучение.Механизмы испускания световеществом (Энштейн,191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5040360" y="3959280"/>
            <a:ext cx="4859280" cy="2638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2"/>
          <a:stretch/>
        </p:blipFill>
        <p:spPr>
          <a:xfrm>
            <a:off x="6267600" y="179280"/>
            <a:ext cx="3450960" cy="3419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3"/>
          <a:stretch/>
        </p:blipFill>
        <p:spPr>
          <a:xfrm>
            <a:off x="179280" y="3959280"/>
            <a:ext cx="4680000" cy="26305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"/>
          <p:cNvSpPr/>
          <p:nvPr/>
        </p:nvSpPr>
        <p:spPr>
          <a:xfrm>
            <a:off x="360360" y="6659640"/>
            <a:ext cx="450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t">
            <a:noAutofit/>
          </a:bodyPr>
          <a:p>
            <a:pPr marL="431640" indent="-320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Спонтанное излуче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5219640" y="6659640"/>
            <a:ext cx="4859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t">
            <a:noAutofit/>
          </a:bodyPr>
          <a:p>
            <a:pPr marL="431640" indent="-320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Вынужденное излуче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36200" y="0"/>
            <a:ext cx="9070920" cy="241128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нцип действия и устройство лазера</a:t>
            </a:r>
            <a:br>
              <a:rPr sz="3600"/>
            </a:b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chipdip.ru/video/id000280971/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2124000" y="6946920"/>
            <a:ext cx="5743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silris.blogspot.ru/2013/02/blog-post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3"/>
          <a:stretch/>
        </p:blipFill>
        <p:spPr>
          <a:xfrm>
            <a:off x="1432080" y="2340000"/>
            <a:ext cx="7127640" cy="43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1"/>
          <a:stretch/>
        </p:blipFill>
        <p:spPr>
          <a:xfrm>
            <a:off x="503280" y="2658960"/>
            <a:ext cx="9036000" cy="32068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"/>
          <p:cNvSpPr/>
          <p:nvPr/>
        </p:nvSpPr>
        <p:spPr>
          <a:xfrm>
            <a:off x="50472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ы лазер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426960" y="7020000"/>
            <a:ext cx="5332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ru.wikipedia.org/wiki/Виды_лазе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нение лаз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127120" y="1192320"/>
            <a:ext cx="4426200" cy="501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Устройство,которое само ищет решаемые задач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539640" y="2341440"/>
            <a:ext cx="8999640" cy="61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лазеров тема очень обширная, их применяют практическ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о всех отраслях нау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этому рассмотрим самые интересные из них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 Изменение расстояния до Лу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ccff"/>
                </a:solidFill>
                <a:latin typeface="Arial"/>
              </a:rPr>
              <a:t>лазерная локация Лу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/>
          <a:stretch/>
        </p:blipFill>
        <p:spPr>
          <a:xfrm>
            <a:off x="5781600" y="4395960"/>
            <a:ext cx="3600360" cy="27270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6"/>
          <p:cNvSpPr/>
          <p:nvPr/>
        </p:nvSpPr>
        <p:spPr>
          <a:xfrm>
            <a:off x="2340000" y="5759280"/>
            <a:ext cx="3600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ans-serif;Arial"/>
              </a:rPr>
              <a:t>Открытая «шкатулка» слева — уголковый отражатель </a:t>
            </a:r>
            <a:r>
              <a:rPr b="0" lang="en-US" sz="1800" spc="-1" strike="noStrike">
                <a:solidFill>
                  <a:srgbClr val="ccccff"/>
                </a:solidFill>
                <a:latin typeface="sans-serif;Arial"/>
              </a:rPr>
              <a:t> Лунохода-1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16:33:54Z</dcterms:created>
  <dc:creator/>
  <dc:description/>
  <dc:language>en-US</dc:language>
  <cp:lastModifiedBy>Ирина</cp:lastModifiedBy>
  <dcterms:modified xsi:type="dcterms:W3CDTF">2014-01-27T18:51:38Z</dcterms:modified>
  <cp:revision>9</cp:revision>
  <dc:subject/>
  <dc:title>   ЛАЗЕРЫ     Выполнила  ученица 10 класса Б МБОУ СОШ №135  Федоровичева Алиса, 16 лет </dc:title>
</cp:coreProperties>
</file>