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10.png" ContentType="image/png"/>
  <Override PartName="/ppt/media/image6.jpeg" ContentType="image/jpeg"/>
  <Override PartName="/ppt/media/image27.jpeg" ContentType="image/jpeg"/>
  <Override PartName="/ppt/media/image8.jpeg" ContentType="image/jpeg"/>
  <Override PartName="/ppt/media/image7.jpeg" ContentType="image/jpeg"/>
  <Override PartName="/ppt/media/image28.jpeg" ContentType="image/jpeg"/>
  <Override PartName="/ppt/media/image13.png" ContentType="image/png"/>
  <Override PartName="/ppt/media/image11.jpeg" ContentType="image/jpeg"/>
  <Override PartName="/ppt/media/image9.jpeg" ContentType="image/jpeg"/>
  <Override PartName="/ppt/media/image5.jpeg" ContentType="image/jpeg"/>
  <Override PartName="/ppt/media/image26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4.jpeg" ContentType="image/jpeg"/>
  <Override PartName="/ppt/media/image2.png" ContentType="image/png"/>
  <Override PartName="/ppt/media/image25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AutoShape 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AutoShape 2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066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dt" idx="16"/>
          </p:nvPr>
        </p:nvSpPr>
        <p:spPr>
          <a:xfrm>
            <a:off x="4278240" y="-360"/>
            <a:ext cx="327672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ftr" idx="17"/>
          </p:nvPr>
        </p:nvSpPr>
        <p:spPr>
          <a:xfrm>
            <a:off x="0" y="10156320"/>
            <a:ext cx="327672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 type="sldNum" idx="18"/>
          </p:nvPr>
        </p:nvSpPr>
        <p:spPr>
          <a:xfrm>
            <a:off x="4278240" y="10156320"/>
            <a:ext cx="327672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A12609-F7ED-4981-B781-06A49A93B05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035DD8-57EF-4372-8ACB-94BBA9266FF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57A471-F2AE-40E2-A11A-D517F56BFF9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3480" cy="40068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1EA48D-F4F9-412D-AA19-F974029BBA6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3480" cy="40068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2C50C5-967F-4E17-B713-B04BBFCB270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5120" cy="471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2FC572-C280-4467-93C0-A52C2CA719E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5120" cy="471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3DD069-C470-4D69-9833-7B50773217A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5120" cy="471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79B641-D333-4123-9707-5E366D55756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A36448-4C92-42D2-B60D-B527D3141D0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E89D85-744D-4986-B8B4-A8AB64A3B98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976976-2E1D-41F2-AC83-9D7BEF34D15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16D4C7-EC2B-44EC-805F-13FDC828356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56C26A-4826-48FC-999A-3EB5FC77C06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9DED04-3F63-49AB-AB84-F5D96D7ABBC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43E97F-1D79-4A03-B803-AC982A150D8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5E7BE-9E3A-492E-95FD-6720A4908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148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57C6D-DAD7-450A-95BA-60092A8B7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15E8C-640E-4514-AB73-B75CA4359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D0249-020E-4462-8B90-03DB7AAE0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8ACCF-1821-47A9-8AC9-359F39A59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7508F-C997-418A-B43A-7F0B17F66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3A4D6-9706-42BA-9AB7-95992F2CE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C2F9E-6D7F-4984-86C5-3E2E0B798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DD98E-BFC5-4A2D-B0EF-2D93079F7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60409-A82D-4ABA-8D06-2F92CA4B6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79A36-766A-4090-8AEB-EBD3EF310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70A26-F323-4B25-83E5-587926123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0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4C82D-1BB9-4F34-B998-19D2000E4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AAB6C-7D89-4FBF-91D8-1A02E726F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37148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6A1ED-E66D-403A-9889-9A0A1E3F9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0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10F63-B8A3-45DD-BE79-B5745167F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04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444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04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444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300A8-699E-47C9-9602-AED123C11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7FA1A1-48D0-46DB-AE74-15574B5C9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026DD7-DD10-491B-BC7E-1F6D8B984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00D4E7-A967-4B85-AB4A-0ED8813A6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24B8DE-26DB-4A28-867C-39EE50351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97694A-4FA5-495C-B1F3-3A4D542D3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582D0-D9F3-4CA1-BA48-D066D9B35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7D6E82-CC00-46E9-8E0D-BA7FBAD49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CB450D-4B89-49F5-899C-60F55DDAE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1490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724258-9131-4F2D-9194-3473E2B2A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113385-2EA2-47B2-BB0D-E79D8FCB1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03280" y="437148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B46656-C13B-4417-A9F1-865A9E03D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1490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4F884C-4BDD-4F88-81A8-252AAF2EF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6904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63444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0328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6904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63444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E95944-3023-4067-8E9C-2BF620DD8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48FEEB-E164-4999-9559-E6EC9CF4F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1F7A21-9819-45E7-A407-0B54F84B3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D5116B-0A51-459A-8A20-FEC12DB07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37DD1-BCF7-49AA-9023-D8259C33D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50B3C5-04A7-45C3-861A-CC686EFD2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C0409A-59EC-4AA5-BB2B-FFCAAAC0B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79D73B-99AD-48E5-A8E1-D863A9C79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0DD1CB-6A4F-422B-A02A-F07B27E08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1490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ED3D77-74FC-49F1-B6E4-16E3CA962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8CB416-4CE2-4F41-9258-1323A27D5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03280" y="437148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ABAFD2-1CDB-4933-81CE-0DFE1EF34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51490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ADA277-A99F-4750-8AB4-0728CE2CD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56904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63444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50328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56904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63444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936A7D-B118-4DCC-AC87-C57EECCF3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D9FF06-43D3-456F-9834-867CE1628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907DD-BED1-48C4-9256-157497B32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CF316C-BC86-4AB9-B3AC-7EAAB4DC2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9E4163-42DB-49BD-B377-609D68258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6E48C5-6651-479B-814D-3F65B0E54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463395-A03E-4972-B8FA-B4DCF70F2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080489-5AD0-4A18-9460-8B1EBB65C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98F9B4-A33E-450D-9853-E3A268747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51490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FA683C-0437-4227-B2FE-6F242AA23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31FE1F-31AE-4EEF-B7DA-6E53522C8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03280" y="437148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D17D27-DCE3-43DE-AE6E-A996AAF49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51490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7D0250-517A-4D46-AB35-64724D030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4CCC6-26DE-4260-8FB8-82F8BEF90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56904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63444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328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56904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63444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B7E9F3-3DF2-430D-8B1D-F6ADF76A3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03C81-081B-4C12-AE66-35ED4CEC6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4C26D-6A31-4AF6-B911-8601457E4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5C380-C44D-4F9B-B319-086C4AAF2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1EA966-F40E-4FF7-BF04-B1C1D8A1EA23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6A213B-8B35-4172-8358-AA8F5DB4BED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0F409C-1E93-461E-A124-1F4951D18C0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CCEE75-8472-43A9-A3ED-6B2C3E21C6A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B8AEE4-2D6F-4B72-81CF-4FFFB97FE54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2.keck.hawaii.edu/optics/lgsao/lgsbasics.html" TargetMode="External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ru.wikipedia.org/wiki/%C4%E8%F0%E0%EA,_%CF%EE%EB%FC_%C0%E4%F0%E8%E5%ED_%CC%EE%F0%E8%F1" TargetMode="Externa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1;&#1072;&#1079;&#1077;&#1088;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za-nauku.mipt.ru/hardcopies/2004/1664/firstlaser.html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ru.wikipedia.org/wiki/%CC%E0%E9%EC%E0%ED,_%D2%E5%EE%E4%EE%F0" TargetMode="External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hyperlink" Target="http://ru.wikipedia.org/wiki/%C1%E0%F1%EE%E2,_%CD%E8%EA%EE%EB%E0%E9_%C3%E5%ED%ED%E0%E4%E8%E5%E2%E8%F7" TargetMode="External"/><Relationship Id="rId6" Type="http://schemas.openxmlformats.org/officeDocument/2006/relationships/image" Target="../media/image9.jpeg"/><Relationship Id="rId7" Type="http://schemas.openxmlformats.org/officeDocument/2006/relationships/hyperlink" Target="http://ru.wikipedia.org/wiki/%D2%E0%F3%ED%F1,_%D7%E0%F0%EB%E7_%D5%E0%F0%E4" TargetMode="External"/><Relationship Id="rId8" Type="http://schemas.openxmlformats.org/officeDocument/2006/relationships/hyperlink" Target="http://ru.wikipedia.org/wiki/%CF%F0%EE%F5%EE%F0%EE%E2,_%C0%EB%E5%EA%F1%E0%ED%E4%F0_%CC%E8%F5%E0%E9%EB%EE%E2%E8%F7" TargetMode="External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hyperlink" Target="http://ru.wikipedia.org/wiki/%D1%EF%EE%ED%F2%E0%ED%ED%EE%E5_%E8%E7%EB%F3%F7%E5%ED%E8%E5" TargetMode="External"/><Relationship Id="rId5" Type="http://schemas.openxmlformats.org/officeDocument/2006/relationships/hyperlink" Target="http://ru.wikipedia.org/wiki/%C2%FB%ED%F3%E6%E4%E5%ED%ED%EE%E5_%E8%E7%EB%F3%F7%E5%ED%E8%E5" TargetMode="Externa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chipdip.ru/video/id000280971/" TargetMode="External"/><Relationship Id="rId2" Type="http://schemas.openxmlformats.org/officeDocument/2006/relationships/hyperlink" Target="http://silris.blogspot.ru/2013/02/blog-post.html" TargetMode="External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hyperlink" Target="http://ru.wikipedia.org/wiki/&#1042;&#1080;&#1076;&#1099;_&#1083;&#1072;&#1079;&#1077;&#1088;&#1086;&#1074;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1871640" y="360000"/>
            <a:ext cx="7848720" cy="66596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marL="343080" indent="-339840" algn="ctr">
              <a:lnSpc>
                <a:spcPct val="93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 algn="ctr">
              <a:lnSpc>
                <a:spcPct val="93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 algn="ctr">
              <a:lnSpc>
                <a:spcPct val="111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 algn="ctr">
              <a:lnSpc>
                <a:spcPct val="111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8800" spc="-1" strike="noStrike">
                <a:solidFill>
                  <a:srgbClr val="ffff00"/>
                </a:solidFill>
                <a:latin typeface="Ravie"/>
              </a:rPr>
              <a:t>ЛАЗЕРЫ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 algn="r">
              <a:lnSpc>
                <a:spcPct val="93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 algn="r">
              <a:lnSpc>
                <a:spcPct val="93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 algn="r">
              <a:lnSpc>
                <a:spcPct val="93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 algn="r">
              <a:lnSpc>
                <a:spcPct val="93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 algn="r">
              <a:lnSpc>
                <a:spcPct val="93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ыполнил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 algn="r">
              <a:lnSpc>
                <a:spcPct val="93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ученица 10 класса 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 algn="r">
              <a:lnSpc>
                <a:spcPct val="93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БОУ СОШ №135 г.Казан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 algn="r">
              <a:lnSpc>
                <a:spcPct val="93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Федоровичева Али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 algn="r">
              <a:lnSpc>
                <a:spcPct val="93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16 л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 algn="ctr">
              <a:lnSpc>
                <a:spcPct val="93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2"/>
          <p:cNvSpPr/>
          <p:nvPr/>
        </p:nvSpPr>
        <p:spPr>
          <a:xfrm>
            <a:off x="2160720" y="7020000"/>
            <a:ext cx="594036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124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азань    201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/>
          </p:nvPr>
        </p:nvSpPr>
        <p:spPr>
          <a:xfrm>
            <a:off x="360000" y="539280"/>
            <a:ext cx="9396360" cy="6480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.Создание искусственных звез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   искусственная опорная звез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Вооружен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.Лазерное наведе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вая лазерная раке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.   Лазерный дальном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2" descr=""/>
          <p:cNvPicPr/>
          <p:nvPr/>
        </p:nvPicPr>
        <p:blipFill>
          <a:blip r:embed="rId2"/>
          <a:stretch/>
        </p:blipFill>
        <p:spPr>
          <a:xfrm>
            <a:off x="6300720" y="1079640"/>
            <a:ext cx="3238560" cy="341928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3" descr=""/>
          <p:cNvPicPr/>
          <p:nvPr/>
        </p:nvPicPr>
        <p:blipFill>
          <a:blip r:embed="rId3"/>
          <a:stretch/>
        </p:blipFill>
        <p:spPr>
          <a:xfrm>
            <a:off x="469800" y="3600360"/>
            <a:ext cx="3490920" cy="378000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4" descr=""/>
          <p:cNvPicPr/>
          <p:nvPr/>
        </p:nvPicPr>
        <p:blipFill>
          <a:blip r:embed="rId4"/>
          <a:stretch/>
        </p:blipFill>
        <p:spPr>
          <a:xfrm>
            <a:off x="4530600" y="5040360"/>
            <a:ext cx="4829400" cy="23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503280" y="720720"/>
            <a:ext cx="9036000" cy="6300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Промышлен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.  Гравиров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.  Фотолитограф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2" descr=""/>
          <p:cNvPicPr/>
          <p:nvPr/>
        </p:nvPicPr>
        <p:blipFill>
          <a:blip r:embed="rId1"/>
          <a:stretch/>
        </p:blipFill>
        <p:spPr>
          <a:xfrm>
            <a:off x="539640" y="1619280"/>
            <a:ext cx="3419640" cy="306072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3" descr=""/>
          <p:cNvPicPr/>
          <p:nvPr/>
        </p:nvPicPr>
        <p:blipFill>
          <a:blip r:embed="rId2"/>
          <a:stretch/>
        </p:blipFill>
        <p:spPr>
          <a:xfrm>
            <a:off x="4859280" y="1619280"/>
            <a:ext cx="4210200" cy="306072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4" descr=""/>
          <p:cNvPicPr/>
          <p:nvPr/>
        </p:nvPicPr>
        <p:blipFill>
          <a:blip r:embed="rId3"/>
          <a:stretch/>
        </p:blipFill>
        <p:spPr>
          <a:xfrm>
            <a:off x="3780000" y="4859280"/>
            <a:ext cx="4055760" cy="251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/>
          </p:nvPr>
        </p:nvSpPr>
        <p:spPr>
          <a:xfrm>
            <a:off x="502920" y="720720"/>
            <a:ext cx="9217080" cy="6300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Медиц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. Лазерная коррекция зр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.  Лазерная стоматолог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Picture 2" descr=""/>
          <p:cNvPicPr/>
          <p:nvPr/>
        </p:nvPicPr>
        <p:blipFill>
          <a:blip r:embed="rId1"/>
          <a:stretch/>
        </p:blipFill>
        <p:spPr>
          <a:xfrm>
            <a:off x="5219640" y="1006560"/>
            <a:ext cx="3959280" cy="295272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3" descr=""/>
          <p:cNvPicPr/>
          <p:nvPr/>
        </p:nvPicPr>
        <p:blipFill>
          <a:blip r:embed="rId2"/>
          <a:stretch/>
        </p:blipFill>
        <p:spPr>
          <a:xfrm>
            <a:off x="5219640" y="4319640"/>
            <a:ext cx="3959280" cy="28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/>
          </p:nvPr>
        </p:nvSpPr>
        <p:spPr>
          <a:xfrm>
            <a:off x="360360" y="360360"/>
            <a:ext cx="9360000" cy="6840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азерные шоу                   Лазерный уровень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азерные коррекции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539640" y="720720"/>
            <a:ext cx="2700360" cy="306072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3959280" y="720720"/>
            <a:ext cx="5040360" cy="324000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360360" y="4500720"/>
            <a:ext cx="3419640" cy="251928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5" descr=""/>
          <p:cNvPicPr/>
          <p:nvPr/>
        </p:nvPicPr>
        <p:blipFill>
          <a:blip r:embed="rId4"/>
          <a:stretch/>
        </p:blipFill>
        <p:spPr>
          <a:xfrm>
            <a:off x="3959280" y="4319640"/>
            <a:ext cx="2965320" cy="270036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6" descr=""/>
          <p:cNvPicPr/>
          <p:nvPr/>
        </p:nvPicPr>
        <p:blipFill>
          <a:blip r:embed="rId5"/>
          <a:stretch/>
        </p:blipFill>
        <p:spPr>
          <a:xfrm>
            <a:off x="7199280" y="4319640"/>
            <a:ext cx="2700360" cy="27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Используемые ресурсы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539640" y="1260360"/>
            <a:ext cx="9360000" cy="36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57200" indent="-457200">
              <a:lnSpc>
                <a:spcPct val="93000"/>
              </a:lnSpc>
              <a:buClr>
                <a:srgbClr val="000000"/>
              </a:buClr>
              <a:buFont typeface="Arial"/>
              <a:buAutoNum type="arabicPeriod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евятков Н. Д. Применение электроники в медицине и биолог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3000"/>
              </a:lnSpc>
              <a:buClr>
                <a:srgbClr val="000000"/>
              </a:buClr>
              <a:buFont typeface="Arial"/>
              <a:buAutoNum type="arabicPeriod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изическая энциклопедия под редакцией А.М.Прохоро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3000"/>
              </a:lnSpc>
              <a:buClr>
                <a:srgbClr val="000000"/>
              </a:buClr>
              <a:buFont typeface="Arial"/>
              <a:buAutoNum type="arabicPeriod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арасов Л. В. Физика процессов в генераторах когерентного оптического излуче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3000"/>
              </a:lnSpc>
              <a:buClr>
                <a:srgbClr val="000000"/>
              </a:buClr>
              <a:buFont typeface="Arial"/>
              <a:buAutoNum type="arabicPeriod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 50-летию создания лазеров (рус.) // УФН. — 201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3000"/>
              </a:lnSpc>
              <a:buClr>
                <a:srgbClr val="000000"/>
              </a:buClr>
              <a:buFont typeface="Arial"/>
              <a:buAutoNum type="arabicPeriod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нтернет ресурс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Прямоугольник 1"/>
          <p:cNvSpPr/>
          <p:nvPr/>
        </p:nvSpPr>
        <p:spPr>
          <a:xfrm>
            <a:off x="4753080" y="5292720"/>
            <a:ext cx="5038560" cy="162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39840" algn="r">
              <a:lnSpc>
                <a:spcPct val="93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аботу выполнил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 algn="r">
              <a:lnSpc>
                <a:spcPct val="93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ченица 10 класса Б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 algn="r">
              <a:lnSpc>
                <a:spcPct val="93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БОУ СОШ №135 г.Казан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 algn="r">
              <a:lnSpc>
                <a:spcPct val="93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едоровичева Алис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 algn="r">
              <a:lnSpc>
                <a:spcPct val="93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уководитель: учитель физи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 algn="r">
              <a:lnSpc>
                <a:spcPct val="93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.Б.Широков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одерж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68360" y="1760400"/>
            <a:ext cx="8531280" cy="291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. «Готовые к решению еще неизвестных проблем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.  Определение лазер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.  Открытия и уче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.  Спонтанное и вынужденное излуч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5.  Принцип действия и устройство лазер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6.  Виды лазер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7.  Примен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8.  Используемые ресурс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140000" y="682200"/>
            <a:ext cx="5219640" cy="6877080"/>
          </a:xfrm>
          <a:prstGeom prst="rect">
            <a:avLst/>
          </a:prstGeom>
          <a:noFill/>
          <a:ln w="0">
            <a:noFill/>
          </a:ln>
        </p:spPr>
        <p:txBody>
          <a:bodyPr lIns="0" rIns="0" tIns="30600" bIns="0" anchor="ctr">
            <a:noAutofit/>
          </a:bodyPr>
          <a:p>
            <a:pPr marL="343080" indent="-339840">
              <a:lnSpc>
                <a:spcPct val="89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Ещё в 1916 году Эйнштейн предсказал существование вынужденного излучения - физического базиса действия любого лазера.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93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89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С момента своего открытия лазеры получили "звание" "готовых решений ещё не известных проблем"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89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89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Строгое теоретическое обоснование в рамках квантовой механики это явление получило в работах английского физика-теоретика  </a:t>
            </a:r>
            <a:r>
              <a:rPr b="0" lang="en-US" sz="2200" spc="-1" strike="noStrike" u="sng">
                <a:solidFill>
                  <a:srgbClr val="ccccff"/>
                </a:solidFill>
                <a:uFillTx/>
                <a:latin typeface="Courier New"/>
                <a:hlinkClick r:id="rId1"/>
              </a:rPr>
              <a:t>П. Дирака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в 1927—1930 гг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93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93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93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93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93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2" descr=""/>
          <p:cNvPicPr/>
          <p:nvPr/>
        </p:nvPicPr>
        <p:blipFill>
          <a:blip r:embed="rId2"/>
          <a:stretch/>
        </p:blipFill>
        <p:spPr>
          <a:xfrm>
            <a:off x="539640" y="539640"/>
            <a:ext cx="3060720" cy="30607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3" descr=""/>
          <p:cNvPicPr/>
          <p:nvPr/>
        </p:nvPicPr>
        <p:blipFill>
          <a:blip r:embed="rId3"/>
          <a:stretch/>
        </p:blipFill>
        <p:spPr>
          <a:xfrm>
            <a:off x="539640" y="3780000"/>
            <a:ext cx="3060720" cy="341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360360" y="178920"/>
            <a:ext cx="9360000" cy="3969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-339840">
              <a:lnSpc>
                <a:spcPct val="93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Ла́зер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(англ. 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laser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, акроним от англ. 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l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ight 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mplification by 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s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timulated 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mission of 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r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adiation) — усиление света посредством вынужденного излуч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93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пти́ческий ква́нтовый генера́тор — устройство, преобразующее энергию накачки  в энергию когерентного, монохроматического, поляризованного и узконаправленного потока излуч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2" descr=""/>
          <p:cNvPicPr/>
          <p:nvPr/>
        </p:nvPicPr>
        <p:blipFill>
          <a:blip r:embed="rId2"/>
          <a:stretch/>
        </p:blipFill>
        <p:spPr>
          <a:xfrm>
            <a:off x="719280" y="4273560"/>
            <a:ext cx="5759280" cy="3240000"/>
          </a:xfrm>
          <a:prstGeom prst="rect">
            <a:avLst/>
          </a:prstGeom>
          <a:ln w="0">
            <a:noFill/>
          </a:ln>
        </p:spPr>
      </p:pic>
      <p:sp>
        <p:nvSpPr>
          <p:cNvPr id="223" name="Text Box 3"/>
          <p:cNvSpPr/>
          <p:nvPr/>
        </p:nvSpPr>
        <p:spPr>
          <a:xfrm>
            <a:off x="6148440" y="6807240"/>
            <a:ext cx="395928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1240" bIns="0" anchor="t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Первый лазе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1" descr=""/>
          <p:cNvPicPr/>
          <p:nvPr/>
        </p:nvPicPr>
        <p:blipFill>
          <a:blip r:embed="rId1"/>
          <a:stretch/>
        </p:blipFill>
        <p:spPr>
          <a:xfrm>
            <a:off x="7020000" y="3959280"/>
            <a:ext cx="2408040" cy="3060720"/>
          </a:xfrm>
          <a:prstGeom prst="rect">
            <a:avLst/>
          </a:prstGeom>
          <a:ln w="0">
            <a:noFill/>
          </a:ln>
        </p:spPr>
      </p:pic>
      <p:sp>
        <p:nvSpPr>
          <p:cNvPr id="225" name="Text Box 2"/>
          <p:cNvSpPr/>
          <p:nvPr/>
        </p:nvSpPr>
        <p:spPr>
          <a:xfrm>
            <a:off x="6659640" y="7199280"/>
            <a:ext cx="270036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5840" bIns="0" anchor="t">
            <a:no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"/>
              <a:tabLst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Майман, Теодо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Picture 3" descr=""/>
          <p:cNvPicPr/>
          <p:nvPr/>
        </p:nvPicPr>
        <p:blipFill>
          <a:blip r:embed="rId3"/>
          <a:stretch/>
        </p:blipFill>
        <p:spPr>
          <a:xfrm>
            <a:off x="3273480" y="539640"/>
            <a:ext cx="3206520" cy="288000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4" descr=""/>
          <p:cNvPicPr/>
          <p:nvPr/>
        </p:nvPicPr>
        <p:blipFill>
          <a:blip r:embed="rId4"/>
          <a:stretch/>
        </p:blipFill>
        <p:spPr>
          <a:xfrm>
            <a:off x="6929280" y="539640"/>
            <a:ext cx="2249640" cy="2700360"/>
          </a:xfrm>
          <a:prstGeom prst="rect">
            <a:avLst/>
          </a:prstGeom>
          <a:ln w="0">
            <a:noFill/>
          </a:ln>
        </p:spPr>
      </p:pic>
      <p:sp>
        <p:nvSpPr>
          <p:cNvPr id="228" name="Text Box 5"/>
          <p:cNvSpPr/>
          <p:nvPr/>
        </p:nvSpPr>
        <p:spPr>
          <a:xfrm>
            <a:off x="6772320" y="3419640"/>
            <a:ext cx="25876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5840" bIns="0" anchor="t">
            <a:noAutofit/>
          </a:bodyPr>
          <a:p>
            <a:pPr marL="431640" indent="-3204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 u="sng">
                <a:solidFill>
                  <a:srgbClr val="ccccff"/>
                </a:solidFill>
                <a:uFillTx/>
                <a:latin typeface="Arial"/>
                <a:hlinkClick r:id="rId5"/>
              </a:rPr>
              <a:t>Басов Н.Г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 Box 6"/>
          <p:cNvSpPr/>
          <p:nvPr/>
        </p:nvSpPr>
        <p:spPr>
          <a:xfrm>
            <a:off x="0" y="3780000"/>
            <a:ext cx="7020000" cy="12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9440" bIns="0" anchor="t">
            <a:noAutofit/>
          </a:bodyPr>
          <a:p>
            <a:pPr marL="431640" indent="-3204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1954 год: первый микроволновой генератор — мазер на аммиаке ( амереканский физик Ч. Таунс, советские физики Басов Н.Г. и Прохоров А.М. — Нобелевская премия по физике 1964 года)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0" name="Picture 7" descr=""/>
          <p:cNvPicPr/>
          <p:nvPr/>
        </p:nvPicPr>
        <p:blipFill>
          <a:blip r:embed="rId6"/>
          <a:stretch/>
        </p:blipFill>
        <p:spPr>
          <a:xfrm>
            <a:off x="539640" y="519120"/>
            <a:ext cx="2340000" cy="2720880"/>
          </a:xfrm>
          <a:prstGeom prst="rect">
            <a:avLst/>
          </a:prstGeom>
          <a:ln w="0">
            <a:noFill/>
          </a:ln>
        </p:spPr>
      </p:pic>
      <p:sp>
        <p:nvSpPr>
          <p:cNvPr id="231" name="Text Box 8"/>
          <p:cNvSpPr/>
          <p:nvPr/>
        </p:nvSpPr>
        <p:spPr>
          <a:xfrm>
            <a:off x="539640" y="3419640"/>
            <a:ext cx="3419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5840" bIns="0" anchor="t">
            <a:noAutofit/>
          </a:bodyPr>
          <a:p>
            <a:pPr marL="431640" indent="-3204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 u="sng">
                <a:solidFill>
                  <a:srgbClr val="ccccff"/>
                </a:solidFill>
                <a:uFillTx/>
                <a:latin typeface="Arial"/>
                <a:hlinkClick r:id="rId7"/>
              </a:rPr>
              <a:t>Ч.Таун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Text Box 9"/>
          <p:cNvSpPr/>
          <p:nvPr/>
        </p:nvSpPr>
        <p:spPr>
          <a:xfrm>
            <a:off x="179280" y="5219640"/>
            <a:ext cx="6300720" cy="18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9440" bIns="0" anchor="t">
            <a:noAutofit/>
          </a:bodyPr>
          <a:p>
            <a:pPr marL="431640" indent="-3204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7 июля 1960 года американский физик Теодор Майман провел презентацию первого лазера. Лазер представлял собой монокристалл искусственного рубина, который создавал интенсивное излучение красного цвет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 Box 10"/>
          <p:cNvSpPr/>
          <p:nvPr/>
        </p:nvSpPr>
        <p:spPr>
          <a:xfrm>
            <a:off x="2519280" y="3419640"/>
            <a:ext cx="306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 u="sng">
                <a:solidFill>
                  <a:srgbClr val="ccccff"/>
                </a:solidFill>
                <a:uFillTx/>
                <a:latin typeface="Arial"/>
                <a:hlinkClick r:id="rId8"/>
              </a:rPr>
              <a:t>А.М.Прохор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178920" y="262080"/>
            <a:ext cx="5940360" cy="2474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понтанное и вынужденное излучение.Механизмы испускания световеществом (Энштейн,191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2" descr=""/>
          <p:cNvPicPr/>
          <p:nvPr/>
        </p:nvPicPr>
        <p:blipFill>
          <a:blip r:embed="rId1"/>
          <a:stretch/>
        </p:blipFill>
        <p:spPr>
          <a:xfrm>
            <a:off x="5040360" y="3959280"/>
            <a:ext cx="4859280" cy="263844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3" descr=""/>
          <p:cNvPicPr/>
          <p:nvPr/>
        </p:nvPicPr>
        <p:blipFill>
          <a:blip r:embed="rId2"/>
          <a:stretch/>
        </p:blipFill>
        <p:spPr>
          <a:xfrm>
            <a:off x="6267600" y="179280"/>
            <a:ext cx="3450960" cy="341964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4" descr=""/>
          <p:cNvPicPr/>
          <p:nvPr/>
        </p:nvPicPr>
        <p:blipFill>
          <a:blip r:embed="rId3"/>
          <a:stretch/>
        </p:blipFill>
        <p:spPr>
          <a:xfrm>
            <a:off x="179280" y="3959280"/>
            <a:ext cx="4680000" cy="2630520"/>
          </a:xfrm>
          <a:prstGeom prst="rect">
            <a:avLst/>
          </a:prstGeom>
          <a:ln w="0">
            <a:noFill/>
          </a:ln>
        </p:spPr>
      </p:pic>
      <p:sp>
        <p:nvSpPr>
          <p:cNvPr id="238" name="Text Box 5"/>
          <p:cNvSpPr/>
          <p:nvPr/>
        </p:nvSpPr>
        <p:spPr>
          <a:xfrm>
            <a:off x="360360" y="6659640"/>
            <a:ext cx="450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9440" bIns="0" anchor="t">
            <a:noAutofit/>
          </a:bodyPr>
          <a:p>
            <a:pPr marL="431640" indent="-3204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Спонтанное излучение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Text Box 6"/>
          <p:cNvSpPr/>
          <p:nvPr/>
        </p:nvSpPr>
        <p:spPr>
          <a:xfrm>
            <a:off x="5219640" y="6659640"/>
            <a:ext cx="485928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9440" bIns="0" anchor="t">
            <a:noAutofit/>
          </a:bodyPr>
          <a:p>
            <a:pPr marL="431640" indent="-3204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 u="sng">
                <a:solidFill>
                  <a:srgbClr val="ccccff"/>
                </a:solidFill>
                <a:uFillTx/>
                <a:latin typeface="Arial"/>
                <a:hlinkClick r:id="rId5"/>
              </a:rPr>
              <a:t>Вынужденное излучение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736200" y="0"/>
            <a:ext cx="9070920" cy="241128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ринцип действия и устройство лазера</a:t>
            </a:r>
            <a:br>
              <a:rPr sz="3600"/>
            </a:br>
            <a:r>
              <a:rPr b="0" lang="en-US" sz="36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www.chipdip.ru/video/id000280971/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2"/>
          <p:cNvSpPr/>
          <p:nvPr/>
        </p:nvSpPr>
        <p:spPr>
          <a:xfrm>
            <a:off x="2124000" y="6946920"/>
            <a:ext cx="57438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http://silris.blogspot.ru/2013/02/blog-post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2" name="Picture 5" descr=""/>
          <p:cNvPicPr/>
          <p:nvPr/>
        </p:nvPicPr>
        <p:blipFill>
          <a:blip r:embed="rId3"/>
          <a:stretch/>
        </p:blipFill>
        <p:spPr>
          <a:xfrm>
            <a:off x="1432080" y="2340000"/>
            <a:ext cx="7127640" cy="4348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1" descr=""/>
          <p:cNvPicPr/>
          <p:nvPr/>
        </p:nvPicPr>
        <p:blipFill>
          <a:blip r:embed="rId1"/>
          <a:stretch/>
        </p:blipFill>
        <p:spPr>
          <a:xfrm>
            <a:off x="503280" y="2658960"/>
            <a:ext cx="9036000" cy="3206880"/>
          </a:xfrm>
          <a:prstGeom prst="rect">
            <a:avLst/>
          </a:prstGeom>
          <a:ln w="0">
            <a:noFill/>
          </a:ln>
        </p:spPr>
      </p:pic>
      <p:sp>
        <p:nvSpPr>
          <p:cNvPr id="244" name="Text Box 2"/>
          <p:cNvSpPr/>
          <p:nvPr/>
        </p:nvSpPr>
        <p:spPr>
          <a:xfrm>
            <a:off x="504720" y="345960"/>
            <a:ext cx="9070920" cy="11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иды лазеров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Text Box 3"/>
          <p:cNvSpPr/>
          <p:nvPr/>
        </p:nvSpPr>
        <p:spPr>
          <a:xfrm>
            <a:off x="426960" y="7020000"/>
            <a:ext cx="53323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http://ru.wikipedia.org/wiki/Виды_лазер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именение лазер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127120" y="1192320"/>
            <a:ext cx="4426200" cy="5016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Устройство,которое само ищет решаемые задачи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3"/>
          <p:cNvSpPr/>
          <p:nvPr/>
        </p:nvSpPr>
        <p:spPr>
          <a:xfrm>
            <a:off x="539640" y="2341440"/>
            <a:ext cx="8999640" cy="61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343080" indent="-339840" algn="ctr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 algn="ctr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менение лазеров тема очень обширная, их применяют практически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во всех отраслях наук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поэтому рассмотрим самые интересные из них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.  Изменение расстояния до Лун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ccccff"/>
                </a:solidFill>
                <a:latin typeface="Arial"/>
              </a:rPr>
              <a:t>лазерная локация Лун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 algn="ctr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 algn="ctr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 algn="ctr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 algn="ctr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 algn="ctr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 algn="ctr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 algn="ctr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 algn="ctr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 algn="ctr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 algn="ctr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 algn="ctr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9" name="Picture 5" descr=""/>
          <p:cNvPicPr/>
          <p:nvPr/>
        </p:nvPicPr>
        <p:blipFill>
          <a:blip r:embed="rId1"/>
          <a:stretch/>
        </p:blipFill>
        <p:spPr>
          <a:xfrm>
            <a:off x="5781600" y="4395960"/>
            <a:ext cx="3600360" cy="2727000"/>
          </a:xfrm>
          <a:prstGeom prst="rect">
            <a:avLst/>
          </a:prstGeom>
          <a:ln w="0">
            <a:noFill/>
          </a:ln>
        </p:spPr>
      </p:pic>
      <p:sp>
        <p:nvSpPr>
          <p:cNvPr id="250" name="Text Box 6"/>
          <p:cNvSpPr/>
          <p:nvPr/>
        </p:nvSpPr>
        <p:spPr>
          <a:xfrm>
            <a:off x="2340000" y="5759280"/>
            <a:ext cx="360036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ans-serif;Arial"/>
              </a:rPr>
              <a:t>Открытая «шкатулка» слева — уголковый отражатель </a:t>
            </a:r>
            <a:r>
              <a:rPr b="0" lang="en-US" sz="1800" spc="-1" strike="noStrike">
                <a:solidFill>
                  <a:srgbClr val="ccccff"/>
                </a:solidFill>
                <a:latin typeface="sans-serif;Arial"/>
              </a:rPr>
              <a:t> Лунохода-1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7T16:33:54Z</dcterms:created>
  <dc:creator/>
  <dc:description/>
  <dc:language>en-US</dc:language>
  <cp:lastModifiedBy>Ирина</cp:lastModifiedBy>
  <dcterms:modified xsi:type="dcterms:W3CDTF">2014-01-27T18:51:38Z</dcterms:modified>
  <cp:revision>9</cp:revision>
  <dc:subject/>
  <dc:title>   ЛАЗЕРЫ     Выполнила  ученица 10 класса Б МБОУ СОШ №135  Федоровичева Алиса, 16 лет </dc:title>
</cp:coreProperties>
</file>