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81F-9DA9-4A95-B813-18B192A1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7A4-A9E6-42F8-A56B-3475BF41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71C-D6D8-4243-928D-684A6006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FF7-A837-4392-AEE5-3EEA5EBC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E846-49CF-46C8-84CE-5907E378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3FCE-8ACF-4ABB-AA0B-F211C9A9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0948-E3D4-4DBE-AC92-0C677DB0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FBB5-D884-4587-9462-09930347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7E2C-5BC0-41C0-B8C9-D7C3A94F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CC72-9709-43D1-BF70-B57CB5B1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D72A-A66A-4BE1-A01B-C90321F9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08F-8BC6-4AAE-865B-FB5B9791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0C0-0D3A-4B69-907E-D70BACA8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C485-8D86-4010-AFDA-D376605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5CA-E23F-44EC-881A-DA099C2B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90AF-B5EF-4B10-B73E-7FF1370B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8179-2719-45DB-9603-0266ED59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6F3-8244-4AF7-8696-3FC130E7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62A-8C6A-4313-95B7-777D3881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83B-A4D3-46D8-AB9F-E3BE741B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372-553B-45E3-AC03-0E4831D7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C72-081B-4214-9850-A724AE6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303-701E-4B6E-95BE-0EDE6F82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146-A954-4EB0-B9E7-7D0FF261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71B5-4857-496C-B2CE-0416E2F7084C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6AB8-229E-41B9-8B8D-EFC1CD481D37}" type="slidenum">
              <a:rPr b="0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16000" y="1484280"/>
            <a:ext cx="70581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ylfaen"/>
              </a:rPr>
              <a:t>ДИЗАРТРИ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57480" y="547560"/>
            <a:ext cx="4575240" cy="5689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84360" y="765000"/>
            <a:ext cx="15840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5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2708280"/>
            <a:ext cx="28872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3357720"/>
            <a:ext cx="289080" cy="266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28908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3357720"/>
            <a:ext cx="289080" cy="266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0360" y="2924280"/>
            <a:ext cx="289080" cy="266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2637000"/>
            <a:ext cx="288720" cy="266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3213000"/>
            <a:ext cx="15843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7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393372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3933720"/>
            <a:ext cx="21564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77080" y="5589720"/>
            <a:ext cx="158436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12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77080" y="765000"/>
            <a:ext cx="158436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10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4360" y="5715000"/>
            <a:ext cx="15840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9 па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4149720"/>
            <a:ext cx="142920" cy="1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4148280"/>
            <a:ext cx="142920" cy="142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42926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42926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4292640"/>
            <a:ext cx="14436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292640"/>
            <a:ext cx="14436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95280" y="404640"/>
          <a:ext cx="8497800" cy="6334200"/>
        </p:xfrm>
        <a:graphic>
          <a:graphicData uri="http://schemas.openxmlformats.org/drawingml/2006/table">
            <a:tbl>
              <a:tblPr/>
              <a:tblGrid>
                <a:gridCol w="1800360"/>
                <a:gridCol w="1584360"/>
                <a:gridCol w="5113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0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Бульбарная дизартрия.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 поражении продолговатого мозга 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рушаются ядра двигательных черепно-мозговых нервов (языкоглоточного, блуждающего, подъязычного, тройничного, лицевого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ралич или парез мышц  глотки, гортани, языка, мягкого неб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ается процесс глота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труднено жевание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достаточная подвижность голосовых складок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голоса (слабый, назализированный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фекты произношения звонких звуков и др. нарушения звукопроизноше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рофия мышц языка, атония (пониженный тонус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чь нечеткая, замедленна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мимичность лица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80880" y="380880"/>
          <a:ext cx="8512200" cy="6245280"/>
        </p:xfrm>
        <a:graphic>
          <a:graphicData uri="http://schemas.openxmlformats.org/drawingml/2006/table">
            <a:tbl>
              <a:tblPr/>
              <a:tblGrid>
                <a:gridCol w="1567080"/>
                <a:gridCol w="1700280"/>
                <a:gridCol w="5244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9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Подкорковая дизартрия            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 поражении подкорковых узлов головного мозга</a:t>
                      </a:r>
                      <a:endParaRPr b="0" lang="en-US" sz="14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е мышечного тонуса (меняющийся характер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ичие гиперкинезов (насильственных непроизвольных движений) в области артикуляционной и мимической мускулатуры (в состоянии покоя и при речевом акте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фонации и артикуляции (то произносит звук, то нет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никновение артикуляционного спазм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роизвольные выкрик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е темпа речи (замедленный или ускоренный, монотонный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тембра и силы голос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интонац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артикуляционной моторики + нарушения голосообразования и речевого дыха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жет сочетаться с нарушением слуха</a:t>
                      </a: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80880" y="380880"/>
          <a:ext cx="8077320" cy="5565960"/>
        </p:xfrm>
        <a:graphic>
          <a:graphicData uri="http://schemas.openxmlformats.org/drawingml/2006/table">
            <a:tbl>
              <a:tblPr/>
              <a:tblGrid>
                <a:gridCol w="1868760"/>
                <a:gridCol w="2089080"/>
                <a:gridCol w="4119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Мозжечковая дизартрия 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 поражениях в области мозжеч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андированная речь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модуляции голос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ность удержания артикуляционных укладов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очность движений языка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80880" y="333360"/>
          <a:ext cx="8512200" cy="6149880"/>
        </p:xfrm>
        <a:graphic>
          <a:graphicData uri="http://schemas.openxmlformats.org/drawingml/2006/table">
            <a:tbl>
              <a:tblPr/>
              <a:tblGrid>
                <a:gridCol w="1609920"/>
                <a:gridCol w="2124000"/>
                <a:gridCol w="4778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5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Корковая дизартр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 очаговых поражениях головного мозг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ается произвольная моторика артикуляционного аппарат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ается произношение сложных по звуко-слоговой структуре слов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трудняется динамика переключения с одного звука на другой, с одной позы на другую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олированные звуки произносятся правильно, а в потоке речи искажаются, заменяютс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коренный темп речи,            запинк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 нарушений лексико-грамматической стороны речи 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79280" y="380880"/>
          <a:ext cx="8640720" cy="6151680"/>
        </p:xfrm>
        <a:graphic>
          <a:graphicData uri="http://schemas.openxmlformats.org/drawingml/2006/table">
            <a:tbl>
              <a:tblPr/>
              <a:tblGrid>
                <a:gridCol w="2256120"/>
                <a:gridCol w="2092320"/>
                <a:gridCol w="42922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Псевдобульбарная дизартр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дствие перенесенного органического поражения головного мозг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севдобульбарный парез или паралич, обусловленный поражением проводящих путей, идущих от коры головного мозга к ядрам ЧМН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общей и речевой моторик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трудненность сосания, глота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перхивания, захлебывания при еде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юнотечение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е мимик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79280" y="260280"/>
          <a:ext cx="8640720" cy="6072120"/>
        </p:xfrm>
        <a:graphic>
          <a:graphicData uri="http://schemas.openxmlformats.org/drawingml/2006/table">
            <a:tbl>
              <a:tblPr/>
              <a:tblGrid>
                <a:gridCol w="2206800"/>
                <a:gridCol w="2041560"/>
                <a:gridCol w="43923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атогенез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Легкая степень псевдобульбарной дизарт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дствие перенесенного органического поражения головного мозг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сутствуют грубые нарушения моторики артикуляционного аппарат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дленные, неточные движения языка, губ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стройства жевания и глотания не выражены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чь замедленная, смазанна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аще страдают звук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Ж, Ш, Р, Ц, Ч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вонкие произносятся с оглушением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ности произношения мягких  (средняя часть языка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доразвитие фонематического восприятия (звуковой анализ)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письме замены: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Д - Т, Ч - Ц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хранны структура слова и лексико-грамматическая сторона реч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ух и интеллект чаще всего сохранны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80880" y="260280"/>
          <a:ext cx="8512200" cy="6408360"/>
        </p:xfrm>
        <a:graphic>
          <a:graphicData uri="http://schemas.openxmlformats.org/drawingml/2006/table">
            <a:tbl>
              <a:tblPr/>
              <a:tblGrid>
                <a:gridCol w="2246400"/>
                <a:gridCol w="6265800"/>
              </a:tblGrid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0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редняя степень псевдобульбарной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иболее многочисленная группа дизартриков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мимичность: не могут надувать щеки, вытягивать губы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ижения языка ограничены вверх и в стороны, в статическом положении не могут удерживать язык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удности в артикуляционных переключениях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ягкое небо малоподвижно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ализованный голос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ильная солювац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труднено жевание и глотание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яжелые нарушения звукопроизношени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лоподвижный язык, губы             нечеткая артикуляция гласных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асто смешиваются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Ы—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гут быть сохранны звуки: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, Т, М, К, Х, Н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Ч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и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Ц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Р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и 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роизносятся приближенно с призвуком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абая воздушная струя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вонкие согласные заменяют глухим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пуск звуков в конце слова и в стечениях согласных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рушения коммуникативной функции реч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граниченность жизненного и вербального опыта 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80880" y="380880"/>
          <a:ext cx="8077320" cy="5569200"/>
        </p:xfrm>
        <a:graphic>
          <a:graphicData uri="http://schemas.openxmlformats.org/drawingml/2006/table">
            <a:tbl>
              <a:tblPr/>
              <a:tblGrid>
                <a:gridCol w="2246400"/>
                <a:gridCol w="583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Форма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имптоматика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1368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яжелая  степень псевдобульбарной дизартрии</a:t>
                      </a:r>
                      <a:endParaRPr b="0" lang="en-US" sz="16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артрия – глубокое поражение мышц и полная бездеятельность речевого аппарата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кообразное лицо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висает нижняя челюсть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т постоянно открыт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зык неподвижен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ольшие трудности при жевании и глотании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чь нечленораздельна или отсутствует</a:t>
                      </a: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1368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368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40000" y="1996920"/>
            <a:ext cx="4608360" cy="33894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ahoma"/>
              </a:rPr>
              <a:t>Бульбарный паралич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8660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Нервная система челове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3461040" cy="6411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76720" y="485640"/>
            <a:ext cx="2773080" cy="6372360"/>
          </a:xfrm>
          <a:custGeom>
            <a:avLst/>
            <a:gdLst/>
            <a:ahLst/>
            <a:rect l="l" t="t" r="r" b="b"/>
            <a:pathLst>
              <a:path w="1747" h="4014">
                <a:moveTo>
                  <a:pt x="559" y="378"/>
                </a:moveTo>
                <a:cubicBezTo>
                  <a:pt x="552" y="318"/>
                  <a:pt x="469" y="211"/>
                  <a:pt x="514" y="151"/>
                </a:cubicBezTo>
                <a:cubicBezTo>
                  <a:pt x="559" y="91"/>
                  <a:pt x="733" y="0"/>
                  <a:pt x="831" y="15"/>
                </a:cubicBezTo>
                <a:cubicBezTo>
                  <a:pt x="929" y="30"/>
                  <a:pt x="1066" y="159"/>
                  <a:pt x="1104" y="242"/>
                </a:cubicBezTo>
                <a:cubicBezTo>
                  <a:pt x="1142" y="325"/>
                  <a:pt x="1066" y="454"/>
                  <a:pt x="1058" y="514"/>
                </a:cubicBezTo>
                <a:cubicBezTo>
                  <a:pt x="1050" y="574"/>
                  <a:pt x="1035" y="567"/>
                  <a:pt x="1058" y="605"/>
                </a:cubicBezTo>
                <a:cubicBezTo>
                  <a:pt x="1081" y="643"/>
                  <a:pt x="1141" y="696"/>
                  <a:pt x="1194" y="741"/>
                </a:cubicBezTo>
                <a:cubicBezTo>
                  <a:pt x="1247" y="786"/>
                  <a:pt x="1331" y="771"/>
                  <a:pt x="1376" y="877"/>
                </a:cubicBezTo>
                <a:cubicBezTo>
                  <a:pt x="1421" y="983"/>
                  <a:pt x="1413" y="1202"/>
                  <a:pt x="1466" y="1376"/>
                </a:cubicBezTo>
                <a:cubicBezTo>
                  <a:pt x="1519" y="1550"/>
                  <a:pt x="1648" y="1777"/>
                  <a:pt x="1693" y="1920"/>
                </a:cubicBezTo>
                <a:cubicBezTo>
                  <a:pt x="1738" y="2063"/>
                  <a:pt x="1747" y="2146"/>
                  <a:pt x="1739" y="2237"/>
                </a:cubicBezTo>
                <a:cubicBezTo>
                  <a:pt x="1731" y="2328"/>
                  <a:pt x="1701" y="2449"/>
                  <a:pt x="1648" y="2464"/>
                </a:cubicBezTo>
                <a:cubicBezTo>
                  <a:pt x="1595" y="2479"/>
                  <a:pt x="1497" y="2434"/>
                  <a:pt x="1421" y="2328"/>
                </a:cubicBezTo>
                <a:cubicBezTo>
                  <a:pt x="1345" y="2222"/>
                  <a:pt x="1239" y="1950"/>
                  <a:pt x="1194" y="1829"/>
                </a:cubicBezTo>
                <a:cubicBezTo>
                  <a:pt x="1149" y="1708"/>
                  <a:pt x="1141" y="1519"/>
                  <a:pt x="1149" y="1602"/>
                </a:cubicBezTo>
                <a:cubicBezTo>
                  <a:pt x="1157" y="1685"/>
                  <a:pt x="1247" y="2101"/>
                  <a:pt x="1240" y="2328"/>
                </a:cubicBezTo>
                <a:cubicBezTo>
                  <a:pt x="1233" y="2555"/>
                  <a:pt x="1134" y="2774"/>
                  <a:pt x="1104" y="2963"/>
                </a:cubicBezTo>
                <a:cubicBezTo>
                  <a:pt x="1074" y="3152"/>
                  <a:pt x="1081" y="3334"/>
                  <a:pt x="1058" y="3462"/>
                </a:cubicBezTo>
                <a:cubicBezTo>
                  <a:pt x="1035" y="3590"/>
                  <a:pt x="959" y="3674"/>
                  <a:pt x="967" y="3734"/>
                </a:cubicBezTo>
                <a:cubicBezTo>
                  <a:pt x="975" y="3794"/>
                  <a:pt x="1104" y="3795"/>
                  <a:pt x="1104" y="3825"/>
                </a:cubicBezTo>
                <a:cubicBezTo>
                  <a:pt x="1104" y="3855"/>
                  <a:pt x="1035" y="3901"/>
                  <a:pt x="967" y="3916"/>
                </a:cubicBezTo>
                <a:cubicBezTo>
                  <a:pt x="899" y="3931"/>
                  <a:pt x="733" y="4014"/>
                  <a:pt x="695" y="3916"/>
                </a:cubicBezTo>
                <a:cubicBezTo>
                  <a:pt x="657" y="3818"/>
                  <a:pt x="733" y="3500"/>
                  <a:pt x="741" y="3326"/>
                </a:cubicBezTo>
                <a:cubicBezTo>
                  <a:pt x="749" y="3152"/>
                  <a:pt x="741" y="2993"/>
                  <a:pt x="741" y="2872"/>
                </a:cubicBezTo>
                <a:cubicBezTo>
                  <a:pt x="741" y="2751"/>
                  <a:pt x="749" y="2577"/>
                  <a:pt x="741" y="2600"/>
                </a:cubicBezTo>
                <a:cubicBezTo>
                  <a:pt x="733" y="2623"/>
                  <a:pt x="710" y="2828"/>
                  <a:pt x="695" y="3009"/>
                </a:cubicBezTo>
                <a:cubicBezTo>
                  <a:pt x="680" y="3190"/>
                  <a:pt x="688" y="3538"/>
                  <a:pt x="650" y="3689"/>
                </a:cubicBezTo>
                <a:cubicBezTo>
                  <a:pt x="612" y="3840"/>
                  <a:pt x="551" y="3878"/>
                  <a:pt x="468" y="3916"/>
                </a:cubicBezTo>
                <a:cubicBezTo>
                  <a:pt x="385" y="3954"/>
                  <a:pt x="188" y="3946"/>
                  <a:pt x="151" y="3916"/>
                </a:cubicBezTo>
                <a:cubicBezTo>
                  <a:pt x="114" y="3886"/>
                  <a:pt x="204" y="3802"/>
                  <a:pt x="242" y="3734"/>
                </a:cubicBezTo>
                <a:cubicBezTo>
                  <a:pt x="280" y="3666"/>
                  <a:pt x="355" y="3652"/>
                  <a:pt x="378" y="3508"/>
                </a:cubicBezTo>
                <a:cubicBezTo>
                  <a:pt x="401" y="3364"/>
                  <a:pt x="386" y="3137"/>
                  <a:pt x="378" y="2872"/>
                </a:cubicBezTo>
                <a:cubicBezTo>
                  <a:pt x="370" y="2607"/>
                  <a:pt x="325" y="2162"/>
                  <a:pt x="332" y="1920"/>
                </a:cubicBezTo>
                <a:cubicBezTo>
                  <a:pt x="339" y="1678"/>
                  <a:pt x="415" y="1519"/>
                  <a:pt x="423" y="1421"/>
                </a:cubicBezTo>
                <a:cubicBezTo>
                  <a:pt x="431" y="1323"/>
                  <a:pt x="401" y="1254"/>
                  <a:pt x="378" y="1330"/>
                </a:cubicBezTo>
                <a:cubicBezTo>
                  <a:pt x="355" y="1406"/>
                  <a:pt x="287" y="1731"/>
                  <a:pt x="287" y="1875"/>
                </a:cubicBezTo>
                <a:cubicBezTo>
                  <a:pt x="287" y="2019"/>
                  <a:pt x="378" y="2139"/>
                  <a:pt x="378" y="2192"/>
                </a:cubicBezTo>
                <a:cubicBezTo>
                  <a:pt x="378" y="2245"/>
                  <a:pt x="302" y="2162"/>
                  <a:pt x="287" y="2192"/>
                </a:cubicBezTo>
                <a:cubicBezTo>
                  <a:pt x="272" y="2222"/>
                  <a:pt x="310" y="2344"/>
                  <a:pt x="287" y="2374"/>
                </a:cubicBezTo>
                <a:cubicBezTo>
                  <a:pt x="264" y="2404"/>
                  <a:pt x="196" y="2427"/>
                  <a:pt x="151" y="2374"/>
                </a:cubicBezTo>
                <a:cubicBezTo>
                  <a:pt x="106" y="2321"/>
                  <a:pt x="30" y="2162"/>
                  <a:pt x="15" y="2056"/>
                </a:cubicBezTo>
                <a:cubicBezTo>
                  <a:pt x="0" y="1950"/>
                  <a:pt x="53" y="1889"/>
                  <a:pt x="60" y="1738"/>
                </a:cubicBezTo>
                <a:cubicBezTo>
                  <a:pt x="67" y="1587"/>
                  <a:pt x="7" y="1330"/>
                  <a:pt x="60" y="1149"/>
                </a:cubicBezTo>
                <a:cubicBezTo>
                  <a:pt x="113" y="968"/>
                  <a:pt x="295" y="756"/>
                  <a:pt x="378" y="650"/>
                </a:cubicBezTo>
                <a:cubicBezTo>
                  <a:pt x="461" y="544"/>
                  <a:pt x="529" y="552"/>
                  <a:pt x="559" y="514"/>
                </a:cubicBezTo>
                <a:cubicBezTo>
                  <a:pt x="589" y="476"/>
                  <a:pt x="566" y="438"/>
                  <a:pt x="559" y="378"/>
                </a:cubicBezTo>
                <a:close/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Дизартр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20920" y="115920"/>
            <a:ext cx="4267080" cy="65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Псевдобульбарная дизартр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457800" cy="46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</a:rPr>
              <a:t>Центральная нерв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72480" cy="5367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92360" y="549360"/>
            <a:ext cx="6164280" cy="3906720"/>
          </a:xfrm>
          <a:custGeom>
            <a:avLst/>
            <a:gdLst/>
            <a:ahLst/>
            <a:rect l="l" t="t" r="r" b="b"/>
            <a:pathLst>
              <a:path w="3883" h="2461">
                <a:moveTo>
                  <a:pt x="1216" y="2445"/>
                </a:moveTo>
                <a:cubicBezTo>
                  <a:pt x="1182" y="2421"/>
                  <a:pt x="1133" y="2350"/>
                  <a:pt x="1106" y="2311"/>
                </a:cubicBezTo>
                <a:cubicBezTo>
                  <a:pt x="1092" y="2268"/>
                  <a:pt x="1108" y="2305"/>
                  <a:pt x="1074" y="2263"/>
                </a:cubicBezTo>
                <a:cubicBezTo>
                  <a:pt x="1034" y="2214"/>
                  <a:pt x="1099" y="2242"/>
                  <a:pt x="972" y="2232"/>
                </a:cubicBezTo>
                <a:cubicBezTo>
                  <a:pt x="955" y="2220"/>
                  <a:pt x="942" y="2202"/>
                  <a:pt x="924" y="2192"/>
                </a:cubicBezTo>
                <a:cubicBezTo>
                  <a:pt x="856" y="2154"/>
                  <a:pt x="755" y="2152"/>
                  <a:pt x="688" y="2145"/>
                </a:cubicBezTo>
                <a:cubicBezTo>
                  <a:pt x="588" y="2112"/>
                  <a:pt x="582" y="2109"/>
                  <a:pt x="443" y="2090"/>
                </a:cubicBezTo>
                <a:cubicBezTo>
                  <a:pt x="328" y="2051"/>
                  <a:pt x="439" y="2099"/>
                  <a:pt x="380" y="2050"/>
                </a:cubicBezTo>
                <a:cubicBezTo>
                  <a:pt x="371" y="2042"/>
                  <a:pt x="358" y="2041"/>
                  <a:pt x="348" y="2034"/>
                </a:cubicBezTo>
                <a:cubicBezTo>
                  <a:pt x="312" y="2007"/>
                  <a:pt x="284" y="1973"/>
                  <a:pt x="246" y="1948"/>
                </a:cubicBezTo>
                <a:cubicBezTo>
                  <a:pt x="200" y="1880"/>
                  <a:pt x="262" y="1966"/>
                  <a:pt x="206" y="1908"/>
                </a:cubicBezTo>
                <a:cubicBezTo>
                  <a:pt x="173" y="1874"/>
                  <a:pt x="149" y="1821"/>
                  <a:pt x="120" y="1782"/>
                </a:cubicBezTo>
                <a:cubicBezTo>
                  <a:pt x="104" y="1736"/>
                  <a:pt x="93" y="1718"/>
                  <a:pt x="64" y="1679"/>
                </a:cubicBezTo>
                <a:cubicBezTo>
                  <a:pt x="47" y="1632"/>
                  <a:pt x="33" y="1585"/>
                  <a:pt x="17" y="1537"/>
                </a:cubicBezTo>
                <a:cubicBezTo>
                  <a:pt x="18" y="1507"/>
                  <a:pt x="0" y="1033"/>
                  <a:pt x="72" y="930"/>
                </a:cubicBezTo>
                <a:cubicBezTo>
                  <a:pt x="81" y="896"/>
                  <a:pt x="96" y="874"/>
                  <a:pt x="112" y="843"/>
                </a:cubicBezTo>
                <a:cubicBezTo>
                  <a:pt x="130" y="703"/>
                  <a:pt x="181" y="511"/>
                  <a:pt x="301" y="425"/>
                </a:cubicBezTo>
                <a:cubicBezTo>
                  <a:pt x="338" y="370"/>
                  <a:pt x="410" y="371"/>
                  <a:pt x="467" y="346"/>
                </a:cubicBezTo>
                <a:cubicBezTo>
                  <a:pt x="523" y="321"/>
                  <a:pt x="567" y="278"/>
                  <a:pt x="625" y="259"/>
                </a:cubicBezTo>
                <a:cubicBezTo>
                  <a:pt x="662" y="233"/>
                  <a:pt x="639" y="246"/>
                  <a:pt x="696" y="227"/>
                </a:cubicBezTo>
                <a:cubicBezTo>
                  <a:pt x="737" y="213"/>
                  <a:pt x="716" y="214"/>
                  <a:pt x="751" y="196"/>
                </a:cubicBezTo>
                <a:cubicBezTo>
                  <a:pt x="779" y="182"/>
                  <a:pt x="815" y="180"/>
                  <a:pt x="845" y="172"/>
                </a:cubicBezTo>
                <a:cubicBezTo>
                  <a:pt x="901" y="191"/>
                  <a:pt x="828" y="172"/>
                  <a:pt x="916" y="164"/>
                </a:cubicBezTo>
                <a:cubicBezTo>
                  <a:pt x="1016" y="155"/>
                  <a:pt x="1116" y="154"/>
                  <a:pt x="1216" y="149"/>
                </a:cubicBezTo>
                <a:cubicBezTo>
                  <a:pt x="1255" y="136"/>
                  <a:pt x="1287" y="125"/>
                  <a:pt x="1327" y="117"/>
                </a:cubicBezTo>
                <a:cubicBezTo>
                  <a:pt x="1367" y="96"/>
                  <a:pt x="1409" y="86"/>
                  <a:pt x="1453" y="78"/>
                </a:cubicBezTo>
                <a:cubicBezTo>
                  <a:pt x="1536" y="44"/>
                  <a:pt x="1617" y="21"/>
                  <a:pt x="1706" y="7"/>
                </a:cubicBezTo>
                <a:cubicBezTo>
                  <a:pt x="2284" y="13"/>
                  <a:pt x="2188" y="0"/>
                  <a:pt x="2534" y="54"/>
                </a:cubicBezTo>
                <a:cubicBezTo>
                  <a:pt x="2566" y="70"/>
                  <a:pt x="2599" y="80"/>
                  <a:pt x="2629" y="101"/>
                </a:cubicBezTo>
                <a:cubicBezTo>
                  <a:pt x="2643" y="111"/>
                  <a:pt x="2654" y="124"/>
                  <a:pt x="2668" y="133"/>
                </a:cubicBezTo>
                <a:cubicBezTo>
                  <a:pt x="2686" y="144"/>
                  <a:pt x="2749" y="148"/>
                  <a:pt x="2755" y="149"/>
                </a:cubicBezTo>
                <a:cubicBezTo>
                  <a:pt x="2805" y="185"/>
                  <a:pt x="2848" y="194"/>
                  <a:pt x="2897" y="243"/>
                </a:cubicBezTo>
                <a:cubicBezTo>
                  <a:pt x="2929" y="275"/>
                  <a:pt x="2968" y="300"/>
                  <a:pt x="2992" y="338"/>
                </a:cubicBezTo>
                <a:cubicBezTo>
                  <a:pt x="2997" y="346"/>
                  <a:pt x="2999" y="357"/>
                  <a:pt x="3007" y="362"/>
                </a:cubicBezTo>
                <a:cubicBezTo>
                  <a:pt x="3016" y="368"/>
                  <a:pt x="3028" y="367"/>
                  <a:pt x="3039" y="369"/>
                </a:cubicBezTo>
                <a:cubicBezTo>
                  <a:pt x="3070" y="400"/>
                  <a:pt x="3102" y="419"/>
                  <a:pt x="3134" y="448"/>
                </a:cubicBezTo>
                <a:cubicBezTo>
                  <a:pt x="3161" y="472"/>
                  <a:pt x="3187" y="514"/>
                  <a:pt x="3228" y="519"/>
                </a:cubicBezTo>
                <a:cubicBezTo>
                  <a:pt x="3268" y="523"/>
                  <a:pt x="3307" y="524"/>
                  <a:pt x="3347" y="527"/>
                </a:cubicBezTo>
                <a:cubicBezTo>
                  <a:pt x="3363" y="553"/>
                  <a:pt x="3369" y="589"/>
                  <a:pt x="3394" y="606"/>
                </a:cubicBezTo>
                <a:cubicBezTo>
                  <a:pt x="3444" y="640"/>
                  <a:pt x="3482" y="679"/>
                  <a:pt x="3520" y="725"/>
                </a:cubicBezTo>
                <a:cubicBezTo>
                  <a:pt x="3551" y="762"/>
                  <a:pt x="3576" y="817"/>
                  <a:pt x="3615" y="843"/>
                </a:cubicBezTo>
                <a:cubicBezTo>
                  <a:pt x="3635" y="903"/>
                  <a:pt x="3606" y="827"/>
                  <a:pt x="3647" y="890"/>
                </a:cubicBezTo>
                <a:cubicBezTo>
                  <a:pt x="3652" y="897"/>
                  <a:pt x="3650" y="906"/>
                  <a:pt x="3654" y="914"/>
                </a:cubicBezTo>
                <a:cubicBezTo>
                  <a:pt x="3675" y="958"/>
                  <a:pt x="3695" y="1004"/>
                  <a:pt x="3718" y="1048"/>
                </a:cubicBezTo>
                <a:cubicBezTo>
                  <a:pt x="3728" y="1113"/>
                  <a:pt x="3716" y="1083"/>
                  <a:pt x="3757" y="1143"/>
                </a:cubicBezTo>
                <a:cubicBezTo>
                  <a:pt x="3762" y="1151"/>
                  <a:pt x="3773" y="1166"/>
                  <a:pt x="3773" y="1166"/>
                </a:cubicBezTo>
                <a:cubicBezTo>
                  <a:pt x="3792" y="1243"/>
                  <a:pt x="3817" y="1316"/>
                  <a:pt x="3828" y="1395"/>
                </a:cubicBezTo>
                <a:cubicBezTo>
                  <a:pt x="3836" y="1448"/>
                  <a:pt x="3835" y="1497"/>
                  <a:pt x="3860" y="1545"/>
                </a:cubicBezTo>
                <a:cubicBezTo>
                  <a:pt x="3874" y="1616"/>
                  <a:pt x="3869" y="1687"/>
                  <a:pt x="3883" y="1758"/>
                </a:cubicBezTo>
                <a:cubicBezTo>
                  <a:pt x="3880" y="1842"/>
                  <a:pt x="3879" y="1927"/>
                  <a:pt x="3875" y="2011"/>
                </a:cubicBezTo>
                <a:cubicBezTo>
                  <a:pt x="3872" y="2066"/>
                  <a:pt x="3811" y="2115"/>
                  <a:pt x="3781" y="2161"/>
                </a:cubicBezTo>
                <a:cubicBezTo>
                  <a:pt x="3762" y="2190"/>
                  <a:pt x="3730" y="2243"/>
                  <a:pt x="3694" y="2255"/>
                </a:cubicBezTo>
                <a:cubicBezTo>
                  <a:pt x="3676" y="2252"/>
                  <a:pt x="3656" y="2255"/>
                  <a:pt x="3639" y="2247"/>
                </a:cubicBezTo>
                <a:cubicBezTo>
                  <a:pt x="3632" y="2243"/>
                  <a:pt x="3636" y="2230"/>
                  <a:pt x="3631" y="2224"/>
                </a:cubicBezTo>
                <a:cubicBezTo>
                  <a:pt x="3625" y="2217"/>
                  <a:pt x="3615" y="2213"/>
                  <a:pt x="3607" y="2208"/>
                </a:cubicBezTo>
                <a:cubicBezTo>
                  <a:pt x="3564" y="2144"/>
                  <a:pt x="3619" y="2215"/>
                  <a:pt x="3568" y="2176"/>
                </a:cubicBezTo>
                <a:cubicBezTo>
                  <a:pt x="3529" y="2146"/>
                  <a:pt x="3499" y="2099"/>
                  <a:pt x="3449" y="2082"/>
                </a:cubicBezTo>
                <a:cubicBezTo>
                  <a:pt x="3410" y="2069"/>
                  <a:pt x="3381" y="2058"/>
                  <a:pt x="3347" y="2034"/>
                </a:cubicBezTo>
                <a:cubicBezTo>
                  <a:pt x="3319" y="1994"/>
                  <a:pt x="3304" y="1943"/>
                  <a:pt x="3268" y="1908"/>
                </a:cubicBezTo>
                <a:cubicBezTo>
                  <a:pt x="3225" y="1866"/>
                  <a:pt x="3167" y="1847"/>
                  <a:pt x="3110" y="1837"/>
                </a:cubicBezTo>
                <a:cubicBezTo>
                  <a:pt x="3037" y="1807"/>
                  <a:pt x="2961" y="1749"/>
                  <a:pt x="2897" y="1703"/>
                </a:cubicBezTo>
                <a:cubicBezTo>
                  <a:pt x="2888" y="1696"/>
                  <a:pt x="2883" y="1685"/>
                  <a:pt x="2873" y="1679"/>
                </a:cubicBezTo>
                <a:cubicBezTo>
                  <a:pt x="2826" y="1653"/>
                  <a:pt x="2754" y="1659"/>
                  <a:pt x="2708" y="1656"/>
                </a:cubicBezTo>
                <a:cubicBezTo>
                  <a:pt x="2646" y="1644"/>
                  <a:pt x="2612" y="1638"/>
                  <a:pt x="2542" y="1632"/>
                </a:cubicBezTo>
                <a:cubicBezTo>
                  <a:pt x="2434" y="1596"/>
                  <a:pt x="2545" y="1610"/>
                  <a:pt x="2313" y="1600"/>
                </a:cubicBezTo>
                <a:cubicBezTo>
                  <a:pt x="2249" y="1583"/>
                  <a:pt x="2246" y="1525"/>
                  <a:pt x="2195" y="1490"/>
                </a:cubicBezTo>
                <a:cubicBezTo>
                  <a:pt x="2159" y="1465"/>
                  <a:pt x="2111" y="1468"/>
                  <a:pt x="2068" y="1458"/>
                </a:cubicBezTo>
                <a:cubicBezTo>
                  <a:pt x="1915" y="1375"/>
                  <a:pt x="2005" y="1401"/>
                  <a:pt x="1792" y="1411"/>
                </a:cubicBezTo>
                <a:cubicBezTo>
                  <a:pt x="1693" y="1445"/>
                  <a:pt x="1669" y="1612"/>
                  <a:pt x="1587" y="1671"/>
                </a:cubicBezTo>
                <a:cubicBezTo>
                  <a:pt x="1549" y="1739"/>
                  <a:pt x="1504" y="1804"/>
                  <a:pt x="1461" y="1869"/>
                </a:cubicBezTo>
                <a:cubicBezTo>
                  <a:pt x="1445" y="1893"/>
                  <a:pt x="1441" y="1895"/>
                  <a:pt x="1429" y="1924"/>
                </a:cubicBezTo>
                <a:cubicBezTo>
                  <a:pt x="1423" y="1939"/>
                  <a:pt x="1414" y="1971"/>
                  <a:pt x="1414" y="1971"/>
                </a:cubicBezTo>
                <a:cubicBezTo>
                  <a:pt x="1403" y="2049"/>
                  <a:pt x="1431" y="2136"/>
                  <a:pt x="1398" y="2208"/>
                </a:cubicBezTo>
                <a:cubicBezTo>
                  <a:pt x="1388" y="2230"/>
                  <a:pt x="1351" y="2203"/>
                  <a:pt x="1327" y="2200"/>
                </a:cubicBezTo>
                <a:cubicBezTo>
                  <a:pt x="1275" y="2165"/>
                  <a:pt x="1275" y="2173"/>
                  <a:pt x="1232" y="2216"/>
                </a:cubicBezTo>
                <a:cubicBezTo>
                  <a:pt x="1206" y="2292"/>
                  <a:pt x="1223" y="2351"/>
                  <a:pt x="1208" y="2437"/>
                </a:cubicBezTo>
                <a:cubicBezTo>
                  <a:pt x="1206" y="2446"/>
                  <a:pt x="1178" y="2446"/>
                  <a:pt x="1185" y="2453"/>
                </a:cubicBezTo>
                <a:cubicBezTo>
                  <a:pt x="1193" y="2461"/>
                  <a:pt x="1206" y="2448"/>
                  <a:pt x="1216" y="2445"/>
                </a:cubicBezTo>
                <a:close/>
              </a:path>
            </a:pathLst>
          </a:custGeom>
          <a:noFill/>
          <a:ln cap="rnd" w="5724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2852640"/>
            <a:ext cx="1874880" cy="3092400"/>
          </a:xfrm>
          <a:custGeom>
            <a:avLst/>
            <a:gdLst/>
            <a:ahLst/>
            <a:rect l="l" t="t" r="r" b="b"/>
            <a:pathLst>
              <a:path w="1181" h="1948">
                <a:moveTo>
                  <a:pt x="366" y="63"/>
                </a:moveTo>
                <a:cubicBezTo>
                  <a:pt x="322" y="78"/>
                  <a:pt x="331" y="85"/>
                  <a:pt x="302" y="110"/>
                </a:cubicBezTo>
                <a:cubicBezTo>
                  <a:pt x="288" y="122"/>
                  <a:pt x="271" y="131"/>
                  <a:pt x="255" y="142"/>
                </a:cubicBezTo>
                <a:cubicBezTo>
                  <a:pt x="247" y="147"/>
                  <a:pt x="231" y="158"/>
                  <a:pt x="231" y="158"/>
                </a:cubicBezTo>
                <a:cubicBezTo>
                  <a:pt x="194" y="208"/>
                  <a:pt x="178" y="267"/>
                  <a:pt x="153" y="323"/>
                </a:cubicBezTo>
                <a:cubicBezTo>
                  <a:pt x="132" y="370"/>
                  <a:pt x="133" y="406"/>
                  <a:pt x="97" y="442"/>
                </a:cubicBezTo>
                <a:cubicBezTo>
                  <a:pt x="68" y="527"/>
                  <a:pt x="41" y="615"/>
                  <a:pt x="18" y="702"/>
                </a:cubicBezTo>
                <a:cubicBezTo>
                  <a:pt x="0" y="841"/>
                  <a:pt x="9" y="744"/>
                  <a:pt x="26" y="994"/>
                </a:cubicBezTo>
                <a:cubicBezTo>
                  <a:pt x="27" y="1002"/>
                  <a:pt x="27" y="1013"/>
                  <a:pt x="34" y="1018"/>
                </a:cubicBezTo>
                <a:cubicBezTo>
                  <a:pt x="61" y="1036"/>
                  <a:pt x="97" y="1029"/>
                  <a:pt x="129" y="1034"/>
                </a:cubicBezTo>
                <a:cubicBezTo>
                  <a:pt x="137" y="1039"/>
                  <a:pt x="145" y="1044"/>
                  <a:pt x="153" y="1049"/>
                </a:cubicBezTo>
                <a:cubicBezTo>
                  <a:pt x="163" y="1055"/>
                  <a:pt x="174" y="1059"/>
                  <a:pt x="184" y="1065"/>
                </a:cubicBezTo>
                <a:cubicBezTo>
                  <a:pt x="200" y="1075"/>
                  <a:pt x="231" y="1097"/>
                  <a:pt x="231" y="1097"/>
                </a:cubicBezTo>
                <a:cubicBezTo>
                  <a:pt x="251" y="1125"/>
                  <a:pt x="253" y="1149"/>
                  <a:pt x="287" y="1160"/>
                </a:cubicBezTo>
                <a:cubicBezTo>
                  <a:pt x="328" y="1201"/>
                  <a:pt x="340" y="1235"/>
                  <a:pt x="366" y="1286"/>
                </a:cubicBezTo>
                <a:cubicBezTo>
                  <a:pt x="375" y="1336"/>
                  <a:pt x="377" y="1387"/>
                  <a:pt x="389" y="1436"/>
                </a:cubicBezTo>
                <a:cubicBezTo>
                  <a:pt x="399" y="1521"/>
                  <a:pt x="406" y="1530"/>
                  <a:pt x="460" y="1586"/>
                </a:cubicBezTo>
                <a:cubicBezTo>
                  <a:pt x="474" y="1627"/>
                  <a:pt x="497" y="1645"/>
                  <a:pt x="531" y="1673"/>
                </a:cubicBezTo>
                <a:cubicBezTo>
                  <a:pt x="567" y="1762"/>
                  <a:pt x="602" y="1783"/>
                  <a:pt x="673" y="1830"/>
                </a:cubicBezTo>
                <a:cubicBezTo>
                  <a:pt x="762" y="1889"/>
                  <a:pt x="705" y="1868"/>
                  <a:pt x="760" y="1886"/>
                </a:cubicBezTo>
                <a:cubicBezTo>
                  <a:pt x="846" y="1948"/>
                  <a:pt x="844" y="1924"/>
                  <a:pt x="989" y="1917"/>
                </a:cubicBezTo>
                <a:cubicBezTo>
                  <a:pt x="1045" y="1898"/>
                  <a:pt x="1079" y="1856"/>
                  <a:pt x="1131" y="1830"/>
                </a:cubicBezTo>
                <a:cubicBezTo>
                  <a:pt x="1149" y="1777"/>
                  <a:pt x="1148" y="1757"/>
                  <a:pt x="1178" y="1704"/>
                </a:cubicBezTo>
                <a:cubicBezTo>
                  <a:pt x="1172" y="1597"/>
                  <a:pt x="1181" y="1558"/>
                  <a:pt x="1131" y="1483"/>
                </a:cubicBezTo>
                <a:cubicBezTo>
                  <a:pt x="1122" y="1438"/>
                  <a:pt x="1110" y="1394"/>
                  <a:pt x="1099" y="1349"/>
                </a:cubicBezTo>
                <a:cubicBezTo>
                  <a:pt x="1091" y="1272"/>
                  <a:pt x="1079" y="1203"/>
                  <a:pt x="1060" y="1128"/>
                </a:cubicBezTo>
                <a:cubicBezTo>
                  <a:pt x="1056" y="788"/>
                  <a:pt x="1124" y="565"/>
                  <a:pt x="989" y="300"/>
                </a:cubicBezTo>
                <a:cubicBezTo>
                  <a:pt x="976" y="244"/>
                  <a:pt x="964" y="186"/>
                  <a:pt x="926" y="142"/>
                </a:cubicBezTo>
                <a:cubicBezTo>
                  <a:pt x="907" y="119"/>
                  <a:pt x="855" y="87"/>
                  <a:pt x="855" y="87"/>
                </a:cubicBezTo>
                <a:cubicBezTo>
                  <a:pt x="850" y="79"/>
                  <a:pt x="847" y="68"/>
                  <a:pt x="839" y="63"/>
                </a:cubicBezTo>
                <a:cubicBezTo>
                  <a:pt x="809" y="45"/>
                  <a:pt x="692" y="38"/>
                  <a:pt x="657" y="31"/>
                </a:cubicBezTo>
                <a:cubicBezTo>
                  <a:pt x="628" y="12"/>
                  <a:pt x="606" y="7"/>
                  <a:pt x="571" y="0"/>
                </a:cubicBezTo>
                <a:cubicBezTo>
                  <a:pt x="516" y="5"/>
                  <a:pt x="459" y="4"/>
                  <a:pt x="405" y="16"/>
                </a:cubicBezTo>
                <a:cubicBezTo>
                  <a:pt x="396" y="18"/>
                  <a:pt x="395" y="32"/>
                  <a:pt x="389" y="39"/>
                </a:cubicBezTo>
                <a:cubicBezTo>
                  <a:pt x="379" y="50"/>
                  <a:pt x="368" y="60"/>
                  <a:pt x="358" y="71"/>
                </a:cubicBezTo>
                <a:cubicBezTo>
                  <a:pt x="352" y="78"/>
                  <a:pt x="335" y="102"/>
                  <a:pt x="342" y="95"/>
                </a:cubicBezTo>
                <a:cubicBezTo>
                  <a:pt x="351" y="86"/>
                  <a:pt x="358" y="74"/>
                  <a:pt x="366" y="63"/>
                </a:cubicBezTo>
                <a:close/>
              </a:path>
            </a:pathLst>
          </a:custGeom>
          <a:noFill/>
          <a:ln w="5724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141720"/>
            <a:ext cx="1941480" cy="2128680"/>
          </a:xfrm>
          <a:custGeom>
            <a:avLst/>
            <a:gdLst/>
            <a:ahLst/>
            <a:rect l="l" t="t" r="r" b="b"/>
            <a:pathLst>
              <a:path w="1223" h="1341">
                <a:moveTo>
                  <a:pt x="623" y="103"/>
                </a:moveTo>
                <a:cubicBezTo>
                  <a:pt x="610" y="100"/>
                  <a:pt x="595" y="102"/>
                  <a:pt x="583" y="95"/>
                </a:cubicBezTo>
                <a:cubicBezTo>
                  <a:pt x="575" y="90"/>
                  <a:pt x="575" y="77"/>
                  <a:pt x="568" y="71"/>
                </a:cubicBezTo>
                <a:cubicBezTo>
                  <a:pt x="504" y="15"/>
                  <a:pt x="542" y="55"/>
                  <a:pt x="497" y="32"/>
                </a:cubicBezTo>
                <a:cubicBezTo>
                  <a:pt x="488" y="28"/>
                  <a:pt x="482" y="19"/>
                  <a:pt x="473" y="16"/>
                </a:cubicBezTo>
                <a:cubicBezTo>
                  <a:pt x="453" y="9"/>
                  <a:pt x="410" y="0"/>
                  <a:pt x="410" y="0"/>
                </a:cubicBezTo>
                <a:cubicBezTo>
                  <a:pt x="409" y="0"/>
                  <a:pt x="289" y="0"/>
                  <a:pt x="252" y="16"/>
                </a:cubicBezTo>
                <a:cubicBezTo>
                  <a:pt x="214" y="32"/>
                  <a:pt x="183" y="74"/>
                  <a:pt x="142" y="95"/>
                </a:cubicBezTo>
                <a:cubicBezTo>
                  <a:pt x="102" y="146"/>
                  <a:pt x="70" y="201"/>
                  <a:pt x="31" y="253"/>
                </a:cubicBezTo>
                <a:cubicBezTo>
                  <a:pt x="17" y="294"/>
                  <a:pt x="6" y="317"/>
                  <a:pt x="0" y="363"/>
                </a:cubicBezTo>
                <a:cubicBezTo>
                  <a:pt x="2" y="389"/>
                  <a:pt x="1" y="416"/>
                  <a:pt x="7" y="442"/>
                </a:cubicBezTo>
                <a:cubicBezTo>
                  <a:pt x="12" y="463"/>
                  <a:pt x="99" y="549"/>
                  <a:pt x="110" y="560"/>
                </a:cubicBezTo>
                <a:cubicBezTo>
                  <a:pt x="118" y="568"/>
                  <a:pt x="126" y="576"/>
                  <a:pt x="134" y="584"/>
                </a:cubicBezTo>
                <a:cubicBezTo>
                  <a:pt x="147" y="597"/>
                  <a:pt x="181" y="616"/>
                  <a:pt x="181" y="616"/>
                </a:cubicBezTo>
                <a:cubicBezTo>
                  <a:pt x="144" y="627"/>
                  <a:pt x="133" y="640"/>
                  <a:pt x="110" y="671"/>
                </a:cubicBezTo>
                <a:cubicBezTo>
                  <a:pt x="95" y="716"/>
                  <a:pt x="78" y="760"/>
                  <a:pt x="63" y="805"/>
                </a:cubicBezTo>
                <a:cubicBezTo>
                  <a:pt x="58" y="821"/>
                  <a:pt x="52" y="836"/>
                  <a:pt x="47" y="852"/>
                </a:cubicBezTo>
                <a:cubicBezTo>
                  <a:pt x="44" y="860"/>
                  <a:pt x="39" y="876"/>
                  <a:pt x="39" y="876"/>
                </a:cubicBezTo>
                <a:cubicBezTo>
                  <a:pt x="42" y="929"/>
                  <a:pt x="41" y="982"/>
                  <a:pt x="47" y="1034"/>
                </a:cubicBezTo>
                <a:cubicBezTo>
                  <a:pt x="59" y="1144"/>
                  <a:pt x="141" y="1309"/>
                  <a:pt x="252" y="1341"/>
                </a:cubicBezTo>
                <a:cubicBezTo>
                  <a:pt x="413" y="1331"/>
                  <a:pt x="478" y="1317"/>
                  <a:pt x="615" y="1302"/>
                </a:cubicBezTo>
                <a:cubicBezTo>
                  <a:pt x="661" y="1287"/>
                  <a:pt x="711" y="1286"/>
                  <a:pt x="757" y="1270"/>
                </a:cubicBezTo>
                <a:cubicBezTo>
                  <a:pt x="804" y="1253"/>
                  <a:pt x="841" y="1233"/>
                  <a:pt x="891" y="1223"/>
                </a:cubicBezTo>
                <a:cubicBezTo>
                  <a:pt x="971" y="1169"/>
                  <a:pt x="1023" y="1087"/>
                  <a:pt x="1104" y="1034"/>
                </a:cubicBezTo>
                <a:cubicBezTo>
                  <a:pt x="1109" y="1023"/>
                  <a:pt x="1113" y="1011"/>
                  <a:pt x="1120" y="1002"/>
                </a:cubicBezTo>
                <a:cubicBezTo>
                  <a:pt x="1134" y="985"/>
                  <a:pt x="1167" y="955"/>
                  <a:pt x="1167" y="955"/>
                </a:cubicBezTo>
                <a:cubicBezTo>
                  <a:pt x="1173" y="938"/>
                  <a:pt x="1191" y="925"/>
                  <a:pt x="1191" y="907"/>
                </a:cubicBezTo>
                <a:cubicBezTo>
                  <a:pt x="1193" y="831"/>
                  <a:pt x="1223" y="648"/>
                  <a:pt x="1159" y="552"/>
                </a:cubicBezTo>
                <a:cubicBezTo>
                  <a:pt x="1152" y="486"/>
                  <a:pt x="1136" y="428"/>
                  <a:pt x="1081" y="387"/>
                </a:cubicBezTo>
                <a:cubicBezTo>
                  <a:pt x="1064" y="337"/>
                  <a:pt x="1086" y="390"/>
                  <a:pt x="1041" y="331"/>
                </a:cubicBezTo>
                <a:cubicBezTo>
                  <a:pt x="1034" y="322"/>
                  <a:pt x="1032" y="309"/>
                  <a:pt x="1025" y="300"/>
                </a:cubicBezTo>
                <a:cubicBezTo>
                  <a:pt x="986" y="254"/>
                  <a:pt x="900" y="257"/>
                  <a:pt x="852" y="253"/>
                </a:cubicBezTo>
                <a:cubicBezTo>
                  <a:pt x="801" y="236"/>
                  <a:pt x="780" y="187"/>
                  <a:pt x="733" y="166"/>
                </a:cubicBezTo>
                <a:cubicBezTo>
                  <a:pt x="696" y="149"/>
                  <a:pt x="654" y="139"/>
                  <a:pt x="615" y="126"/>
                </a:cubicBezTo>
                <a:cubicBezTo>
                  <a:pt x="607" y="123"/>
                  <a:pt x="620" y="111"/>
                  <a:pt x="623" y="103"/>
                </a:cubicBezTo>
                <a:close/>
              </a:path>
            </a:pathLst>
          </a:custGeom>
          <a:noFill/>
          <a:ln cap="rnd" w="60480">
            <a:solidFill>
              <a:srgbClr val="00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700360" y="44280"/>
            <a:ext cx="4770360" cy="669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148360" y="1197000"/>
            <a:ext cx="431640" cy="4218120"/>
          </a:xfrm>
          <a:custGeom>
            <a:avLst/>
            <a:gdLst/>
            <a:ahLst/>
            <a:rect l="l" t="t" r="r" b="b"/>
            <a:pathLst>
              <a:path w="303" h="2675">
                <a:moveTo>
                  <a:pt x="0" y="0"/>
                </a:moveTo>
                <a:cubicBezTo>
                  <a:pt x="26" y="3"/>
                  <a:pt x="53" y="4"/>
                  <a:pt x="79" y="8"/>
                </a:cubicBezTo>
                <a:cubicBezTo>
                  <a:pt x="90" y="10"/>
                  <a:pt x="106" y="6"/>
                  <a:pt x="110" y="16"/>
                </a:cubicBezTo>
                <a:cubicBezTo>
                  <a:pt x="116" y="29"/>
                  <a:pt x="101" y="70"/>
                  <a:pt x="95" y="87"/>
                </a:cubicBezTo>
                <a:cubicBezTo>
                  <a:pt x="49" y="770"/>
                  <a:pt x="95" y="45"/>
                  <a:pt x="95" y="1878"/>
                </a:cubicBezTo>
                <a:cubicBezTo>
                  <a:pt x="95" y="2663"/>
                  <a:pt x="303" y="2515"/>
                  <a:pt x="63" y="2675"/>
                </a:cubicBezTo>
                <a:cubicBezTo>
                  <a:pt x="60" y="2641"/>
                  <a:pt x="63" y="2606"/>
                  <a:pt x="55" y="2573"/>
                </a:cubicBezTo>
                <a:cubicBezTo>
                  <a:pt x="52" y="2562"/>
                  <a:pt x="32" y="2560"/>
                  <a:pt x="32" y="2549"/>
                </a:cubicBezTo>
                <a:cubicBezTo>
                  <a:pt x="21" y="2271"/>
                  <a:pt x="21" y="2286"/>
                  <a:pt x="47" y="2131"/>
                </a:cubicBezTo>
                <a:cubicBezTo>
                  <a:pt x="57" y="1876"/>
                  <a:pt x="65" y="1641"/>
                  <a:pt x="47" y="1389"/>
                </a:cubicBezTo>
                <a:cubicBezTo>
                  <a:pt x="42" y="1325"/>
                  <a:pt x="17" y="1249"/>
                  <a:pt x="16" y="1184"/>
                </a:cubicBezTo>
                <a:cubicBezTo>
                  <a:pt x="8" y="789"/>
                  <a:pt x="5" y="395"/>
                  <a:pt x="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6000" y="189000"/>
            <a:ext cx="2771640" cy="410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08720" y="165240"/>
            <a:ext cx="3422520" cy="441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3"/>
          <a:stretch/>
        </p:blipFill>
        <p:spPr>
          <a:xfrm>
            <a:off x="1908000" y="3213000"/>
            <a:ext cx="2454480" cy="3467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28083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95640" y="115920"/>
            <a:ext cx="4967280" cy="4575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3108240"/>
            <a:ext cx="4535280" cy="33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 rot="18429600">
            <a:off x="3585960" y="454320"/>
            <a:ext cx="5214960" cy="87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121440" cy="4157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977080" cy="5143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0" y="321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21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3500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437000"/>
            <a:ext cx="72720" cy="73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5445000"/>
            <a:ext cx="73080" cy="73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3933720"/>
            <a:ext cx="73080" cy="730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0360" y="3139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3500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5280" y="407664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205000"/>
            <a:ext cx="14472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4076640"/>
            <a:ext cx="14436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3213000"/>
            <a:ext cx="14436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437000"/>
            <a:ext cx="14472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0360" y="5229360"/>
            <a:ext cx="144360" cy="1220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5084640"/>
            <a:ext cx="144360" cy="122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54:14Z</dcterms:created>
  <dc:creator>1</dc:creator>
  <dc:description/>
  <dc:language>en-US</dc:language>
  <cp:lastModifiedBy>1</cp:lastModifiedBy>
  <dcterms:modified xsi:type="dcterms:W3CDTF">2009-02-05T06:27:47Z</dcterms:modified>
  <cp:revision>6</cp:revision>
  <dc:subject/>
  <dc:title>Слайд 1</dc:title>
</cp:coreProperties>
</file>