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393-F073-4759-8DEF-F54E6958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3DA-AB25-410B-82B7-D0ACBAF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848-40AE-4A1F-8A2B-B1DBA12B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C4C-29EB-4A52-AFD6-506EC585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F39-BFF2-4408-AE5C-485B3978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D25-60CC-4448-A18A-DC49AA1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394-C5B9-4776-8DB6-9652457D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D6E-F8A6-4297-8576-227E05F9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159-DFEA-4589-BD4D-68127D9F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34F-56E3-4586-B679-3AA27B4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5FA-5BF9-49DA-80B3-E1BE599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2B8-B585-4E9C-92C3-F616B9B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51D-37A5-4DB9-98EA-0E83DF9CA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_thumb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5022720" y="219240"/>
            <a:ext cx="3853080" cy="366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28600" y="609480"/>
            <a:ext cx="74674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 е н т и к у л я р н ы е      о б л а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28600" y="5029200"/>
            <a:ext cx="3733920" cy="1676520"/>
          </a:xfrm>
          <a:prstGeom prst="rect">
            <a:avLst/>
          </a:prstGeom>
          <a:solidFill>
            <a:srgbClr val="00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еница 10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БОУ «СОШ №135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ро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.Казани 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алеева Айгу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Широкова И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1"/>
          <p:cNvSpPr/>
          <p:nvPr/>
        </p:nvSpPr>
        <p:spPr>
          <a:xfrm>
            <a:off x="595440" y="430200"/>
            <a:ext cx="7772400" cy="2209680"/>
          </a:xfrm>
          <a:prstGeom prst="roundRect">
            <a:avLst>
              <a:gd name="adj" fmla="val 16667"/>
            </a:avLst>
          </a:prstGeom>
          <a:solidFill>
            <a:srgbClr val="bbe0e3">
              <a:alpha val="59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Лентикулярные обла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— это термин, обозначающий потрясающе красивое и довольно редкое природное явление. Характерной особенностью этих облаков является то, что они не двигаются, сколь бы ни был силён ветер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1511280" y="152280"/>
            <a:ext cx="746748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bbe0e3"/>
                </a:solidFill>
                <a:latin typeface="Arial"/>
              </a:rPr>
              <a:t>Облако, напоминающее большую “тарелку” пришельцев, зависло над городом Крифф (графство Пертшир, Англия). По свидетельству многих очевидцев, загадочный объект в небе не двигался несмотря на сильный ветер.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1598760" y="2397240"/>
            <a:ext cx="5946480" cy="396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598760" y="2081160"/>
            <a:ext cx="5946480" cy="460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573200" y="1981080"/>
            <a:ext cx="6353280" cy="4700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"/>
          <p:cNvPicPr/>
          <p:nvPr/>
        </p:nvPicPr>
        <p:blipFill>
          <a:blip r:embed="rId1">
            <a:lum contrast="-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609480" y="533520"/>
            <a:ext cx="8001000" cy="1218960"/>
          </a:xfrm>
          <a:prstGeom prst="wedgeRoundRectCallout">
            <a:avLst>
              <a:gd name="adj1" fmla="val -41430"/>
              <a:gd name="adj2" fmla="val 77472"/>
              <a:gd name="adj3" fmla="val 1666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be0e3"/>
                </a:solidFill>
                <a:latin typeface="Arial"/>
              </a:rPr>
              <a:t>Лентикулярные </a:t>
            </a:r>
            <a:r>
              <a:rPr b="0" i="1" lang="ru-RU" sz="1800" spc="-1" strike="noStrike">
                <a:solidFill>
                  <a:srgbClr val="bbe0e3"/>
                </a:solidFill>
                <a:latin typeface="Arial"/>
              </a:rPr>
              <a:t>облака обычно зависают с подветренной стороны горных хребтов, за хребтами, а также за отдельными вершинами гор на высоте от двух до пятнадцати километров.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3154320" cy="21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4876920" y="2209680"/>
            <a:ext cx="3038400" cy="206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4876920" y="4454640"/>
            <a:ext cx="3038400" cy="21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1143000" y="4454640"/>
            <a:ext cx="315432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13:30:16Z</dcterms:created>
  <dc:creator>ACER</dc:creator>
  <dc:description/>
  <dc:language>en-US</dc:language>
  <cp:lastModifiedBy>Ирина</cp:lastModifiedBy>
  <dcterms:modified xsi:type="dcterms:W3CDTF">2014-01-23T13:13:1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