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250-6BDF-4E96-847C-85D2D113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96C-40CC-44B3-BC2B-10CFA211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88D-394C-4211-83B6-8C1B439A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182-E1E8-4862-9282-C2BC6678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F3F-BC56-40D3-A1DF-121640EF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C59-FD6A-4B34-981F-D4B970B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436-E7BE-4D19-8261-BDC3A03F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003-8946-453B-AE41-3224D00D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C17-BE0C-4E49-8CDA-E075131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125-4F18-4A97-8537-3C112BB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BA5-01D9-49AB-BC2A-9BCCC14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B60-DE95-4E28-96D4-2E71B89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778B-180E-4791-AC67-F9AD2B09C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51;&#1077;&#1085;&#1090;&#1080;&#1082;&#1091;&#1083;&#1103;&#1088;&#1085;&#1086;&#1077;_&#1086;&#1073;&#1083;&#1072;&#1082;&#1086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_thumb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5022720" y="219240"/>
            <a:ext cx="3853080" cy="366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28600" y="609480"/>
            <a:ext cx="7467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 е н т и к у л я р н ы е      о б л а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28600" y="5029200"/>
            <a:ext cx="3733920" cy="1676520"/>
          </a:xfrm>
          <a:prstGeom prst="rect">
            <a:avLst/>
          </a:prstGeom>
          <a:solidFill>
            <a:srgbClr val="00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ница 10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БОУ «СОШ №135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.Казани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алеева Айгу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Широкова И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228600" y="457200"/>
            <a:ext cx="8610480" cy="1523880"/>
          </a:xfrm>
          <a:prstGeom prst="wedgeRoundRectCallout">
            <a:avLst>
              <a:gd name="adj1" fmla="val -39935"/>
              <a:gd name="adj2" fmla="val 63023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В волновых потоках происходит непрерывный процесс конденсации водяных паров при достижении высоты точки росы и испарения при нисходящем движении воздуха. Поэтому чечевицеобразные облака не меняют своего положения в пространстве, а стоят в небе, как прикле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0" y="2833560"/>
            <a:ext cx="4648320" cy="278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472428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152280" y="457200"/>
            <a:ext cx="8839440" cy="1600200"/>
          </a:xfrm>
          <a:prstGeom prst="wedgeRoundRectCallout">
            <a:avLst>
              <a:gd name="adj1" fmla="val -39976"/>
              <a:gd name="adj2" fmla="val 74800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Появление лентикулярных облаков свидетельствует, что в атмосфере — сильные горизонтальные потоки воздуха, образующие волны над горными препятствиями, что в воздухе достаточно высокое содержание влаги. Это связано обычно с приближением атмосферного фронта или с энергичным переносом воздуха из отдаленных рай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3733920" y="2681280"/>
            <a:ext cx="50371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04920" y="2681280"/>
            <a:ext cx="3000240" cy="180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304920" y="4491000"/>
            <a:ext cx="3000240" cy="14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152280" y="2681280"/>
            <a:ext cx="861876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2170080" y="103320"/>
            <a:ext cx="4803840" cy="16030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4"/>
          <p:cNvSpPr/>
          <p:nvPr/>
        </p:nvSpPr>
        <p:spPr>
          <a:xfrm>
            <a:off x="228600" y="1523880"/>
            <a:ext cx="769608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ентикулярное обла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блако правильной линзовидной формы, которое напоминает собой пресловутую “летающую тарелку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1143000" y="2743200"/>
            <a:ext cx="769608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ка обычно зависают с подветренной стороны горных хребтов, за хребтами и отдельными вершинами на высоте от двух до пятнадцати километро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193680" y="3968640"/>
            <a:ext cx="7792920" cy="129564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волновых потоках происходит непрерывный процесс конденсации водяных паров при достижении высоты точки росы и испарения при нисходящем движении воздуха. Поэтому чечевицеобразные облака не меняют своего положения в пространстве, а стоят в небе, как приклее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7"/>
          <p:cNvSpPr/>
          <p:nvPr/>
        </p:nvSpPr>
        <p:spPr>
          <a:xfrm>
            <a:off x="1066680" y="54864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ление лентикулярных облаков свидетельствует, что в атмосфере — сильные горизонтальные токи воздуха, образующие волны над горными препятствиями, что в воздухе достаточно высокое содержание вл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3:30:16Z</dcterms:created>
  <dc:creator>ACER</dc:creator>
  <dc:description/>
  <dc:language>en-US</dc:language>
  <cp:lastModifiedBy>Ирина</cp:lastModifiedBy>
  <dcterms:modified xsi:type="dcterms:W3CDTF">2014-01-23T13:14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