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E6E-FD54-45BB-B68B-3959659C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663-CB40-4815-BF93-2DDBCFE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0A7-EB49-418A-B5A5-A2C022C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099-F43B-403B-B256-A5B13828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524-C485-4DE2-B2FF-9F147FE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1ED-5AEF-41DB-B82A-E9886EC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BFB-E25E-4F81-8644-20B17FA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4CB-792D-4CDB-8BA5-4B57174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C2D-926E-4051-BFFA-944C370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7DB-4334-4EE1-BA63-50AC2A2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DCA-5B3A-47B0-BBAF-6F591CF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EB6-8FE6-4FA6-A774-B84A418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7D9F-AB7F-4ECC-AA66-0EAEFE4DB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51;&#1077;&#1085;&#1090;&#1080;&#1082;&#1091;&#1083;&#1103;&#1088;&#1085;&#1086;&#1077;_&#1086;&#1073;&#1083;&#1072;&#1082;&#1086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_thumb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5022720" y="219240"/>
            <a:ext cx="3853080" cy="366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28600" y="609480"/>
            <a:ext cx="7467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 е н т и к у л я р н ы е      о б л а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28600" y="5029200"/>
            <a:ext cx="3733920" cy="1676520"/>
          </a:xfrm>
          <a:prstGeom prst="rect">
            <a:avLst/>
          </a:prstGeom>
          <a:solidFill>
            <a:srgbClr val="00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ница 10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БОУ «СОШ №135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.Казани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алеева Айгу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Широкова И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228600" y="457200"/>
            <a:ext cx="8610480" cy="1523880"/>
          </a:xfrm>
          <a:prstGeom prst="wedgeRoundRectCallout">
            <a:avLst>
              <a:gd name="adj1" fmla="val -39935"/>
              <a:gd name="adj2" fmla="val 63023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В волновых потоках происходит непрерывный процесс конденсации водяных паров при достижении высоты точки росы и испарения при нисходящем движении воздуха. Поэтому чечевицеобразные облака не меняют своего положения в пространстве, а стоят в небе, как прикле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0" y="2833560"/>
            <a:ext cx="4648320" cy="278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472428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152280" y="457200"/>
            <a:ext cx="8839440" cy="1600200"/>
          </a:xfrm>
          <a:prstGeom prst="wedgeRoundRectCallout">
            <a:avLst>
              <a:gd name="adj1" fmla="val -39976"/>
              <a:gd name="adj2" fmla="val 74800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Появление лентикулярных облаков свидетельствует, что в атмосфере — сильные горизонтальные потоки воздуха, образующие волны над горными препятствиями, что в воздухе достаточно высокое содержание влаги. Это связано обычно с приближением атмосферного фронта или с энергичным переносом воздуха из отдаленных рай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33920" y="2681280"/>
            <a:ext cx="50371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04920" y="2681280"/>
            <a:ext cx="3000240" cy="180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304920" y="4491000"/>
            <a:ext cx="3000240" cy="14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52280" y="2681280"/>
            <a:ext cx="861876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2170080" y="103320"/>
            <a:ext cx="4803840" cy="16030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4"/>
          <p:cNvSpPr/>
          <p:nvPr/>
        </p:nvSpPr>
        <p:spPr>
          <a:xfrm>
            <a:off x="228600" y="1523880"/>
            <a:ext cx="769608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ентикулярное обла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блако правильной линзовидной формы, которое напоминает собой пресловутую “летающую тарелку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1143000" y="2743200"/>
            <a:ext cx="769608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ка обычно зависают с подветренной стороны горных хребтов, за хребтами и отдельными вершинами на высоте от двух до пятнадцати километр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193680" y="3968640"/>
            <a:ext cx="7792920" cy="129564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лновых потоках происходит непрерывный процесс конденсации водяных паров при достижении высоты точки росы и испарения при нисходящем движении воздуха. Поэтому чечевицеобразные облака не меняют своего положения в пространстве, а стоят в небе, как приклее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7"/>
          <p:cNvSpPr/>
          <p:nvPr/>
        </p:nvSpPr>
        <p:spPr>
          <a:xfrm>
            <a:off x="1066680" y="54864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ление лентикулярных облаков свидетельствует, что в атмосфере — сильные горизонтальные токи воздуха, образующие волны над горными препятствиями, что в воздухе достаточно высокое содержание вл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3:30:16Z</dcterms:created>
  <dc:creator>ACER</dc:creator>
  <dc:description/>
  <dc:language>en-US</dc:language>
  <cp:lastModifiedBy>Ирина</cp:lastModifiedBy>
  <dcterms:modified xsi:type="dcterms:W3CDTF">2014-01-23T13:14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