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B37-812A-4717-A787-8246D451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182-0DF8-459D-A23D-0522CE61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EB2-FF70-4231-9812-E6E69692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53B7-AB38-49FC-8AF7-E1F6FCCF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59B-DBAE-4D23-B196-1B55EC7C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603-81CA-4111-B65B-DC82BF36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91E-B9DF-4677-A449-D3C49F7A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A36-2CE7-45DC-8FA9-D0223ABC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A40C-B6D5-484B-AD38-394DC98D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98E-C0FA-4C2A-9EAB-037A9C77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E64-9010-4C58-908E-1DF1BA6A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3A0-C7F0-4602-BE3D-ACDF5A7E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17DB-E1B6-4D66-8761-CF694E10BB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Times New Roman"/>
              </a:rPr>
              <a:t>Наша веселая семей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ИСТ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4"/>
          <p:cNvSpPr/>
          <p:nvPr/>
        </p:nvSpPr>
        <p:spPr>
          <a:xfrm>
            <a:off x="1523880" y="685800"/>
            <a:ext cx="609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орщики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8" descr="C25-29.jpg"/>
          <p:cNvPicPr/>
          <p:nvPr/>
        </p:nvPicPr>
        <p:blipFill>
          <a:blip r:embed="rId1"/>
          <a:stretch/>
        </p:blipFill>
        <p:spPr>
          <a:xfrm>
            <a:off x="4343400" y="3200400"/>
            <a:ext cx="3956040" cy="246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762120" y="1447920"/>
            <a:ext cx="594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гонялки»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" descr="C25-28.jpg"/>
          <p:cNvPicPr/>
          <p:nvPr/>
        </p:nvPicPr>
        <p:blipFill>
          <a:blip r:embed="rId1"/>
          <a:stretch/>
        </p:blipFill>
        <p:spPr>
          <a:xfrm>
            <a:off x="3638520" y="2305080"/>
            <a:ext cx="4975200" cy="438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240" y="456840"/>
            <a:ext cx="8458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Если его нет, то и нет радости, без него не жизнь, а существ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Его всегда желают друг другу, особенно в письм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Его не купишь ни за какие день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здоровь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Каждый человек о нем мечтает, хочет, чтобы в жизни все было 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о никто не знает, где его иск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Есть сказочные птицы, которые его принос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часть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04560" y="304920"/>
            <a:ext cx="83818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Это наш общий дом, но у каждого он с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Сюда стремятся все , каждый день после работы или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Здесь живут твои самые близкие люд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емь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Человека без которого тебе плохо и который всегда ря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 народе говорят, что этот человек «шея», которому подчиняется «голова»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род говорит: нет любимее дружка, чем родная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матушка, ма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26267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914400" y="51055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азка на новый лад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2" descr=""/>
          <p:cNvPicPr/>
          <p:nvPr/>
        </p:nvPicPr>
        <p:blipFill>
          <a:blip r:embed="rId2"/>
          <a:stretch/>
        </p:blipFill>
        <p:spPr>
          <a:xfrm>
            <a:off x="1968480" y="1620720"/>
            <a:ext cx="5584680" cy="1195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2" descr=""/>
          <p:cNvPicPr/>
          <p:nvPr/>
        </p:nvPicPr>
        <p:blipFill>
          <a:blip r:embed="rId2"/>
          <a:stretch/>
        </p:blipFill>
        <p:spPr>
          <a:xfrm>
            <a:off x="530280" y="1762200"/>
            <a:ext cx="8242200" cy="120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8:27:00Z</dcterms:created>
  <dc:creator>Стас Bartsev</dc:creator>
  <dc:description/>
  <dc:language>en-US</dc:language>
  <cp:lastModifiedBy>Стас Bartsev</cp:lastModifiedBy>
  <dcterms:modified xsi:type="dcterms:W3CDTF">2013-03-23T14:46:2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