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17E1-DCD0-464B-A99C-0C033193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4EDB-7204-4435-96B2-0C05F68F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24F4-3409-4D6B-871C-D8DFC1DD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88A1-289F-4EC4-946C-910574C50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EC97-6236-45B0-8345-B74DEFD0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B795-5271-4F6F-B185-A31A7E5C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61C3-5314-4FAF-AFC6-C8083D30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06C9-C7D3-4BBC-8280-6D6AC4D7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DE32-BD49-4F16-A13B-8E3C5531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96DD-F79C-4366-ACE0-67611AA0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F55B-40E3-4170-9F6C-F4896A62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8656-D21E-4369-993B-D1A8E041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449E-B9F1-4BBF-A4B2-D7005881AA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Times New Roman"/>
              </a:rPr>
              <a:t>Наша веселая семей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НОГО ИСТО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4"/>
          <p:cNvSpPr/>
          <p:nvPr/>
        </p:nvSpPr>
        <p:spPr>
          <a:xfrm>
            <a:off x="1523880" y="685800"/>
            <a:ext cx="609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порщики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8" descr="C25-29.jpg"/>
          <p:cNvPicPr/>
          <p:nvPr/>
        </p:nvPicPr>
        <p:blipFill>
          <a:blip r:embed="rId1"/>
          <a:stretch/>
        </p:blipFill>
        <p:spPr>
          <a:xfrm>
            <a:off x="4343400" y="3200400"/>
            <a:ext cx="3956040" cy="2460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762120" y="1447920"/>
            <a:ext cx="5943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гонялки»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2" descr="C25-28.jpg"/>
          <p:cNvPicPr/>
          <p:nvPr/>
        </p:nvPicPr>
        <p:blipFill>
          <a:blip r:embed="rId1"/>
          <a:stretch/>
        </p:blipFill>
        <p:spPr>
          <a:xfrm>
            <a:off x="3638520" y="2305080"/>
            <a:ext cx="4975200" cy="4387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240" y="456840"/>
            <a:ext cx="84582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626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Если его нет, то и нет радости, без него не жизнь, а существ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626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Его всегда желают друг другу, особенно в письм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626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Его не купишь ни за какие деньг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здоровь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626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Каждый человек о нем мечтает, хочет, чтобы в жизни все было хорош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626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Но никто не знает, где его иск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626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Есть сказочные птицы, которые его принос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часть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04560" y="304920"/>
            <a:ext cx="83818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2626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Это наш общий дом, но у каждого он с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2626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Сюда стремятся все , каждый день после работы или шко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2626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Здесь живут твои самые близкие люд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емь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2626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Человека без которого тебе плохо и который всегда ря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2626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 народе говорят, что этот человек «шея», которому подчиняется «голова» семь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2626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Народ говорит: нет любимее дружка, чем родная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матушка, ма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26267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914400" y="51055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азка на новый лад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Прямоугольник 2" descr=""/>
          <p:cNvPicPr/>
          <p:nvPr/>
        </p:nvPicPr>
        <p:blipFill>
          <a:blip r:embed="rId2"/>
          <a:stretch/>
        </p:blipFill>
        <p:spPr>
          <a:xfrm>
            <a:off x="1968480" y="1620720"/>
            <a:ext cx="5584680" cy="1195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2" descr=""/>
          <p:cNvPicPr/>
          <p:nvPr/>
        </p:nvPicPr>
        <p:blipFill>
          <a:blip r:embed="rId2"/>
          <a:stretch/>
        </p:blipFill>
        <p:spPr>
          <a:xfrm>
            <a:off x="530280" y="1762200"/>
            <a:ext cx="8242200" cy="1200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8:27:00Z</dcterms:created>
  <dc:creator>Стас Bartsev</dc:creator>
  <dc:description/>
  <dc:language>en-US</dc:language>
  <cp:lastModifiedBy>Стас Bartsev</cp:lastModifiedBy>
  <dcterms:modified xsi:type="dcterms:W3CDTF">2013-03-23T14:46:2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