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1.wmf" ContentType="image/x-wmf"/>
  <Override PartName="/ppt/media/image8.wmf" ContentType="image/x-wmf"/>
  <Override PartName="/ppt/media/image27.png" ContentType="image/png"/>
  <Override PartName="/ppt/media/image12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4.wmf" ContentType="image/x-wmf"/>
  <Override PartName="/ppt/media/image16.wmf" ContentType="image/x-wmf"/>
  <Override PartName="/ppt/media/image21.png" ContentType="image/pn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002-4990-4536-A5B6-EDFFE206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F42-7A80-4057-AB26-863B53F0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25F-4EBA-4206-BB89-C2250359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905-B265-4AAF-AB49-9BB8B047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2C9A-9CB1-416E-A4BA-A1F7B46D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019D-1985-44A5-BC90-A31B7CD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2007-97DE-4755-9E1E-2A9200B2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0786-28A8-4868-9442-50EDC283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6CDE-B1E3-49FC-88F5-383A6479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9DB7-7699-4C8C-A2BD-76118BBD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9B19-AA9D-4857-8EAB-05A7A42F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3E8F-8D58-4716-A981-980FF69E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F42F-689C-4430-9F7E-00E887B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4DDB-2AF4-41A1-8776-1ADB1A51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E242-F389-4946-BAA3-34F0BB16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E8F4-7DDD-4959-B429-787950DE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6C38-E51C-4F09-97B5-5A919F1E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66F3-3B5E-4983-8A6F-0B218245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E576-B97D-4DF9-8F06-6BADCC1E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8178-7409-47EE-AECA-72A6A146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5362-DDBB-4564-BF1A-79B9959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B8EBB-EA37-4A15-BE72-CC169F0C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9272-746B-4D56-BD77-5C6E6BA4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EC18-5253-4E6B-B8B3-335161C2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1D7C-28BD-4B5D-BF08-CE1D925F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D362-168B-40C2-AC89-1D1A84F7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E475D-8C63-4F3B-8F32-6CDCD8B4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2E69-6033-4A45-B4D1-55CCF57D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F017-EA81-43CE-B440-F5FE9F70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6951-44EA-4C5E-8CC4-C916B7E8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EB53-30E2-4A0D-AE34-E833532E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ED92-C905-4E74-8004-142D289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C7F5-1FA0-4CFD-9AA7-DD06FDFB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2BD-8E64-48EF-8FE4-3E55CA16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8F748-E82A-4382-8D4F-02F5B562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18E7-3B0C-427D-B6B1-47630689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6195-7463-4C86-B428-5321B811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1B92-5B72-48DF-B9C6-0B4EE38B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4AB32-2B46-4693-A23E-33E6E2A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0963-FF39-44BD-AA66-CD42CD9A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68F0-4930-4A4C-B0F3-7DB8E4F5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1B575-9EE8-4D01-BA81-F75121B1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44BB-2C48-4770-821E-A00CCD57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F55DA-5A65-4EDC-90A0-7C24FF68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7A9C-75B2-4134-8118-24D90E5D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DA444-7887-4BFE-9AFB-A8D4EE70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C6ADB-1C75-4C76-A066-AF8C7C95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86C6-38B1-4A83-BB12-B4410F19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5BF2-4459-4469-94BC-731ACE1F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8D356-773D-49BA-8079-A477ABE5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80CE8-C840-4E9D-A41E-D0E5BF17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F06A-110B-45BC-82DC-196C200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B842-E3D0-4893-B5D0-B494801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97DBA-4E22-49DD-ABB8-3ABCDEE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2E582-6707-4F21-8D43-E36A767D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A9F-199D-4A7E-A0D9-4C2B4D4C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D60FE-3B48-4F7D-AB52-754B3D94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B8C3-F125-471D-861B-55D8EA38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ADFEC-F597-4658-A208-1D7CB19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1C7B1-F503-4AA1-9571-95785890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404AC-2148-4D42-AE16-F8C92B69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BA01-1A48-4E3D-857C-19F8F731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E1316-13FA-4982-8B40-376D92B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B804-4D85-4006-B898-C78948A9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93933-8BAD-4D34-A805-9E48ADD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685E-CE2A-407B-9702-40EB6217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798-BF5E-45A3-A246-D451FAD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BF950-CEC3-4E3B-854E-49E3C76D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23CA1-0751-4085-85A7-CF4D225F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31DEA-8F4B-4B43-A2DA-F4730C37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6203B-41F5-47DF-946B-3C421203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EEFC3-14BA-44D2-8564-4178AEBC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17D32-B942-41AC-BABA-56F7806B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B12B9-9F9C-4EE8-96B9-FFA54F49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78687-9428-4E8B-940F-64646EF6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66FAC-3DAE-48BF-8CF1-A9A33274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08448-865F-4E89-97E6-431D00CC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3D5-AD2F-417A-9A75-EAA29C7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9955D-F942-4AE9-9C6F-7CE8E37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73CF1-B9B4-4E11-A92D-120B598B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EBBA7-6A6D-4B45-AEB8-1A9C5FB5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B4D46-3D97-4D39-A6D5-3EEAF8E7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8AE5-B7D1-48C4-A6C3-7B65A467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B74-E862-447A-B086-7F52AC6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E6A6-32A1-4E99-81C7-F33C1FFB489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A183-94B5-4259-A221-3181C49DDF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6AF5-9B83-4A66-8997-88DDC12714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51BF-A8C2-4735-9AA6-63C787503A2C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A105-BAEF-4D08-A251-6941BC6BE31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B0F2-B86C-4A03-BFAD-AACB51F2012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66E4-6D39-448F-8CCC-DD8B213E4E65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3.xml"/><Relationship Id="rId3" Type="http://schemas.openxmlformats.org/officeDocument/2006/relationships/image" Target="../media/image4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7" descr="j0229389"/>
          <p:cNvPicPr/>
          <p:nvPr/>
        </p:nvPicPr>
        <p:blipFill>
          <a:blip r:embed="rId1"/>
          <a:stretch/>
        </p:blipFill>
        <p:spPr>
          <a:xfrm>
            <a:off x="2700360" y="3573360"/>
            <a:ext cx="5832360" cy="2876760"/>
          </a:xfrm>
          <a:prstGeom prst="rect">
            <a:avLst/>
          </a:prstGeom>
          <a:ln w="0">
            <a:noFill/>
          </a:ln>
        </p:spPr>
      </p:pic>
      <p:pic>
        <p:nvPicPr>
          <p:cNvPr id="304" name="Rectangle 2" descr=""/>
          <p:cNvPicPr/>
          <p:nvPr/>
        </p:nvPicPr>
        <p:blipFill>
          <a:blip r:embed="rId2"/>
          <a:stretch/>
        </p:blipFill>
        <p:spPr>
          <a:xfrm>
            <a:off x="85680" y="738360"/>
            <a:ext cx="4565520" cy="17128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4"/>
          <p:cNvSpPr/>
          <p:nvPr/>
        </p:nvSpPr>
        <p:spPr>
          <a:xfrm>
            <a:off x="6084720" y="620640"/>
            <a:ext cx="432000" cy="4320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7164360" y="549360"/>
            <a:ext cx="432000" cy="43164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8172360" y="476280"/>
            <a:ext cx="432000" cy="43164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7164360" y="1916280"/>
            <a:ext cx="432000" cy="43164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7164360" y="1125360"/>
            <a:ext cx="576360" cy="57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Group 12"/>
          <p:cNvGrpSpPr/>
          <p:nvPr/>
        </p:nvGrpSpPr>
        <p:grpSpPr>
          <a:xfrm>
            <a:off x="6732720" y="620640"/>
            <a:ext cx="287280" cy="216000"/>
            <a:chOff x="6732720" y="620640"/>
            <a:chExt cx="287280" cy="216000"/>
          </a:xfrm>
        </p:grpSpPr>
        <p:sp>
          <p:nvSpPr>
            <p:cNvPr id="311" name="Line 10"/>
            <p:cNvSpPr/>
            <p:nvPr/>
          </p:nvSpPr>
          <p:spPr>
            <a:xfrm>
              <a:off x="6732720" y="620640"/>
              <a:ext cx="28728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Line 11"/>
            <p:cNvSpPr/>
            <p:nvPr/>
          </p:nvSpPr>
          <p:spPr>
            <a:xfrm flipH="1">
              <a:off x="6803640" y="620640"/>
              <a:ext cx="14436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Group 13"/>
          <p:cNvGrpSpPr/>
          <p:nvPr/>
        </p:nvGrpSpPr>
        <p:grpSpPr>
          <a:xfrm>
            <a:off x="7812000" y="549360"/>
            <a:ext cx="287280" cy="215640"/>
            <a:chOff x="7812000" y="549360"/>
            <a:chExt cx="287280" cy="215640"/>
          </a:xfrm>
        </p:grpSpPr>
        <p:sp>
          <p:nvSpPr>
            <p:cNvPr id="314" name="Line 14"/>
            <p:cNvSpPr/>
            <p:nvPr/>
          </p:nvSpPr>
          <p:spPr>
            <a:xfrm>
              <a:off x="7812000" y="549360"/>
              <a:ext cx="28728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 flipH="1">
              <a:off x="7882920" y="549360"/>
              <a:ext cx="144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6" name="Picture 18" descr="j0199805"/>
          <p:cNvPicPr/>
          <p:nvPr/>
        </p:nvPicPr>
        <p:blipFill>
          <a:blip r:embed="rId3"/>
          <a:stretch/>
        </p:blipFill>
        <p:spPr>
          <a:xfrm rot="10800000">
            <a:off x="0" y="5373360"/>
            <a:ext cx="1473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0" descr="j0229385"/>
          <p:cNvPicPr/>
          <p:nvPr/>
        </p:nvPicPr>
        <p:blipFill>
          <a:blip r:embed="rId1"/>
          <a:stretch/>
        </p:blipFill>
        <p:spPr>
          <a:xfrm>
            <a:off x="1403280" y="1844640"/>
            <a:ext cx="6985080" cy="48229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2" descr=""/>
          <p:cNvPicPr/>
          <p:nvPr/>
        </p:nvPicPr>
        <p:blipFill>
          <a:blip r:embed="rId2"/>
          <a:stretch/>
        </p:blipFill>
        <p:spPr>
          <a:xfrm>
            <a:off x="884160" y="689040"/>
            <a:ext cx="6145200" cy="9936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2700000" y="2017440"/>
            <a:ext cx="6264360" cy="4506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68bba"/>
                </a:solidFill>
                <a:uFillTx/>
                <a:latin typeface="Corbel"/>
                <a:hlinkClick r:id="rId3" action="ppaction://hlinksldjump"/>
              </a:rPr>
              <a:t>Результатив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Corbel"/>
              </a:rPr>
              <a:t>Дискретность (пошаговость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68bba"/>
                </a:solidFill>
                <a:uFillTx/>
                <a:latin typeface="Corbel"/>
                <a:hlinkClick r:id="rId4" action="ppaction://hlinksldjump"/>
              </a:rPr>
              <a:t>Определён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Corbel"/>
              </a:rPr>
              <a:t>Понятн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Corbel"/>
              </a:rPr>
              <a:t>Выполним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0000"/>
                </a:solidFill>
                <a:latin typeface="Corbel"/>
              </a:rPr>
              <a:t>Массовость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4" descr="j0199805"/>
          <p:cNvPicPr/>
          <p:nvPr/>
        </p:nvPicPr>
        <p:blipFill>
          <a:blip r:embed="rId5"/>
          <a:stretch/>
        </p:blipFill>
        <p:spPr>
          <a:xfrm>
            <a:off x="7527960" y="0"/>
            <a:ext cx="1616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6" descr=""/>
          <p:cNvPicPr/>
          <p:nvPr/>
        </p:nvPicPr>
        <p:blipFill>
          <a:blip r:embed="rId1"/>
          <a:stretch/>
        </p:blipFill>
        <p:spPr>
          <a:xfrm>
            <a:off x="3005280" y="109440"/>
            <a:ext cx="6145200" cy="993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371600" y="1052280"/>
            <a:ext cx="7772400" cy="5257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Результативность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Получение требуемого результата за конечное число шагов; это означает, что неправильный алгоритм, который не достигает цели, вообще не нужно считать алгоритмо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Дискретность (пошаговость)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Под дискретностью понимают, что алгоритм состоит из последовательности действий, шагов. Выполнение каждого следующего шага невозможно без выполнения предыдущих. Последний шаг, как правило, выдаёт результат действия алгоритма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AutoShape 4">
            <a:hlinkClick r:id="" action="ppaction://hlinkshowjump?jump=previousslide"/>
          </p:cNvPr>
          <p:cNvSpPr/>
          <p:nvPr/>
        </p:nvSpPr>
        <p:spPr>
          <a:xfrm>
            <a:off x="8712360" y="6499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7493"/>
                </a:moveTo>
                <a:lnTo>
                  <a:pt x="9487" y="7493"/>
                </a:lnTo>
                <a:lnTo>
                  <a:pt x="9487" y="12828"/>
                </a:lnTo>
                <a:cubicBezTo>
                  <a:pt x="9487" y="13751"/>
                  <a:pt x="10288" y="14482"/>
                  <a:pt x="11324" y="14482"/>
                </a:cubicBezTo>
                <a:lnTo>
                  <a:pt x="12986" y="14482"/>
                </a:lnTo>
                <a:cubicBezTo>
                  <a:pt x="14022" y="14482"/>
                  <a:pt x="14822" y="13751"/>
                  <a:pt x="14822" y="12828"/>
                </a:cubicBezTo>
                <a:lnTo>
                  <a:pt x="14822" y="7493"/>
                </a:lnTo>
                <a:lnTo>
                  <a:pt x="12986" y="7493"/>
                </a:lnTo>
                <a:lnTo>
                  <a:pt x="16494" y="3985"/>
                </a:lnTo>
                <a:lnTo>
                  <a:pt x="20167" y="7493"/>
                </a:lnTo>
                <a:lnTo>
                  <a:pt x="18330" y="7493"/>
                </a:lnTo>
                <a:lnTo>
                  <a:pt x="18330" y="12828"/>
                </a:lnTo>
                <a:cubicBezTo>
                  <a:pt x="18330" y="15596"/>
                  <a:pt x="15754" y="18155"/>
                  <a:pt x="12986" y="18155"/>
                </a:cubicBezTo>
                <a:lnTo>
                  <a:pt x="11324" y="18155"/>
                </a:lnTo>
                <a:cubicBezTo>
                  <a:pt x="8556" y="18155"/>
                  <a:pt x="5979" y="15596"/>
                  <a:pt x="5979" y="12828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Picture 5" descr="j0205582"/>
          <p:cNvPicPr/>
          <p:nvPr/>
        </p:nvPicPr>
        <p:blipFill>
          <a:blip r:embed="rId2"/>
          <a:stretch/>
        </p:blipFill>
        <p:spPr>
          <a:xfrm>
            <a:off x="0" y="5227560"/>
            <a:ext cx="1776240" cy="16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6" descr=""/>
          <p:cNvPicPr/>
          <p:nvPr/>
        </p:nvPicPr>
        <p:blipFill>
          <a:blip r:embed="rId1"/>
          <a:stretch/>
        </p:blipFill>
        <p:spPr>
          <a:xfrm>
            <a:off x="3005280" y="109440"/>
            <a:ext cx="6145200" cy="993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1187280" y="1052280"/>
            <a:ext cx="7772400" cy="5367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Детерминированность (определённость)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значает, что действия, выполняемые на каждом шаге, однозначно и точно определен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Понятность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Алгоритм должен быть понятен не только автору, но и исполнителю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Выполнимость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Алгоритм должен содержать команды, записанные на понятном языке и выполнимые исполнителем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Массовость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дин тот же алгоритм может применяться для решения большого количества однотипных задач с различающимися условия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AutoShape 4">
            <a:hlinkClick r:id="" action="ppaction://hlinkshowjump?jump=previousslide"/>
          </p:cNvPr>
          <p:cNvSpPr/>
          <p:nvPr/>
        </p:nvSpPr>
        <p:spPr>
          <a:xfrm>
            <a:off x="8712360" y="6497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5" descr="j0199805"/>
          <p:cNvPicPr/>
          <p:nvPr/>
        </p:nvPicPr>
        <p:blipFill>
          <a:blip r:embed="rId2"/>
          <a:stretch/>
        </p:blipFill>
        <p:spPr>
          <a:xfrm>
            <a:off x="0" y="5229360"/>
            <a:ext cx="161604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285840" y="-92160"/>
            <a:ext cx="8456400" cy="15001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971640" y="2205000"/>
            <a:ext cx="568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ть в чайник вод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крыть кран газовой горел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авить чайник на плит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дать, пока вода закипи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нести спичку к горелк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жечь спичк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ключить газ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67" name="TextBox 2"/>
          <p:cNvSpPr/>
          <p:nvPr/>
        </p:nvSpPr>
        <p:spPr>
          <a:xfrm>
            <a:off x="468360" y="2133720"/>
            <a:ext cx="62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ть в чайник вод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жечь спичк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крыть кран газовой горел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днести спичку к горелк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ставить чайник на плит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дать, пока вода закипит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957240" y="237960"/>
            <a:ext cx="7942320" cy="9385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1115640" y="1484280"/>
            <a:ext cx="7839000" cy="5184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a6378"/>
                </a:solidFill>
                <a:latin typeface="Corbel"/>
              </a:rPr>
              <a:t>Словесно-формульны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 Составить алгоритм решения арифметического выражения  </a:t>
            </a:r>
            <a:r>
              <a:rPr b="0" lang="en-US" sz="1800" spc="-1" strike="noStrike">
                <a:solidFill>
                  <a:srgbClr val="cc3300"/>
                </a:solidFill>
                <a:latin typeface="Corbel"/>
              </a:rPr>
              <a:t>(</a:t>
            </a: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23+34)*57/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1 шаг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23+34=57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2 шаг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57*57=324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3 шаг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3249/3=108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a6378"/>
                </a:solidFill>
                <a:uFillTx/>
                <a:latin typeface="Corbel"/>
              </a:rPr>
              <a:t>С помощью алгоритмического язык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Например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 Составить алгоритм решения алгебраического выражения  </a:t>
            </a:r>
            <a:r>
              <a:rPr b="0" lang="en-US" sz="1800" spc="-1" strike="noStrike">
                <a:solidFill>
                  <a:srgbClr val="cc3300"/>
                </a:solidFill>
                <a:latin typeface="Corbel"/>
              </a:rPr>
              <a:t>x=2y+z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алг</a:t>
            </a: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арг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,z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рез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:=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2*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x:=x+z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Corbel"/>
              </a:rPr>
              <a:t>                   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Corbe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a6378"/>
                </a:solidFill>
                <a:uFillTx/>
                <a:latin typeface="Corbel"/>
              </a:rPr>
              <a:t>Таблиц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a6378"/>
                </a:solidFill>
                <a:uFillTx/>
                <a:latin typeface="Corbel"/>
              </a:rPr>
              <a:t>Блок-схем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j0199805"/>
          <p:cNvPicPr/>
          <p:nvPr/>
        </p:nvPicPr>
        <p:blipFill>
          <a:blip r:embed="rId2"/>
          <a:stretch/>
        </p:blipFill>
        <p:spPr>
          <a:xfrm>
            <a:off x="7527960" y="5229360"/>
            <a:ext cx="1616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4" descr=""/>
          <p:cNvPicPr/>
          <p:nvPr/>
        </p:nvPicPr>
        <p:blipFill>
          <a:blip r:embed="rId1"/>
          <a:stretch/>
        </p:blipFill>
        <p:spPr>
          <a:xfrm>
            <a:off x="847800" y="438120"/>
            <a:ext cx="8064360" cy="103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468360" y="2017800"/>
          <a:ext cx="8486640" cy="4481280"/>
        </p:xfrm>
        <a:graphic>
          <a:graphicData uri="http://schemas.openxmlformats.org/drawingml/2006/table">
            <a:tbl>
              <a:tblPr/>
              <a:tblGrid>
                <a:gridCol w="2835360"/>
                <a:gridCol w="5651280"/>
              </a:tblGrid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о и конец алгорит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исание ввода и вывода данн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исание линейной последовательности коман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значение условий в алгоритмических структурах «ветвление» и «выбор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ъявление переменных или ввод комментари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AutoShape 28"/>
          <p:cNvSpPr/>
          <p:nvPr/>
        </p:nvSpPr>
        <p:spPr>
          <a:xfrm>
            <a:off x="1187280" y="2276640"/>
            <a:ext cx="1656000" cy="360360"/>
          </a:xfrm>
          <a:prstGeom prst="flowChartTerminator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AutoShape 29"/>
          <p:cNvSpPr/>
          <p:nvPr/>
        </p:nvSpPr>
        <p:spPr>
          <a:xfrm>
            <a:off x="971640" y="2924280"/>
            <a:ext cx="1944720" cy="576000"/>
          </a:xfrm>
          <a:prstGeom prst="flowChartInputOutpu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AutoShape 30"/>
          <p:cNvSpPr/>
          <p:nvPr/>
        </p:nvSpPr>
        <p:spPr>
          <a:xfrm>
            <a:off x="755640" y="3716280"/>
            <a:ext cx="2303640" cy="649440"/>
          </a:xfrm>
          <a:prstGeom prst="flowChartProcess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следова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ан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AutoShape 31"/>
          <p:cNvSpPr/>
          <p:nvPr/>
        </p:nvSpPr>
        <p:spPr>
          <a:xfrm>
            <a:off x="971640" y="4724280"/>
            <a:ext cx="1800000" cy="720720"/>
          </a:xfrm>
          <a:prstGeom prst="flowChartDecision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AutoShape 32"/>
          <p:cNvSpPr/>
          <p:nvPr/>
        </p:nvSpPr>
        <p:spPr>
          <a:xfrm>
            <a:off x="826920" y="5734080"/>
            <a:ext cx="2160720" cy="647640"/>
          </a:xfrm>
          <a:prstGeom prst="flowChartPunchedCard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явл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ме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Схема 2" descr=""/>
          <p:cNvPicPr/>
          <p:nvPr/>
        </p:nvPicPr>
        <p:blipFill>
          <a:blip r:embed="rId1"/>
          <a:stretch/>
        </p:blipFill>
        <p:spPr>
          <a:xfrm>
            <a:off x="390600" y="1670040"/>
            <a:ext cx="8508960" cy="495612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"/>
          <p:cNvSpPr/>
          <p:nvPr/>
        </p:nvSpPr>
        <p:spPr>
          <a:xfrm>
            <a:off x="971640" y="333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1187280" y="404640"/>
            <a:ext cx="4105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826920" y="47628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Повторим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39280" y="2204640"/>
            <a:ext cx="8101080" cy="3311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е сообщение на тему: «Алгоритмы вокруг нас», используя разумные источни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4" name="Picture 9" descr="j0217698"/>
          <p:cNvPicPr/>
          <p:nvPr/>
        </p:nvPicPr>
        <p:blipFill>
          <a:blip r:embed="rId1"/>
          <a:stretch/>
        </p:blipFill>
        <p:spPr>
          <a:xfrm>
            <a:off x="7396200" y="516420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Схема 2" descr=""/>
          <p:cNvPicPr/>
          <p:nvPr/>
        </p:nvPicPr>
        <p:blipFill>
          <a:blip r:embed="rId1"/>
          <a:stretch/>
        </p:blipFill>
        <p:spPr>
          <a:xfrm>
            <a:off x="536400" y="731880"/>
            <a:ext cx="721224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"/>
          <p:cNvSpPr/>
          <p:nvPr/>
        </p:nvSpPr>
        <p:spPr>
          <a:xfrm>
            <a:off x="755640" y="234936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кипятить вод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катить заварочный чайник кипят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ыпать заварку в чайник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лить кипят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ыть крышечк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крыть полотенц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826920" y="1773000"/>
            <a:ext cx="7772400" cy="1842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это конечная последовательность  действий, направленных на получение из исходных данных результата , записанная с помощью  точных и понятных исполнителю команд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5076720" y="3933720"/>
            <a:ext cx="3743280" cy="2159280"/>
          </a:xfrm>
          <a:prstGeom prst="cloudCallout">
            <a:avLst>
              <a:gd name="adj1" fmla="val -27523"/>
              <a:gd name="adj2" fmla="val 66027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68bba"/>
                </a:solidFill>
                <a:uFillTx/>
                <a:latin typeface="Tahoma"/>
                <a:hlinkClick r:id="rId2" action="ppaction://hlinksldjump"/>
              </a:rPr>
              <a:t>Происхождение слова «алгоритм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" name="Picture 7" descr="j0199805"/>
          <p:cNvPicPr/>
          <p:nvPr/>
        </p:nvPicPr>
        <p:blipFill>
          <a:blip r:embed="rId3"/>
          <a:stretch/>
        </p:blipFill>
        <p:spPr>
          <a:xfrm>
            <a:off x="7670880" y="0"/>
            <a:ext cx="1473120" cy="1484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j0292982"/>
          <p:cNvPicPr/>
          <p:nvPr/>
        </p:nvPicPr>
        <p:blipFill>
          <a:blip r:embed="rId4"/>
          <a:stretch/>
        </p:blipFill>
        <p:spPr>
          <a:xfrm>
            <a:off x="0" y="5400720"/>
            <a:ext cx="14763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981000" y="139680"/>
            <a:ext cx="7967880" cy="7016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1258920" y="836640"/>
            <a:ext cx="7696080" cy="568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tIns="91440" anchor="t">
            <a:normAutofit fontScale="96000"/>
          </a:bodyPr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лово «</a:t>
            </a: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алгоритм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» происходит от имени арабского учёного Мухаммед ибн Муса ал-Хорезми. </a:t>
            </a:r>
            <a:r>
              <a:rPr b="0" lang="ru-RU" sz="2600" spc="-1" strike="noStrike">
                <a:solidFill>
                  <a:srgbClr val="680000"/>
                </a:solidFill>
                <a:latin typeface="Corbel"/>
              </a:rPr>
              <a:t>Ал-Хорезми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жил и творил в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IX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веке, он сформулировал правила выполнения арифметических действий в десятичной позиционной системе счисления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латинском переводе книги Ал-Хорезми правила начинались словами «</a:t>
            </a:r>
            <a:r>
              <a:rPr b="0" lang="ru-RU" sz="2600" spc="-1" strike="noStrike">
                <a:solidFill>
                  <a:srgbClr val="680000"/>
                </a:solidFill>
                <a:latin typeface="Corbel"/>
              </a:rPr>
              <a:t>Алгоризми сказал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». С течением времени люди забыли, что «Алгоризми» - это автор правил, и стали просто называть правила алгоритмами. В настоящее время  слово «</a:t>
            </a:r>
            <a:r>
              <a:rPr b="0" lang="ru-RU" sz="2600" spc="-1" strike="noStrike">
                <a:solidFill>
                  <a:srgbClr val="cc3300"/>
                </a:solidFill>
                <a:latin typeface="Corbel"/>
              </a:rPr>
              <a:t>алгоритм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» является одним из важнейших понятий науки информатик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8" descr="j0292982"/>
          <p:cNvPicPr/>
          <p:nvPr/>
        </p:nvPicPr>
        <p:blipFill>
          <a:blip r:embed="rId2"/>
          <a:stretch/>
        </p:blipFill>
        <p:spPr>
          <a:xfrm>
            <a:off x="0" y="5400720"/>
            <a:ext cx="147636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j0211949"/>
          <p:cNvPicPr/>
          <p:nvPr/>
        </p:nvPicPr>
        <p:blipFill>
          <a:blip r:embed="rId1"/>
          <a:stretch/>
        </p:blipFill>
        <p:spPr>
          <a:xfrm>
            <a:off x="2771640" y="5084640"/>
            <a:ext cx="1900440" cy="1165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j0216858"/>
          <p:cNvPicPr/>
          <p:nvPr/>
        </p:nvPicPr>
        <p:blipFill>
          <a:blip r:embed="rId2"/>
          <a:stretch/>
        </p:blipFill>
        <p:spPr>
          <a:xfrm>
            <a:off x="5076720" y="5805360"/>
            <a:ext cx="1827360" cy="833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j0234131"/>
          <p:cNvPicPr/>
          <p:nvPr/>
        </p:nvPicPr>
        <p:blipFill>
          <a:blip r:embed="rId3"/>
          <a:stretch/>
        </p:blipFill>
        <p:spPr>
          <a:xfrm>
            <a:off x="0" y="3141720"/>
            <a:ext cx="1479600" cy="1573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j0233018"/>
          <p:cNvPicPr/>
          <p:nvPr/>
        </p:nvPicPr>
        <p:blipFill>
          <a:blip r:embed="rId4"/>
          <a:stretch/>
        </p:blipFill>
        <p:spPr>
          <a:xfrm>
            <a:off x="1908000" y="0"/>
            <a:ext cx="1746360" cy="1773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j0285750"/>
          <p:cNvPicPr/>
          <p:nvPr/>
        </p:nvPicPr>
        <p:blipFill>
          <a:blip r:embed="rId5"/>
          <a:stretch/>
        </p:blipFill>
        <p:spPr>
          <a:xfrm>
            <a:off x="4788000" y="260280"/>
            <a:ext cx="1823760" cy="1120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j0285698"/>
          <p:cNvPicPr/>
          <p:nvPr/>
        </p:nvPicPr>
        <p:blipFill>
          <a:blip r:embed="rId6"/>
          <a:stretch/>
        </p:blipFill>
        <p:spPr>
          <a:xfrm>
            <a:off x="7437600" y="503388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j0292152"/>
          <p:cNvPicPr/>
          <p:nvPr/>
        </p:nvPicPr>
        <p:blipFill>
          <a:blip r:embed="rId7"/>
          <a:stretch/>
        </p:blipFill>
        <p:spPr>
          <a:xfrm>
            <a:off x="0" y="5032440"/>
            <a:ext cx="1538280" cy="1825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9" descr="j0297551"/>
          <p:cNvPicPr/>
          <p:nvPr/>
        </p:nvPicPr>
        <p:blipFill>
          <a:blip r:embed="rId8"/>
          <a:stretch/>
        </p:blipFill>
        <p:spPr>
          <a:xfrm>
            <a:off x="1476360" y="1773360"/>
            <a:ext cx="1195560" cy="18237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1" descr="j0332364"/>
          <p:cNvPicPr/>
          <p:nvPr/>
        </p:nvPicPr>
        <p:blipFill>
          <a:blip r:embed="rId9"/>
          <a:stretch/>
        </p:blipFill>
        <p:spPr>
          <a:xfrm>
            <a:off x="6948360" y="2997360"/>
            <a:ext cx="1830600" cy="147456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23"/>
          <p:cNvSpPr/>
          <p:nvPr/>
        </p:nvSpPr>
        <p:spPr>
          <a:xfrm>
            <a:off x="2771640" y="1700280"/>
            <a:ext cx="3743640" cy="3313080"/>
          </a:xfrm>
          <a:prstGeom prst="irregularSeal2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Исполните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алгорит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4" descr=""/>
          <p:cNvPicPr/>
          <p:nvPr/>
        </p:nvPicPr>
        <p:blipFill>
          <a:blip r:embed="rId1"/>
          <a:stretch/>
        </p:blipFill>
        <p:spPr>
          <a:xfrm>
            <a:off x="1060560" y="208080"/>
            <a:ext cx="3913200" cy="14745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476000" y="4365360"/>
            <a:ext cx="3809880" cy="2127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ди туда, не знаю куда. Принеси то, не знаю чт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148000" y="620640"/>
            <a:ext cx="3809880" cy="936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осчитайте число окон в своём дом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250920" y="2349360"/>
            <a:ext cx="38098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68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читайте звёзды на неб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148360" y="2133720"/>
            <a:ext cx="38098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8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айте подробное описание дороги от двери своего дома до школы (пешком, на автобусе или другом транспорте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utoShape 10"/>
          <p:cNvSpPr/>
          <p:nvPr/>
        </p:nvSpPr>
        <p:spPr>
          <a:xfrm rot="908400">
            <a:off x="3768480" y="1814400"/>
            <a:ext cx="360360" cy="2305080"/>
          </a:xfrm>
          <a:prstGeom prst="downArrow">
            <a:avLst>
              <a:gd name="adj1" fmla="val 50000"/>
              <a:gd name="adj2" fmla="val 15991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AutoShape 11"/>
          <p:cNvSpPr/>
          <p:nvPr/>
        </p:nvSpPr>
        <p:spPr>
          <a:xfrm rot="908400">
            <a:off x="1907640" y="1844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utoShape 12"/>
          <p:cNvSpPr/>
          <p:nvPr/>
        </p:nvSpPr>
        <p:spPr>
          <a:xfrm rot="18502800">
            <a:off x="4858920" y="177300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utoShape 13"/>
          <p:cNvSpPr/>
          <p:nvPr/>
        </p:nvSpPr>
        <p:spPr>
          <a:xfrm rot="18010200">
            <a:off x="4824360" y="36792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7" name="Picture 14" descr="j0199805"/>
          <p:cNvPicPr/>
          <p:nvPr/>
        </p:nvPicPr>
        <p:blipFill>
          <a:blip r:embed="rId2"/>
          <a:stretch/>
        </p:blipFill>
        <p:spPr>
          <a:xfrm rot="5400000">
            <a:off x="7669440" y="5374440"/>
            <a:ext cx="14731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05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1547640" y="1844640"/>
            <a:ext cx="453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ать ключ из карма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тавить ключ в замочную скважин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ернуть ключ 2 раза против часовой стрел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нуть клю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335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1116000" y="1700280"/>
            <a:ext cx="64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числа А вычесть число 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олучилось отрицательное значение, то сообщить, что число В больш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олучилось положительное значение, то сообщить, что число А больш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получился ноль, то сообщить, что числа рав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3:56:03Z</dcterms:created>
  <dc:creator>Ученик 5</dc:creator>
  <dc:description/>
  <dc:language>en-US</dc:language>
  <cp:lastModifiedBy>user</cp:lastModifiedBy>
  <dcterms:modified xsi:type="dcterms:W3CDTF">2013-01-27T17:38:09Z</dcterms:modified>
  <cp:revision>60</cp:revision>
  <dc:subject/>
  <dc:title>Алгоритмы</dc:title>
</cp:coreProperties>
</file>