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8.wmf" ContentType="image/x-wmf"/>
  <Override PartName="/ppt/media/image27.png" ContentType="image/png"/>
  <Override PartName="/ppt/media/image12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16.wmf" ContentType="image/x-wmf"/>
  <Override PartName="/ppt/media/image21.png" ContentType="image/pn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B77-A8F7-4FF7-B810-E7C3ECFC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406-6347-47C6-8F92-D5BF6FF4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7D2-E921-4A33-9615-85CA253F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8F4-4C5A-480C-BDDA-F49C39FA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4D6A-99E8-4875-9D8A-7E9847D5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6D34-FFB9-49A7-BBE2-72A5F6A1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F29B-CBE5-49B5-842A-4BFEC325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0927-8BDE-439D-8C41-7763DD23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AAE1-BA90-496E-928D-410E72AB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F633-C0BB-448D-ADCA-CC1442E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CDE7-9E71-4819-89BE-410F813E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94B-1459-4E03-8877-490CB44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9FDF-9DFC-4209-9BC8-CFF95F52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4FAF-8962-4364-A2DB-2FE0D1A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D88F-A1C7-4A29-94F4-D8508666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9EC7-3FFE-4779-AE0B-C8C0C2BC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6478-BCF7-48C7-897F-939EA61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CAAB-E1F0-4A89-AD86-6137D530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0606-D0C7-4840-83BF-1F7F04E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6226-E4FB-4C8A-8677-AAF1172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D3A9-BEDF-4F42-B367-EB5A0C38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592D-C0F5-417A-B18A-633506FC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946-225C-4BD3-8C99-D3AA9C3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E692-3419-4AFA-9E58-93D0A164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5725-F9DF-4974-923E-384DD3DA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5A1C-061B-4777-BC31-FC4180CF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8941-CEA8-413F-B3A1-E49DFD3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FF7F-F057-4EC8-9579-6580FFD6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BB18-6D28-4F53-B79E-939CD559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692B-263B-469E-B043-8A8C4A20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D8B2-B235-4D51-A56F-96FC5713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E1B8-8506-49B3-BCAA-A0810C8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1170-5C3C-4EFC-B839-2677F08A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1C2-66AC-46C0-841C-37C1350C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8C24-CEB3-459A-A47F-0E2195E1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FEC8-E74F-46DD-BC8B-FE75BB0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7907-E22B-4592-8570-DB59D4C4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F0722-8567-4D1C-B50A-7B6B5B9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A5DB-2A3A-4F60-A321-FE12F21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3FFE-AF8C-4F19-A525-AA86AEFC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DAD8-034A-42AF-9881-9F3DB2D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6D14-70F6-4BB7-AB99-DE5BF797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CBAC-70A0-43C2-AED2-8E2411A0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E92B-F3D0-486D-B013-5206DB6B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2E7-EAC9-4AD3-99A8-F45C6E1C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073A-D840-41CB-9E1A-42F52D9F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4038-D68C-42AD-A193-5927B16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9784-12BB-4F8C-BCE4-DD8652A8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E39E-4C44-4AFC-8372-9A5E68A0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6FB3A-955F-4386-AA73-5CF5BCBD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E1110-FE39-49D7-B7A1-33C135C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4EE1-9413-47A7-B863-157BE47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EB93-2AC3-4BC6-A3AF-1CD99FE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8102-E0A3-4D7D-B469-84B9730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0C75-8534-452C-847E-1365AC57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5AC-4CEF-4C4E-9D61-3C84D039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5ECE2-65A2-4BE0-84E6-50B9B060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D5F6B-62A4-4A36-ACD3-528CF9EE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271C-D707-428E-ACEF-BA9CF85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99F7-7A8E-4067-827D-28CC173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9099E-660F-4586-B179-1DBC47A5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1362D-4944-4C91-902C-9358C515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CEC2E-46E4-447F-B901-94DD398A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D360-F06A-4F2C-83FA-9C3435D9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5603-40D0-4DD0-8304-6FF8062A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CE59-4AF6-478F-B8FB-E7532B2A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D5F-A3CF-43FE-9300-C2CED90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EE4F-9848-4674-A0C0-8A0BFE1E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FB62-E295-4071-823F-41522DB1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01B6E-F579-4ED4-942E-22B84A48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8680-AD85-4FDC-AF0B-D58D3F25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1A2CC-8D36-4BF4-B3A4-E8FE2F0E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65580-5592-49BF-9DF2-5E048CF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096E3-24FF-4AA8-B930-DF1CE390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6A57-6682-4FBA-9DDD-DE3707B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7F87-844B-467C-98A6-D3A2F27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3D1E-6D56-4BED-8712-B7D14788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681-6EAF-406B-9AF2-1020770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CE80-FFED-4F80-8827-E480347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1E279-1318-4E8E-8D82-9070A88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697DE-8C09-4D04-B488-1F193B44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30A88-D3DC-4EC7-9A5D-10FDB201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B570-DCFF-42EE-8166-2E1378DB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D58-CA60-4635-B2DE-9177F9F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3C8A-EB93-424F-AED9-30F1E1D0CE3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ED3F-5F69-4A36-AAC4-CC7CDDCF1D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17D5-C21A-42AC-956B-69254DC5A0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DFA-ACB3-4958-810C-4A0820EFE87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F654-5927-4CFB-BFA7-81959812293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B4F3-CF1C-40FD-8DF4-B1685943B6B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7FC-9B17-4346-80FC-0E32E27DDEF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4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7" descr="j0229389"/>
          <p:cNvPicPr/>
          <p:nvPr/>
        </p:nvPicPr>
        <p:blipFill>
          <a:blip r:embed="rId1"/>
          <a:stretch/>
        </p:blipFill>
        <p:spPr>
          <a:xfrm>
            <a:off x="2700360" y="3573360"/>
            <a:ext cx="5832360" cy="287676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" descr=""/>
          <p:cNvPicPr/>
          <p:nvPr/>
        </p:nvPicPr>
        <p:blipFill>
          <a:blip r:embed="rId2"/>
          <a:stretch/>
        </p:blipFill>
        <p:spPr>
          <a:xfrm>
            <a:off x="85680" y="738360"/>
            <a:ext cx="4565520" cy="17128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6084720" y="620640"/>
            <a:ext cx="432000" cy="4320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7164360" y="549360"/>
            <a:ext cx="432000" cy="43164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8172360" y="476280"/>
            <a:ext cx="432000" cy="43164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164360" y="1916280"/>
            <a:ext cx="432000" cy="43164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7164360" y="1125360"/>
            <a:ext cx="576360" cy="57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12"/>
          <p:cNvGrpSpPr/>
          <p:nvPr/>
        </p:nvGrpSpPr>
        <p:grpSpPr>
          <a:xfrm>
            <a:off x="6732720" y="620640"/>
            <a:ext cx="287280" cy="216000"/>
            <a:chOff x="6732720" y="620640"/>
            <a:chExt cx="287280" cy="216000"/>
          </a:xfrm>
        </p:grpSpPr>
        <p:sp>
          <p:nvSpPr>
            <p:cNvPr id="311" name="Line 10"/>
            <p:cNvSpPr/>
            <p:nvPr/>
          </p:nvSpPr>
          <p:spPr>
            <a:xfrm>
              <a:off x="6732720" y="620640"/>
              <a:ext cx="28728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11"/>
            <p:cNvSpPr/>
            <p:nvPr/>
          </p:nvSpPr>
          <p:spPr>
            <a:xfrm flipH="1">
              <a:off x="6803640" y="620640"/>
              <a:ext cx="14436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7812000" y="549360"/>
            <a:ext cx="287280" cy="215640"/>
            <a:chOff x="7812000" y="549360"/>
            <a:chExt cx="287280" cy="215640"/>
          </a:xfrm>
        </p:grpSpPr>
        <p:sp>
          <p:nvSpPr>
            <p:cNvPr id="314" name="Line 14"/>
            <p:cNvSpPr/>
            <p:nvPr/>
          </p:nvSpPr>
          <p:spPr>
            <a:xfrm>
              <a:off x="7812000" y="549360"/>
              <a:ext cx="28728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 flipH="1">
              <a:off x="7882920" y="549360"/>
              <a:ext cx="144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6" name="Picture 18" descr="j0199805"/>
          <p:cNvPicPr/>
          <p:nvPr/>
        </p:nvPicPr>
        <p:blipFill>
          <a:blip r:embed="rId3"/>
          <a:stretch/>
        </p:blipFill>
        <p:spPr>
          <a:xfrm rot="10800000">
            <a:off x="0" y="5373360"/>
            <a:ext cx="1473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0" descr="j0229385"/>
          <p:cNvPicPr/>
          <p:nvPr/>
        </p:nvPicPr>
        <p:blipFill>
          <a:blip r:embed="rId1"/>
          <a:stretch/>
        </p:blipFill>
        <p:spPr>
          <a:xfrm>
            <a:off x="1403280" y="1844640"/>
            <a:ext cx="6985080" cy="48229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2" descr=""/>
          <p:cNvPicPr/>
          <p:nvPr/>
        </p:nvPicPr>
        <p:blipFill>
          <a:blip r:embed="rId2"/>
          <a:stretch/>
        </p:blipFill>
        <p:spPr>
          <a:xfrm>
            <a:off x="884160" y="689040"/>
            <a:ext cx="6145200" cy="993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700000" y="2017440"/>
            <a:ext cx="6264360" cy="4506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68bba"/>
                </a:solidFill>
                <a:uFillTx/>
                <a:latin typeface="Corbel"/>
                <a:hlinkClick r:id="rId3" action="ppaction://hlinksldjump"/>
              </a:rPr>
              <a:t>Результатив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Дискретность (пошагово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68bba"/>
                </a:solidFill>
                <a:uFillTx/>
                <a:latin typeface="Corbel"/>
                <a:hlinkClick r:id="rId4" action="ppaction://hlinksldjump"/>
              </a:rPr>
              <a:t>Определён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Понят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Выполним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Массов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4" descr="j0199805"/>
          <p:cNvPicPr/>
          <p:nvPr/>
        </p:nvPicPr>
        <p:blipFill>
          <a:blip r:embed="rId5"/>
          <a:stretch/>
        </p:blipFill>
        <p:spPr>
          <a:xfrm>
            <a:off x="7527960" y="0"/>
            <a:ext cx="1616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6" descr=""/>
          <p:cNvPicPr/>
          <p:nvPr/>
        </p:nvPicPr>
        <p:blipFill>
          <a:blip r:embed="rId1"/>
          <a:stretch/>
        </p:blipFill>
        <p:spPr>
          <a:xfrm>
            <a:off x="3005280" y="109440"/>
            <a:ext cx="6145200" cy="993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371600" y="1052280"/>
            <a:ext cx="777240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Результативн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Получение требуемого результата за конечное число шагов; это означает, что неправильный алгоритм, который не достигает цели, вообще не нужно считать алгоритмо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Дискретность (пошаговость)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Под дискретностью понимают, что алгоритм состоит из последовательности действий, шагов. Выполнение каждого следующего шага невозможно без выполнения предыдущих. Последний шаг, как правило, выдаёт результат действия алгоритм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AutoShape 4">
            <a:hlinkClick r:id="" action="ppaction://hlinkshowjump?jump=previousslide"/>
          </p:cNvPr>
          <p:cNvSpPr/>
          <p:nvPr/>
        </p:nvSpPr>
        <p:spPr>
          <a:xfrm>
            <a:off x="8712360" y="6499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Picture 5" descr="j0205582"/>
          <p:cNvPicPr/>
          <p:nvPr/>
        </p:nvPicPr>
        <p:blipFill>
          <a:blip r:embed="rId2"/>
          <a:stretch/>
        </p:blipFill>
        <p:spPr>
          <a:xfrm>
            <a:off x="0" y="522756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6" descr=""/>
          <p:cNvPicPr/>
          <p:nvPr/>
        </p:nvPicPr>
        <p:blipFill>
          <a:blip r:embed="rId1"/>
          <a:stretch/>
        </p:blipFill>
        <p:spPr>
          <a:xfrm>
            <a:off x="3005280" y="109440"/>
            <a:ext cx="6145200" cy="993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1187280" y="1052280"/>
            <a:ext cx="7772400" cy="5367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Детерминированность (определённость)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значает, что действия, выполняемые на каждом шаге, однозначно и точно определен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Понятн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Алгоритм должен быть понятен не только автору, но и исполнителю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Выполним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Алгоритм должен содержать команды, записанные на понятном языке и выполнимые исполнителе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Массов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дин тот же алгоритм может применяться для решения большого количества однотипных задач с различающимися условия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AutoShape 4">
            <a:hlinkClick r:id="" action="ppaction://hlinkshowjump?jump=previousslide"/>
          </p:cNvPr>
          <p:cNvSpPr/>
          <p:nvPr/>
        </p:nvSpPr>
        <p:spPr>
          <a:xfrm>
            <a:off x="871236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5" descr="j0199805"/>
          <p:cNvPicPr/>
          <p:nvPr/>
        </p:nvPicPr>
        <p:blipFill>
          <a:blip r:embed="rId2"/>
          <a:stretch/>
        </p:blipFill>
        <p:spPr>
          <a:xfrm>
            <a:off x="0" y="5229360"/>
            <a:ext cx="161604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285840" y="-92160"/>
            <a:ext cx="8456400" cy="15001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971640" y="2205000"/>
            <a:ext cx="568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ть в чайник вод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крыть кран газовой горел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авить чайник на пли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дать, пока вода закип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нести спичку к горелк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жечь спичк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ключить га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468360" y="2133720"/>
            <a:ext cx="62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ть в чайник во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жечь спичк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крыть кран газовой горел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нести спичку к горелк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авить чайник на плит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дать, пока вода закипи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957240" y="237960"/>
            <a:ext cx="7942320" cy="9385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1115640" y="1484280"/>
            <a:ext cx="7839000" cy="5184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6378"/>
                </a:solidFill>
                <a:latin typeface="Corbel"/>
              </a:rPr>
              <a:t>Словесно-формуль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 Составить алгоритм решения арифметического выражения  </a:t>
            </a:r>
            <a:r>
              <a:rPr b="0" lang="en-US" sz="1800" spc="-1" strike="noStrike">
                <a:solidFill>
                  <a:srgbClr val="cc3300"/>
                </a:solidFill>
                <a:latin typeface="Corbel"/>
              </a:rPr>
              <a:t>(</a:t>
            </a: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23+34)*57/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1 ша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23+34=5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2 ша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57*57=324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3 ша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3249/3=108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a6378"/>
                </a:solidFill>
                <a:uFillTx/>
                <a:latin typeface="Corbel"/>
              </a:rPr>
              <a:t>С помощью алгоритмического язы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 Составить алгоритм решения алгебраического выражения  </a:t>
            </a:r>
            <a:r>
              <a:rPr b="0" lang="en-US" sz="1800" spc="-1" strike="noStrike">
                <a:solidFill>
                  <a:srgbClr val="cc3300"/>
                </a:solidFill>
                <a:latin typeface="Corbel"/>
              </a:rPr>
              <a:t>x=2y+z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алг</a:t>
            </a: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ар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,z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рез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:=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*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:=x+z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a6378"/>
                </a:solidFill>
                <a:uFillTx/>
                <a:latin typeface="Corbel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a6378"/>
                </a:solidFill>
                <a:uFillTx/>
                <a:latin typeface="Corbel"/>
              </a:rPr>
              <a:t>Блок-схе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j0199805"/>
          <p:cNvPicPr/>
          <p:nvPr/>
        </p:nvPicPr>
        <p:blipFill>
          <a:blip r:embed="rId2"/>
          <a:stretch/>
        </p:blipFill>
        <p:spPr>
          <a:xfrm>
            <a:off x="7527960" y="5229360"/>
            <a:ext cx="1616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4" descr=""/>
          <p:cNvPicPr/>
          <p:nvPr/>
        </p:nvPicPr>
        <p:blipFill>
          <a:blip r:embed="rId1"/>
          <a:stretch/>
        </p:blipFill>
        <p:spPr>
          <a:xfrm>
            <a:off x="847800" y="438120"/>
            <a:ext cx="806436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468360" y="2017800"/>
          <a:ext cx="8486640" cy="4481280"/>
        </p:xfrm>
        <a:graphic>
          <a:graphicData uri="http://schemas.openxmlformats.org/drawingml/2006/table">
            <a:tbl>
              <a:tblPr/>
              <a:tblGrid>
                <a:gridCol w="2835360"/>
                <a:gridCol w="565128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о и конец алгорит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исание ввода и вывода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исание линейной последовательности кома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значение условий в алгоритмических структурах «ветвление» и «выбор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ъявление переменных или ввод комментари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AutoShape 28"/>
          <p:cNvSpPr/>
          <p:nvPr/>
        </p:nvSpPr>
        <p:spPr>
          <a:xfrm>
            <a:off x="1187280" y="2276640"/>
            <a:ext cx="1656000" cy="360360"/>
          </a:xfrm>
          <a:prstGeom prst="flowChartTermina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AutoShape 29"/>
          <p:cNvSpPr/>
          <p:nvPr/>
        </p:nvSpPr>
        <p:spPr>
          <a:xfrm>
            <a:off x="971640" y="2924280"/>
            <a:ext cx="1944720" cy="576000"/>
          </a:xfrm>
          <a:prstGeom prst="flowChartInputOutpu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AutoShape 30"/>
          <p:cNvSpPr/>
          <p:nvPr/>
        </p:nvSpPr>
        <p:spPr>
          <a:xfrm>
            <a:off x="755640" y="3716280"/>
            <a:ext cx="2303640" cy="649440"/>
          </a:xfrm>
          <a:prstGeom prst="flowChartProcess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ан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AutoShape 31"/>
          <p:cNvSpPr/>
          <p:nvPr/>
        </p:nvSpPr>
        <p:spPr>
          <a:xfrm>
            <a:off x="971640" y="4724280"/>
            <a:ext cx="1800000" cy="720720"/>
          </a:xfrm>
          <a:prstGeom prst="flowChartDecision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32"/>
          <p:cNvSpPr/>
          <p:nvPr/>
        </p:nvSpPr>
        <p:spPr>
          <a:xfrm>
            <a:off x="826920" y="5734080"/>
            <a:ext cx="2160720" cy="647640"/>
          </a:xfrm>
          <a:prstGeom prst="flowChartPunchedCard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явл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ме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хема 2" descr=""/>
          <p:cNvPicPr/>
          <p:nvPr/>
        </p:nvPicPr>
        <p:blipFill>
          <a:blip r:embed="rId1"/>
          <a:stretch/>
        </p:blipFill>
        <p:spPr>
          <a:xfrm>
            <a:off x="390600" y="1670040"/>
            <a:ext cx="8508960" cy="49561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971640" y="333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1187280" y="404640"/>
            <a:ext cx="4105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826920" y="476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Повторим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39280" y="2204640"/>
            <a:ext cx="8101080" cy="331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сообщение на тему: «Алгоритмы вокруг нас», используя разумные источни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9" descr="j0217698"/>
          <p:cNvPicPr/>
          <p:nvPr/>
        </p:nvPicPr>
        <p:blipFill>
          <a:blip r:embed="rId1"/>
          <a:stretch/>
        </p:blipFill>
        <p:spPr>
          <a:xfrm>
            <a:off x="7396200" y="516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Схема 2" descr=""/>
          <p:cNvPicPr/>
          <p:nvPr/>
        </p:nvPicPr>
        <p:blipFill>
          <a:blip r:embed="rId1"/>
          <a:stretch/>
        </p:blipFill>
        <p:spPr>
          <a:xfrm>
            <a:off x="536400" y="731880"/>
            <a:ext cx="72122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"/>
          <p:cNvSpPr/>
          <p:nvPr/>
        </p:nvSpPr>
        <p:spPr>
          <a:xfrm>
            <a:off x="755640" y="234936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кипятить в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атить заварочный чайник кипят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ыпать заварку в чайник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лить кипят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ыть крышечк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рыть полотенц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826920" y="1773000"/>
            <a:ext cx="7772400" cy="184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это конечная последовательность  действий, направленных на получение из исходных данных результата , записанная с помощью  точных и понятных исполнителю коман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5076720" y="3933720"/>
            <a:ext cx="3743280" cy="2159280"/>
          </a:xfrm>
          <a:prstGeom prst="cloudCallout">
            <a:avLst>
              <a:gd name="adj1" fmla="val -27523"/>
              <a:gd name="adj2" fmla="val 6602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8bba"/>
                </a:solidFill>
                <a:uFillTx/>
                <a:latin typeface="Tahoma"/>
                <a:hlinkClick r:id="rId2" action="ppaction://hlinksldjump"/>
              </a:rPr>
              <a:t>Происхождение слова «алгоритм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Picture 7" descr="j0199805"/>
          <p:cNvPicPr/>
          <p:nvPr/>
        </p:nvPicPr>
        <p:blipFill>
          <a:blip r:embed="rId3"/>
          <a:stretch/>
        </p:blipFill>
        <p:spPr>
          <a:xfrm>
            <a:off x="7670880" y="0"/>
            <a:ext cx="1473120" cy="1484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j0292982"/>
          <p:cNvPicPr/>
          <p:nvPr/>
        </p:nvPicPr>
        <p:blipFill>
          <a:blip r:embed="rId4"/>
          <a:stretch/>
        </p:blipFill>
        <p:spPr>
          <a:xfrm>
            <a:off x="0" y="5400720"/>
            <a:ext cx="1476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981000" y="139680"/>
            <a:ext cx="7967880" cy="701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258920" y="836640"/>
            <a:ext cx="7696080" cy="568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лово «</a:t>
            </a: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алгоритм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» происходит от имени арабского учёного Мухаммед ибн Муса ал-Хорезми. </a:t>
            </a:r>
            <a:r>
              <a:rPr b="0" lang="ru-RU" sz="2600" spc="-1" strike="noStrike">
                <a:solidFill>
                  <a:srgbClr val="680000"/>
                </a:solidFill>
                <a:latin typeface="Corbel"/>
              </a:rPr>
              <a:t>Ал-Хорезми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жил и творил в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X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веке, он сформулировал правила выполнения арифметических действий в десятичной позиционной системе счисления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латинском переводе книги Ал-Хорезми правила начинались словами «</a:t>
            </a:r>
            <a:r>
              <a:rPr b="0" lang="ru-RU" sz="2600" spc="-1" strike="noStrike">
                <a:solidFill>
                  <a:srgbClr val="680000"/>
                </a:solidFill>
                <a:latin typeface="Corbel"/>
              </a:rPr>
              <a:t>Алгоризми сказал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». С течением времени люди забыли, что «Алгоризми» - это автор правил, и стали просто называть правила алгоритмами. В настоящее время  слово «</a:t>
            </a: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алгоритм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» является одним из важнейших понятий науки информатик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8" descr="j0292982"/>
          <p:cNvPicPr/>
          <p:nvPr/>
        </p:nvPicPr>
        <p:blipFill>
          <a:blip r:embed="rId2"/>
          <a:stretch/>
        </p:blipFill>
        <p:spPr>
          <a:xfrm>
            <a:off x="0" y="5400720"/>
            <a:ext cx="147636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j0211949"/>
          <p:cNvPicPr/>
          <p:nvPr/>
        </p:nvPicPr>
        <p:blipFill>
          <a:blip r:embed="rId1"/>
          <a:stretch/>
        </p:blipFill>
        <p:spPr>
          <a:xfrm>
            <a:off x="2771640" y="5084640"/>
            <a:ext cx="1900440" cy="1165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j0216858"/>
          <p:cNvPicPr/>
          <p:nvPr/>
        </p:nvPicPr>
        <p:blipFill>
          <a:blip r:embed="rId2"/>
          <a:stretch/>
        </p:blipFill>
        <p:spPr>
          <a:xfrm>
            <a:off x="5076720" y="5805360"/>
            <a:ext cx="1827360" cy="833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j0234131"/>
          <p:cNvPicPr/>
          <p:nvPr/>
        </p:nvPicPr>
        <p:blipFill>
          <a:blip r:embed="rId3"/>
          <a:stretch/>
        </p:blipFill>
        <p:spPr>
          <a:xfrm>
            <a:off x="0" y="3141720"/>
            <a:ext cx="1479600" cy="1573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j0233018"/>
          <p:cNvPicPr/>
          <p:nvPr/>
        </p:nvPicPr>
        <p:blipFill>
          <a:blip r:embed="rId4"/>
          <a:stretch/>
        </p:blipFill>
        <p:spPr>
          <a:xfrm>
            <a:off x="1908000" y="0"/>
            <a:ext cx="1746360" cy="1773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j0285750"/>
          <p:cNvPicPr/>
          <p:nvPr/>
        </p:nvPicPr>
        <p:blipFill>
          <a:blip r:embed="rId5"/>
          <a:stretch/>
        </p:blipFill>
        <p:spPr>
          <a:xfrm>
            <a:off x="4788000" y="260280"/>
            <a:ext cx="1823760" cy="1120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j0285698"/>
          <p:cNvPicPr/>
          <p:nvPr/>
        </p:nvPicPr>
        <p:blipFill>
          <a:blip r:embed="rId6"/>
          <a:stretch/>
        </p:blipFill>
        <p:spPr>
          <a:xfrm>
            <a:off x="7437600" y="50338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j0292152"/>
          <p:cNvPicPr/>
          <p:nvPr/>
        </p:nvPicPr>
        <p:blipFill>
          <a:blip r:embed="rId7"/>
          <a:stretch/>
        </p:blipFill>
        <p:spPr>
          <a:xfrm>
            <a:off x="0" y="5032440"/>
            <a:ext cx="1538280" cy="1825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" descr="j0297551"/>
          <p:cNvPicPr/>
          <p:nvPr/>
        </p:nvPicPr>
        <p:blipFill>
          <a:blip r:embed="rId8"/>
          <a:stretch/>
        </p:blipFill>
        <p:spPr>
          <a:xfrm>
            <a:off x="1476360" y="1773360"/>
            <a:ext cx="1195560" cy="1823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1" descr="j0332364"/>
          <p:cNvPicPr/>
          <p:nvPr/>
        </p:nvPicPr>
        <p:blipFill>
          <a:blip r:embed="rId9"/>
          <a:stretch/>
        </p:blipFill>
        <p:spPr>
          <a:xfrm>
            <a:off x="6948360" y="2997360"/>
            <a:ext cx="1830600" cy="147456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23"/>
          <p:cNvSpPr/>
          <p:nvPr/>
        </p:nvSpPr>
        <p:spPr>
          <a:xfrm>
            <a:off x="2771640" y="1700280"/>
            <a:ext cx="3743640" cy="3313080"/>
          </a:xfrm>
          <a:prstGeom prst="irregularSeal2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сполните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алгорит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4" descr=""/>
          <p:cNvPicPr/>
          <p:nvPr/>
        </p:nvPicPr>
        <p:blipFill>
          <a:blip r:embed="rId1"/>
          <a:stretch/>
        </p:blipFill>
        <p:spPr>
          <a:xfrm>
            <a:off x="1060560" y="208080"/>
            <a:ext cx="3913200" cy="1474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476000" y="4365360"/>
            <a:ext cx="3809880" cy="2127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ди туда, не знаю куда. Принеси то, не знаю чт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148000" y="620640"/>
            <a:ext cx="3809880" cy="936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считайте число окон в своём дом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250920" y="2349360"/>
            <a:ext cx="3809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8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читайте звёзды на неб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148360" y="2133720"/>
            <a:ext cx="3809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йте подробное описание дороги от двери своего дома до школы (пешком, на автобусе или другом транспорт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10"/>
          <p:cNvSpPr/>
          <p:nvPr/>
        </p:nvSpPr>
        <p:spPr>
          <a:xfrm rot="908400">
            <a:off x="3768480" y="1814400"/>
            <a:ext cx="360360" cy="2305080"/>
          </a:xfrm>
          <a:prstGeom prst="downArrow">
            <a:avLst>
              <a:gd name="adj1" fmla="val 50000"/>
              <a:gd name="adj2" fmla="val 15991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AutoShape 11"/>
          <p:cNvSpPr/>
          <p:nvPr/>
        </p:nvSpPr>
        <p:spPr>
          <a:xfrm rot="908400">
            <a:off x="1907640" y="1844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utoShape 12"/>
          <p:cNvSpPr/>
          <p:nvPr/>
        </p:nvSpPr>
        <p:spPr>
          <a:xfrm rot="18502800">
            <a:off x="4858920" y="17730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utoShape 13"/>
          <p:cNvSpPr/>
          <p:nvPr/>
        </p:nvSpPr>
        <p:spPr>
          <a:xfrm rot="18010200">
            <a:off x="4824360" y="36792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14" descr="j0199805"/>
          <p:cNvPicPr/>
          <p:nvPr/>
        </p:nvPicPr>
        <p:blipFill>
          <a:blip r:embed="rId2"/>
          <a:stretch/>
        </p:blipFill>
        <p:spPr>
          <a:xfrm rot="5400000">
            <a:off x="7669440" y="5374440"/>
            <a:ext cx="1473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05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1547640" y="1844640"/>
            <a:ext cx="453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ать ключ из карма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тавить ключ в замочную скважин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ернуть ключ 2 раза против часовой стрел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нуть клю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335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116000" y="1700280"/>
            <a:ext cx="64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числа А вычесть число 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олучилось отрицательное значение, то сообщить, что число В больш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олучилось положительное значение, то сообщить, что число А больш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олучился ноль, то сообщить, что числа рав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3:56:03Z</dcterms:created>
  <dc:creator>Ученик 5</dc:creator>
  <dc:description/>
  <dc:language>en-US</dc:language>
  <cp:lastModifiedBy>user</cp:lastModifiedBy>
  <dcterms:modified xsi:type="dcterms:W3CDTF">2013-01-27T17:38:09Z</dcterms:modified>
  <cp:revision>60</cp:revision>
  <dc:subject/>
  <dc:title>Алгоритмы</dc:title>
</cp:coreProperties>
</file>