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7F8E-736D-48F1-9139-7B30F5696207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1.07.26</a:t>
            </a:fld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653AB7-9EDF-43B2-9B73-AFCC04449816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3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F6A8-1FBB-4349-BA16-3DEF8ACE7E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BA4E-B914-4EE7-B011-17504D2B8753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54D-BFB6-4461-8E5C-52BED84A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DCD-05C0-435B-9C34-A07BFF4D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32D3-C9F9-4C61-9803-0C71D82D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2C9D-5FE3-465A-AAA3-0A1A0B1F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82B-9481-40FC-A2AB-1D0F25BF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56F-2C77-4B3D-BC27-886BBD25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DA5-5D87-45E1-97F0-97DE2A84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BB4-1EE8-4C87-86F2-52F0C803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26C-E9CD-4432-9EA7-C99E22FC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02A-748E-46B4-808A-A0A1EABA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14B-1A74-4543-BDAE-950824AF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B72-6B18-4F65-B1DC-406850A5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BE5E-6D92-4D6E-B1F2-AA6DD6885F22}" type="datetime">
              <a:rPr b="0" lang="en-US" sz="1200" spc="-1" strike="noStrike">
                <a:solidFill>
                  <a:srgbClr val="ac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61C9-7B65-48C3-B8B3-706E6B21C53C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86200"/>
            <a:ext cx="8820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Сочинение на лингвистическую тему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49" name="Picture 2" descr="H:\Documents and Settings\Aida\Рабочий стол\клипарты рамки фончики\kniga39.gif"/>
          <p:cNvPicPr/>
          <p:nvPr/>
        </p:nvPicPr>
        <p:blipFill>
          <a:blip r:embed="rId2"/>
          <a:stretch/>
        </p:blipFill>
        <p:spPr>
          <a:xfrm>
            <a:off x="2357280" y="714240"/>
            <a:ext cx="40960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Напишите сочинение-рассуждение, раскрывая смысл высказывания Константина Георгиевича Паустовского: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«Нет ничего такого в жизни и в нашем сознании, чего нельзя было бы передать русским словом»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Аргументируя свой ответ, приведите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2 (два) примера из прочитанного текста</a:t>
            </a: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Приводя примеры, указывайте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номера</a:t>
            </a: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 нужных предложений или применяйте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цитирование</a:t>
            </a: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Вы можете писать работу в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научном</a:t>
            </a: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 или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публицистическом стиле</a:t>
            </a: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, раскрывая тему на лингвистическом материале</a:t>
            </a:r>
            <a:r>
              <a:rPr b="1" lang="en-US" sz="2800" spc="-1" strike="noStrike">
                <a:solidFill>
                  <a:srgbClr val="5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88000" y="62064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1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1557360"/>
            <a:ext cx="8064360" cy="4607280"/>
            <a:chOff x="539640" y="1557360"/>
            <a:chExt cx="8064360" cy="4607280"/>
          </a:xfrm>
        </p:grpSpPr>
        <p:sp>
          <p:nvSpPr>
            <p:cNvPr id="54" name=""/>
            <p:cNvSpPr/>
            <p:nvPr/>
          </p:nvSpPr>
          <p:spPr>
            <a:xfrm>
              <a:off x="539640" y="1557360"/>
              <a:ext cx="8064360" cy="460728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6240" y="1719720"/>
              <a:ext cx="7748640" cy="42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ВСТУПЛЕНИЕ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US" sz="2800" spc="-1" strike="noStrike">
                  <a:solidFill>
                    <a:srgbClr val="180000"/>
                  </a:solidFill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Все многообразие человеческих чувств и эмоций, причины поступков людей можно выразить русским словом. Используемые писателями языковые средства помогают читателю постичь основную мысль, идею текста. Докажем это на примерах из предложенного для чтения текста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88000" y="62064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1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26920" y="1557360"/>
            <a:ext cx="7489800" cy="4318560"/>
            <a:chOff x="826920" y="1557360"/>
            <a:chExt cx="7489800" cy="4318560"/>
          </a:xfrm>
        </p:grpSpPr>
        <p:sp>
          <p:nvSpPr>
            <p:cNvPr id="58" name=""/>
            <p:cNvSpPr/>
            <p:nvPr/>
          </p:nvSpPr>
          <p:spPr>
            <a:xfrm>
              <a:off x="826920" y="1557360"/>
              <a:ext cx="7489800" cy="431856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72360" y="1709640"/>
              <a:ext cx="7196760" cy="400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ОСНОВНАЯ ЧАСТЬ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Аргумент 1: пример 1 + функция (комментарий)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Аргумент 2: пример 2 + функция (комментарий)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88000" y="62064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1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40" y="1557360"/>
            <a:ext cx="8135640" cy="4607280"/>
            <a:chOff x="539640" y="1557360"/>
            <a:chExt cx="8135640" cy="4607280"/>
          </a:xfrm>
        </p:grpSpPr>
        <p:sp>
          <p:nvSpPr>
            <p:cNvPr id="62" name=""/>
            <p:cNvSpPr/>
            <p:nvPr/>
          </p:nvSpPr>
          <p:spPr>
            <a:xfrm>
              <a:off x="539640" y="1557360"/>
              <a:ext cx="8135640" cy="460728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7680" y="1719720"/>
              <a:ext cx="7817040" cy="42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ВЫВОД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Таким образом, нельзя не согласиться / трудно не согласиться с высказыванием замечательного русского писателя К. Г. Паустовского о том, что «нет ничего такого в жизни и в нашем сознании, чего нельзя было бы передать русским словом»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88000" y="62064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0920" y="1341360"/>
            <a:ext cx="8497440" cy="5110920"/>
            <a:chOff x="250920" y="1341360"/>
            <a:chExt cx="8497440" cy="5110920"/>
          </a:xfrm>
        </p:grpSpPr>
        <p:sp>
          <p:nvSpPr>
            <p:cNvPr id="66" name=""/>
            <p:cNvSpPr/>
            <p:nvPr/>
          </p:nvSpPr>
          <p:spPr>
            <a:xfrm>
              <a:off x="250920" y="1341360"/>
              <a:ext cx="8497440" cy="511092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5800" y="1521720"/>
              <a:ext cx="8164800" cy="47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ВСТУПЛЕНИЕ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       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Писатель К. Г. Паустовский писал, что «нет ничего такого в жизни и в нашем сознании, чего нельзя было бы передать русским словом»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–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С этой мыслью трудно не согласиться. Докажем справедливость утверждения на примере предложенного для чтения текста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–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Это утверждение справедливо по отношению и к данному тексту. Докажем это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88000" y="62064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26920" y="1557360"/>
            <a:ext cx="7489800" cy="4318560"/>
            <a:chOff x="826920" y="1557360"/>
            <a:chExt cx="7489800" cy="4318560"/>
          </a:xfrm>
        </p:grpSpPr>
        <p:sp>
          <p:nvSpPr>
            <p:cNvPr id="70" name=""/>
            <p:cNvSpPr/>
            <p:nvPr/>
          </p:nvSpPr>
          <p:spPr>
            <a:xfrm>
              <a:off x="826920" y="1557360"/>
              <a:ext cx="7489800" cy="431856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72360" y="1709640"/>
              <a:ext cx="7196760" cy="400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ОСНОВНАЯ ЧАСТЬ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Аргумент 1: пример 1 + функция (комментарий)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Аргумент 2: пример 2 + функция (комментарий)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88000" y="47628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24000" y="1125360"/>
            <a:ext cx="8495640" cy="5182200"/>
            <a:chOff x="324000" y="1125360"/>
            <a:chExt cx="8495640" cy="5182200"/>
          </a:xfrm>
        </p:grpSpPr>
        <p:sp>
          <p:nvSpPr>
            <p:cNvPr id="74" name=""/>
            <p:cNvSpPr/>
            <p:nvPr/>
          </p:nvSpPr>
          <p:spPr>
            <a:xfrm>
              <a:off x="324000" y="1125360"/>
              <a:ext cx="8495640" cy="518220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8880" y="1308240"/>
              <a:ext cx="8163000" cy="480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ВЫВОД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–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Таким образом, все многообразие человеческих чувств и эмоций, причины поступков людей, можно выразить русским словом. Используемые писателями языковые средства помогают читателю постичь основную мысль, идею текста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–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Таким образом, языковые средства позволяют приблизиться к пониманию авторской идеи в тексте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79280" y="333360"/>
            <a:ext cx="8785080" cy="6189840"/>
            <a:chOff x="179280" y="333360"/>
            <a:chExt cx="8785080" cy="6189840"/>
          </a:xfrm>
        </p:grpSpPr>
        <p:sp>
          <p:nvSpPr>
            <p:cNvPr id="77" name=""/>
            <p:cNvSpPr/>
            <p:nvPr/>
          </p:nvSpPr>
          <p:spPr>
            <a:xfrm>
              <a:off x="179280" y="333360"/>
              <a:ext cx="8785080" cy="618984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9920" y="551520"/>
              <a:ext cx="8441280" cy="574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Герой текста В. Крапивина впервые испытал потрясение от соприкосновения с настоящим искусством. Он был восхищен юной скрипачкой, почувствовал влюбленность и желание жертвовать ради нее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Кинтеля заворожила не только удивительная музыка, но облик одухотворенной скрипачки, что помогают передать </a:t>
              </a: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эпитеты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: «Было что-то </a:t>
              </a:r>
              <a:r>
                <a:rPr b="1" i="1" lang="ru-RU" sz="1800" spc="-1" strike="noStrike">
                  <a:solidFill>
                    <a:srgbClr val="800000"/>
                  </a:solidFill>
                  <a:latin typeface="Arial"/>
                </a:rPr>
                <a:t>удивительно милое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в этой скрипичной мелодии и в том, кто её играл, – в быстрых тонких пальцах, в дрожании волос, в </a:t>
              </a:r>
              <a:r>
                <a:rPr b="1" i="1" lang="ru-RU" sz="1800" spc="-1" strike="noStrike">
                  <a:solidFill>
                    <a:srgbClr val="800000"/>
                  </a:solidFill>
                  <a:latin typeface="Arial"/>
                </a:rPr>
                <a:t>задумчивых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глазах и </a:t>
              </a:r>
              <a:r>
                <a:rPr b="1" i="1" lang="ru-RU" sz="1800" spc="-1" strike="noStrike">
                  <a:solidFill>
                    <a:srgbClr val="800000"/>
                  </a:solidFill>
                  <a:latin typeface="Arial"/>
                </a:rPr>
                <a:t>строгих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бровях» (предложение 16). Душевные переживания героя можно понять и благодаря </a:t>
              </a: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метафоре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(«…сердце у него заходилось в сладкой тоске»)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С помощью такого синтаксического явления, как </a:t>
              </a: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парцелляция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(«Кинтель попятился, чувствуя, как наливаются теплотой уши и щеки. И пошел, пошел, не решаясь оглянуться. И долго еще слышал скрипку…»),  выражается смятение, растерянность человека, застигнутого врасплох первой любовью, красотой и гармонией искусства. С этого момента он будет воспринимать окружающий мир и себя в нем иначе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00:30:47Z</dcterms:created>
  <dc:creator>Татьяна</dc:creator>
  <dc:description>http://aida.ucoz.ru</dc:description>
  <dc:language>en-US</dc:language>
  <cp:lastModifiedBy>Татьяна</cp:lastModifiedBy>
  <dcterms:modified xsi:type="dcterms:W3CDTF">2012-11-29T20:24:07Z</dcterms:modified>
  <cp:revision>4</cp:revision>
  <dc:subject/>
  <dc:title>Слайд 1</dc:title>
</cp:coreProperties>
</file>