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66F3-BE6A-4663-B2F9-4FA6111FC5BF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F58A62-7A9B-4438-9C40-5A8C3FB66EE7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7E73-FAA1-4B8B-A7D0-C17A0C5750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A576-CCD2-45B1-9F4E-87589EC1ED8C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9CB-FFB5-4528-B515-BFE0D2D1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734-3BFD-4308-AEC9-7FDA8019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ECD-9FF6-4330-AD64-39E1D1ED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F90-77C4-4D6C-95BC-8ACAA646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B00-4156-4788-9186-DC4B7C9C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0E7-4E4C-4EC1-95FE-603BF603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DC4-C906-4137-9EDC-2CB8C2A9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55D-0AB8-4A60-B870-B64C9FC1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B86-0786-41E5-B425-07E824FC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7CF-A8EE-4515-8A5A-444BA6F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87F-2A0F-457C-9EED-90B2B70C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475-C75F-46A4-86BE-742A9953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3896-51B1-4C30-B56E-C28F76CE51AC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50FE-E62F-4BEA-83F9-813EA10B6F68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86200"/>
            <a:ext cx="8820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Сочинение на лингвистическую тему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" name="Picture 2" descr="H:\Documents and Settings\Aida\Рабочий стол\клипарты рамки фончики\kniga39.gif"/>
          <p:cNvPicPr/>
          <p:nvPr/>
        </p:nvPicPr>
        <p:blipFill>
          <a:blip r:embed="rId2"/>
          <a:stretch/>
        </p:blipFill>
        <p:spPr>
          <a:xfrm>
            <a:off x="2357280" y="714240"/>
            <a:ext cx="4096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Напишите сочинение-рассуждение, раскрывая смысл высказывания Константина Георгиевича Паустовского: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«Нет ничего такого в жизни и в нашем сознании, чего нельзя было бы передать русским словом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Аргументируя свой ответ, приведите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2 (два) примера из прочитанного текста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Приводя примеры, указывайте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номера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 нужных предложений или применяйте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цитирование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Вы можете писать работу в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научном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 или </a:t>
            </a:r>
            <a:r>
              <a:rPr b="1" lang="en-US" sz="3200" spc="-1" strike="noStrike">
                <a:solidFill>
                  <a:srgbClr val="320000"/>
                </a:solidFill>
                <a:latin typeface="Calibri"/>
              </a:rPr>
              <a:t>публицистическом стиле</a:t>
            </a:r>
            <a:r>
              <a:rPr b="1" lang="en-US" sz="2800" spc="-1" strike="noStrike">
                <a:solidFill>
                  <a:srgbClr val="320000"/>
                </a:solidFill>
                <a:latin typeface="Calibri"/>
              </a:rPr>
              <a:t>, раскрывая тему на лингвистическом материале</a:t>
            </a:r>
            <a:r>
              <a:rPr b="1" lang="en-US" sz="2800" spc="-1" strike="noStrike">
                <a:solidFill>
                  <a:srgbClr val="5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1557360"/>
            <a:ext cx="8064360" cy="4607280"/>
            <a:chOff x="539640" y="1557360"/>
            <a:chExt cx="8064360" cy="4607280"/>
          </a:xfrm>
        </p:grpSpPr>
        <p:sp>
          <p:nvSpPr>
            <p:cNvPr id="54" name=""/>
            <p:cNvSpPr/>
            <p:nvPr/>
          </p:nvSpPr>
          <p:spPr>
            <a:xfrm>
              <a:off x="539640" y="1557360"/>
              <a:ext cx="8064360" cy="460728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6240" y="1719720"/>
              <a:ext cx="7748640" cy="42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СТУПЛЕНИЕ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US" sz="2800" spc="-1" strike="noStrike">
                  <a:solidFill>
                    <a:srgbClr val="180000"/>
                  </a:solidFill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се многообразие человеческих чувств и эмоций, причины поступков людей можно выразить русским словом. Используемые писателями языковые средства помогают читателю постичь основную мысль, идею текста. Докажем это на примерах из предложенного для чтения текста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26920" y="1557360"/>
            <a:ext cx="7489800" cy="4318560"/>
            <a:chOff x="826920" y="1557360"/>
            <a:chExt cx="7489800" cy="4318560"/>
          </a:xfrm>
        </p:grpSpPr>
        <p:sp>
          <p:nvSpPr>
            <p:cNvPr id="58" name=""/>
            <p:cNvSpPr/>
            <p:nvPr/>
          </p:nvSpPr>
          <p:spPr>
            <a:xfrm>
              <a:off x="826920" y="1557360"/>
              <a:ext cx="7489800" cy="431856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2360" y="1709640"/>
              <a:ext cx="7196760" cy="400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ОСНОВНАЯ ЧАСТЬ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Аргумент 1: пример 1 + функция (комментарий)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Аргумент 2: пример 2 + функция (комментарий)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40" y="1557360"/>
            <a:ext cx="8135640" cy="4607280"/>
            <a:chOff x="539640" y="1557360"/>
            <a:chExt cx="8135640" cy="4607280"/>
          </a:xfrm>
        </p:grpSpPr>
        <p:sp>
          <p:nvSpPr>
            <p:cNvPr id="62" name=""/>
            <p:cNvSpPr/>
            <p:nvPr/>
          </p:nvSpPr>
          <p:spPr>
            <a:xfrm>
              <a:off x="539640" y="1557360"/>
              <a:ext cx="8135640" cy="460728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7680" y="1719720"/>
              <a:ext cx="7817040" cy="42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ЫВОД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Таким образом, нельзя не согласиться / трудно не согласиться с высказыванием замечательного русского писателя К. Г. Паустовского о том, что «нет ничего такого в жизни и в нашем сознании, чего нельзя было бы передать русским словом»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0920" y="1341360"/>
            <a:ext cx="8497440" cy="5110920"/>
            <a:chOff x="250920" y="1341360"/>
            <a:chExt cx="8497440" cy="5110920"/>
          </a:xfrm>
        </p:grpSpPr>
        <p:sp>
          <p:nvSpPr>
            <p:cNvPr id="66" name=""/>
            <p:cNvSpPr/>
            <p:nvPr/>
          </p:nvSpPr>
          <p:spPr>
            <a:xfrm>
              <a:off x="250920" y="1341360"/>
              <a:ext cx="8497440" cy="511092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5800" y="1521720"/>
              <a:ext cx="8164800" cy="47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СТУПЛЕНИЕ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       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Писатель К. Г. Паустовский писал, что «нет ничего такого в жизни и в нашем сознании, чего нельзя было бы передать русским словом»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–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С этой мыслью трудно не согласиться. Докажем справедливость утверждения на примере предложенного для чтения текста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–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Это утверждение справедливо по отношению и к данному тексту. Докажем это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88000" y="62064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26920" y="1557360"/>
            <a:ext cx="7489800" cy="4318560"/>
            <a:chOff x="826920" y="1557360"/>
            <a:chExt cx="7489800" cy="4318560"/>
          </a:xfrm>
        </p:grpSpPr>
        <p:sp>
          <p:nvSpPr>
            <p:cNvPr id="70" name=""/>
            <p:cNvSpPr/>
            <p:nvPr/>
          </p:nvSpPr>
          <p:spPr>
            <a:xfrm>
              <a:off x="826920" y="1557360"/>
              <a:ext cx="7489800" cy="431856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72360" y="1709640"/>
              <a:ext cx="7196760" cy="400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ОСНОВНАЯ ЧАСТЬ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Аргумент 1: пример 1 + функция (комментарий)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Аргумент 2: пример 2 + функция (комментарий)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88000" y="476280"/>
            <a:ext cx="418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Модель сочинения 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24000" y="1125360"/>
            <a:ext cx="8495640" cy="5182200"/>
            <a:chOff x="324000" y="1125360"/>
            <a:chExt cx="8495640" cy="5182200"/>
          </a:xfrm>
        </p:grpSpPr>
        <p:sp>
          <p:nvSpPr>
            <p:cNvPr id="74" name=""/>
            <p:cNvSpPr/>
            <p:nvPr/>
          </p:nvSpPr>
          <p:spPr>
            <a:xfrm>
              <a:off x="324000" y="1125360"/>
              <a:ext cx="8495640" cy="518220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8880" y="1308240"/>
              <a:ext cx="8163000" cy="480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ВЫВОД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–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Таким образом, все многообразие человеческих чувств и эмоций, причины поступков людей, можно выразить русским словом. Используемые писателями языковые средства помогают читателю постичь основную мысль, идею текста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– </a:t>
              </a:r>
              <a:r>
                <a:rPr b="1" lang="en-US" sz="2800" spc="-1" strike="noStrike">
                  <a:solidFill>
                    <a:srgbClr val="180000"/>
                  </a:solidFill>
                  <a:latin typeface="Arial"/>
                </a:rPr>
                <a:t>Таким образом, языковые средства позволяют приблизиться к пониманию авторской идеи в тексте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79280" y="333360"/>
            <a:ext cx="8785080" cy="6189840"/>
            <a:chOff x="179280" y="333360"/>
            <a:chExt cx="8785080" cy="6189840"/>
          </a:xfrm>
        </p:grpSpPr>
        <p:sp>
          <p:nvSpPr>
            <p:cNvPr id="77" name=""/>
            <p:cNvSpPr/>
            <p:nvPr/>
          </p:nvSpPr>
          <p:spPr>
            <a:xfrm>
              <a:off x="179280" y="333360"/>
              <a:ext cx="8785080" cy="618984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9920" y="551520"/>
              <a:ext cx="8441280" cy="574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Герой текста В. Крапивина впервые испытал потрясение от соприкосновения с настоящим искусством. Он был восхищен юной скрипачкой, почувствовал влюбленность и желание жертвовать ради нее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Кинтеля заворожила не только удивительная музыка, но облик одухотворенной скрипачки, что помогают передать 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эпитеты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: «Было что-то </a:t>
              </a:r>
              <a:r>
                <a:rPr b="1" i="1" lang="ru-RU" sz="1800" spc="-1" strike="noStrike">
                  <a:solidFill>
                    <a:srgbClr val="800000"/>
                  </a:solidFill>
                  <a:latin typeface="Arial"/>
                </a:rPr>
                <a:t>удивительно милое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в этой скрипичной мелодии и в том, кто её играл, – в быстрых тонких пальцах, в дрожании волос, в </a:t>
              </a:r>
              <a:r>
                <a:rPr b="1" i="1" lang="ru-RU" sz="1800" spc="-1" strike="noStrike">
                  <a:solidFill>
                    <a:srgbClr val="800000"/>
                  </a:solidFill>
                  <a:latin typeface="Arial"/>
                </a:rPr>
                <a:t>задумчивых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глазах и </a:t>
              </a:r>
              <a:r>
                <a:rPr b="1" i="1" lang="ru-RU" sz="1800" spc="-1" strike="noStrike">
                  <a:solidFill>
                    <a:srgbClr val="800000"/>
                  </a:solidFill>
                  <a:latin typeface="Arial"/>
                </a:rPr>
                <a:t>строгих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бровях» (предложение 16). Душевные переживания героя можно понять и благодаря 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метафоре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(«…сердце у него заходилось в сладкой тоске»)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С помощью такого синтаксического явления, как 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парцелляция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(«Кинтель попятился, чувствуя, как наливаются теплотой уши и щеки. И пошел, пошел, не решаясь оглянуться. И долго еще слышал скрипку…»),  выражается смятение, растерянность человека, застигнутого врасплох первой любовью, красотой и гармонией искусства. С этого момента он будет воспринимать окружающий мир и себя в нем иначе.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0:30:47Z</dcterms:created>
  <dc:creator>Татьяна</dc:creator>
  <dc:description>http://aida.ucoz.ru</dc:description>
  <dc:language>en-US</dc:language>
  <cp:lastModifiedBy>Татьяна</cp:lastModifiedBy>
  <dcterms:modified xsi:type="dcterms:W3CDTF">2012-11-29T20:24:07Z</dcterms:modified>
  <cp:revision>4</cp:revision>
  <dc:subject/>
  <dc:title>Слайд 1</dc:title>
</cp:coreProperties>
</file>