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9D0D-FA07-4432-B092-EB612C24D486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1.07.26</a:t>
            </a:fld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E04B1D-32FE-45D3-944A-6232B72E47AF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10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D56C-EAE6-48BA-91B6-7924ED27C6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ED03-7332-44A3-AFDA-4B2832E46C10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FFF-EF88-44D3-8388-BB7A1BF7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2E2-40DF-4ECB-8019-E02D4366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7D9-636D-455C-A37E-18C1CD02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6B1-81CF-47AF-AC19-C1C33D7F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8697-DBEA-40D5-B570-EEE284B3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3A4-0973-4BA5-8FB0-B5F3D202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513-3A45-4D7B-ACFC-6278A046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48A-4815-47E0-A33E-2FE210A2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AE5-B687-4D16-B919-980EE953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AC7-0895-4A2E-A23A-D28FFDE4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F8D-1159-4EA6-B60F-F44D6907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E4C-55DA-4EB1-A1EC-2F49C654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F652-479B-4B25-8F65-A9B106A773F4}" type="datetime">
              <a:rPr b="0" lang="en-US" sz="1200" spc="-1" strike="noStrike">
                <a:solidFill>
                  <a:srgbClr val="ac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49BD-178C-499D-B618-99E2AE9F4D5F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86200"/>
            <a:ext cx="8820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Сочинение на лингвистическую тему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49" name="Picture 2" descr="H:\Documents and Settings\Aida\Рабочий стол\клипарты рамки фончики\kniga39.gif"/>
          <p:cNvPicPr/>
          <p:nvPr/>
        </p:nvPicPr>
        <p:blipFill>
          <a:blip r:embed="rId2"/>
          <a:stretch/>
        </p:blipFill>
        <p:spPr>
          <a:xfrm>
            <a:off x="2357280" y="714240"/>
            <a:ext cx="40960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Напишите сочинение-рассуждение, раскрывая смысл высказывания Константина Георгиевича Паустовского: </a:t>
            </a:r>
            <a:r>
              <a:rPr b="1" lang="en-US" sz="3200" spc="-1" strike="noStrike">
                <a:solidFill>
                  <a:srgbClr val="320000"/>
                </a:solidFill>
                <a:latin typeface="Calibri"/>
              </a:rPr>
              <a:t>«Нет ничего такого в жизни и в нашем сознании, чего нельзя было бы передать русским словом»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Аргументируя свой ответ, приведите </a:t>
            </a:r>
            <a:r>
              <a:rPr b="1" lang="en-US" sz="3200" spc="-1" strike="noStrike">
                <a:solidFill>
                  <a:srgbClr val="320000"/>
                </a:solidFill>
                <a:latin typeface="Calibri"/>
              </a:rPr>
              <a:t>2 (два) примера из прочитанного текста</a:t>
            </a: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Приводя примеры, указывайте </a:t>
            </a:r>
            <a:r>
              <a:rPr b="1" lang="en-US" sz="3200" spc="-1" strike="noStrike">
                <a:solidFill>
                  <a:srgbClr val="320000"/>
                </a:solidFill>
                <a:latin typeface="Calibri"/>
              </a:rPr>
              <a:t>номера</a:t>
            </a: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 нужных предложений или применяйте </a:t>
            </a:r>
            <a:r>
              <a:rPr b="1" lang="en-US" sz="3200" spc="-1" strike="noStrike">
                <a:solidFill>
                  <a:srgbClr val="320000"/>
                </a:solidFill>
                <a:latin typeface="Calibri"/>
              </a:rPr>
              <a:t>цитирование</a:t>
            </a: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Вы можете писать работу в </a:t>
            </a:r>
            <a:r>
              <a:rPr b="1" lang="en-US" sz="3200" spc="-1" strike="noStrike">
                <a:solidFill>
                  <a:srgbClr val="320000"/>
                </a:solidFill>
                <a:latin typeface="Calibri"/>
              </a:rPr>
              <a:t>научном</a:t>
            </a: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 или </a:t>
            </a:r>
            <a:r>
              <a:rPr b="1" lang="en-US" sz="3200" spc="-1" strike="noStrike">
                <a:solidFill>
                  <a:srgbClr val="320000"/>
                </a:solidFill>
                <a:latin typeface="Calibri"/>
              </a:rPr>
              <a:t>публицистическом стиле</a:t>
            </a: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, раскрывая тему на лингвистическом материале</a:t>
            </a:r>
            <a:r>
              <a:rPr b="1" lang="en-US" sz="2800" spc="-1" strike="noStrike">
                <a:solidFill>
                  <a:srgbClr val="5c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88000" y="620640"/>
            <a:ext cx="418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Модель сочинения 1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1557360"/>
            <a:ext cx="8064360" cy="4607280"/>
            <a:chOff x="539640" y="1557360"/>
            <a:chExt cx="8064360" cy="4607280"/>
          </a:xfrm>
        </p:grpSpPr>
        <p:sp>
          <p:nvSpPr>
            <p:cNvPr id="54" name=""/>
            <p:cNvSpPr/>
            <p:nvPr/>
          </p:nvSpPr>
          <p:spPr>
            <a:xfrm>
              <a:off x="539640" y="1557360"/>
              <a:ext cx="8064360" cy="460728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6240" y="1719720"/>
              <a:ext cx="7748640" cy="42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ВСТУПЛЕНИЕ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US" sz="2800" spc="-1" strike="noStrike">
                  <a:solidFill>
                    <a:srgbClr val="180000"/>
                  </a:solidFill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Все многообразие человеческих чувств и эмоций, причины поступков людей можно выразить русским словом. Используемые писателями языковые средства помогают читателю постичь основную мысль, идею текста. Докажем это на примерах из предложенного для чтения текста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88000" y="620640"/>
            <a:ext cx="418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Модель сочинения 1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26920" y="1557360"/>
            <a:ext cx="7489800" cy="4318560"/>
            <a:chOff x="826920" y="1557360"/>
            <a:chExt cx="7489800" cy="4318560"/>
          </a:xfrm>
        </p:grpSpPr>
        <p:sp>
          <p:nvSpPr>
            <p:cNvPr id="58" name=""/>
            <p:cNvSpPr/>
            <p:nvPr/>
          </p:nvSpPr>
          <p:spPr>
            <a:xfrm>
              <a:off x="826920" y="1557360"/>
              <a:ext cx="7489800" cy="431856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72360" y="1709640"/>
              <a:ext cx="7196760" cy="400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ОСНОВНАЯ ЧАСТЬ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Аргумент 1: пример 1 + функция (комментарий)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Аргумент 2: пример 2 + функция (комментарий)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88000" y="620640"/>
            <a:ext cx="418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Модель сочинения 1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40" y="1557360"/>
            <a:ext cx="8135640" cy="4607280"/>
            <a:chOff x="539640" y="1557360"/>
            <a:chExt cx="8135640" cy="4607280"/>
          </a:xfrm>
        </p:grpSpPr>
        <p:sp>
          <p:nvSpPr>
            <p:cNvPr id="62" name=""/>
            <p:cNvSpPr/>
            <p:nvPr/>
          </p:nvSpPr>
          <p:spPr>
            <a:xfrm>
              <a:off x="539640" y="1557360"/>
              <a:ext cx="8135640" cy="460728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7680" y="1719720"/>
              <a:ext cx="7817040" cy="42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ВЫВОД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Таким образом, нельзя не согласиться / трудно не согласиться с высказыванием замечательного русского писателя К. Г. Паустовского о том, что «нет ничего такого в жизни и в нашем сознании, чего нельзя было бы передать русским словом»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88000" y="620640"/>
            <a:ext cx="418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Модель сочинения 2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0920" y="1341360"/>
            <a:ext cx="8497440" cy="5110920"/>
            <a:chOff x="250920" y="1341360"/>
            <a:chExt cx="8497440" cy="5110920"/>
          </a:xfrm>
        </p:grpSpPr>
        <p:sp>
          <p:nvSpPr>
            <p:cNvPr id="66" name=""/>
            <p:cNvSpPr/>
            <p:nvPr/>
          </p:nvSpPr>
          <p:spPr>
            <a:xfrm>
              <a:off x="250920" y="1341360"/>
              <a:ext cx="8497440" cy="511092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5800" y="1521720"/>
              <a:ext cx="8164800" cy="47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ВСТУПЛЕНИЕ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        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Писатель К. Г. Паустовский писал, что «нет ничего такого в жизни и в нашем сознании, чего нельзя было бы передать русским словом»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– 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С этой мыслью трудно не согласиться. Докажем справедливость утверждения на примере предложенного для чтения текста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– 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Это утверждение справедливо по отношению и к данному тексту. Докажем это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88000" y="620640"/>
            <a:ext cx="418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Модель сочинения 2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26920" y="1557360"/>
            <a:ext cx="7489800" cy="4318560"/>
            <a:chOff x="826920" y="1557360"/>
            <a:chExt cx="7489800" cy="4318560"/>
          </a:xfrm>
        </p:grpSpPr>
        <p:sp>
          <p:nvSpPr>
            <p:cNvPr id="70" name=""/>
            <p:cNvSpPr/>
            <p:nvPr/>
          </p:nvSpPr>
          <p:spPr>
            <a:xfrm>
              <a:off x="826920" y="1557360"/>
              <a:ext cx="7489800" cy="431856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72360" y="1709640"/>
              <a:ext cx="7196760" cy="400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ОСНОВНАЯ ЧАСТЬ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Аргумент 1: пример 1 + функция (комментарий)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Аргумент 2: пример 2 + функция (комментарий)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88000" y="476280"/>
            <a:ext cx="418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Модель сочинения 2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24000" y="1125360"/>
            <a:ext cx="8495640" cy="5182200"/>
            <a:chOff x="324000" y="1125360"/>
            <a:chExt cx="8495640" cy="5182200"/>
          </a:xfrm>
        </p:grpSpPr>
        <p:sp>
          <p:nvSpPr>
            <p:cNvPr id="74" name=""/>
            <p:cNvSpPr/>
            <p:nvPr/>
          </p:nvSpPr>
          <p:spPr>
            <a:xfrm>
              <a:off x="324000" y="1125360"/>
              <a:ext cx="8495640" cy="518220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8880" y="1308240"/>
              <a:ext cx="8163000" cy="480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ВЫВОД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– 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Таким образом, все многообразие человеческих чувств и эмоций, причины поступков людей, можно выразить русским словом. Используемые писателями языковые средства помогают читателю постичь основную мысль, идею текста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– 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Таким образом, языковые средства позволяют приблизиться к пониманию авторской идеи в тексте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79280" y="333360"/>
            <a:ext cx="8785080" cy="6189840"/>
            <a:chOff x="179280" y="333360"/>
            <a:chExt cx="8785080" cy="6189840"/>
          </a:xfrm>
        </p:grpSpPr>
        <p:sp>
          <p:nvSpPr>
            <p:cNvPr id="77" name=""/>
            <p:cNvSpPr/>
            <p:nvPr/>
          </p:nvSpPr>
          <p:spPr>
            <a:xfrm>
              <a:off x="179280" y="333360"/>
              <a:ext cx="8785080" cy="618984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9920" y="551520"/>
              <a:ext cx="8441280" cy="574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Герой текста В. Крапивина впервые испытал потрясение от соприкосновения с настоящим искусством. Он был восхищен юной скрипачкой, почувствовал влюбленность и желание жертвовать ради нее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Кинтеля заворожила не только удивительная музыка, но облик одухотворенной скрипачки, что помогают передать </a:t>
              </a: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эпитеты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: «Было что-то </a:t>
              </a:r>
              <a:r>
                <a:rPr b="1" i="1" lang="ru-RU" sz="1800" spc="-1" strike="noStrike">
                  <a:solidFill>
                    <a:srgbClr val="800000"/>
                  </a:solidFill>
                  <a:latin typeface="Arial"/>
                </a:rPr>
                <a:t>удивительно милое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 в этой скрипичной мелодии и в том, кто её играл, – в быстрых тонких пальцах, в дрожании волос, в </a:t>
              </a:r>
              <a:r>
                <a:rPr b="1" i="1" lang="ru-RU" sz="1800" spc="-1" strike="noStrike">
                  <a:solidFill>
                    <a:srgbClr val="800000"/>
                  </a:solidFill>
                  <a:latin typeface="Arial"/>
                </a:rPr>
                <a:t>задумчивых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 глазах и </a:t>
              </a:r>
              <a:r>
                <a:rPr b="1" i="1" lang="ru-RU" sz="1800" spc="-1" strike="noStrike">
                  <a:solidFill>
                    <a:srgbClr val="800000"/>
                  </a:solidFill>
                  <a:latin typeface="Arial"/>
                </a:rPr>
                <a:t>строгих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 бровях» (предложение 16). Душевные переживания героя можно понять и благодаря </a:t>
              </a: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метафоре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 («…сердце у него заходилось в сладкой тоске»)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С помощью такого синтаксического явления, как </a:t>
              </a: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парцелляция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 («Кинтель попятился, чувствуя, как наливаются теплотой уши и щеки. И пошел, пошел, не решаясь оглянуться. И долго еще слышал скрипку…»),  выражается смятение, растерянность человека, застигнутого врасплох первой любовью, красотой и гармонией искусства. С этого момента он будет воспринимать окружающий мир и себя в нем иначе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00:30:47Z</dcterms:created>
  <dc:creator>Татьяна</dc:creator>
  <dc:description>http://aida.ucoz.ru</dc:description>
  <dc:language>en-US</dc:language>
  <cp:lastModifiedBy>Татьяна</cp:lastModifiedBy>
  <dcterms:modified xsi:type="dcterms:W3CDTF">2012-11-29T20:24:07Z</dcterms:modified>
  <cp:revision>4</cp:revision>
  <dc:subject/>
  <dc:title>Слайд 1</dc:title>
</cp:coreProperties>
</file>