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4274-7B2C-4EBB-851A-94457E0C46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BE069432-0D35-4FDE-A7DD-6F26BA9452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1170E2D8-8014-4C1B-A190-88C4C63C02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D2746B09-C5CF-4567-81A0-FAC00190FA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F7842B04-2D72-4FC3-8535-3A8351C215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C926998A-49DF-45B3-A04A-B3E7E8341E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A21-533B-4289-BCBB-A30C0CEC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755-7278-4F91-B3D5-5D4C0876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B49-8D98-47FC-B253-78B413DC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772-BE0D-43BD-BB4C-281DA1C7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EC9-3456-4497-88F3-8C20548B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4A1-ED5C-479E-AA5E-BCA468A8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AA4-251E-4DDB-BA25-0BFF803B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C05-35B9-45BA-8B74-F2801A8C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30D-118F-4DC7-BF9B-A91C0595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2C6-4101-43E9-991B-AD0D706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8E4-47B3-4BB0-B116-59ABCBAC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A46-6459-4AB9-80A6-DCDC144E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358D-F4F8-4705-8D4B-F16E8EBA37E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9F41-9BB7-4F95-A2AB-29BFE41CB78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280" y="785880"/>
            <a:ext cx="896472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ы часто говорим друг другу: желаю тебе всего доброго. Это не просто выражение вежливости. В этих словах мы выражаем свою человеческую сущность. Надо иметь большую силу духа, чтобы уметь желать добра другим. Умение чувствовать, умение видеть по-доброму окружающих тебя людей - это не только показатель культуры, но и результат огромной внутренней работы дух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щаясь друг к другу с просьбой, мы говорим: пожалуйста. Просьба - это порыв души. Отказать человеку в помощи - значит потерять собственное человеческое достоинство. Равнодушие к нуждающимся в помощи - это душевное уродство. Чтобы уберечь себя от равнодушия, надо развивать в своей душе соучастие, сочувствие, сострадание и в то же время умение отличать безобидные человеческие слабости от потоков, калечащих душ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личивать добро в окружающем нас мире - в этом заключается самая большая цель жизни. Добро слагается из многого, и каждый раз жизнь ставит перед человеком задачу, которую надо уметь решать. Любовь и дружба, разрастаясь и распространяясь на многое, обретают новые силы, становятся все выше, а человек, их центр, мудрее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148360" y="1890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4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59280" y="0"/>
            <a:ext cx="2089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.С. Лихачев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95280" y="907920"/>
          <a:ext cx="8424720" cy="5338800"/>
        </p:xfrm>
        <a:graphic>
          <a:graphicData uri="http://schemas.openxmlformats.org/drawingml/2006/table">
            <a:tbl>
              <a:tblPr/>
              <a:tblGrid>
                <a:gridCol w="784080"/>
                <a:gridCol w="7640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ема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ся нужно всегда. Самое благоприятное время для учения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одость.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еряйте время напрасно.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ите в себе радость усвоения нового. Чтобы расширить нравственный и эстетический кругозор, изучайте историю и литературу.</a:t>
                      </a:r>
                      <a:endParaRPr b="0" lang="en-US" sz="32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63440" y="1633680"/>
            <a:ext cx="4079880" cy="1304640"/>
            <a:chOff x="163440" y="1633680"/>
            <a:chExt cx="4079880" cy="1304640"/>
          </a:xfrm>
        </p:grpSpPr>
        <p:sp>
          <p:nvSpPr>
            <p:cNvPr id="54" name="Rectangle 5"/>
            <p:cNvSpPr/>
            <p:nvPr/>
          </p:nvSpPr>
          <p:spPr>
            <a:xfrm>
              <a:off x="163440" y="1633680"/>
              <a:ext cx="4079880" cy="130464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242640" y="1679400"/>
              <a:ext cx="3920040" cy="12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Нужно уметь желать добра другим, это выражение внутренней сущности человека.</a:t>
              </a:r>
              <a:endParaRPr b="0" lang="en-US" sz="20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56" name="Group 7"/>
          <p:cNvGrpSpPr/>
          <p:nvPr/>
        </p:nvGrpSpPr>
        <p:grpSpPr>
          <a:xfrm>
            <a:off x="4735440" y="3429000"/>
            <a:ext cx="4079880" cy="1631880"/>
            <a:chOff x="4735440" y="3429000"/>
            <a:chExt cx="4079880" cy="1631880"/>
          </a:xfrm>
        </p:grpSpPr>
        <p:sp>
          <p:nvSpPr>
            <p:cNvPr id="57" name="Rectangle 8"/>
            <p:cNvSpPr/>
            <p:nvPr/>
          </p:nvSpPr>
          <p:spPr>
            <a:xfrm>
              <a:off x="4735440" y="3429000"/>
              <a:ext cx="4079880" cy="163188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4815720" y="3486240"/>
              <a:ext cx="3920040" cy="151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рыв души, человеческое достоинство, уберечь себя от равнодушия 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9" name="Text Box 10"/>
          <p:cNvSpPr/>
          <p:nvPr/>
        </p:nvSpPr>
        <p:spPr>
          <a:xfrm>
            <a:off x="984240" y="979560"/>
            <a:ext cx="2444760" cy="326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 прослушивани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556240" y="979560"/>
            <a:ext cx="2444760" cy="326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2 прослушивани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61" name="Group 12"/>
          <p:cNvGrpSpPr/>
          <p:nvPr/>
        </p:nvGrpSpPr>
        <p:grpSpPr>
          <a:xfrm>
            <a:off x="163440" y="3265560"/>
            <a:ext cx="4079880" cy="1795320"/>
            <a:chOff x="163440" y="3265560"/>
            <a:chExt cx="4079880" cy="1795320"/>
          </a:xfrm>
        </p:grpSpPr>
        <p:sp>
          <p:nvSpPr>
            <p:cNvPr id="62" name="Rectangle 13"/>
            <p:cNvSpPr/>
            <p:nvPr/>
          </p:nvSpPr>
          <p:spPr>
            <a:xfrm>
              <a:off x="163440" y="3265560"/>
              <a:ext cx="4079880" cy="179532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242640" y="3328920"/>
              <a:ext cx="3920040" cy="16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Равнодушие к нуждающимся в помощи — это душевное уродство. Необходимо развивать в своей душе сочувствие, сострадание.</a:t>
              </a:r>
              <a:endParaRPr b="0" lang="en-US" sz="20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163440" y="5389560"/>
            <a:ext cx="4079880" cy="977760"/>
            <a:chOff x="163440" y="5389560"/>
            <a:chExt cx="4079880" cy="977760"/>
          </a:xfrm>
        </p:grpSpPr>
        <p:sp>
          <p:nvSpPr>
            <p:cNvPr id="65" name="Rectangle 16"/>
            <p:cNvSpPr/>
            <p:nvPr/>
          </p:nvSpPr>
          <p:spPr>
            <a:xfrm>
              <a:off x="163440" y="5389560"/>
              <a:ext cx="4079880" cy="9777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242640" y="5424120"/>
              <a:ext cx="3920040" cy="90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Увеличивать добро в мире — самая большая цель жизни</a:t>
              </a:r>
              <a:endParaRPr b="0" lang="en-US" sz="20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67" name="Group 18"/>
          <p:cNvGrpSpPr/>
          <p:nvPr/>
        </p:nvGrpSpPr>
        <p:grpSpPr>
          <a:xfrm>
            <a:off x="4735440" y="1633680"/>
            <a:ext cx="4079880" cy="1466640"/>
            <a:chOff x="4735440" y="1633680"/>
            <a:chExt cx="4079880" cy="1466640"/>
          </a:xfrm>
        </p:grpSpPr>
        <p:sp>
          <p:nvSpPr>
            <p:cNvPr id="68" name="Rectangle 19"/>
            <p:cNvSpPr/>
            <p:nvPr/>
          </p:nvSpPr>
          <p:spPr>
            <a:xfrm>
              <a:off x="4735440" y="1633680"/>
              <a:ext cx="4079880" cy="146664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" name="Text Box 20"/>
            <p:cNvSpPr/>
            <p:nvPr/>
          </p:nvSpPr>
          <p:spPr>
            <a:xfrm>
              <a:off x="4814640" y="1685160"/>
              <a:ext cx="3919680" cy="13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●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человеческая сущность, сила духа, умение чувствовать, умение видеть по-доброму, показатель культуры, внутренняя работа духа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4735440" y="5389560"/>
            <a:ext cx="4079880" cy="977760"/>
            <a:chOff x="4735440" y="5389560"/>
            <a:chExt cx="4079880" cy="977760"/>
          </a:xfrm>
        </p:grpSpPr>
        <p:sp>
          <p:nvSpPr>
            <p:cNvPr id="71" name="Rectangle 22"/>
            <p:cNvSpPr/>
            <p:nvPr/>
          </p:nvSpPr>
          <p:spPr>
            <a:xfrm>
              <a:off x="4735440" y="5389560"/>
              <a:ext cx="4079880" cy="977760"/>
            </a:xfrm>
            <a:prstGeom prst="rect">
              <a:avLst/>
            </a:prstGeom>
            <a:gradFill rotWithShape="0">
              <a:gsLst>
                <a:gs pos="0">
                  <a:srgbClr val="acaca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2" name="Text Box 23"/>
            <p:cNvSpPr/>
            <p:nvPr/>
          </p:nvSpPr>
          <p:spPr>
            <a:xfrm>
              <a:off x="4814640" y="5424120"/>
              <a:ext cx="3919680" cy="90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>
                <a:lnSpc>
                  <a:spcPct val="93000"/>
                </a:lnSpc>
                <a:spcBef>
                  <a:spcPts val="113"/>
                </a:spcBef>
                <a:tabLst>
                  <a:tab algn="l" pos="0"/>
                  <a:tab algn="l" pos="406440"/>
                  <a:tab algn="l" pos="814320"/>
                  <a:tab algn="l" pos="1220760"/>
                  <a:tab algn="l" pos="1628640"/>
                  <a:tab algn="l" pos="2036880"/>
                  <a:tab algn="l" pos="2443320"/>
                  <a:tab algn="l" pos="2851200"/>
                  <a:tab algn="l" pos="3259080"/>
                  <a:tab algn="l" pos="3665520"/>
                  <a:tab algn="l" pos="4073400"/>
                  <a:tab algn="l" pos="4481640"/>
                  <a:tab algn="l" pos="4889520"/>
                  <a:tab algn="l" pos="5295960"/>
                  <a:tab algn="l" pos="5703840"/>
                  <a:tab algn="l" pos="6111720"/>
                  <a:tab algn="l" pos="6518160"/>
                  <a:tab algn="l" pos="6926400"/>
                  <a:tab algn="l" pos="7334280"/>
                  <a:tab algn="l" pos="7742160"/>
                  <a:tab algn="l" pos="81486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●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жизнь ставит задачу, любовь и дружба, новые силы, мудрее</a:t>
              </a: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73" name="AutoShape 24"/>
          <p:cNvSpPr/>
          <p:nvPr/>
        </p:nvSpPr>
        <p:spPr>
          <a:xfrm flipV="1" rot="5400000">
            <a:off x="4439880" y="5681880"/>
            <a:ext cx="249480" cy="316080"/>
          </a:xfrm>
          <a:prstGeom prst="downArrow">
            <a:avLst>
              <a:gd name="adj1" fmla="val 50000"/>
              <a:gd name="adj2" fmla="val 27574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 flipV="1" rot="5400000">
            <a:off x="4440240" y="4049640"/>
            <a:ext cx="249120" cy="316080"/>
          </a:xfrm>
          <a:prstGeom prst="downArrow">
            <a:avLst>
              <a:gd name="adj1" fmla="val 50000"/>
              <a:gd name="adj2" fmla="val 27614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 flipV="1" rot="5400000">
            <a:off x="4440240" y="2004840"/>
            <a:ext cx="249120" cy="316080"/>
          </a:xfrm>
          <a:prstGeom prst="downArrow">
            <a:avLst>
              <a:gd name="adj1" fmla="val 50000"/>
              <a:gd name="adj2" fmla="val 27614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 flipV="1" rot="10620000">
            <a:off x="2131200" y="2942640"/>
            <a:ext cx="249480" cy="318960"/>
          </a:xfrm>
          <a:prstGeom prst="downArrow">
            <a:avLst>
              <a:gd name="adj1" fmla="val 50000"/>
              <a:gd name="adj2" fmla="val 27825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 flipV="1" rot="10620000">
            <a:off x="2131200" y="5068080"/>
            <a:ext cx="249480" cy="317520"/>
          </a:xfrm>
          <a:prstGeom prst="downArrow">
            <a:avLst>
              <a:gd name="adj1" fmla="val 50000"/>
              <a:gd name="adj2" fmla="val 27699"/>
            </a:avLst>
          </a:prstGeom>
          <a:gradFill rotWithShape="0">
            <a:gsLst>
              <a:gs pos="0">
                <a:srgbClr val="042c66"/>
              </a:gs>
              <a:gs pos="50000">
                <a:srgbClr val="ffffff"/>
              </a:gs>
              <a:gs pos="100000">
                <a:srgbClr val="042c66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Rectangle 30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Rectangle 32"/>
          <p:cNvSpPr/>
          <p:nvPr/>
        </p:nvSpPr>
        <p:spPr>
          <a:xfrm>
            <a:off x="5148360" y="1890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765000"/>
            <a:ext cx="914400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Мы часто говорим друг другу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желаю тебе всего доброго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ru-RU" sz="2000" spc="-1" strike="noStrike">
                <a:solidFill>
                  <a:srgbClr val="dc23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Это не просто выражение вежливост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В этих словах мы выражаем свою человеческую сущн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Надо иметь большую силу духа, чтоб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уметь желать добра други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Умение чувствова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умение видеть по-доброму окружающих тебя люде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это не тольк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показатель культур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но 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результат</a:t>
            </a:r>
            <a:r>
              <a:rPr b="1" i="1" lang="ru-RU" sz="2000" spc="-1" strike="noStrike">
                <a:solidFill>
                  <a:srgbClr val="dc23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огромн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внутренней работы дух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Обращаясь друг к другу с просьбой, мы говорим: пожалуйст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Просьба - это порыв души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Отказать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человеку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в помощи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значит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потерять собственное человеческое достоинство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Равнодушие к нуждающимся в помощи - это душевное уродство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Чтобы уберечь себя от равнодушия,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надо развивать в своей душе соучастие, сочувствие, сострадани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и в то же время умение отличать безобидные человеческие слабости от потоков, калечащих душу.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Увеличивать добро в окружающем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нас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мир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в этом заключается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самая большая цель жизни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Добро слагается из многого, и каждый раз жизнь ставит перед человеком задачу, которую надо уметь решать.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Любовь и дружба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разрастаясь и распространяясь на много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,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обретают новые силы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становятся все выше, а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человек,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их центр,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80000"/>
                </a:solidFill>
                <a:latin typeface="Calibri"/>
              </a:rPr>
              <a:t>мудрее</a:t>
            </a:r>
            <a:r>
              <a:rPr b="1" lang="ru-RU" sz="20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148360" y="1890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79280" y="946080"/>
            <a:ext cx="89647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желание добра людям — это выражение сущности человека. Надо иметь большую силу духа, чтобы уметь желать добра другим. Умение видеть по-доброму окружающий мир - это не только показатель культуры, но и результат огромной внутренней работы духа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ьба - это порыв души. Отказать человеку в помощи - значит потерять собственное человеческое достоинство. Равнодушие к нуждающимся в помощи - это душевное уродство. Чтобы уберечь себя от него, надо развивать в своей душе соучастие и сострадание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личивать добро в окружающем мире - самая большая цель жизни. Умение любить и дружить делает человека мудрее и сильнее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5 слов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435640" y="1890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 Д. С. Лихачеву,157 сл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1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750960"/>
            <a:ext cx="9144000" cy="41040"/>
          </a:xfrm>
          <a:prstGeom prst="rect">
            <a:avLst/>
          </a:prstGeom>
          <a:gradFill rotWithShape="0">
            <a:gsLst>
              <a:gs pos="0">
                <a:srgbClr val="4e4e66"/>
              </a:gs>
              <a:gs pos="100000">
                <a:srgbClr val="dbdb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57120" y="692280"/>
            <a:ext cx="8786880" cy="59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Раскрепощение, возможность свободно выражать свои мысли и чувства, игры с языком и при помощи языка – вот что характерно для русского языка нашего времени. Опасно ли это для него? Нуждается ли современный русский язык в защите?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Нет! Я думаю, что не язык нуждается в защите, а требует коррекции язык подавляющего большинства российских граждан. Нуждается в значительно более высоком уровне культуры все общество. «Порча» языка, о которой так много пишут, затрагивает не систему языка, а языковую особенность, умение говорить. Новые условия функционирования языка, появление большого количества неподготовленных устных публичных текстов создает впечатление о росте количества ошибок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80000"/>
                </a:solidFill>
                <a:latin typeface="Calibri"/>
              </a:rPr>
              <a:t>Язык – система самоочищающаяся. Еще недавно всюду говорили о «консенсусе», даже – о семейном. Где это слово? Прошло несколько лет, и оно умерло. В тоталитарные времена язык засушили, ему недоставало животворной влаги, теперь – перенасытили ею. Лишняя – уйдет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2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435640" y="189000"/>
            <a:ext cx="35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Е. Земской, 129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Раскрепощение, свобода выражения мыслей и чувств, языковые игры – вот что характерно для современного русского языка. Опасно ли это и нуждается ли язык в защите?</a:t>
            </a:r>
            <a:br>
              <a:rPr sz="2600"/>
            </a:b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Не язык нуждается в защите, а требует коррекции язык большинства российских граждан, общество нуждается в более высоком уровне культуры. «Порча» языка затрагивает не его систему, а умение говорить, особенности речи людей. Свобода пользования языком, большое число неподготовленных устных текстов создает впечатление о росте неграмотности.</a:t>
            </a:r>
            <a:br>
              <a:rPr sz="2600"/>
            </a:b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180000"/>
                </a:solidFill>
                <a:latin typeface="Calibri"/>
              </a:rPr>
              <a:t>Язык – система самоочищающаяся. Слово «консенсус», которое еще недавно употребляли всюду, умерло. В тоталитарные времена язык засушили, ему не хватало живительной влаги, теперь – перенасытили ею. Лишняя – уйдет. (</a:t>
            </a: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94 слова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2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435640" y="189000"/>
            <a:ext cx="35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Е. Земской, 129 слов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214560" y="571680"/>
            <a:ext cx="93582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Не так давно учёные считали, что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успех в жизни напрямую связан с нашими интеллектуальными способностями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Чем больше человек знает и умеет, тем больше вероятность того, что он многого добьётся в жизни.</a:t>
            </a:r>
            <a:endParaRPr b="0" lang="en-US" sz="19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Однако оказывается, как утверждают современные учёные, наполненная знаниями голова ещё не спасение от серьёзных жизненных неудач и провалов.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Интеллектуальные способности и навыки, необходимые для последующей работы, – это всего лишь основа, фундамент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На этом фундаменте здание профессионального успеха может быть построено только в том случае, если человек обладает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определёнными личностными качествами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И одним из таких важнейших качеств является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способность понимать окружающих, чувствовать их настроение, сопереживать им.</a:t>
            </a:r>
            <a:endParaRPr b="0" lang="en-US" sz="19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Психологи пришли к выводу, что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помочь развить эту способность, 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в частности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, может восприятие искусства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Человек, который получает удовольствие от живописных или скульптурных образов, чувствует красоту стиха или мелодии, ощущает ритм узора, – такой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человек способен к необходимому для жизни эмоциональному переживанию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 Через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сопереживание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 человек ощущает свою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причастность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 к тем, кто живёт рядом с ним, участвует в том, что происходит вокруг. Следовательно,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обладая способностью понимать, чувствовать и сопереживать, человек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 </a:t>
            </a:r>
            <a:r>
              <a:rPr b="1" lang="ru-RU" sz="1900" spc="-1" strike="noStrike" u="sng">
                <a:solidFill>
                  <a:srgbClr val="180000"/>
                </a:solidFill>
                <a:uFillTx/>
                <a:latin typeface="Calibri"/>
              </a:rPr>
              <a:t>сможет поддерживать гармоничные отношения с миром, а значит, сможет добиться успеха в этом мире</a:t>
            </a:r>
            <a:r>
              <a:rPr b="1" lang="ru-RU" sz="1900" spc="-1" strike="noStrike">
                <a:solidFill>
                  <a:srgbClr val="18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3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203640" y="1890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 материалам периодической печат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Не так давно считалось, что успех в жизни прямо зависит от наших интеллектуальных способностей, знаний и умений.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Сейчас учёные приходят к выводу, что интеллектуальный багаж – это необходимое, но не достаточное условие достижения успеха. Чтобы добиться успеха, человек, кроме прочего, должен обладать способностью понимать окружающих, чувствовать их настроение, сопереживать им.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Развить эту способность можно, в частности, через восприятие искусства, которое учит эмоциональному сопереживанию</a:t>
            </a:r>
            <a:r>
              <a:rPr b="0" lang="ru-RU" sz="2700" spc="-1" strike="noStrike">
                <a:solidFill>
                  <a:srgbClr val="180000"/>
                </a:solidFill>
                <a:latin typeface="Arial"/>
              </a:rPr>
              <a:t>.</a:t>
            </a:r>
            <a:r>
              <a:rPr b="1" lang="ru-RU" sz="2700" spc="-1" strike="noStrike">
                <a:solidFill>
                  <a:srgbClr val="180000"/>
                </a:solidFill>
                <a:latin typeface="Arial"/>
              </a:rPr>
              <a:t> Такой человек сможет поддерживать гармоничные отношения с миром, а значит, сможет добиться успеха в нем.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3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786120" y="189000"/>
            <a:ext cx="51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материалам периодической печати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59280" y="0"/>
            <a:ext cx="2089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.С. Лихачев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ие – вот что сейчас нужно молодому человеку с самого малого возраста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читься нужно всег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До конца жизни не только учили, но и учились все крупнейшие ученые. Перестанешь учиться – не сможешь и учить. Ибо знания все растут и усложняются. Нужно при этом помнить, ч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амое благоприятное время для учения – молод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менно в молодости, в детстве, в отрочестве, в юност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 человека наиболее восприимчи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Восприимчив к изучению языков (что крайне важно), к математике, к усвоению просто знаний и развитию эстетическому, стоящему рядом с развитием нравственным и отчасти его стимулирующим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22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ейте не терять времени на пустя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на «отдых», который иногда утомляет больше, чем самая тяжелая работа, не заполняйте свой светлый разу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утными потоками глупой и бесцельной «информац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ерегите себя для уче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для приобретения знаний и навыков, которые только в молодости вы освоите легко и быстро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222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мотрите на маленького ребенка – с каким удовольствием он начинает учиться ходить, говорить, копаться в различных механизмах (у мальчиков), нянчить куклы (у девочек)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старайтесь продолжить эту радость освоения новог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Это во многом зависит именно от вас самих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Не зарекайтесь: не люблю учиться! А вы попробуйте любить все предметы, какие проходите в школе. Если другим людям они нравились, то почему вам они могут не понравиться! Читайте стоящие книги, а не просто чтиво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зучайте историю и литератур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 то и другое должен хорошо знать интеллигентный человек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менно они дают человеку нравственный и эстетический кругозо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делают окружающий мир большим, интересным, излучающим опыт и радость. Если вам что-то не нравится в каком-либо предмете – напрягитесь и постарайтесь найти в нем источник радости – радости приобретения нового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9280" y="0"/>
            <a:ext cx="185580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Текст 4</a:t>
            </a:r>
            <a:endParaRPr b="0" lang="en-US" sz="3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9:01:28Z</dcterms:created>
  <dc:creator>Татьяна</dc:creator>
  <dc:description/>
  <dc:language>en-US</dc:language>
  <cp:lastModifiedBy>Татьяна</cp:lastModifiedBy>
  <dcterms:modified xsi:type="dcterms:W3CDTF">2013-02-15T12:00:38Z</dcterms:modified>
  <cp:revision>5</cp:revision>
  <dc:subject/>
  <dc:title>Слайд 1</dc:title>
</cp:coreProperties>
</file>