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79E-8F36-4797-85E1-FE15B760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6C8-A1BD-4EBC-BE83-694ECAEA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48F-DDE6-4544-B2DB-529D80CB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8E2-FB53-4EA3-840C-166467F0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BAA-7F30-45FA-9F6D-A3504B80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31B-57AB-445B-8081-FCE740D2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948-357E-436C-AAC8-D4501AED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8CA-1D02-4D22-ACAD-F8863A0C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790-DA33-491C-AF83-75E1BEBD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A9F-6AF7-4C22-8D54-6169B295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3E7-9DCA-4513-ABF1-A1BCA3DF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E23-A1E4-41EA-92AE-9ABD975F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C685-FF1F-434E-A67F-D776820D855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C28F-0804-4DB4-A566-08AD51FC332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дание 1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57160"/>
            <a:ext cx="88581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00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180000"/>
                </a:solidFill>
                <a:latin typeface="Calibri"/>
              </a:rPr>
              <a:t>Грунтовые хранилища жидких радиоактивных продуктов и места захоронения твёрдых отходов могут быть источниками загрязнения грунтов, грунтовых и подземных (глубинных) вод. Поэтому для предупреждения и предотвращения опасных радиоактивных загрязнений проводится контроль за движением грунтовых вод от пунктов захоронения до выхода грунтовых вод к поверхностному водоисточнику. Этот контроль осуществляется с помощью специальных карт движения грунтовых вод и возможной миграции загрязнений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дание 1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642600"/>
            <a:ext cx="9001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541504"/>
                </a:solidFill>
                <a:latin typeface="Calibri"/>
              </a:rPr>
              <a:t>В каком из приведённых ниже предложений верно передана главная информация, содержащаяся в тексте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1) Контроль за распространением радиоактивных продуктов в грунтовом потоке проводится в наблюдательных скважинах, глубина и расположение которых зависят от назначения сооружений, гидрогеологических условий и характеристик грунтов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2) Во избежание опасных радиоактивных загрязнений с помощью специальных карт осуществляется контроль за движением грунтовых вод от пунктов захоронения радиоактивных отходов до выхода к поверхностному водоисточнику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3) Жидкие и твёрдые радиоактивные отходы являются источниками загрязнения грунтов, грунтовых и подземных (глубинных) вод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0000"/>
                </a:solidFill>
                <a:latin typeface="Calibri"/>
              </a:rPr>
              <a:t>4) Направление движения и скорость грунтовых и подземных (глубинных) вод требует жёсткого контроля, поэтому необходимо создавать специальные гидрогеологические карты разных районов Росси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9:02:51Z</dcterms:created>
  <dc:creator>Татьяна</dc:creator>
  <dc:description/>
  <dc:language>en-US</dc:language>
  <cp:lastModifiedBy>Татьяна</cp:lastModifiedBy>
  <dcterms:modified xsi:type="dcterms:W3CDTF">2013-01-17T20:17:52Z</dcterms:modified>
  <cp:revision>1</cp:revision>
  <dc:subject/>
  <dc:title>Задание 1</dc:title>
</cp:coreProperties>
</file>