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E95-5EE1-4964-A9EC-607190C8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811-C94F-443C-87EE-37B7805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A5C-A22D-4E1E-B2D3-0BE76167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98E-B621-45A9-97DD-7B683E1F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DD2-C519-4906-ABB8-253C8B68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969-6788-411E-B90B-82D49FE2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BC3-A977-4F78-A9BE-C7CE8F8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BBA-388C-43B4-AB7E-4FFBF49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54A-BE37-49D4-A4BD-79034B4C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F6F-97A7-4524-A7E7-14945A2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1F4-4FA6-4F7D-87B9-28395C9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1F5-76C2-45A8-BD55-09C2A91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67F6-A57C-427B-B701-636ED8ADDAF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F3F-BDEA-4DDD-A26E-3DF630992A8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885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Грунтовые хранилища жидких радиоактивных продуктов и места захоронения твёрдых отходов могут быть источниками загрязнения грунтов, грунтовых и подземных (глубинных) вод. Поэтому для предупреждения и предотвращения опасных радиоактивных загрязнений проводится контроль за движением грунтовых вод от пунктов захоронения до выхода грунтовых вод к поверхностному водоисточнику. Этот контроль осуществляется с помощью специальных карт движения грунтовых вод и возможной миграции загрязнений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642600"/>
            <a:ext cx="9001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541504"/>
                </a:solidFill>
                <a:latin typeface="Calibri"/>
              </a:rPr>
              <a:t>В каком из приведённых ниже предложений верно передана главная информация, содержащаяся в тексте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1) Контроль за распространением радиоактивных продуктов в грунтовом потоке проводится в наблюдательных скважинах, глубина и расположение которых зависят от назначения сооружений, гидрогеологических условий и характеристик грунто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2) Во избежание опасных радиоактивных загрязнений с помощью специальных карт осуществляется контроль за движением грунтовых вод от пунктов захоронения радиоактивных отходов до выхода к поверхностному водоисточнику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3) Жидкие и твёрдые радиоактивные отходы являются источниками загрязнения грунтов, грунтовых и подземных (глубинных) вод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4) Направление движения и скорость грунтовых и подземных (глубинных) вод требует жёсткого контроля, поэтому необходимо создавать специальные гидрогеологические карты разных районов Росс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2:51Z</dcterms:created>
  <dc:creator>Татьяна</dc:creator>
  <dc:description/>
  <dc:language>en-US</dc:language>
  <cp:lastModifiedBy>Татьяна</cp:lastModifiedBy>
  <dcterms:modified xsi:type="dcterms:W3CDTF">2013-01-17T20:17:52Z</dcterms:modified>
  <cp:revision>1</cp:revision>
  <dc:subject/>
  <dc:title>Задание 1</dc:title>
</cp:coreProperties>
</file>