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827-C916-4A5D-A358-C578E6A1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1C3-6EC5-4BE0-B0CE-3C6EDAD4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8FD-402C-4C41-91D6-1007C485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D55-B556-41FE-9D38-77EF80EF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6C1-7215-48C3-9987-AA4A1FF7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978-EE0E-4FA5-985C-6CFD7975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7F6-69EF-4858-8A4D-5D756BD5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505-9861-4659-9B8C-B629BC8F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2D2-8067-4812-8849-E509D92E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37B-23E6-4A19-824A-B1D7B6CC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4F0-CC57-4BF6-BC66-897D5A44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9F9-8152-475A-8B24-814F0A40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13F3-A47F-4BDF-B520-5835738D8F1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C24F-D402-4972-BCEA-928627AF7A8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дание 1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57160"/>
            <a:ext cx="8858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180000"/>
                </a:solidFill>
                <a:latin typeface="Calibri"/>
              </a:rPr>
              <a:t>Грунтовые хранилища жидких радиоактивных продуктов и места захоронения твёрдых отходов могут быть источниками загрязнения грунтов, грунтовых и подземных (глубинных) вод. Поэтому для предупреждения и предотвращения опасных радиоактивных загрязнений проводится контроль за движением грунтовых вод от пунктов захоронения до выхода грунтовых вод к поверхностному водоисточнику. Этот контроль осуществляется с помощью специальных карт движения грунтовых вод и возможной миграции загрязнений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дание 1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642600"/>
            <a:ext cx="9001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541504"/>
                </a:solidFill>
                <a:latin typeface="Calibri"/>
              </a:rPr>
              <a:t>В каком из приведённых ниже предложений верно передана главная информация, содержащаяся в тексте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1) Контроль за распространением радиоактивных продуктов в грунтовом потоке проводится в наблюдательных скважинах, глубина и расположение которых зависят от назначения сооружений, гидрогеологических условий и характеристик грунтов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2) Во избежание опасных радиоактивных загрязнений с помощью специальных карт осуществляется контроль за движением грунтовых вод от пунктов захоронения радиоактивных отходов до выхода к поверхностному водоисточнику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3) Жидкие и твёрдые радиоактивные отходы являются источниками загрязнения грунтов, грунтовых и подземных (глубинных) вод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4) Направление движения и скорость грунтовых и подземных (глубинных) вод требует жёсткого контроля, поэтому необходимо создавать специальные гидрогеологические карты разных районов Росси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9:02:51Z</dcterms:created>
  <dc:creator>Татьяна</dc:creator>
  <dc:description/>
  <dc:language>en-US</dc:language>
  <cp:lastModifiedBy>Татьяна</cp:lastModifiedBy>
  <dcterms:modified xsi:type="dcterms:W3CDTF">2013-01-17T20:17:52Z</dcterms:modified>
  <cp:revision>1</cp:revision>
  <dc:subject/>
  <dc:title>Задание 1</dc:title>
</cp:coreProperties>
</file>