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voltag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D0D-B731-49D8-B6FF-2723CB8B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35C-279C-4AE2-92FE-EAA749FE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69F-AC4A-4C6D-857F-DB49A6DC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9A1-8DAE-4312-89C2-6432DB09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14D3-F070-45AB-8A7D-D7B5E0DF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7E26-F878-441F-8BA2-1F05845F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9E55-8F6A-4C07-B126-9D094942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9F10-4244-4819-82EE-90BD1658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4BD7-E331-4EFA-9EB5-49EF2EA7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AB2F-4915-48C1-AF20-B87B0995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144E-27D5-4AF9-A699-331AC1D1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187-D283-413F-95E4-016E64A7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9AD-9B1E-4DCE-B7CD-65161B5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E73-C98B-40D2-9572-E9B1946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D465-3B9C-475B-9DA2-3CB5A935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F3CC-E806-4F1F-9559-97C33CC7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0244-5F13-4EEF-A7BE-FC14CC4B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DEE-63B7-4607-B680-F88140D9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D71-EE23-4513-88A2-7C6D1868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8E0-C78C-408A-B3EE-9836586C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421-C949-44B1-BAA0-835AFD34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4DE-64B2-4A75-A3DE-0E836D9F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7FC-2018-4583-871E-2C4F46A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295-0540-4BDE-9E10-67FDEBA0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E3DE-FB47-4A0B-9D53-758DF6FCF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06C3-753F-433E-B50D-1A3678DE9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Тренинг по лексике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ейди на слайд с зад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ши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9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езрительно-надменный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па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го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м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поставл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0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едположительный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53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ертрофирова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оте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но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ертон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1. Значение какого слова определено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неверно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езадачливы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гкомысленный, несерьезны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дато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асть суммы, уплачиваемая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бсур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лепость, бессмы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мпрометировать 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рочить, выставлять в неблаговид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2. Значение какого слова определено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неверно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емаг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ловек, любящий много говорить, балагу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погей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нец, вершина, кульминация какого-либо действия или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ояки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меющий разные а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епута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выборный представитель, член выборного государствен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оявляющий человеколюбие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серд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сти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вид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2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мир, вселенная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6337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воззр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люб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з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ощу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3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исподволь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здал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сподти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степен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зда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4. Какое слово соответствует значению «излишне строгий в выполнении мелочных, формальных требований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аг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иат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йзажи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5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оказывающий хорошее действие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5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прият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скло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твори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тво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6. Какое слово соответствует значению «готовый содействовать благополучию других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де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душ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жела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совест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7. Какое слово соответствует значению «действующий путем обмана, коварный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оло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ноподда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ноподданн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отерпим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8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любящий свободу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1640" y="1628280"/>
            <a:ext cx="676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ду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люби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нае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опреде-ляющий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5:24:32Z</dcterms:created>
  <dc:creator>Татьяна</dc:creator>
  <dc:description/>
  <dc:language>en-US</dc:language>
  <cp:lastModifiedBy>Татьяна</cp:lastModifiedBy>
  <dcterms:modified xsi:type="dcterms:W3CDTF">2013-02-07T20:43:51Z</dcterms:modified>
  <cp:revision>9</cp:revision>
  <dc:subject/>
  <dc:title>Слайд 1</dc:title>
</cp:coreProperties>
</file>