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voltag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CA6-8106-434C-B953-9D2D8418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D9F-F53A-45EA-8ABF-2DA5E0D0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021-2CF4-49F4-89AF-E1E9FC0A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B01-F1EA-4DC1-AEEE-D5DD0CAF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73E9-DB2C-468C-8287-4EB93D43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FD10-D64C-48A4-9DED-5FB98627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B51B-3BA2-4E3F-BAF8-C8B7F36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5527-F087-45ED-B6E9-DA48F7E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0F5C-4A43-40DD-AD0B-E77C7C82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C30B-4DB3-4CDC-BDB1-77CF20F4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5608-B1D9-44E6-8C4B-E435A84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AC9-943E-491D-A7A0-5E907B9B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D417-298C-4BAE-8EA3-E226DBA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2C5A-8E20-4B6E-8481-50FB5D9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3FE3-7A77-412A-83F6-39957E19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A91A-5305-4062-A82A-ECA60566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FAE6-9473-4580-A068-F08AA207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505-5191-4D24-B378-651D47E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68B-FB27-4F69-B1DD-4E954E67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769-40CF-45B1-8321-CBC67A03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5E8-FC4D-4BC5-8777-23DD0205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100-3FF5-4E04-9542-F88AC9F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8BF-97BB-48B0-A16D-A9A5505E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776-35E7-4D0B-B4DE-40AF569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20DA-71D3-4640-A0D8-5DC8E005A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623D-91B0-4528-AB8E-727118AD1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Тренинг по лексике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ейди на слайд с зад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ши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9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езрительно-надменный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па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го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м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поставл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0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едположительный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53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ертрофирова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оте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но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ертон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1. Значение какого слова определено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неверно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езадачливы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гкомысленный, несерьезны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дато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асть суммы, уплачиваемая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бсур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лепость, бессмы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мпрометировать 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рочить, выставлять в неблаговид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2. Значение какого слова определено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неверно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емаг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ловек, любящий много говорить, балагу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погей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нец, вершина, кульминация какого-либо действия или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ояки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меющий разные а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епута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выборный представитель, член выборного государствен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оявляющий человеколюбие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серд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сти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вид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2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мир, вселенная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6337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воззр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люб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з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ощу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3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исподволь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здал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сподти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степен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зда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4. Какое слово соответствует значению «излишне строгий в выполнении мелочных, формальных требований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аг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иат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йзажи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5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оказывающий хорошее действие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5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прият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скло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твори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тво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6. Какое слово соответствует значению «готовый содействовать благополучию других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де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душ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жела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совест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7. Какое слово соответствует значению «действующий путем обмана, коварный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оло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ноподда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ноподданн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отерпим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8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любящий свободу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1640" y="1628280"/>
            <a:ext cx="676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ду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люби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нае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опреде-ляющий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5:24:32Z</dcterms:created>
  <dc:creator>Татьяна</dc:creator>
  <dc:description/>
  <dc:language>en-US</dc:language>
  <cp:lastModifiedBy>Татьяна</cp:lastModifiedBy>
  <dcterms:modified xsi:type="dcterms:W3CDTF">2013-02-07T20:43:51Z</dcterms:modified>
  <cp:revision>9</cp:revision>
  <dc:subject/>
  <dc:title>Слайд 1</dc:title>
</cp:coreProperties>
</file>