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voltage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9EC4-7CDE-4B69-B28A-F48D8E34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EAE8-394A-4308-AF8B-7D8FA1EB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6234-D441-4637-AC38-E7F2BCB57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D788-E462-4D82-9471-78463EB93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B804-DB08-4A8B-84D6-E3F1CE087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BC6B-AF13-4F06-B387-38180904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ABCE-53B9-4345-B352-BBD551C0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38B0-ABF8-4E9C-85C9-5DFCC7DA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4F33-F733-4E31-93A8-6F67FD50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B5AE-B87E-4473-B6E4-18267F7B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94A4-17F6-43BD-B66F-4A1D77BD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3080-727D-48B6-89DB-7768068C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A151-AFBF-4F10-8422-2A3B864E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053F-1BEA-4118-AA92-263106AE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F531-054E-47CC-B7B3-EF9668B5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8F49-44FE-4F85-B4BD-7A5D457C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A46A-5F20-4971-9A71-31B6A4192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9014-C68F-49A1-9610-4DF372C5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5ECF-7915-49CD-AB3C-7B47110B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BB76-5726-48BC-A45B-B3DE5BBD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F563-2FB3-4E68-9233-584B04C9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9DCD-0AB5-4385-A7EF-7D9C4218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5217-CCD0-4045-8200-0801AD16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FBF5-3A7B-4208-9B3E-50B23383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CAC4-F5BA-4087-9BC5-E4343A8D53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13D3-1235-4189-B992-058239FDBD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560" y="228600"/>
            <a:ext cx="799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</a:rPr>
              <a:t>Тренинг по лексике</a:t>
            </a:r>
            <a:r>
              <a:rPr b="1" lang="en-US" sz="4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920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Инструк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ерейди на слайд с задани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еши ег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Щелчком запусти правильный ответ (слово будет подчеркнуто) и проверь себ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56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9. Какое слово соответствует значению «</a:t>
            </a: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презрительно-надменный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»?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424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высокопа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высокого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высоком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высокопоставлен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4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56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10. Какое слово соответствует значению «</a:t>
            </a: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предположительный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»?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532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гипертрофирован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гипотетическ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гипнотическ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гипертоническ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0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56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11. Значение какого слова определено </a:t>
            </a:r>
            <a:r>
              <a:rPr b="1" lang="en-US" sz="4000" spc="-1" strike="noStrike">
                <a:solidFill>
                  <a:srgbClr val="ffffff"/>
                </a:solidFill>
                <a:latin typeface="Arial Unicode MS"/>
              </a:rPr>
              <a:t>неверно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?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незадачливый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легкомысленный, несерьезный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задаток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асть суммы, уплачиваемая впер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абсур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елепость, бессмыс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компрометировать –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порочить, выставлять в неблаговидном св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6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56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12. Значение какого слова определено </a:t>
            </a:r>
            <a:r>
              <a:rPr b="1" lang="en-US" sz="4000" spc="-1" strike="noStrike">
                <a:solidFill>
                  <a:srgbClr val="ffffff"/>
                </a:solidFill>
                <a:latin typeface="Arial Unicode MS"/>
              </a:rPr>
              <a:t>неверно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?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емагог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еловек, любящий много говорить, балагур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апогей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енец, вершина, кульминация какого-либо действия или я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оякий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меющий разные аспе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депутат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выборный представитель, член выборного государственного учр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2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56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1. Какое слово соответствует значению «</a:t>
            </a: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проявляющий человеколюбие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»?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79640" y="1628280"/>
            <a:ext cx="5688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мил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милосерд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милостив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миловид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2. Какое слово соответствует значению «</a:t>
            </a: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мир, вселенная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»?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19280" y="1628280"/>
            <a:ext cx="6337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мировоззр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миролюб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мирозд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мироощущ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6560" y="228600"/>
            <a:ext cx="799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3. Какое слово соответствует значению «</a:t>
            </a: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исподволь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»?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79640" y="1628280"/>
            <a:ext cx="5688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издале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исподтиш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остепенн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издав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56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4. Какое слово соответствует значению «излишне строгий в выполнении мелочных, формальных требований»?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79640" y="1628280"/>
            <a:ext cx="5688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едаго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едан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едиат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ейзажис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56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5. Какое слово соответствует значению «</a:t>
            </a: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оказывающий хорошее действие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»?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5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благоприят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благосклон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благотворитель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благотво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7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6. Какое слово соответствует значению «готовый содействовать благополучию других»?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0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добродетель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добродуш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доброжелатель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добросовест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7. Какое слово соответствует значению «действующий путем обмана, коварный»?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веролом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верноподдан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верноподданническ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веротерпим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2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56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8. Какое слово соответствует значению «</a:t>
            </a: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любящий свободу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»?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31640" y="1628280"/>
            <a:ext cx="6769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вольнодум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вольнолюбив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вольнонаем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вольноопреде-ляющийс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8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05:24:32Z</dcterms:created>
  <dc:creator>Татьяна</dc:creator>
  <dc:description/>
  <dc:language>en-US</dc:language>
  <cp:lastModifiedBy>Татьяна</cp:lastModifiedBy>
  <dcterms:modified xsi:type="dcterms:W3CDTF">2013-02-07T20:43:51Z</dcterms:modified>
  <cp:revision>9</cp:revision>
  <dc:subject/>
  <dc:title>Слайд 1</dc:title>
</cp:coreProperties>
</file>