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CEF-FB83-48BD-8088-9F12C1F8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726-6808-4157-BA11-087ED2E0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2E5F-B9FB-46BD-8771-EB1768E5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5C57-0531-4A34-8B66-5F677373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1B0-84A8-4069-AE9F-76A5B27D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DF70-24F2-4F7C-A8C6-5EEF4FA1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B89-95C5-434A-90D6-458FE919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22C-E075-47D2-A487-A9F1AEE8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488-154E-4652-BE16-1B5CE2C0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B42-9B88-4794-B903-FF879167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9FD-EF60-4B7A-A13F-7DE09F98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443A-9BE0-4F44-B003-4F927E5D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B4C8-DC20-46A2-A005-2C6CA9E68BBC}" type="datetime">
              <a:rPr b="0" lang="en-US" sz="1200" spc="-1" strike="noStrike">
                <a:solidFill>
                  <a:srgbClr val="ac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D59C-E84B-4109-96D7-80BD259527A5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99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180000"/>
                </a:solidFill>
                <a:latin typeface="Calibri"/>
              </a:rPr>
              <a:t>Тренинг</a:t>
            </a:r>
            <a:r>
              <a:rPr b="1" lang="en-US" sz="4700" spc="-1" strike="noStrike">
                <a:solidFill>
                  <a:srgbClr val="180000"/>
                </a:solidFill>
                <a:latin typeface="Arial Unicode MS"/>
              </a:rPr>
              <a:t> по </a:t>
            </a:r>
            <a:r>
              <a:rPr b="1" lang="en-US" sz="4700" spc="-1" strike="noStrike">
                <a:solidFill>
                  <a:srgbClr val="180000"/>
                </a:solidFill>
                <a:latin typeface="Arial"/>
              </a:rPr>
              <a:t>логике текста</a:t>
            </a:r>
            <a:r>
              <a:rPr b="1" lang="en-US" sz="4000" spc="-1" strike="noStrike">
                <a:solidFill>
                  <a:srgbClr val="800000"/>
                </a:solidFill>
                <a:latin typeface="Arial Unicode MS"/>
              </a:rPr>
              <a:t>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920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61d12"/>
                </a:solidFill>
                <a:uFillTx/>
                <a:latin typeface="Calibri"/>
              </a:rPr>
              <a:t>Инструкция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18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d12"/>
                </a:solidFill>
                <a:latin typeface="Calibri"/>
              </a:rPr>
              <a:t>Перейди на слайд с заданием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18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d12"/>
                </a:solidFill>
                <a:latin typeface="Calibri"/>
              </a:rPr>
              <a:t>Реши его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18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d12"/>
                </a:solidFill>
                <a:latin typeface="Calibri"/>
              </a:rPr>
              <a:t>Щелчком запусти правильный ответ (слово будет подчеркнуто) и проверь себя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В каждом из этих созвездий Солнце бывает примерно месяц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Б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Наблюдать Солнце в том зодиакальном созвездии, в котором оно находится в данный день года, можно только во время полного солнечного затмения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Мы знаем, что на своем видимом пути Солнце пересекает двенадцать созвездий Зодиака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Г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Эта возможность представляется очень и очень редко.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12139E-006 L -0.00295 0.18589 E">
                                      <p:cBhvr>
                                        <p:cTn id="9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01873 L -2.5E-006 -3.75723E-006 E">
                                      <p:cBhvr>
                                        <p:cTn id="98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44509E-006 L -0.00416 0.17249 E">
                                      <p:cBhvr>
                                        <p:cTn id="10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69942E-006 L 0.00243 -0.40093 E">
                                      <p:cBhvr>
                                        <p:cTn id="10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Он им казался им неудобным, некрасивым, нескладным, нелепым..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Б.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Сегодня, на расстоянии трех столетий, кажется, что Париж этот существовал не в живой реальности, а лишь в воображении художника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В.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Париж </a:t>
            </a:r>
            <a:r>
              <a:rPr b="1" lang="en-US" sz="2600" spc="-1" strike="noStrike">
                <a:solidFill>
                  <a:srgbClr val="180000"/>
                </a:solidFill>
                <a:latin typeface="Arial"/>
              </a:rPr>
              <a:t>XVIII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 века – это город почерневших соборов, шумных рынков и аристократических аллей, лавок ювелиров и чердаков, где жили философы.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Г.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Но он существовал и не вызывал у современников – парижан </a:t>
            </a:r>
            <a:r>
              <a:rPr b="1" lang="en-US" sz="2600" spc="-1" strike="noStrike">
                <a:solidFill>
                  <a:srgbClr val="180000"/>
                </a:solidFill>
                <a:latin typeface="Arial"/>
              </a:rPr>
              <a:t>XVIII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 века – ни малейшего восхищения.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16185E-006 L 0.00486 0.11191 E">
                                      <p:cBhvr>
                                        <p:cTn id="108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60116E-006 L -0.00486 -0.10752 E">
                                      <p:cBhvr>
                                        <p:cTn id="110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0.01803 L 0.02378 0.58635 E">
                                      <p:cBhvr>
                                        <p:cTn id="11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21965E-006 L 0.00868 -0.27583 E">
                                      <p:cBhvr>
                                        <p:cTn id="114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2560" y="1428840"/>
            <a:ext cx="900108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30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Лишь за 70 миллионов лет до наших дней континенты приобрели свои нынешние очертания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Б.  И если бы космонавты могли взглянуть тогда с поднебесья на нашу планету, они бы, наверно, не узнали ее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.  Геологические катастрофы не раз изменяли лик Земли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Г. 100-500 миллионов лет назад моря и континенты имели совсем иные очертания, чем в наши дни. 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1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7 L 0.00746 -0.40093 E">
                                      <p:cBhvr>
                                        <p:cTn id="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0.25827 L -0.00174 0.58335 E">
                                      <p:cBhvr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7445 L 0.01302 0.15306 E">
                                      <p:cBhvr>
                                        <p:cTn id="1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-0.10972 L 0.00608 -0.42222 E">
                                      <p:cBhvr>
                                        <p:cTn id="1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91440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Им было легче, чем европейским коллегам, провести такие исследования: в США и Канаде водится монарх – классический образец перелетной бабочки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Б.  Американские энтомологи внесли немалый вклад в изучение перелетов бабочек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В.  Регулярно в строго определенное время, весной и осенью, эти красивые бабочки совершают дальние путешествия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Г. Среди других бабочек нет, пожалуй, равных им по умению преодолевать на крыльях далекие расстояния.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2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12 0.11111 L -0.00712 -0.20116 E">
                                      <p:cBhvr>
                                        <p:cTn id="1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0.2074 L -0.00243 0.12593 E">
                                      <p:cBhvr>
                                        <p:cTn id="2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63 -0.15098 L 8.33333E-007 1.84971E-006 E">
                                      <p:cBhvr>
                                        <p:cTn id="2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7120" y="1571400"/>
            <a:ext cx="87868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3400" spc="-1" strike="noStrike">
                <a:solidFill>
                  <a:srgbClr val="180000"/>
                </a:solidFill>
                <a:latin typeface="Calibri"/>
              </a:rPr>
              <a:t>Вода в ней, казалось, была черная, словно деготь.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80000"/>
                </a:solidFill>
                <a:latin typeface="Calibri"/>
              </a:rPr>
              <a:t>Б.  Мы шли по чернолесью, сухие горушки то и дело перемежались топкими болотцами.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80000"/>
                </a:solidFill>
                <a:latin typeface="Calibri"/>
              </a:rPr>
              <a:t>В.  Где-то невдалеке отсюда она ныряла под землю и километра два текла под землей, а потом она появлялась наверху.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80000"/>
                </a:solidFill>
                <a:latin typeface="Calibri"/>
              </a:rPr>
              <a:t>Г.  Вот и Черная речка. 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15324 L -0.00399 -0.18009 E">
                                      <p:cBhvr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41 -0.18542 L 0.00659 -0.43472 E">
                                      <p:cBhvr>
                                        <p:cTn id="30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213 L -0.00781 0.24097 E">
                                      <p:cBhvr>
                                        <p:cTn id="3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1 -0.22662 L 0.00261 0.10672 E">
                                      <p:cBhvr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7120" y="1571400"/>
            <a:ext cx="87868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По-моему, эта сказка могла быть написана о Фридрихе Шиллере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Б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В одной из сказок Андерсена засохший розовый куст покрывается среди жестокой зимы душистыми цветами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Куст расцвел, потому что к нему прикоснулась добрая человеческая рука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Г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«Он обладал даром, - сказал о Шиллере Гете, - облагораживать все, к чему прикасался»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08809 L -0.00295 -0.16092 E">
                                      <p:cBhvr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0.0578 L -0.00191 -0.16255 E">
                                      <p:cBhvr>
                                        <p:cTn id="4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7120" y="1571400"/>
            <a:ext cx="87868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Над рекой висели два моста, и каждый из них был по-своему красив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Б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И изменчивая, непрочная красота их, казалась более вечной, чем железо и бетон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Но все-таки, как бы они ни были красивы, это были лишь мосты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Г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А под ними блестела река, расстилались зеленые луга, легкие синеватые холмы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0.08647 L -0.00121 -0.21503 E">
                                      <p:cBhvr>
                                        <p:cTn id="5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09711 L 0.00486 -0.18335 E">
                                      <p:cBhvr>
                                        <p:cTn id="5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5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Оказалось, что кожа дельфина состоит из двух слоев, между которыми находится эластичная губчатая подкладка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Б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Дельфин, двигаясь с огромной скоростью, не образует вихревых течений, тормозящих движение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Такое строение кожи, видимо, позволяет дельфину гасить скорость колебания воды при движении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Г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Почему же вокруг подводной лодки, формой напоминающей тело дельфина, эти течения есть?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0.15538 L -0.00122 -0.17757 E">
                                      <p:cBhvr>
                                        <p:cTn id="6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62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4509E-006 L -2.5E-006 0.35653 E">
                                      <p:cBhvr>
                                        <p:cTn id="6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53 -0.18174 L -0.01319 0.17294 E">
                                      <p:cBhvr>
                                        <p:cTn id="6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Не только Пушкин, но и поэт А.К. Толстой, и художник Н.К. Рерих, и многие другие вдохновлялись творениями Нестора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Б.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Ведь знакомая всем «Песнь о вещем Олеге» Пушкина, оказывается, воспроизводит сказание Нестора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В.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В Киево-Печерской лавре сохранилась пещера, где жил Нестор – «древнейший летописец русский»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Г.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Те, кто никогда не читал Нестора, и даже те, кто не подозревает о его существовании, все же знакомы с его произведениями.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-0.01318 L 0.01614 0.17271 E">
                                      <p:cBhvr>
                                        <p:cTn id="7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10405E-006 L 0.00781 -0.34844 E">
                                      <p:cBhvr>
                                        <p:cTn id="7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5549E-006 L -0.00799 0.53502 E">
                                      <p:cBhvr>
                                        <p:cTn id="7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71 0.00509 L 0.02431 -0.35422 E">
                                      <p:cBhvr>
                                        <p:cTn id="7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Изделие следует несколько минут подержать в кипящей воде, в которую добавлено небольшое количество воска или парафина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Б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Бронзовые изделия, как бы они ни были начищены, быстро темнеют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Образующаяся пленка надолго защитит бронзу от окисления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Г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Есть, однако, способ сохранить их блеск в течение долгого времени.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68208E-006 L -0.00833 -0.28185 E">
                                      <p:cBhvr>
                                        <p:cTn id="8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50867E-006 L -0.00781 -0.41965 E">
                                      <p:cBhvr>
                                        <p:cTn id="86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87283E-006 L -0.01527 0.29849 E">
                                      <p:cBhvr>
                                        <p:cTn id="8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98 0.02959 L 0.02743 0.14659 E">
                                      <p:cBhvr>
                                        <p:cTn id="9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7:46:57Z</dcterms:created>
  <dc:creator>Татьяна</dc:creator>
  <dc:description/>
  <dc:language>en-US</dc:language>
  <cp:lastModifiedBy>Татьяна</cp:lastModifiedBy>
  <dcterms:modified xsi:type="dcterms:W3CDTF">2013-02-28T20:01:43Z</dcterms:modified>
  <cp:revision>11</cp:revision>
  <dc:subject/>
  <dc:title>В какой последовательности нужно расположить предложения, чтобы получился текст?</dc:title>
</cp:coreProperties>
</file>