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149-091F-4848-9927-4330FF9C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9FC-80F6-4911-A13B-0C84682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CF5-476B-4D08-A675-6A324D02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9B6-2E58-40BE-A8F5-86F27FF2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983-BF1F-427F-B19A-7DD6E67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F9E-5169-4C89-9726-899EC03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A20-071A-419D-8C98-049700A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631-3B9D-49F7-94F9-13760AB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1C0-2752-4450-81EE-58C8C4AE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BC1-3134-4A94-AFA1-301FBDE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47D-DA78-4F2F-B615-B24357A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69B-00C7-4171-84D4-39A0A36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D7E-7583-46EF-AD1E-B87E261FD77A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686-80A1-4FEE-8032-E45E31D958AB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180000"/>
                </a:solidFill>
                <a:latin typeface="Calibri"/>
              </a:rPr>
              <a:t>Тренинг</a:t>
            </a:r>
            <a:r>
              <a:rPr b="1" lang="en-US" sz="4700" spc="-1" strike="noStrike">
                <a:solidFill>
                  <a:srgbClr val="180000"/>
                </a:solidFill>
                <a:latin typeface="Arial Unicode MS"/>
              </a:rPr>
              <a:t> по </a:t>
            </a:r>
            <a:r>
              <a:rPr b="1" lang="en-US" sz="4700" spc="-1" strike="noStrike">
                <a:solidFill>
                  <a:srgbClr val="180000"/>
                </a:solidFill>
                <a:latin typeface="Arial"/>
              </a:rPr>
              <a:t>логике текста</a:t>
            </a:r>
            <a:r>
              <a:rPr b="1" lang="en-US" sz="4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61d12"/>
                </a:solidFill>
                <a:uFillTx/>
                <a:latin typeface="Calibri"/>
              </a:rPr>
              <a:t>Инструкци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Перейди на слайд с заданием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Реши его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18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d12"/>
                </a:solidFill>
                <a:latin typeface="Calibri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каждом из этих созвездий Солнце бывает примерно месяц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блюдать Солнце в том зодиакальном созвездии, в котором оно находится в данный день года, можно только во время полного солнечного затмения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Мы знаем, что на своем видимом пути Солнце пересекает двенадцать созвездий Зодиака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Эта возможность представляется очень и очень редко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12139E-006 L -0.00295 0.18589 E">
                                      <p:cBhvr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873 L -2.5E-006 -3.75723E-006 E">
                                      <p:cBhvr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4509E-006 L -0.00416 0.17249 E">
                                      <p:cBhvr>
                                        <p:cTn id="10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69942E-006 L 0.00243 -0.40093 E">
                                      <p:cBhvr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Он им казался им неудобным, некрасивым, нескладным, нелепым.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Сегодня, на расстоянии трех столетий, кажется, что Париж этот существовал не в живой реальности, а лишь в воображении художник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Париж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это город почерневших соборов, шумных рынков и аристократических аллей, лавок ювелиров и чердаков, где жили философы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о он существовал и не вызывал у современников – парижан </a:t>
            </a:r>
            <a:r>
              <a:rPr b="1" lang="en-US" sz="2600" spc="-1" strike="noStrike">
                <a:solidFill>
                  <a:srgbClr val="180000"/>
                </a:solidFill>
                <a:latin typeface="Arial"/>
              </a:rPr>
              <a:t>XVIII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 века – ни малейшего восхищения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16185E-006 L 0.00486 0.11191 E">
                                      <p:cBhvr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0116E-006 L -0.00486 -0.10752 E">
                                      <p:cBhvr>
                                        <p:cTn id="11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1803 L 0.02378 0.58635 E">
                                      <p:cBhvr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21965E-006 L 0.00868 -0.27583 E">
                                      <p:cBhvr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9001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0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Лишь за 70 миллионов лет до наших дней континенты приобрели свои нынешние очерта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И если бы космонавты могли взглянуть тогда с поднебесья на нашу планету, они бы, наверно, не узнали ее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Геологические катастрофы не раз изменяли лик Земли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100-500 миллионов лет назад моря и континенты имели совсем иные очертания, чем в наши дни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00746 -0.40093 E">
                                      <p:cBhvr>
                                        <p:cTn id="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25827 L -0.00174 0.58335 E">
                                      <p:cBhvr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7445 L 0.01302 0.15306 E">
                                      <p:cBhvr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10972 L 0.00608 -0.42222 E">
                                      <p:cBhvr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Им было легче, чем европейским коллегам, провести такие исследования: в США и Канаде водится монарх – классический образец перелетной бабоч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Б.  Американские энтомологи внесли немалый вклад в изучение перелетов бабочек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В.  Регулярно в строго определенное время, весной и осенью, эти красивые бабочки совершают дальние путешествия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Г. Среди других бабочек нет, пожалуй, равных им по умению преодолевать на крыльях далекие расстоя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2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0.11111 L -0.00712 -0.20116 E">
                                      <p:cBhvr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2074 L -0.00243 0.12593 E">
                                      <p:cBhvr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15098 L 8.33333E-007 1.84971E-006 E">
                                      <p:cBhvr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ода в ней, казалось, была черная, словно деготь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Б.  Мы шли по чернолесью, сухие горушки то и дело перемежались топкими болотцами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В.  Где-то невдалеке отсюда она ныряла под землю и километра два текла под землей, а потом она появлялась наверху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0000"/>
                </a:solidFill>
                <a:latin typeface="Calibri"/>
              </a:rPr>
              <a:t>Г.  Вот и Черная речка. 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5324 L -0.00399 -0.18009 E">
                                      <p:cBhvr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0.18542 L 0.00659 -0.43472 E">
                                      <p:cBhvr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3 L -0.00781 0.24097 E">
                                      <p:cBhvr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22662 L 0.00261 0.10672 E">
                                      <p:cBhvr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-моему, эта сказка могла быть написана о Фридрихе Шиллер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В одной из сказок Андерсена засохший розовый куст покрывается среди жестокой зимы душистыми цветам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Куст расцвел, потому что к нему прикоснулась добрая человеческая ру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«Он обладал даром, - сказал о Шиллере Гете, - облагораживать все, к чему прикасался»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8809 L -0.00295 -0.16092 E">
                                      <p:cBhvr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578 L -0.00191 -0.16255 E">
                                      <p:cBhvr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7868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ад рекой висели два моста, и каждый из них был по-своему красив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 изменчивая, непрочная красота их, казалась более вечной, чем железо и бетон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Но все-таки, как бы они ни были красивы, это были лишь мост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А под ними блестела река, расстилались зеленые луга, легкие синеватые холмы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8647 L -0.00121 -0.21503 E">
                                      <p:cBhvr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9711 L 0.00486 -0.18335 E">
                                      <p:cBhvr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казалось, что кожа дельфина состоит из двух слоев, между которыми находится эластичная губчатая подкладк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Дельфин, двигаясь с огромной скоростью, не образует вихревых течений, тормозящих движение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Такое строение кожи, видимо, позволяет дельфину гасить скорость колебания воды при движении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Почему же вокруг подводной лодки, формой напоминающей тело дельфина, эти течения есть?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15538 L -0.00122 -0.17757 E">
                                      <p:cBhvr>
                                        <p:cTn id="6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4509E-006 L -2.5E-006 0.35653 E">
                                      <p:cBhvr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18174 L -0.01319 0.17294 E">
                                      <p:cBhvr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Не только Пушкин, но и поэт А.К. Толстой, и художник Н.К. Рерих, и многие другие вдохновлялись творениями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едь знакомая всем «Песнь о вещем Олеге» Пушкина, оказывается, воспроизводит сказание Нестора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В Киево-Печерской лавре сохранилась пещера, где жил Нестор – «древнейший летописец русский»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ru-RU" sz="2600" spc="-1" strike="noStrike">
                <a:solidFill>
                  <a:srgbClr val="180000"/>
                </a:solidFill>
                <a:latin typeface="Arial"/>
              </a:rPr>
              <a:t>Те, кто никогда не читал Нестора, и даже те, кто не подозревает о его существовании, все же знакомы с его произведениями.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1318 L 0.01614 0.17271 E">
                                      <p:cBhvr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0405E-006 L 0.00781 -0.34844 E">
                                      <p:cBhvr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5549E-006 L -0.00799 0.53502 E">
                                      <p:cBhvr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0.00509 L 0.02431 -0.35422 E">
                                      <p:cBhvr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620640"/>
            <a:ext cx="8715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 какой последовательности нужно расположить предложения, чтобы получился текст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00"/>
                </a:solidFill>
                <a:latin typeface="Calibri"/>
              </a:rPr>
              <a:t>А.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Изделие следует несколько минут подержать в кипящей воде, в которую добавлено небольшое количество воска или парафина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Б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Бронзовые изделия, как бы они ни были начищены, быстро темнеют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В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Образующаяся пленка надолго защитит бронзу от окисления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Г.  </a:t>
            </a:r>
            <a:r>
              <a:rPr b="1" lang="en-US" sz="3000" spc="-1" strike="noStrike">
                <a:solidFill>
                  <a:srgbClr val="180000"/>
                </a:solidFill>
                <a:latin typeface="Arial"/>
              </a:rPr>
              <a:t>Есть, однако, способ сохранить их блеск в течение долгого времени.</a:t>
            </a:r>
            <a:r>
              <a:rPr b="1" lang="en-US" sz="3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869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Логика текста                                    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68208E-006 L -0.00833 -0.28185 E">
                                      <p:cBhvr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50867E-006 L -0.00781 -0.41965 E">
                                      <p:cBhvr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87283E-006 L -0.01527 0.29849 E">
                                      <p:cBhvr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98 0.02959 L 0.02743 0.14659 E">
                                      <p:cBhvr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7:46:57Z</dcterms:created>
  <dc:creator>Татьяна</dc:creator>
  <dc:description/>
  <dc:language>en-US</dc:language>
  <cp:lastModifiedBy>Татьяна</cp:lastModifiedBy>
  <dcterms:modified xsi:type="dcterms:W3CDTF">2013-02-28T20:01:43Z</dcterms:modified>
  <cp:revision>11</cp:revision>
  <dc:subject/>
  <dc:title>В какой последовательности нужно расположить предложения, чтобы получился текст?</dc:title>
</cp:coreProperties>
</file>