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06E-31BA-413E-8307-D8FBEE1E6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4394-6F96-4926-A78F-53792EA64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2B3-F874-4750-A5CA-757B7F76B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C8B-5A29-4A9F-95D8-2705569D7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CE72-D9B9-4DBF-A9A0-40E436634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ED6-0724-4083-82B2-1FDB7B8C8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248-7BBC-4396-9BC5-65FC5FDAE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43DB-EDE9-40E2-852F-7629A8D68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3EE-43F3-4AC5-B2CA-BEAC20D6D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61F-318C-4E22-A772-FCAE8163E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6E3A-BCD5-4240-86E7-B2BAEE234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42D-6EC9-495C-B669-EFE8F6173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820B-F1A4-4890-A3EB-00B06ACF8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CA7-EC7F-475A-A181-DAB3E01EC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D23-2019-437F-A7E1-3635A8669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0E33-7DDC-48A7-9416-FAB41E967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0B7-BFE0-4274-896B-281CF76CF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4EAA-3633-4319-8056-23C782B36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565-3FA1-4A06-A9BB-23CC2D9A2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B18-B8F6-46DD-B24B-3E1655C5A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BA1-06C9-4E5B-BF9C-967B865BB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0821-40F7-4988-95D2-4082DB86B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2917-34B7-4569-94BA-1180D2C1B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556-A641-4BBE-97A0-621A1004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50E-BFE8-4C92-B87E-201C8BB8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F60-5D18-48E1-8EE5-6546D837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086-2F34-4AF3-9872-A1DFE9C3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9A9E-109D-423C-A547-5E1142F2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BB9-23C5-48D8-A6EF-94B0A227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AAB-929D-44F2-93E4-E2C59A2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E2AA-A410-484C-8002-AD90C135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7E2-072B-4D93-BC9B-F4B187F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5D77-D0A8-4B20-A403-5B0CBC1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252-29CF-49AA-9D86-A2E53AA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C11-59A1-4957-AD9E-5285ECF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86AD-1D18-4721-BC32-51B1D45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3E99-5CE7-4D7F-8F03-AC7CFFD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93B1-7A2B-42AA-9A8B-139B69E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C5E1-8390-432B-A16E-A53AB4DB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A73-690D-4AB6-B02A-F55BCB0D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334AC-6867-4648-B273-9454B45C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D7826-8A44-4D69-8BD5-057D01C6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497B4-8E0B-4610-BC4B-2A8147A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95651-916C-4332-9A47-74E86B06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A414F-4377-44BF-935A-9619EC89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69A-9C45-439E-9362-EC71DBDD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B8806-2BEF-4D4E-9163-690C1EB8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704D7-6242-4F0A-ABD4-0C6E0AE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CD353-DE65-42C3-A98E-27B06D3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CDC1B-908A-41BD-98DE-BFC97EB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BF017-CC26-493F-8850-3A2DDDF5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B2D2C-5069-416F-B9B1-01F1D59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70614-95CF-417C-BF56-22BBD17D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BED43-00C7-482A-BCF1-79AC4772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9632-3237-4706-9278-6B26D7B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469C-B0BF-4140-A309-0B06BCDE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749-9C5D-4D93-B3DD-A197999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B4EC-1628-4205-91AD-486BF4E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57B6-9ABB-42DC-B9A0-F485676F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EA71-4A75-4589-8856-DC86C62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F97D-C516-411D-98B3-22383319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3CBD-B7DC-4967-B029-B52893E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DDFB-8D60-4CDD-91ED-8A0CD74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761B-7154-41CE-BEF7-73FC4B7D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B09B-15F1-41DF-8788-A5D10E39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F06E-30E3-4ABB-83C1-6794DB80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49A-CA7B-4F7A-8D82-0DB775D4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85B-DBCE-43BE-A41B-B7A7C20F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8E9-900E-4B9D-924B-A1B9858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7D4-6015-4335-9FD3-D573C29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80A-3DC8-4ECC-A35C-C8936DE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8D23-5814-4F65-B289-9D7F6E3E46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09AC-0610-40D5-85DC-D3AE0310E0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0F4-F052-4494-9F1D-FA7B9C96D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305-C78E-4B29-BF1E-32FF835EC9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encil"/>
              </a:rPr>
              <a:t>Учебный 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нонимия видов подчинительной связи</a:t>
            </a:r>
            <a:r>
              <a:rPr b="1" lang="en-US" sz="4400" spc="-1" strike="noStrike">
                <a:solidFill>
                  <a:srgbClr val="ffffff"/>
                </a:solidFill>
                <a:latin typeface="Stenci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 словосочет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дственны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язи родствен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росли кустар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старниковые заро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онтовые дру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узья с фр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4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ным язы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зыком об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5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спешно сд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дали с усп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тели 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тербургские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7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 изумлением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умленно уви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9"/>
          <p:cNvSpPr/>
          <p:nvPr/>
        </p:nvSpPr>
        <p:spPr>
          <a:xfrm>
            <a:off x="179280" y="476280"/>
            <a:ext cx="8713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туманной дым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дымке ту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о смех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новился смея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9"/>
          <p:cNvSpPr/>
          <p:nvPr/>
        </p:nvSpPr>
        <p:spPr>
          <a:xfrm>
            <a:off x="324000" y="476280"/>
            <a:ext cx="864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ступление на 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2700360" y="6165720"/>
            <a:ext cx="35812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1332000" y="260280"/>
            <a:ext cx="6288120" cy="7304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052640"/>
          <a:ext cx="8686800" cy="368280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54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11167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956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  <a:tr h="7887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Скругленный прямоугольник 14"/>
          <p:cNvGrpSpPr/>
          <p:nvPr/>
        </p:nvGrpSpPr>
        <p:grpSpPr>
          <a:xfrm>
            <a:off x="122400" y="4784760"/>
            <a:ext cx="8862840" cy="1334880"/>
            <a:chOff x="122400" y="4784760"/>
            <a:chExt cx="8862840" cy="1334880"/>
          </a:xfrm>
        </p:grpSpPr>
        <p:pic>
          <p:nvPicPr>
            <p:cNvPr id="252" name="Скругленный 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122400" y="4784760"/>
              <a:ext cx="88628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НЕ ЯВЛЯЮТСЯ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одчинительными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ЛОВОСОЧЕТАНИЯМИ</a:t>
              </a:r>
              <a:r>
                <a:rPr b="1" lang="en-US" sz="12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г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рамматическая основа (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0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ны из бре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ревенчатые ст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17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елание уй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елание у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324000" y="476280"/>
            <a:ext cx="8820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ай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емной кр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5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цифровая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971640" y="4365720"/>
            <a:ext cx="73436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циф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4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ещая объяс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ещая объясн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7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мык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кая 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чка вдал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2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лн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стемы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91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яющим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том с с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товность к б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евая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0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9"/>
          <p:cNvSpPr/>
          <p:nvPr/>
        </p:nvSpPr>
        <p:spPr>
          <a:xfrm>
            <a:off x="324000" y="476280"/>
            <a:ext cx="8456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мените словосочетани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 синонимичное со связью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глас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971640" y="2565360"/>
            <a:ext cx="73436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влиянием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1042920" y="4365720"/>
            <a:ext cx="72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 родительским влия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28T20:26:10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