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F5CC9-4B34-4469-9243-80E7CADFA4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A340D-42DC-40B0-9C9C-ABC671DCAF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5D4FE-673E-4A9A-B445-5DF4388929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92390-5C1A-401B-BDCB-7A66808871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6AD8B-97A0-49CC-AAD2-A6406AC275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AE0B1-805C-476B-8390-3A40483193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520BA-C8F4-4344-85E8-158BFC98D4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30886-460D-4888-A1A7-2C3D41E983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C6B10-2CC8-43C1-82A3-2E4CC883BF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0F085-8E60-469C-8AAD-1613E32A68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0544A-1C02-413F-A658-3D367734E5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D7870-63DD-4F34-99CA-7DCEC42881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D816A-87C9-44BD-B3E4-C314324B2E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E854A-0D0D-448F-BC18-CC6982B071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93C7B-B3BE-4AD7-A12A-5BDDA3FF29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4A867-177B-42BA-B58B-5BCE4E664B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73244-8EE1-4EAB-9A87-F621D9735E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D1B47-C1DE-498C-AE0B-B814AC886A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530FC-0012-436D-9DC8-8A81D66C25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99C2F-A341-499A-B7B2-84AEDF5AE5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B5657-D067-417D-B92C-53F34FFF2F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D2A01-57FF-467E-93C5-8C0DFB8887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88DDE-2F3D-4C77-A218-79CDA5274A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98C0-1600-4F5A-8EBC-5B052D402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F6AD-08B1-45EC-B457-9611D089A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A177-FF5E-46FE-B8F2-5EA44E146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65EE-9FDD-4404-BEFD-B7A943847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89137-5C8C-41C2-9B86-7E1911F90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0E991-D936-4280-82AF-6971A3664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1F7D8-0505-451B-B8C0-BCA0DD0D8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7714A-5342-42F1-BE7E-C64684041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4FF17-F2E4-492F-BE85-15A78B564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F8FE8-4B70-482D-9F89-64E5F0448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BE115-19A5-487F-88D2-838785A8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86C4-75AD-4274-A554-960360381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CAAE2-4BDC-42EC-ACCD-1EF9F1A6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CFE63-4ED7-4A6D-A175-F31BC38F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6B26A-AE03-4665-BE15-94E04874A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058B1-A613-454A-ABFA-ED0E2EBA3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DF352-44A1-48DB-8989-9B88C3CF1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DB0B04-D925-4005-825D-FEEE1D7DE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8FD2E0-1EB2-4497-B192-BA1A791BA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A9F4D7-3646-45A5-A8F1-5E54A3503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D24542-42DC-4799-B469-0F853F57C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D83EF6-66FE-4EA8-8AA7-FC74BF3A8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4051-B22A-4749-A59D-382BD5406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993193-C8B3-4886-BE84-63472165A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6E329C-99E9-4E36-864A-DE7BD81A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D3980C-90D3-4924-B7D7-1EA0F06B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30DB0E-AEE8-4218-A4D6-93BAA1A2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6B8517-CA43-4F47-9FEE-2AC44825F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F87EEA-3527-4F2E-94B2-E69B0613E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BE8FDE-1715-4FB5-92E4-C6DCE4BBD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A871D-AEB4-4C79-BADB-F1E14F989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89D60-7D44-4E52-8387-460FE4571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C22F3-39DA-4C4E-BC76-4AC44AD5F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ED7C-0A38-4E86-B2AE-6DC396D7B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0D0FF-60B4-47B9-9823-8C5181810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E3CC3-5670-4A67-BBB2-5E11A331D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29CCE-51D5-49D2-B7DB-E91821967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08CB0-CA42-4F63-9CFA-7FDD9CBF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220D6-FD81-4ABB-A2E5-916A7A75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33A79-AC15-446F-AA26-E9AB558F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86CC3-2995-4AD2-A49C-3548A53DD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402A3-C89F-4159-A081-B5D8EBB8F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5DCA2-3637-4E2A-8A39-380DA1214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D9AD-73D7-4E69-9D1D-6A76F4080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E4BF-2564-4A1E-A44A-68C58AC72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3FC7-CD3F-4F7F-A85C-2688F281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6F12-CD6D-452E-B874-8AB8A5C8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F994-6536-4898-A6F7-1CEDEBA5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5A410-6620-4544-9341-69873D6B495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22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2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3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6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1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14A8-34A9-4D13-85FA-A45F74E9121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B5897-F579-458A-8B0B-9B08B9C0F6A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92E5C-8C01-41EC-B0A1-227BFE5D662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4"/>
          <p:cNvSpPr/>
          <p:nvPr/>
        </p:nvSpPr>
        <p:spPr>
          <a:xfrm>
            <a:off x="380880" y="1219320"/>
            <a:ext cx="847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ГОТОВИМСЯ К ГИА ПО РУССКОМУ ЯЗЫ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380880" y="2590920"/>
            <a:ext cx="84790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tencil"/>
              </a:rPr>
              <a:t>Учебный тренажё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Синонимия видов подчинительной связи</a:t>
            </a:r>
            <a:r>
              <a:rPr b="1" lang="en-US" sz="4400" spc="-1" strike="noStrike">
                <a:solidFill>
                  <a:srgbClr val="ffffff"/>
                </a:solidFill>
                <a:latin typeface="Stenci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в словосочетан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7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237" name="Line 8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9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0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1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AutoShape 12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Group 4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318" name="Line 5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6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7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8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Rectangle 9"/>
          <p:cNvSpPr/>
          <p:nvPr/>
        </p:nvSpPr>
        <p:spPr>
          <a:xfrm>
            <a:off x="324000" y="476280"/>
            <a:ext cx="8456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.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Замените словосочетани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согласование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на синонимично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управл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10"/>
          <p:cNvSpPr/>
          <p:nvPr/>
        </p:nvSpPr>
        <p:spPr>
          <a:xfrm>
            <a:off x="971640" y="2565360"/>
            <a:ext cx="734364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одственные связ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17"/>
          <p:cNvSpPr/>
          <p:nvPr/>
        </p:nvSpPr>
        <p:spPr>
          <a:xfrm>
            <a:off x="1042920" y="4365720"/>
            <a:ext cx="727236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вязи родствен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3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77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" dur="770" fill="hold"/>
                                        <p:tgtEl>
                                          <p:spTgt spid="3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Group 4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327" name="Line 5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6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7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8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Rectangle 9"/>
          <p:cNvSpPr/>
          <p:nvPr/>
        </p:nvSpPr>
        <p:spPr>
          <a:xfrm>
            <a:off x="324000" y="476280"/>
            <a:ext cx="8456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9.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Замените словосочетани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управление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на синонимично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согласов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10"/>
          <p:cNvSpPr/>
          <p:nvPr/>
        </p:nvSpPr>
        <p:spPr>
          <a:xfrm>
            <a:off x="971640" y="2565360"/>
            <a:ext cx="734364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заросли кустар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17"/>
          <p:cNvSpPr/>
          <p:nvPr/>
        </p:nvSpPr>
        <p:spPr>
          <a:xfrm>
            <a:off x="1042920" y="4365720"/>
            <a:ext cx="727236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устарниковые зарос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3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77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" dur="770" fill="hold"/>
                                        <p:tgtEl>
                                          <p:spTgt spid="3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" dur="77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" dur="77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4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336" name="Line 5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6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7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8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Rectangle 9"/>
          <p:cNvSpPr/>
          <p:nvPr/>
        </p:nvSpPr>
        <p:spPr>
          <a:xfrm>
            <a:off x="179280" y="476280"/>
            <a:ext cx="87138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0.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Замените словосочетани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согласование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на синонимично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управл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10"/>
          <p:cNvSpPr/>
          <p:nvPr/>
        </p:nvSpPr>
        <p:spPr>
          <a:xfrm>
            <a:off x="971640" y="2565360"/>
            <a:ext cx="734364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фронтовые друз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17"/>
          <p:cNvSpPr/>
          <p:nvPr/>
        </p:nvSpPr>
        <p:spPr>
          <a:xfrm>
            <a:off x="1042920" y="4365720"/>
            <a:ext cx="727236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рузья с фрон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3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77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" dur="770" fill="hold"/>
                                        <p:tgtEl>
                                          <p:spTgt spid="3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7" dur="77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9" dur="77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4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345" name="Line 5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6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7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8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Rectangle 9"/>
          <p:cNvSpPr/>
          <p:nvPr/>
        </p:nvSpPr>
        <p:spPr>
          <a:xfrm>
            <a:off x="179280" y="476280"/>
            <a:ext cx="87138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1.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Замените словосочетани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согласование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на синонимично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управл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10"/>
          <p:cNvSpPr/>
          <p:nvPr/>
        </p:nvSpPr>
        <p:spPr>
          <a:xfrm>
            <a:off x="971640" y="2565360"/>
            <a:ext cx="734364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бразным язык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17"/>
          <p:cNvSpPr/>
          <p:nvPr/>
        </p:nvSpPr>
        <p:spPr>
          <a:xfrm>
            <a:off x="1042920" y="4365720"/>
            <a:ext cx="727236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языком обра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3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77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8" dur="770" fill="hold"/>
                                        <p:tgtEl>
                                          <p:spTgt spid="3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0" dur="77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2" dur="77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Group 4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354" name="Line 5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6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7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8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Rectangle 9"/>
          <p:cNvSpPr/>
          <p:nvPr/>
        </p:nvSpPr>
        <p:spPr>
          <a:xfrm>
            <a:off x="324000" y="476280"/>
            <a:ext cx="88200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2.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Замените словосочетани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примыкание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на синонимично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управл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10"/>
          <p:cNvSpPr/>
          <p:nvPr/>
        </p:nvSpPr>
        <p:spPr>
          <a:xfrm>
            <a:off x="971640" y="2565360"/>
            <a:ext cx="734364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успешно сда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17"/>
          <p:cNvSpPr/>
          <p:nvPr/>
        </p:nvSpPr>
        <p:spPr>
          <a:xfrm>
            <a:off x="1042920" y="4365720"/>
            <a:ext cx="727236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дали с успех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3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77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1" dur="770" fill="hold"/>
                                        <p:tgtEl>
                                          <p:spTgt spid="3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3" dur="77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5" dur="77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Group 4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363" name="Line 5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6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7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8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Rectangle 9"/>
          <p:cNvSpPr/>
          <p:nvPr/>
        </p:nvSpPr>
        <p:spPr>
          <a:xfrm>
            <a:off x="324000" y="476280"/>
            <a:ext cx="88200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3.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Замените словосочетани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управление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на синонимично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согласов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10"/>
          <p:cNvSpPr/>
          <p:nvPr/>
        </p:nvSpPr>
        <p:spPr>
          <a:xfrm>
            <a:off x="971640" y="2565360"/>
            <a:ext cx="734364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жители Петербур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17"/>
          <p:cNvSpPr/>
          <p:nvPr/>
        </p:nvSpPr>
        <p:spPr>
          <a:xfrm>
            <a:off x="1042920" y="4365720"/>
            <a:ext cx="727236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етербургские жит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3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77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4" dur="770" fill="hold"/>
                                        <p:tgtEl>
                                          <p:spTgt spid="3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6" dur="77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8" dur="77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Group 4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372" name="Line 5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6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7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8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Rectangle 9"/>
          <p:cNvSpPr/>
          <p:nvPr/>
        </p:nvSpPr>
        <p:spPr>
          <a:xfrm>
            <a:off x="324000" y="476280"/>
            <a:ext cx="88200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4.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Замените словосочетани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управление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на синонимично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примык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10"/>
          <p:cNvSpPr/>
          <p:nvPr/>
        </p:nvSpPr>
        <p:spPr>
          <a:xfrm>
            <a:off x="971640" y="2565360"/>
            <a:ext cx="734364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с изумлением увид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17"/>
          <p:cNvSpPr/>
          <p:nvPr/>
        </p:nvSpPr>
        <p:spPr>
          <a:xfrm>
            <a:off x="1042920" y="4365720"/>
            <a:ext cx="727236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зумленно увид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3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77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7" dur="770" fill="hold"/>
                                        <p:tgtEl>
                                          <p:spTgt spid="3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9" dur="77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1" dur="77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Group 4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381" name="Line 5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6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7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8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Rectangle 9"/>
          <p:cNvSpPr/>
          <p:nvPr/>
        </p:nvSpPr>
        <p:spPr>
          <a:xfrm>
            <a:off x="179280" y="476280"/>
            <a:ext cx="87138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5.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Замените словосочетани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согласование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на синонимично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управл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10"/>
          <p:cNvSpPr/>
          <p:nvPr/>
        </p:nvSpPr>
        <p:spPr>
          <a:xfrm>
            <a:off x="971640" y="2565360"/>
            <a:ext cx="734364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 туманной дым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17"/>
          <p:cNvSpPr/>
          <p:nvPr/>
        </p:nvSpPr>
        <p:spPr>
          <a:xfrm>
            <a:off x="1042920" y="4365720"/>
            <a:ext cx="727236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 дымке тум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3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77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" dur="770" fill="hold"/>
                                        <p:tgtEl>
                                          <p:spTgt spid="3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2" dur="77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4" dur="77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Group 4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390" name="Line 5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6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7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8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Rectangle 9"/>
          <p:cNvSpPr/>
          <p:nvPr/>
        </p:nvSpPr>
        <p:spPr>
          <a:xfrm>
            <a:off x="324000" y="476280"/>
            <a:ext cx="88200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6.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Замените словосочетани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управление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на синонимично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примык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10"/>
          <p:cNvSpPr/>
          <p:nvPr/>
        </p:nvSpPr>
        <p:spPr>
          <a:xfrm>
            <a:off x="971640" y="2565360"/>
            <a:ext cx="734364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становился со смех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17"/>
          <p:cNvSpPr/>
          <p:nvPr/>
        </p:nvSpPr>
        <p:spPr>
          <a:xfrm>
            <a:off x="1042920" y="4365720"/>
            <a:ext cx="727236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становился смеяс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3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77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3" dur="770" fill="hold"/>
                                        <p:tgtEl>
                                          <p:spTgt spid="3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5" dur="77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7" dur="77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399" name="Line 5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6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7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8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Rectangle 9"/>
          <p:cNvSpPr/>
          <p:nvPr/>
        </p:nvSpPr>
        <p:spPr>
          <a:xfrm>
            <a:off x="324000" y="476280"/>
            <a:ext cx="86407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7.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Замените словосочетани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согласование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на синонимично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управл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10"/>
          <p:cNvSpPr/>
          <p:nvPr/>
        </p:nvSpPr>
        <p:spPr>
          <a:xfrm>
            <a:off x="971640" y="2565360"/>
            <a:ext cx="734364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убличное выступ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17"/>
          <p:cNvSpPr/>
          <p:nvPr/>
        </p:nvSpPr>
        <p:spPr>
          <a:xfrm>
            <a:off x="1042920" y="4365720"/>
            <a:ext cx="727236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ыступление на публ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3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77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6" dur="770" fill="hold"/>
                                        <p:tgtEl>
                                          <p:spTgt spid="4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8" dur="77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0" dur="77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243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Rectangle 9"/>
          <p:cNvSpPr/>
          <p:nvPr/>
        </p:nvSpPr>
        <p:spPr>
          <a:xfrm>
            <a:off x="250920" y="152280"/>
            <a:ext cx="866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10">
            <a:hlinkClick r:id="rId1" action="ppaction://hlinksldjump"/>
          </p:cNvPr>
          <p:cNvSpPr/>
          <p:nvPr/>
        </p:nvSpPr>
        <p:spPr>
          <a:xfrm>
            <a:off x="2700360" y="6165720"/>
            <a:ext cx="3581280" cy="47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ерейти к тренажё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14"/>
          <p:cNvSpPr/>
          <p:nvPr/>
        </p:nvSpPr>
        <p:spPr>
          <a:xfrm>
            <a:off x="1332000" y="260280"/>
            <a:ext cx="6288120" cy="730440"/>
          </a:xfrm>
          <a:prstGeom prst="roundRect">
            <a:avLst>
              <a:gd name="adj" fmla="val 25759"/>
            </a:avLst>
          </a:prstGeom>
          <a:gradFill rotWithShape="0">
            <a:gsLst>
              <a:gs pos="0">
                <a:srgbClr val="003300"/>
              </a:gs>
              <a:gs pos="100000">
                <a:srgbClr val="96ab94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СПОСОБЫ СВЯЗИ СЛОВ В СЛОВОСОЧЕТ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250920" y="1052640"/>
          <a:ext cx="8686800" cy="3682800"/>
        </p:xfrm>
        <a:graphic>
          <a:graphicData uri="http://schemas.openxmlformats.org/drawingml/2006/table">
            <a:tbl>
              <a:tblPr/>
              <a:tblGrid>
                <a:gridCol w="304920"/>
                <a:gridCol w="3960720"/>
                <a:gridCol w="2870280"/>
                <a:gridCol w="1550880"/>
              </a:tblGrid>
              <a:tr h="455400">
                <a:tc gridSpan="4"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Словосочетание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— единица синтаксиса, синтаксическая конструкция, образующаяся на основе подчинительных связей:  согласования, управления, примыка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de">
                        <a:alpha val="54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400"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de">
                        <a:alpha val="54000"/>
                      </a:srgbClr>
                    </a:solidFill>
                  </a:tcPr>
                </a:tc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ид связ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de">
                        <a:alpha val="54000"/>
                      </a:srgbClr>
                    </a:solidFill>
                  </a:tcPr>
                </a:tc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Чем выражается  зависимое сло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de">
                        <a:alpha val="54000"/>
                      </a:srgbClr>
                    </a:solidFill>
                  </a:tcPr>
                </a:tc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риме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de">
                        <a:alpha val="54000"/>
                      </a:srgbClr>
                    </a:solidFill>
                  </a:tcPr>
                </a:tc>
              </a:tr>
              <a:tr h="1116720"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de">
                        <a:alpha val="54000"/>
                      </a:srgbClr>
                    </a:solidFill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Согласование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— это вид связи, при котором зависимое слово уподобляется главному по своей форме, то есть ставится в том же роде, числе и падеже, что и главное слово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При изменении главного слова изменяется и зависимо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de">
                        <a:alpha val="54000"/>
                      </a:srgbClr>
                    </a:solidFill>
                  </a:tcPr>
                </a:tc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рилагательное, причастие; порядковое числительное; местоимение, по форме сходное с ним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de">
                        <a:alpha val="54000"/>
                      </a:srgbClr>
                    </a:solidFill>
                  </a:tcPr>
                </a:tc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липовая аллея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эта аллея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опустевшая алле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de">
                        <a:alpha val="54000"/>
                      </a:srgbClr>
                    </a:solidFill>
                  </a:tcPr>
                </a:tc>
              </a:tr>
              <a:tr h="956520"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de">
                        <a:alpha val="54000"/>
                      </a:srgbClr>
                    </a:solidFill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Управление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— это способ связи, при котором зависимое слово ставится при главном слове в определённом падеж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При изменении главного слова зависимое не изменяетс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de">
                        <a:alpha val="54000"/>
                      </a:srgbClr>
                    </a:solidFill>
                  </a:tcPr>
                </a:tc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уществительное, местоимение, по форме сходное с ни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de">
                        <a:alpha val="54000"/>
                      </a:srgbClr>
                    </a:solidFill>
                  </a:tcPr>
                </a:tc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стретить друга (в.п.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стретив друга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стретивший друг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de">
                        <a:alpha val="54000"/>
                      </a:srgbClr>
                    </a:solidFill>
                  </a:tcPr>
                </a:tc>
              </a:tr>
              <a:tr h="788760"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de">
                        <a:alpha val="54000"/>
                      </a:srgbClr>
                    </a:solidFill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Примыкание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— это способ связи, при котором зависимое неизменяемое слово связывается с главным только по смысл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de">
                        <a:alpha val="54000"/>
                      </a:srgbClr>
                    </a:solidFill>
                  </a:tcPr>
                </a:tc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аречие; деепричастие; неопределенная  форма глагола, 3 притяжательных местоимения (его, её, их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de">
                        <a:alpha val="54000"/>
                      </a:srgbClr>
                    </a:solidFill>
                  </a:tcPr>
                </a:tc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лишком  хороший; уехал учиться; говорил улыбаяс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de">
                        <a:alpha val="54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251" name="Скругленный прямоугольник 14"/>
          <p:cNvGrpSpPr/>
          <p:nvPr/>
        </p:nvGrpSpPr>
        <p:grpSpPr>
          <a:xfrm>
            <a:off x="122400" y="4784760"/>
            <a:ext cx="8862840" cy="1334880"/>
            <a:chOff x="122400" y="4784760"/>
            <a:chExt cx="8862840" cy="1334880"/>
          </a:xfrm>
        </p:grpSpPr>
        <p:pic>
          <p:nvPicPr>
            <p:cNvPr id="252" name="Скругленный прямоугольник 14" descr=""/>
            <p:cNvPicPr/>
            <p:nvPr/>
          </p:nvPicPr>
          <p:blipFill>
            <a:blip r:embed="rId2"/>
            <a:stretch/>
          </p:blipFill>
          <p:spPr>
            <a:xfrm>
              <a:off x="122400" y="4784760"/>
              <a:ext cx="886284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284040" y="4932360"/>
              <a:ext cx="8575920" cy="10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Verdana"/>
                  <a:ea typeface="Times New Roman"/>
                </a:rPr>
                <a:t>НЕ ЯВЛЯЮТСЯ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подчинительными</a:t>
              </a: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</a:t>
              </a:r>
              <a:r>
                <a:rPr b="1" lang="en-US" sz="1100" spc="-1" strike="noStrike">
                  <a:solidFill>
                    <a:srgbClr val="ffffff"/>
                  </a:solidFill>
                  <a:latin typeface="Verdana"/>
                  <a:ea typeface="Times New Roman"/>
                </a:rPr>
                <a:t>СЛОВОСОЧЕТАНИЯМИ</a:t>
              </a:r>
              <a:r>
                <a:rPr b="1" lang="en-US" sz="1200" spc="-1" strike="noStrike">
                  <a:solidFill>
                    <a:srgbClr val="ffffff"/>
                  </a:solidFill>
                  <a:latin typeface="Verdana"/>
                  <a:ea typeface="Times New Roman"/>
                </a:rPr>
                <a:t>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г</a:t>
              </a: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Times New Roman"/>
                </a:rPr>
                <a:t>рамматическая основа (</a:t>
              </a:r>
              <a:r>
                <a:rPr b="1" lang="en-US" sz="1800" spc="-1" strike="noStrike" u="sng">
                  <a:solidFill>
                    <a:srgbClr val="ffffff"/>
                  </a:solidFill>
                  <a:uFillTx/>
                  <a:latin typeface="Verdana"/>
                  <a:ea typeface="Times New Roman"/>
                </a:rPr>
                <a:t>бежали</a:t>
              </a: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Times New Roman"/>
                </a:rPr>
                <a:t> </a:t>
              </a:r>
              <a:r>
                <a:rPr b="1" lang="en-US" sz="1800" spc="-1" strike="noStrike" u="sng">
                  <a:solidFill>
                    <a:srgbClr val="ffffff"/>
                  </a:solidFill>
                  <a:uFillTx/>
                  <a:latin typeface="Verdana"/>
                  <a:ea typeface="Times New Roman"/>
                </a:rPr>
                <a:t>дни</a:t>
              </a: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Times New Roman"/>
                </a:rPr>
                <a:t>)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Times New Roman"/>
                </a:rPr>
                <a:t>однородные члены (красные и синие)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Times New Roman"/>
                </a:rPr>
                <a:t>сочетание существительного с предлогом (около дома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Group 4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408" name="Line 5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6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7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8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" name="Rectangle 9"/>
          <p:cNvSpPr/>
          <p:nvPr/>
        </p:nvSpPr>
        <p:spPr>
          <a:xfrm>
            <a:off x="324000" y="476280"/>
            <a:ext cx="88200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8.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Замените словосочетани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управление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на синонимично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согласов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10"/>
          <p:cNvSpPr/>
          <p:nvPr/>
        </p:nvSpPr>
        <p:spPr>
          <a:xfrm>
            <a:off x="971640" y="2565360"/>
            <a:ext cx="734364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тены из бреве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17"/>
          <p:cNvSpPr/>
          <p:nvPr/>
        </p:nvSpPr>
        <p:spPr>
          <a:xfrm>
            <a:off x="1042920" y="4365720"/>
            <a:ext cx="727236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ревенчатые сте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3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77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9" dur="770" fill="hold"/>
                                        <p:tgtEl>
                                          <p:spTgt spid="4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1" dur="77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3" dur="77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4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417" name="Line 5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Line 6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7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8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Rectangle 9"/>
          <p:cNvSpPr/>
          <p:nvPr/>
        </p:nvSpPr>
        <p:spPr>
          <a:xfrm>
            <a:off x="324000" y="476280"/>
            <a:ext cx="88200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9.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Замените словосочетани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примыкание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на синонимично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управл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10"/>
          <p:cNvSpPr/>
          <p:nvPr/>
        </p:nvSpPr>
        <p:spPr>
          <a:xfrm>
            <a:off x="971640" y="2565360"/>
            <a:ext cx="734364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желание уй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17"/>
          <p:cNvSpPr/>
          <p:nvPr/>
        </p:nvSpPr>
        <p:spPr>
          <a:xfrm>
            <a:off x="1042920" y="4365720"/>
            <a:ext cx="727236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желание ух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3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77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2" dur="770" fill="hold"/>
                                        <p:tgtEl>
                                          <p:spTgt spid="4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4" dur="77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6" dur="77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Group 4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426" name="Line 5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6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7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8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Rectangle 9"/>
          <p:cNvSpPr/>
          <p:nvPr/>
        </p:nvSpPr>
        <p:spPr>
          <a:xfrm>
            <a:off x="324000" y="476280"/>
            <a:ext cx="88200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0.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Замените словосочетани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управление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на синонимично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согласов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10"/>
          <p:cNvSpPr/>
          <p:nvPr/>
        </p:nvSpPr>
        <p:spPr>
          <a:xfrm>
            <a:off x="971640" y="2565360"/>
            <a:ext cx="734364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рай зем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17"/>
          <p:cNvSpPr/>
          <p:nvPr/>
        </p:nvSpPr>
        <p:spPr>
          <a:xfrm>
            <a:off x="1042920" y="4365720"/>
            <a:ext cx="727236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емной кра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3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77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5" dur="770" fill="hold"/>
                                        <p:tgtEl>
                                          <p:spTgt spid="4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7" dur="77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9" dur="77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Group 4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255" name="Line 5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6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7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8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Rectangle 9"/>
          <p:cNvSpPr/>
          <p:nvPr/>
        </p:nvSpPr>
        <p:spPr>
          <a:xfrm>
            <a:off x="324000" y="476280"/>
            <a:ext cx="8456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Замените словосочетани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согласование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на синонимично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управление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10"/>
          <p:cNvSpPr/>
          <p:nvPr/>
        </p:nvSpPr>
        <p:spPr>
          <a:xfrm>
            <a:off x="971640" y="2565360"/>
            <a:ext cx="734364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цифровая последователь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7"/>
          <p:cNvSpPr/>
          <p:nvPr/>
        </p:nvSpPr>
        <p:spPr>
          <a:xfrm>
            <a:off x="971640" y="4365720"/>
            <a:ext cx="734364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следовательность циф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3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2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4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264" name="Line 5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6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7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8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Rectangle 9"/>
          <p:cNvSpPr/>
          <p:nvPr/>
        </p:nvSpPr>
        <p:spPr>
          <a:xfrm>
            <a:off x="324000" y="476280"/>
            <a:ext cx="8456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Замените словосочетани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управление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на синонимично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примык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10"/>
          <p:cNvSpPr/>
          <p:nvPr/>
        </p:nvSpPr>
        <p:spPr>
          <a:xfrm>
            <a:off x="971640" y="2565360"/>
            <a:ext cx="734364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обещая объясн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17"/>
          <p:cNvSpPr/>
          <p:nvPr/>
        </p:nvSpPr>
        <p:spPr>
          <a:xfrm>
            <a:off x="1042920" y="4365720"/>
            <a:ext cx="727236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бещая объясни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3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7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770" fill="hold"/>
                                        <p:tgtEl>
                                          <p:spTgt spid="2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" dur="77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Group 4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273" name="Line 5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6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7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8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Rectangle 9"/>
          <p:cNvSpPr/>
          <p:nvPr/>
        </p:nvSpPr>
        <p:spPr>
          <a:xfrm>
            <a:off x="324000" y="476280"/>
            <a:ext cx="8456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Замените словосочетани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согласование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на синонимично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примык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0"/>
          <p:cNvSpPr/>
          <p:nvPr/>
        </p:nvSpPr>
        <p:spPr>
          <a:xfrm>
            <a:off x="971640" y="2565360"/>
            <a:ext cx="734364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далекая точ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17"/>
          <p:cNvSpPr/>
          <p:nvPr/>
        </p:nvSpPr>
        <p:spPr>
          <a:xfrm>
            <a:off x="1042920" y="4365720"/>
            <a:ext cx="727236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очка вдале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3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77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770" fill="hold"/>
                                        <p:tgtEl>
                                          <p:spTgt spid="2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" dur="77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Group 4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282" name="Line 5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6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7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8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Rectangle 9"/>
          <p:cNvSpPr/>
          <p:nvPr/>
        </p:nvSpPr>
        <p:spPr>
          <a:xfrm>
            <a:off x="324000" y="476280"/>
            <a:ext cx="8456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Замените словосочетани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согласование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на синонимично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управл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10"/>
          <p:cNvSpPr/>
          <p:nvPr/>
        </p:nvSpPr>
        <p:spPr>
          <a:xfrm>
            <a:off x="971640" y="2565360"/>
            <a:ext cx="734364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олнечной систе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17"/>
          <p:cNvSpPr/>
          <p:nvPr/>
        </p:nvSpPr>
        <p:spPr>
          <a:xfrm>
            <a:off x="1042920" y="4365720"/>
            <a:ext cx="727236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истемы Солн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3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77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770" fill="hold"/>
                                        <p:tgtEl>
                                          <p:spTgt spid="2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" dur="77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" dur="77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4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291" name="Line 5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6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7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8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Rectangle 9"/>
          <p:cNvSpPr/>
          <p:nvPr/>
        </p:nvSpPr>
        <p:spPr>
          <a:xfrm>
            <a:off x="324000" y="476280"/>
            <a:ext cx="8456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Замените словосочетани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согласование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на синонимично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управл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10"/>
          <p:cNvSpPr/>
          <p:nvPr/>
        </p:nvSpPr>
        <p:spPr>
          <a:xfrm>
            <a:off x="971640" y="2565360"/>
            <a:ext cx="734364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ияющим свет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17"/>
          <p:cNvSpPr/>
          <p:nvPr/>
        </p:nvSpPr>
        <p:spPr>
          <a:xfrm>
            <a:off x="1042920" y="4365720"/>
            <a:ext cx="727236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ветом с сияни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3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2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Group 4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300" name="Line 5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6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7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8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Rectangle 9"/>
          <p:cNvSpPr/>
          <p:nvPr/>
        </p:nvSpPr>
        <p:spPr>
          <a:xfrm>
            <a:off x="324000" y="476280"/>
            <a:ext cx="8456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Замените словосочетани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управление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на синонимично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согласов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10"/>
          <p:cNvSpPr/>
          <p:nvPr/>
        </p:nvSpPr>
        <p:spPr>
          <a:xfrm>
            <a:off x="971640" y="2565360"/>
            <a:ext cx="734364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готовность к бо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17"/>
          <p:cNvSpPr/>
          <p:nvPr/>
        </p:nvSpPr>
        <p:spPr>
          <a:xfrm>
            <a:off x="1042920" y="4365720"/>
            <a:ext cx="727236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оевая готов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3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77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770" fill="hold"/>
                                        <p:tgtEl>
                                          <p:spTgt spid="3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" dur="77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" dur="77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4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309" name="Line 5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6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7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8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Rectangle 9"/>
          <p:cNvSpPr/>
          <p:nvPr/>
        </p:nvSpPr>
        <p:spPr>
          <a:xfrm>
            <a:off x="324000" y="476280"/>
            <a:ext cx="8456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7.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Замените словосочетани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управление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на синонимично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согласов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10"/>
          <p:cNvSpPr/>
          <p:nvPr/>
        </p:nvSpPr>
        <p:spPr>
          <a:xfrm>
            <a:off x="971640" y="2565360"/>
            <a:ext cx="734364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д влиянием родител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17"/>
          <p:cNvSpPr/>
          <p:nvPr/>
        </p:nvSpPr>
        <p:spPr>
          <a:xfrm>
            <a:off x="1042920" y="4365720"/>
            <a:ext cx="727236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д родительским влияни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3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77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770" fill="hold"/>
                                        <p:tgtEl>
                                          <p:spTgt spid="3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" dur="77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0" dur="77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9T16:55:35Z</dcterms:created>
  <dc:creator>Admin</dc:creator>
  <dc:description/>
  <dc:language>en-US</dc:language>
  <cp:lastModifiedBy>Татьяна</cp:lastModifiedBy>
  <dcterms:modified xsi:type="dcterms:W3CDTF">2013-02-28T20:26:10Z</dcterms:modified>
  <cp:revision>3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