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AF9B-5519-44AE-AD08-B95509D2E9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E116-4315-49E9-BD47-EE2DB0C636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8DDE-69BC-4E0C-8473-5D1768351D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EAAB-C1A7-49E0-9F2F-6F0BB73AA5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A1C4-F1C4-49F7-9D0C-4D104E1788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03AC-7530-4982-8602-3CB0706308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3F1B-D5B1-4C61-A886-15F144C9A4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C4A6-5026-429A-94B3-63E2B553A4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DCA1-D71D-460C-AAFC-C15E18521E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E673-E1B2-4508-8E25-594C778390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26BE-9EB9-41DC-8CF7-C444DEB5A9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3277-0D70-4FA8-A5C1-2597D39478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1620-EEDE-45BB-B496-7962B68A45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F913-9F9C-4214-A27A-07EA1F74C1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781D-589E-4FC9-A776-C2238188DF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7575-BB6D-4D0F-9317-31037AA2FB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B2F4-60BA-4BC2-9EF0-A9331A2EC2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3655-AC77-43A2-A9C4-78B9449888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40A5-D24D-4225-96CA-D5F171C875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841A-4B9C-41D6-B2F7-AC2F44AA9A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777F-CF4B-491A-BF5B-4F93C2ED31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5369-55FB-46FD-A618-5DE13D7A23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98C8-4A83-4334-9532-A4AD30A702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D659-EF23-4262-B9B6-A8A19AB7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C8E-A379-4C97-A83D-5D69E807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BCD-9F03-4E1B-A961-111D3230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9A1-1442-4033-9D58-C1888BBF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FA00-9F40-4079-97D4-16D9FFFB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A19F-626A-4E2B-A1FC-2FB9D25C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C9AB-C2C8-4918-8390-ED37AB90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3A57-7951-4142-9A5A-B86A463E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0C03-8209-45AE-84B4-7454AD2B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0302-645E-44D3-8E8C-050A090A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8ACE-343D-4934-AD66-9674355A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8B6-908D-4ED7-A5BF-37A90275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0EE6-1D3F-4BD1-9DB0-D2C7FCDF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FE34-450C-4D9B-A153-1C3E39C0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B2D0-F724-423F-8468-4903E94E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ABA0-DE97-4403-8961-9F629A85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CC17-1E69-44EF-9EA5-6B5F0BDF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71BF4A-1C34-4992-8FF4-BE130AA1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75F55-464A-44E1-B2A7-FC665E5C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016ED-CA46-4D4C-A90B-EA86E985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74709-18FC-43F5-8DB1-84920429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78FABF-7A0D-4948-B34F-19AA40CC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EB30-0A89-4E68-8B06-C1752AA5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A41A9-27B7-4215-A4E4-DFE3EAC0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35749-F9CC-495C-924C-899833D5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0D790C-95E8-45AD-8F47-8AA7024C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D917B-0A01-4CFF-A1F8-71731306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E488F-5379-44D9-ACFB-BA098953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5BDAF-0894-4C9D-B266-77C62A07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E8895-1771-42C4-9442-FE3B73E2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95A2F-B800-4708-A669-A6690A12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63BA3-3D32-4F07-96FA-950240C7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844A0-ACAC-483B-A818-EB72B99E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4FA2-9B21-42E2-83ED-57E82AA8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9D0D3-8A82-41E0-815B-FA6F34D8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2675A-ECAE-4403-A44C-7E984570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E1781-5CA9-4299-A483-968434B6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5A0FF-5EF1-43EB-8500-762263EC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AC7E7-5248-4056-A9F1-AF27CA4F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A1031-B4EF-4FCC-A4D6-8EFA425A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61B29-5C2F-47A3-B89B-D500D925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895D3-D48D-43FD-9AEF-F89802D3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5E0F6-BBCA-42D0-B595-511F247A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5CD1-9143-4F4E-99E1-A6278BBC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4123-547F-4746-BF4B-3AFF5C50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E84-29C0-440B-855F-5E972157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997-9BFA-4601-A989-02FBD35A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3AD-7A94-454D-9D45-39A985DC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53C7-9CCA-4EF5-B8F5-84BFB57AA1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2E6E-40CB-4DC3-A438-9FBFA1713F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077D-74EA-42ED-A711-F49E93482E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5BC2-959E-4B29-873E-3C28418EAE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380880" y="1219320"/>
            <a:ext cx="84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ОТОВИМСЯ К ГИА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80880" y="2590920"/>
            <a:ext cx="8479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tencil"/>
              </a:rPr>
              <a:t>Учебный тренаж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инонимия видов подчинительной связи</a:t>
            </a:r>
            <a:r>
              <a:rPr b="1" lang="en-US" sz="4400" spc="-1" strike="noStrike">
                <a:solidFill>
                  <a:srgbClr val="ffffff"/>
                </a:solidFill>
                <a:latin typeface="Stenci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 словосочет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37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18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одственные св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вязи родствен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3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27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росли кустар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устарниковые зарос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3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36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Rectangle 9"/>
          <p:cNvSpPr/>
          <p:nvPr/>
        </p:nvSpPr>
        <p:spPr>
          <a:xfrm>
            <a:off x="179280" y="476280"/>
            <a:ext cx="8713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ронтовые друз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рузья с фро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45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Rectangle 9"/>
          <p:cNvSpPr/>
          <p:nvPr/>
        </p:nvSpPr>
        <p:spPr>
          <a:xfrm>
            <a:off x="179280" y="476280"/>
            <a:ext cx="8713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ным язы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языком обр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54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9"/>
          <p:cNvSpPr/>
          <p:nvPr/>
        </p:nvSpPr>
        <p:spPr>
          <a:xfrm>
            <a:off x="324000" y="476280"/>
            <a:ext cx="8820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имык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спешно сд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дали с успех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3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63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Rectangle 9"/>
          <p:cNvSpPr/>
          <p:nvPr/>
        </p:nvSpPr>
        <p:spPr>
          <a:xfrm>
            <a:off x="324000" y="476280"/>
            <a:ext cx="8820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жители Петербур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тербургские 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7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/>
                                        <p:tgtEl>
                                          <p:spTgt spid="3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72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9"/>
          <p:cNvSpPr/>
          <p:nvPr/>
        </p:nvSpPr>
        <p:spPr>
          <a:xfrm>
            <a:off x="324000" y="476280"/>
            <a:ext cx="8820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имык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 изумлением уви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умленно уви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3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81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Rectangle 9"/>
          <p:cNvSpPr/>
          <p:nvPr/>
        </p:nvSpPr>
        <p:spPr>
          <a:xfrm>
            <a:off x="179280" y="476280"/>
            <a:ext cx="8713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5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туманной дым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дымке ту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3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90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9"/>
          <p:cNvSpPr/>
          <p:nvPr/>
        </p:nvSpPr>
        <p:spPr>
          <a:xfrm>
            <a:off x="324000" y="476280"/>
            <a:ext cx="8820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6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имык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тановился со смех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тановился смея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99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Rectangle 9"/>
          <p:cNvSpPr/>
          <p:nvPr/>
        </p:nvSpPr>
        <p:spPr>
          <a:xfrm>
            <a:off x="324000" y="476280"/>
            <a:ext cx="8640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7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убличное высту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ыступление на публ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77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70" fill="hold"/>
                                        <p:tgtEl>
                                          <p:spTgt spid="4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43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9"/>
          <p:cNvSpPr/>
          <p:nvPr/>
        </p:nvSpPr>
        <p:spPr>
          <a:xfrm>
            <a:off x="250920" y="152280"/>
            <a:ext cx="866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>
            <a:hlinkClick r:id="rId1" action="ppaction://hlinksldjump"/>
          </p:cNvPr>
          <p:cNvSpPr/>
          <p:nvPr/>
        </p:nvSpPr>
        <p:spPr>
          <a:xfrm>
            <a:off x="2700360" y="6165720"/>
            <a:ext cx="358128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4"/>
          <p:cNvSpPr/>
          <p:nvPr/>
        </p:nvSpPr>
        <p:spPr>
          <a:xfrm>
            <a:off x="1332000" y="260280"/>
            <a:ext cx="6288120" cy="730440"/>
          </a:xfrm>
          <a:prstGeom prst="roundRect">
            <a:avLst>
              <a:gd name="adj" fmla="val 25759"/>
            </a:avLst>
          </a:prstGeom>
          <a:gradFill rotWithShape="0">
            <a:gsLst>
              <a:gs pos="0">
                <a:srgbClr val="003300"/>
              </a:gs>
              <a:gs pos="100000">
                <a:srgbClr val="96ab94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СПОСОБЫ СВЯЗИ СЛОВ В СЛОВОСОЧЕТ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50920" y="1052640"/>
          <a:ext cx="8686800" cy="3682800"/>
        </p:xfrm>
        <a:graphic>
          <a:graphicData uri="http://schemas.openxmlformats.org/drawingml/2006/table">
            <a:tbl>
              <a:tblPr/>
              <a:tblGrid>
                <a:gridCol w="304920"/>
                <a:gridCol w="3960720"/>
                <a:gridCol w="2870280"/>
                <a:gridCol w="1550880"/>
              </a:tblGrid>
              <a:tr h="455400">
                <a:tc gridSpan="4"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Словосочетание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— единица синтаксиса, синтаксическая конструкция, образующаяся на основе подчинительных связей:  согласования, управления, примык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ид свя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Чем выражается  зависимое сло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им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</a:tr>
              <a:tr h="111672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Согласование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— это вид связи, при котором зависимое слово уподобляется главному по своей форме, то есть ставится в том же роде, числе и падеже, что и главное слов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При изменении главного слова изменяется и зависимо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илагательное, причастие; порядковое числительное; местоимение, по форме сходное с ни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липовая алле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эта алле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пустевшая алле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</a:tr>
              <a:tr h="95652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Управление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— это способ связи, при котором зависимое слово ставится при главном слове в определённом падеж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При изменении главного слова зависимое не изменяет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уществительное, местоимение, по форме сходное с н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стретить друга (в.п.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стретив друг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стретивший дру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</a:tr>
              <a:tr h="78876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Примыкание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— это способ связи, при котором зависимое неизменяемое слово связывается с главным только по смысл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речие; деепричастие; неопределенная  форма глагола, 3 притяжательных местоимения (его, её, их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лишком  хороший; уехал учиться; говорил улыбаяс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1" name="Скругленный прямоугольник 14"/>
          <p:cNvGrpSpPr/>
          <p:nvPr/>
        </p:nvGrpSpPr>
        <p:grpSpPr>
          <a:xfrm>
            <a:off x="122400" y="4784760"/>
            <a:ext cx="8862840" cy="1334880"/>
            <a:chOff x="122400" y="4784760"/>
            <a:chExt cx="8862840" cy="1334880"/>
          </a:xfrm>
        </p:grpSpPr>
        <p:pic>
          <p:nvPicPr>
            <p:cNvPr id="252" name="Скругленный прямоугольник 14" descr=""/>
            <p:cNvPicPr/>
            <p:nvPr/>
          </p:nvPicPr>
          <p:blipFill>
            <a:blip r:embed="rId2"/>
            <a:stretch/>
          </p:blipFill>
          <p:spPr>
            <a:xfrm>
              <a:off x="122400" y="4784760"/>
              <a:ext cx="886284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84040" y="4932360"/>
              <a:ext cx="85759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НЕ ЯВЛЯЮТСЯ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подчинительными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1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СЛОВОСОЧЕТАНИЯМИ</a:t>
              </a:r>
              <a:r>
                <a:rPr b="1" lang="en-US" sz="12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г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рамматическая основа (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Verdana"/>
                  <a:ea typeface="Times New Roman"/>
                </a:rPr>
                <a:t>бежали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 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Verdana"/>
                  <a:ea typeface="Times New Roman"/>
                </a:rPr>
                <a:t>дни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)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однородные члены (красные и синие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сочетание существительного с предлогом (около дом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408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Rectangle 9"/>
          <p:cNvSpPr/>
          <p:nvPr/>
        </p:nvSpPr>
        <p:spPr>
          <a:xfrm>
            <a:off x="324000" y="476280"/>
            <a:ext cx="8820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8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ены из брев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ревенчатые ст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7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70" fill="hold"/>
                                        <p:tgtEl>
                                          <p:spTgt spid="4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417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Rectangle 9"/>
          <p:cNvSpPr/>
          <p:nvPr/>
        </p:nvSpPr>
        <p:spPr>
          <a:xfrm>
            <a:off x="324000" y="476280"/>
            <a:ext cx="8820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имык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елание уй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желание ух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77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770" fill="hold"/>
                                        <p:tgtEl>
                                          <p:spTgt spid="4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426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Rectangle 9"/>
          <p:cNvSpPr/>
          <p:nvPr/>
        </p:nvSpPr>
        <p:spPr>
          <a:xfrm>
            <a:off x="324000" y="476280"/>
            <a:ext cx="8820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рай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емной кр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77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770" fill="hold"/>
                                        <p:tgtEl>
                                          <p:spTgt spid="4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55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цифровая последова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971640" y="4365720"/>
            <a:ext cx="734364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следовательность циф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64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имык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бещая объяс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ещая объясн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73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имык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кая т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очка вдале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2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82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лнечн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истемы Солн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2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91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ияющим све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ветом с сия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2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00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товность к бо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евая гото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3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09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 влиянием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 родительским влия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3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6:55:35Z</dcterms:created>
  <dc:creator>Admin</dc:creator>
  <dc:description/>
  <dc:language>en-US</dc:language>
  <cp:lastModifiedBy>Татьяна</cp:lastModifiedBy>
  <dcterms:modified xsi:type="dcterms:W3CDTF">2013-02-28T20:26:10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