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voltag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FBC-5B3B-4790-8CCB-07B78157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DC3-0344-41C1-A55D-78352B1B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77F9-F5F5-40DF-BF37-CFCB1B9E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DE1-9369-49F0-8DFC-EA1753C2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0E82-5C07-4E53-A409-D3183C1A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BA7C-B624-4C8E-883F-2BA1EFDB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751F-E6FB-4A89-8692-044F909D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B10E-9D38-4257-9650-1BFE9017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D949-245D-4F6E-ADA5-F5425948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455E-F0A7-4A29-BC0D-BCE34469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D3F0-0956-4DD0-9DD9-AA836D34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C03-9183-421F-AE68-B9BE4855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0F99-99D7-4CBE-B66B-E620283E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A772-532D-4929-BC85-73EA458A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EFAF-5161-4069-AA81-64F5AF59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1022-2660-408D-A8DA-BAD78FA7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42C6-2DEF-44DE-BA00-FFD0982F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E2B-80C3-40E5-BAC4-A060AA6B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AB9-FB04-4A59-8F9F-C72118DE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3EA-582C-4588-9308-E9942933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3279-E058-450D-B736-B36BDF33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8B4B-6234-435E-A3EC-B6BDA3DF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9F2-3841-441B-B254-A47C0010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66D-EEB2-42A7-9DB4-3E715B09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3431-0911-4613-A6D5-1F5B2055EE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A62E-7FC4-4CF8-AF5A-9937204D7D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Unicode MS"/>
              </a:rPr>
              <a:t>Тренинг по средствам выразительности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920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нстру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ерейди на слайд с зада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еши е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Щелчком запусти правильный ответ (слово будет подчеркнуто) и проверь себ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9. Какой троп используется в тексте: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07640" y="3212640"/>
            <a:ext cx="568836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оним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1484280"/>
            <a:ext cx="756144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«Гирей сидел, потупя взор, янтарь в устах его дымился…»     (А. Пушкин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10. Какой троп используется в тексте: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35280" y="2852280"/>
            <a:ext cx="568800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лицетв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484280"/>
            <a:ext cx="756144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Злые волны, как воры, лезут в окна»     (А. Пушкин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1. Какой троп используется в тексте: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7640" y="3059280"/>
            <a:ext cx="5688360" cy="37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лицетв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инекдох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1484280"/>
            <a:ext cx="756144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…От весел к берегу кудрявый след бежал» (А. Фет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89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2. Какой троп используется в тексте: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414972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484280"/>
            <a:ext cx="87138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«Мой Лизочек так уж мал, так уж мал, что из листика сирени сделал зонтик он для тени и гулял»               (А. Плещеев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3645000"/>
            <a:ext cx="3240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. лит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. эпит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820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3. Какой троп используется в тексте: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484280"/>
            <a:ext cx="8785440" cy="33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«Но вот, насытясь разрушеньем и наглым буйством утомясь, Нева обратно повлеклась, своим любуясь возмущеньем и покидая с небреженьем свою добычу»            (А.С. Пушкин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4884480"/>
            <a:ext cx="4538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51280" y="4886280"/>
            <a:ext cx="511344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. олицетв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. с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4. Какой троп используется в тексте: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7640" y="3212640"/>
            <a:ext cx="568836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лицетв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484280"/>
            <a:ext cx="756144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Природой здесь нам суждено в Европу прорубить окно»     (А. Пушкин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5. Какой троп используется в тексте: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7640" y="3212640"/>
            <a:ext cx="568836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гипербо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оним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484280"/>
            <a:ext cx="756144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Я видывал, как она косит: что взмах – то готова копна»     (Н. Некрасов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6. Какой троп используется в тексте: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7640" y="3212640"/>
            <a:ext cx="568836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оним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484280"/>
            <a:ext cx="756144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Только слышно, на улице где-то одинокая бродит гармонь»     (М. Исаковский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7. Какой троп используется в тексте: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7640" y="3213000"/>
            <a:ext cx="5688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лицетв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484280"/>
            <a:ext cx="756144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Словно горы, из возмущенной глубины вставали волны…»     (А. Пушкин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8. Какой троп используется в тексте: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125360"/>
            <a:ext cx="8353440" cy="283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Пусть заполнится годами жизни квота, стоит только вспомнить это диво, раздирает рот зевота шире Мексиканского залива»                              (В. Маяковский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4292280"/>
            <a:ext cx="4032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1840" y="4365720"/>
            <a:ext cx="450216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. гиперб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. оксюмо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5:24:32Z</dcterms:created>
  <dc:creator>Татьяна</dc:creator>
  <dc:description/>
  <dc:language>en-US</dc:language>
  <cp:lastModifiedBy>Татьяна</cp:lastModifiedBy>
  <dcterms:modified xsi:type="dcterms:W3CDTF">2013-01-17T20:14:22Z</dcterms:modified>
  <cp:revision>8</cp:revision>
  <dc:subject/>
  <dc:title>Слайд 1</dc:title>
</cp:coreProperties>
</file>