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voltag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5AD-2851-4095-BEFB-350A628F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944-1C9A-4CE7-B927-19F52F15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DFA-A540-43A9-B05D-A6B9B910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9A11-917A-4C30-A287-1C575F33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8E92-E1A6-4CCF-904D-29F04410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464E-ABF8-496B-8FE3-EAB3F50E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2BE6-57EA-44F9-AFC3-F0AB9D6E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A199-954D-410F-86FB-11E84106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7902-4745-47B9-8752-D9F2F28C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8B6F-0430-4683-B0FD-E0D7354F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6630-FE0F-497B-BEC7-372BB9D8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8FF-8359-4CD9-BB20-4AC9FFF2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8F55-73A3-439C-B925-C5C42DEB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8C64-32F2-486D-8523-2BE8F435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5A77-3FEB-458C-96EE-059FAD9D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F3FD-4EE8-48DB-9000-7C429CC8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E19B-CC70-4465-8A2C-C7B12900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871-303B-4354-8460-7FBE3142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6C3-3727-4BAB-9306-1CE0A143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412-0E47-41B9-8865-7812FBF0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4B4-A51E-4AAD-B08A-F377FA06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BB7-694B-40D0-9B91-A03FE6E0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138-3F1F-4F3B-A8EE-1E56D953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757A-C00A-4C22-9675-B7750057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2581-185E-4777-8033-D4D957B5E5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6DB4-CAFF-4FA2-B5F6-7061B263FE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Unicode MS"/>
              </a:rPr>
              <a:t>Тренинг по средствам выразительности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920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нстру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ерейди на слайд с зада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еши е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Щелчком запусти правильный ответ (слово будет подчеркнуто) и проверь себ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9. Какой троп используется в тексте: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07640" y="3212640"/>
            <a:ext cx="568836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оним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1484280"/>
            <a:ext cx="756144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«Гирей сидел, потупя взор, янтарь в устах его дымился…»     (А. Пушкин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10. Какой троп используется в тексте: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35280" y="2852280"/>
            <a:ext cx="568800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лицетв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484280"/>
            <a:ext cx="756144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Злые волны, как воры, лезут в окна»     (А. Пушкин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1. Какой троп используется в тексте: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7640" y="3059280"/>
            <a:ext cx="5688360" cy="37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лицетв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инекдох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1484280"/>
            <a:ext cx="756144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…От весел к берегу кудрявый след бежал» (А. Фет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89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2. Какой троп используется в тексте: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414972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484280"/>
            <a:ext cx="87138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«Мой Лизочек так уж мал, так уж мал, что из листика сирени сделал зонтик он для тени и гулял»               (А. Плещеев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3645000"/>
            <a:ext cx="3240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. лит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. эпит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820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3. Какой троп используется в тексте: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484280"/>
            <a:ext cx="8785440" cy="33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«Но вот, насытясь разрушеньем и наглым буйством утомясь, Нева обратно повлеклась, своим любуясь возмущеньем и покидая с небреженьем свою добычу»            (А.С. Пушкин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4884480"/>
            <a:ext cx="4538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51280" y="4886280"/>
            <a:ext cx="511344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. олицетв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. с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4. Какой троп используется в тексте:</a:t>
            </a: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7640" y="3212640"/>
            <a:ext cx="568836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лицетв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484280"/>
            <a:ext cx="756144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Природой здесь нам суждено в Европу прорубить окно»     (А. Пушкин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5. Какой троп используется в тексте: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7640" y="3212640"/>
            <a:ext cx="568836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гипербо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оним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484280"/>
            <a:ext cx="756144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Я видывал, как она косит: что взмах – то готова копна»     (Н. Некрасов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6. Какой троп используется в тексте: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7640" y="3212640"/>
            <a:ext cx="568836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оним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484280"/>
            <a:ext cx="756144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Только слышно, на улице где-то одинокая бродит гармонь»     (М. Исаковский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7. Какой троп используется в тексте: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7640" y="3213000"/>
            <a:ext cx="5688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лицетв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484280"/>
            <a:ext cx="756144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Словно горы, из возмущенной глубины вставали волны…»     (А. Пушкин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a"/>
            </a:gs>
            <a:gs pos="50000">
              <a:srgbClr val="333399"/>
            </a:gs>
            <a:gs pos="100000">
              <a:srgbClr val="18184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8. Какой троп используется в тексте:</a:t>
            </a:r>
            <a:r>
              <a:rPr b="1" lang="en-US" sz="4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125360"/>
            <a:ext cx="8353440" cy="283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Пусть заполнится годами жизни квота, стоит только вспомнить это диво, раздирает рот зевота шире Мексиканского залива»                              (В. Маяковский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4292280"/>
            <a:ext cx="4032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эпит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етаф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1840" y="4365720"/>
            <a:ext cx="450216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. гиперб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. оксюмо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5:24:32Z</dcterms:created>
  <dc:creator>Татьяна</dc:creator>
  <dc:description/>
  <dc:language>en-US</dc:language>
  <cp:lastModifiedBy>Татьяна</cp:lastModifiedBy>
  <dcterms:modified xsi:type="dcterms:W3CDTF">2013-01-17T20:14:22Z</dcterms:modified>
  <cp:revision>8</cp:revision>
  <dc:subject/>
  <dc:title>Слайд 1</dc:title>
</cp:coreProperties>
</file>