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416-3206-4F81-B7DC-6334F469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61E-1511-43DB-A3D7-CF5BA638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CE7-3263-4ED0-8E47-E49E6F2B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087-21C7-4247-8FB4-10851EC5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5F8-CE41-4440-B162-07B50532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DD29-1550-4281-ABDF-455198F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F59A-A79C-456B-9970-214E8695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453F-90BD-4BA9-A6AB-9AD53B51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2E37-BA63-4B82-8389-03E85923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354C-1C88-4D44-B6CC-47A84C8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0CB3-9897-4B52-9A7A-7E3A875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518-450A-470A-9D18-42DF810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3B11-E14A-430A-ADA7-ADA2026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3C32-ED28-4A9A-B506-02165A42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2319-91AE-462A-AFE2-FDE122EF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8FC8-632D-42F6-BB1D-9CD14A90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06FA-77B9-4A57-968A-C3541324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892-BD69-4514-B7B8-032E97F7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7CD-4567-4DB3-96F2-004C631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C61-9EDF-4681-8509-3D5FC3F9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41D-E5FF-4DF3-AA91-9C6E9E1F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8EF-0428-4C59-914C-1A9BE40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66F-305A-4A1D-A07E-CE16488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D0A-502B-4085-BAAF-519F54C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2AB0-2F01-4D33-96D0-F28456C22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50F3-65C5-4723-B871-AA79D24C2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Unicode MS"/>
              </a:rPr>
              <a:t>Тренинг по средствам выразительности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ейди на слайд с зад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ши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9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Гирей сидел, потупя взор, янтарь в устах его дымился…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10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5280" y="2852280"/>
            <a:ext cx="5688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484280"/>
            <a:ext cx="75614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Злые волны, как воры, лезут в окна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1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7640" y="3059280"/>
            <a:ext cx="568836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инекдо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484280"/>
            <a:ext cx="75614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…От весел к берегу кудрявый след бежал» (А. Фет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2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484280"/>
            <a:ext cx="8713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Мой Лизочек так уж мал, так уж мал, что из листика сирени сделал зонтик он для тени и гулял»               (А. Плещеев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3645000"/>
            <a:ext cx="324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лит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3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484280"/>
            <a:ext cx="878544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Но вот, насытясь разрушеньем и наглым буйством утомясь, Нева обратно повлеклась, своим любуясь возмущеньем и покидая с небреженьем свою добычу»            (А.С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4884480"/>
            <a:ext cx="4538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4886280"/>
            <a:ext cx="51134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олице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4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Природой здесь нам суждено в Европу прорубить окно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5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гиперб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Я видывал, как она косит: что взмах – то готова копна»     (Н. Некрасов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6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Только слышно, на улице где-то одинокая бродит гармонь»     (М. Исаковский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7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7640" y="3213000"/>
            <a:ext cx="568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Словно горы, из возмущенной глубины вставали волны…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8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353440" cy="283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Пусть заполнится годами жизни квота, стоит только вспомнить это диво, раздирает рот зевота шире Мексиканского залива»                              (В. Маяковский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4292280"/>
            <a:ext cx="4032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1840" y="4365720"/>
            <a:ext cx="450216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гипер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оксюм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5:24:32Z</dcterms:created>
  <dc:creator>Татьяна</dc:creator>
  <dc:description/>
  <dc:language>en-US</dc:language>
  <cp:lastModifiedBy>Татьяна</cp:lastModifiedBy>
  <dcterms:modified xsi:type="dcterms:W3CDTF">2013-01-17T20:14:22Z</dcterms:modified>
  <cp:revision>8</cp:revision>
  <dc:subject/>
  <dc:title>Слайд 1</dc:title>
</cp:coreProperties>
</file>