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4D7A-1A56-4779-9C09-56905B5E84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3876-14D8-4D65-8618-2FB45ED3D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CFC0-BD9F-415A-A6FA-C0FD1A51F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C779-DB9B-4282-B4D2-9471573E3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B679-47F4-469A-8005-6F3B525E20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CACA-763F-40F7-932B-8E7CC0D9C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1076-C612-4192-9712-C273BA38F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A0BE-600F-4BA8-BBF1-DAC01F959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551F-4449-4C2C-982B-E4A72912D6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932C-F137-40E5-9598-DFBD56BD1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4579-EB9F-4181-9126-B0A3013BC3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3D06-B796-4596-9D7E-18CCC4FB3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C6A6-02A8-4BAE-8197-2AAF8C4D4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6F0E-6133-489C-B68D-4D06F99E3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9F9D-F6EF-4AAB-B7D3-D691A0E2B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A521-D110-4F26-BC8F-719E81AEA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A8D1-5D3D-4707-864C-6CB25E24F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8710-52DE-4246-A533-90A17A370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832B-E8A2-44A8-B580-F9C37FC422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A31C-8A4A-45C1-84A4-7AC46AB8AB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6910-33A4-4055-A1C0-00D2B11F3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BF23-139B-4ECB-8D88-BD5F889DB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7D77-1684-4FB0-B204-BFCF4BBD3A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201B-F5A0-48BD-9347-C925E2C4DC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3E29-512B-4C0B-AEF2-4CD9F1309A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5E65-AD59-4D53-9514-F4A77D5C8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F1C0-EB81-4A28-A1A1-2DE53C87E2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A1A9-A5E5-42F8-9515-C1487ECA3E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B46-06E2-441C-80C9-1D888CFA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55F-D8A2-464B-ABC2-AC36C3AE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DEA-C6A6-4AEB-8461-9F096926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B75-DD44-491A-B7B7-177B7E01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2EE7-607F-416F-BFF5-B4619869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CAC1-B25C-4654-8466-F57A6579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3C6B-127C-4C2D-A02A-10A3271D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1E07-B7AC-41BB-993B-15694A0B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EB19-F214-416B-AC2B-D0E31799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A4E1-008C-47A6-9A31-FA157FD6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558B-80B5-4F74-91E9-EE2DA7BB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C78-A63D-4451-9BC0-AE2CB341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8F2C-823A-464D-A4E6-C82C52A6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D3CD-4B12-4A2F-86B5-7C0685D1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1025-A991-4B1B-BFB3-5D9581BB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76C3-79BA-4D51-946E-2A3B799C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CA2D-A7A1-4664-BFFB-CCBB2298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E2FF1-6FDC-40AE-A65A-66A8E7E1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A1272-4331-4AF7-83E4-75B1F76A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F4301-7BAC-446E-8A3F-1959B3B6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855FD-7EF0-4C26-A409-83A1F8F3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FAD45-873D-424F-8D62-32DA8B4D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B36-253F-4E48-88C6-DC160B77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67DDA-AE87-4FAD-A70D-AB3822AE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21DA3-ECA9-40E4-AD47-DB08D42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4E8E4-96B7-4D09-9D37-01F3FD68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021F2-BD11-4D48-9AEF-0836F341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F873B-7E62-4560-B847-90E4139A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07CC8-5954-418A-9923-F9D2DD2B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C6418-B985-4873-86AC-0731733D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73BD5-744D-4876-9174-8E500C07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179B5-15B4-42FC-A93A-082C5071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E44A-7F07-4374-9BE2-4736CB85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60A-F879-4A41-A16F-82CB9108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DABF0-ED76-4240-B9F1-0E18B6B8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D6D5E-E8F8-4CF5-9A9C-D576241B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2A6C4-6040-46EF-86C3-AEB137D4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BC1E7-C244-44EA-BC49-D308C477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57994-3EFE-4A27-B46F-0D7C4529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0457-A4A4-4326-91C2-109E067F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F1C6C-F3E8-498E-A444-F1AAF3EC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1A129-1F0B-403A-8070-E2D2CB9B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4003-3743-49A7-B21A-3EE69891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94E-B297-48B7-B1AD-8835FA5C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9BC-3915-4243-AD91-07C1AF38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568-3D8C-4866-A543-087BC155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F8F-8F01-4397-9EB0-D2546C9C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3A9-8C08-4217-8CF6-B04B8C40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AEB7-9E0D-4703-8A89-876086F110F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118E-9B49-43C1-A204-8A5B81EE05E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3236-DA88-4F5F-BECB-514BF198660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BBF4-BD12-4064-8B75-BECA1E60DC8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380880" y="1219320"/>
            <a:ext cx="84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ГОТОВИМСЯ К ЕГЭ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80880" y="2590920"/>
            <a:ext cx="847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по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Stencil"/>
              </a:rPr>
              <a:t>ВИДЫ СВЯЗИ В СЛОВОСОЧЕТ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37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7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7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7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 – 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ла на пустыр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ла на земл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отаническом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9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8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гда не видела, непохожий на других, мне грус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овет меня, видел впервые, поцеловала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лонилась к нему, поцеловала его, обошли пустыр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доходя до пустыря, хорошо пахнет, любовались 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1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9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яющим светом, на другое лето, всю зи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инувшую осень, немного хуже, вдруг остановила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янется к ней, безмолвным голосом, еще прекрас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овет ее, своего благоухания, между тесными камня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0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ходящие из детства, поднимаются впервые, волнительный вопр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ьте себе, эти вопросы, не согласны с те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той жизнью, внушены вам, этого разногла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ть по-Божьи,  очень полезной, весьма информатив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4"/>
          <p:cNvSpPr/>
          <p:nvPr/>
        </p:nvSpPr>
        <p:spPr>
          <a:xfrm>
            <a:off x="304920" y="533520"/>
            <a:ext cx="84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">
            <a:hlinkClick r:id="rId1" action="ppaction://hlinksldjump"/>
          </p:cNvPr>
          <p:cNvSpPr/>
          <p:nvPr/>
        </p:nvSpPr>
        <p:spPr>
          <a:xfrm>
            <a:off x="1219320" y="2133720"/>
            <a:ext cx="6933960" cy="936360"/>
          </a:xfrm>
          <a:prstGeom prst="roundRect">
            <a:avLst>
              <a:gd name="adj" fmla="val 28324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6064"/>
                </a:solidFill>
                <a:latin typeface="Times New Roman"/>
              </a:rPr>
              <a:t>ЗНАНИЯ ОТЛИЧНЫ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6064"/>
                </a:solidFill>
                <a:latin typeface="Times New Roman"/>
              </a:rPr>
              <a:t>ПЕРЕХОЖУ К ТЕ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6">
            <a:hlinkClick r:id="rId2" action="ppaction://hlinksldjump"/>
          </p:cNvPr>
          <p:cNvSpPr/>
          <p:nvPr/>
        </p:nvSpPr>
        <p:spPr>
          <a:xfrm>
            <a:off x="1143000" y="3962520"/>
            <a:ext cx="7010280" cy="936360"/>
          </a:xfrm>
          <a:prstGeom prst="roundRect">
            <a:avLst>
              <a:gd name="adj" fmla="val 26866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4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459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6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buClr>
                <a:srgbClr val="505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ромным шаром, золотые ряды, с кратким ответ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чная мерзлота, по специальным проектам, адресуя книг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6"/>
          <p:cNvSpPr/>
          <p:nvPr/>
        </p:nvSpPr>
        <p:spPr>
          <a:xfrm>
            <a:off x="990720" y="3809880"/>
            <a:ext cx="7315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росли кустарника, образным языком, описывается авто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вижение кандидатуры, думающее поколение, главной це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8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2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рчайший фонарь, на четвертом этаже, известный меха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умный график, успешно сдали, экзамен по истор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ближайшую неделю, подготовка студентов, опубликованы в газ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тельно рассказать, на должность доцента, славилось прозрач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0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3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уманной дымке, воркующие голубки, причудливые уз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е сияние, совершенно неизвестный, устланная ков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медленно доложил, по обеим сторонам, своего б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ный им, жители Петербурга, с изумлением увид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2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4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дил на охоту, катался с ребятами, прогуливался с н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дил зимой, прогуливался на лыжах, две сум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олго до рассвета, затопила печь, выпекла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ыхание ветров, прохватывает тайгу, болотной седи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243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9"/>
          <p:cNvSpPr/>
          <p:nvPr/>
        </p:nvSpPr>
        <p:spPr>
          <a:xfrm>
            <a:off x="228600" y="228600"/>
            <a:ext cx="861048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Уважаемые выпуск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 подготовке к Единому государственному экзамену важно усвоить главное: в тексте экзаменационной работы нет ничего, что бы выходило за пределы общеобразовательного минимума по русскому языку. Данный тренажер позволит вам повторить теоретический материал по теме «Виды связи в словосочетани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ый уровень представляет собой тренажёр, с помощью которого вы можете вспомнить определённое правило из курса русского языка  и усовершенствовать свои умения и навы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вы получите отмет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деюсь, что эти занятия помогут тебе успешно подготовиться к ЕГЭ по русскому язы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удьте уверены в своих силах! Желаю удачи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4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5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зали в редакции, отношение к телевизору, разговор с ферм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е сказали, едете в деревню, некоторое врем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е отношение, вспомнил разговор, назвал то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мают прежде, говорят потом, армейскую шин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6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6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лекционировать бабочек, заняты делом, используют досу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таться верхом, в формировании поколений, не первую 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жды написал, в том смысле, плясали ра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5"/>
          <p:cNvSpPr/>
          <p:nvPr/>
        </p:nvSpPr>
        <p:spPr>
          <a:xfrm>
            <a:off x="99072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ет пассивность, упражняться на скрипке, свое вообра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482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8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7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990720" y="3886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увствовал скованно, видящий насквозь, остановился смея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меньшее количество, с одной стороны, представьте передач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ществование на публике, исчезаешь внезапно, твой выигры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й телевизор, по степени интереса, на третьем мес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0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8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8"/>
          <p:cNvSpPr/>
          <p:nvPr/>
        </p:nvSpPr>
        <p:spPr>
          <a:xfrm>
            <a:off x="990720" y="2514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оянно провоцировал, осуществились позже, сказал погорячивши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олняются силой, произносишь машинально, по одной привыч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систая сторона, реальный образ, чувствуешь ина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ажный воздух, книга для чтения, каждой минут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724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9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ел провожая, однажды вошел, изменяется вдру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рытое облаками, крупный дождик, провожая солнц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новилось грустнее, его песня, заревой ча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5"/>
          <p:cNvSpPr/>
          <p:nvPr/>
        </p:nvSpPr>
        <p:spPr>
          <a:xfrm>
            <a:off x="990720" y="5029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евенчатые стены, пахнет по деревням, слоистый янт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773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797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3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0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ряду все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связью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ание уйти, часто путаем, ее ожерел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барабанил по стеклам, стелется по земле, медленно переход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ивает по нему, поздние сумерки, край зем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анжевого света, озябшую землю, горят с рассв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870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657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00"/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93"/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0" name="CommandButton1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52388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1" name="TextBox1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0948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2" name="TextBox2" descr=""/>
          <p:cNvPicPr/>
          <p:nvPr/>
        </p:nvPicPr>
        <p:blipFill>
          <a:blip r:embed="rId3"/>
          <a:stretch/>
        </p:blipFill>
        <p:spPr>
          <a:xfrm>
            <a:off x="7010280" y="1523880"/>
            <a:ext cx="53352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3" name="CommandButton2" descr=""/>
          <p:cNvPicPr/>
          <p:nvPr/>
        </p:nvPicPr>
        <p:blipFill>
          <a:blip r:embed="rId4"/>
          <a:stretch/>
        </p:blipFill>
        <p:spPr>
          <a:xfrm>
            <a:off x="3429000" y="1523880"/>
            <a:ext cx="243828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4" name="CommandButton3" descr=""/>
          <p:cNvPicPr/>
          <p:nvPr/>
        </p:nvPicPr>
        <p:blipFill>
          <a:blip r:embed="rId5"/>
          <a:stretch/>
        </p:blipFill>
        <p:spPr>
          <a:xfrm>
            <a:off x="3581280" y="5943600"/>
            <a:ext cx="205740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5" name="TextBox3" descr=""/>
          <p:cNvPicPr/>
          <p:nvPr/>
        </p:nvPicPr>
        <p:blipFill>
          <a:blip r:embed="rId6"/>
          <a:stretch/>
        </p:blipFill>
        <p:spPr>
          <a:xfrm>
            <a:off x="1523880" y="4038480"/>
            <a:ext cx="38124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6" name="TextBox4" descr=""/>
          <p:cNvPicPr/>
          <p:nvPr/>
        </p:nvPicPr>
        <p:blipFill>
          <a:blip r:embed="rId7"/>
          <a:stretch/>
        </p:blipFill>
        <p:spPr>
          <a:xfrm>
            <a:off x="2209680" y="4038480"/>
            <a:ext cx="38124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7" name="TextBox5" descr=""/>
          <p:cNvPicPr/>
          <p:nvPr/>
        </p:nvPicPr>
        <p:blipFill>
          <a:blip r:embed="rId8"/>
          <a:stretch/>
        </p:blipFill>
        <p:spPr>
          <a:xfrm>
            <a:off x="281952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8" name="TextBox6" descr=""/>
          <p:cNvPicPr/>
          <p:nvPr/>
        </p:nvPicPr>
        <p:blipFill>
          <a:blip r:embed="rId9"/>
          <a:stretch/>
        </p:blipFill>
        <p:spPr>
          <a:xfrm>
            <a:off x="350532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9" name="TextBox7" descr=""/>
          <p:cNvPicPr/>
          <p:nvPr/>
        </p:nvPicPr>
        <p:blipFill>
          <a:blip r:embed="rId10"/>
          <a:stretch/>
        </p:blipFill>
        <p:spPr>
          <a:xfrm>
            <a:off x="411480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0" name="TextBox8" descr=""/>
          <p:cNvPicPr/>
          <p:nvPr/>
        </p:nvPicPr>
        <p:blipFill>
          <a:blip r:embed="rId11"/>
          <a:stretch/>
        </p:blipFill>
        <p:spPr>
          <a:xfrm>
            <a:off x="480060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1" name="TextBox9" descr=""/>
          <p:cNvPicPr/>
          <p:nvPr/>
        </p:nvPicPr>
        <p:blipFill>
          <a:blip r:embed="rId12"/>
          <a:stretch/>
        </p:blipFill>
        <p:spPr>
          <a:xfrm>
            <a:off x="5410080" y="4038480"/>
            <a:ext cx="38124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2" name="TextBox10" descr=""/>
          <p:cNvPicPr/>
          <p:nvPr/>
        </p:nvPicPr>
        <p:blipFill>
          <a:blip r:embed="rId13"/>
          <a:stretch/>
        </p:blipFill>
        <p:spPr>
          <a:xfrm>
            <a:off x="601992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3" name="TextBox11" descr=""/>
          <p:cNvPicPr/>
          <p:nvPr/>
        </p:nvPicPr>
        <p:blipFill>
          <a:blip r:embed="rId14"/>
          <a:stretch/>
        </p:blipFill>
        <p:spPr>
          <a:xfrm>
            <a:off x="662940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4" name="TextBox12" descr=""/>
          <p:cNvPicPr/>
          <p:nvPr/>
        </p:nvPicPr>
        <p:blipFill>
          <a:blip r:embed="rId15"/>
          <a:stretch/>
        </p:blipFill>
        <p:spPr>
          <a:xfrm>
            <a:off x="7315200" y="4038480"/>
            <a:ext cx="380880" cy="6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1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9"/>
          <p:cNvSpPr/>
          <p:nvPr/>
        </p:nvSpPr>
        <p:spPr>
          <a:xfrm>
            <a:off x="250920" y="152280"/>
            <a:ext cx="866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Bookman Old Style"/>
              </a:rPr>
              <a:t>ПОВТОРИМ 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0"/>
          <p:cNvSpPr/>
          <p:nvPr/>
        </p:nvSpPr>
        <p:spPr>
          <a:xfrm>
            <a:off x="380880" y="6172200"/>
            <a:ext cx="35816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3"/>
          <p:cNvSpPr/>
          <p:nvPr/>
        </p:nvSpPr>
        <p:spPr>
          <a:xfrm>
            <a:off x="5638680" y="6172200"/>
            <a:ext cx="31244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1295280" y="609480"/>
            <a:ext cx="6324840" cy="381240"/>
          </a:xfrm>
          <a:prstGeom prst="roundRect">
            <a:avLst>
              <a:gd name="adj" fmla="val 25759"/>
            </a:avLst>
          </a:prstGeom>
          <a:gradFill rotWithShape="0">
            <a:gsLst>
              <a:gs pos="0">
                <a:srgbClr val="003300"/>
              </a:gs>
              <a:gs pos="100000">
                <a:srgbClr val="96ab94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СПОСОБЫ СВЯЗИ СЛОВ В СЛОВОСОЧЕТ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228600" y="1066680"/>
          <a:ext cx="8686800" cy="3695760"/>
        </p:xfrm>
        <a:graphic>
          <a:graphicData uri="http://schemas.openxmlformats.org/drawingml/2006/table">
            <a:tbl>
              <a:tblPr/>
              <a:tblGrid>
                <a:gridCol w="304920"/>
                <a:gridCol w="3960720"/>
                <a:gridCol w="2870280"/>
                <a:gridCol w="1550880"/>
              </a:tblGrid>
              <a:tr h="457200">
                <a:tc gridSpan="4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4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Словосочетание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— единица синтаксиса, синтаксическая конструкция, образующаяся на основе подчинительных связей:  согласования, управления, примык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Вид свя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Чем выражается  зависимое сло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При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</a:tr>
              <a:tr h="112068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Согласование</a:t>
                      </a: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 — это вид связи, при котором зависимое слово уподобляется главному по своей форме, то есть ставится в том же роде, числе и падеже, что и главное слов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При изменении главного слова изменяется и зависимо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Прилагательное, причастие; порядковое числительное; местоимение, по форме сходное с ни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липовая алле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эта алле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опустевшая алле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</a:tr>
              <a:tr h="9604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Управление</a:t>
                      </a: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 — это способ связи, при котором зависимое слово ставится при главном слове в определённом падеж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При изменении главного слова зависимое не изменя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существительное, местоимение, по форме сходное с 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встретить друга (в.п.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встретив друг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встретивший дру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</a:tr>
              <a:tr h="79200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3300"/>
                          </a:solidFill>
                          <a:uFillTx/>
                          <a:latin typeface="Verdana"/>
                          <a:ea typeface="Times New Roman"/>
                        </a:rPr>
                        <a:t>Примыкание</a:t>
                      </a: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 — это способ связи, при котором зависимое неизменяемое слово связывается с главным только по смысл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Наречие; деепричастие; неопределенная  форма глагола, 3 притяжательных местоимения (его, её, их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слишком  хороший; уехал учиться; говорил улыбаяс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4a9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725" name="Скругленный прямоугольник 14"/>
          <p:cNvGrpSpPr/>
          <p:nvPr/>
        </p:nvGrpSpPr>
        <p:grpSpPr>
          <a:xfrm>
            <a:off x="109440" y="4827600"/>
            <a:ext cx="8875800" cy="1292040"/>
            <a:chOff x="109440" y="4827600"/>
            <a:chExt cx="8875800" cy="1292040"/>
          </a:xfrm>
        </p:grpSpPr>
        <p:pic>
          <p:nvPicPr>
            <p:cNvPr id="726" name="Скругленный 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09440" y="4827600"/>
              <a:ext cx="887580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284040" y="4932360"/>
              <a:ext cx="85759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НЕ ЯВЛЯЮТСЯ СЛОВОСОЧЕТАНИЯМИ</a:t>
              </a:r>
              <a:r>
                <a:rPr b="1" lang="en-US" sz="12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33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Грамматическая основа (</a:t>
              </a:r>
              <a:r>
                <a:rPr b="0" lang="en-US" sz="1800" spc="-1" strike="noStrike" u="sng">
                  <a:solidFill>
                    <a:srgbClr val="003300"/>
                  </a:solidFill>
                  <a:uFillTx/>
                  <a:latin typeface="Verdana"/>
                  <a:ea typeface="Times New Roman"/>
                </a:rPr>
                <a:t>бежали</a:t>
              </a: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 </a:t>
              </a:r>
              <a:r>
                <a:rPr b="0" lang="en-US" sz="1800" spc="-1" strike="noStrike" u="sng">
                  <a:solidFill>
                    <a:srgbClr val="003300"/>
                  </a:solidFill>
                  <a:uFillTx/>
                  <a:latin typeface="Verdana"/>
                  <a:ea typeface="Times New Roman"/>
                </a:rPr>
                <a:t>дни</a:t>
              </a: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)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33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однородные члены (красные и синие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33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Times New Roman"/>
                </a:rPr>
                <a:t>сочетание существительного с предлогом (около дом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51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60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9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словосочетании тип связи слов —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руг уткну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довательность циф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ервой клеточ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гмент рецен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79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2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— согласо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верчивыми глаз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редь к врач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шите от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ачала за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9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Rectangle 9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3. Вопрос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словосочетании тип связи слов – 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шистую голов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ключение в тек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 от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шите акку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17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9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4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–  упра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ый от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екая то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 благоприят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нимает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3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7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5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 – 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упная план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нечн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ного повы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щит птиц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5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7"/>
          <p:cNvSpPr/>
          <p:nvPr/>
        </p:nvSpPr>
        <p:spPr>
          <a:xfrm>
            <a:off x="228600" y="228600"/>
            <a:ext cx="847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6. Вопрос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в каком словосочетании тип связи слов  –  примык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е превра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ит гром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лижается к кабин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ольшого 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6:55:35Z</dcterms:created>
  <dc:creator>Admin</dc:creator>
  <dc:description/>
  <dc:language>en-US</dc:language>
  <cp:lastModifiedBy>Татьяна</cp:lastModifiedBy>
  <dcterms:modified xsi:type="dcterms:W3CDTF">2013-02-07T20:54:04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