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wmf" ContentType="image/x-wmf"/>
  <Override PartName="/ppt/media/image3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0B9E-B4D2-4A3D-AA3D-81B305162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1BF6-E748-4C7F-A087-FB51DCE8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8086-D128-46CC-BF8B-547249E02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9B58-2F6B-4842-8D88-F64A0DD76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B968-E78F-43D5-88A7-FC574106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541B-78F1-4CFA-8782-AB666D78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BC34-4B28-4B73-8227-2D9F3778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E1E1-C20A-4118-8B93-B43A7A41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96A9-3ED0-47D6-B2F3-73A978DC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5331-2742-4407-A7E3-8E57E565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A251-710C-42E7-9F28-94CE5038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B7AB-7A5C-4C5B-B043-A3187327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17C1-15EC-4BBA-9DDF-A5BCD9F49F5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13372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ffff"/>
                </a:solidFill>
                <a:latin typeface="Times New Roman"/>
              </a:rPr>
              <a:t>Дикие животные </a:t>
            </a:r>
            <a:br>
              <a:rPr sz="5400"/>
            </a:br>
            <a:r>
              <a:rPr b="1" lang="ru-RU" sz="5400" spc="-1" strike="noStrike">
                <a:solidFill>
                  <a:srgbClr val="e5ffff"/>
                </a:solidFill>
                <a:latin typeface="Times New Roman"/>
              </a:rPr>
              <a:t>нашего края: медведь.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10920" y="642600"/>
            <a:ext cx="8218440" cy="54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зентацию выполнила Орман Лидия 8 а клас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БОУ СОШ №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уководитель проекта Давыдова Л. Ф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дведя знают все. Он – «хозяин леса». Это очень крупное, сильное, мощное и хищное животное. В высоту он может достигать 2-3 метров. Бурые медведи живут в лесах. Место обитания – север Омской области, Дальний Восток, Кавказ.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6" name="Object 5"/>
          <p:cNvGraphicFramePr/>
          <p:nvPr/>
        </p:nvGraphicFramePr>
        <p:xfrm>
          <a:off x="971640" y="1835280"/>
          <a:ext cx="6696000" cy="5022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35280"/>
                    <a:ext cx="6696000" cy="50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755640" y="40464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Бывают белые медведи, которые  живут в снегах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" name="Picture 7" descr="C:\Documents and Settings\ЗАЙКА и КОТ\Рабочий стол\МЕДВЕДЬ\белый медведь.jpg"/>
          <p:cNvPicPr/>
          <p:nvPr/>
        </p:nvPicPr>
        <p:blipFill>
          <a:blip r:embed="rId1"/>
          <a:stretch/>
        </p:blipFill>
        <p:spPr>
          <a:xfrm>
            <a:off x="1187280" y="1714680"/>
            <a:ext cx="6769440" cy="47386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179280" y="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Это опасный хищник, пожирающий всё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т маленьких мышей до лос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2" descr="C:\Documents and Settings\ЗАЙКА и КОТ\Рабочий стол\МЕДВЕДЬ\наше\12злюка.jpg"/>
          <p:cNvPicPr/>
          <p:nvPr/>
        </p:nvPicPr>
        <p:blipFill>
          <a:blip r:embed="rId1"/>
          <a:stretch/>
        </p:blipFill>
        <p:spPr>
          <a:xfrm>
            <a:off x="4572000" y="1484280"/>
            <a:ext cx="4176720" cy="4392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Documents and Settings\ЗАЙКА и КОТ\Рабочий стол\МЕДВЕДЬ\наше\247олень.jpg"/>
          <p:cNvPicPr/>
          <p:nvPr/>
        </p:nvPicPr>
        <p:blipFill>
          <a:blip r:embed="rId2"/>
          <a:stretch/>
        </p:blipFill>
        <p:spPr>
          <a:xfrm>
            <a:off x="2484360" y="2565360"/>
            <a:ext cx="1944720" cy="2303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Documents and Settings\ЗАЙКА и КОТ\Рабочий стол\МЕДВЕДЬ\наше\лось.jpg"/>
          <p:cNvPicPr/>
          <p:nvPr/>
        </p:nvPicPr>
        <p:blipFill>
          <a:blip r:embed="rId3"/>
          <a:stretch/>
        </p:blipFill>
        <p:spPr>
          <a:xfrm>
            <a:off x="250920" y="4221000"/>
            <a:ext cx="2089080" cy="2105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mauss"/>
          <p:cNvPicPr/>
          <p:nvPr/>
        </p:nvPicPr>
        <p:blipFill>
          <a:blip r:embed="rId4"/>
          <a:stretch/>
        </p:blipFill>
        <p:spPr>
          <a:xfrm>
            <a:off x="179280" y="1413000"/>
            <a:ext cx="2233800" cy="18716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30088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e5ffff"/>
                </a:solidFill>
                <a:latin typeface="Arial"/>
              </a:rPr>
              <a:t>Летом </a:t>
            </a:r>
            <a:r>
              <a:rPr b="1" lang="ru-RU" sz="3200" spc="-1" strike="noStrike">
                <a:solidFill>
                  <a:srgbClr val="e5ffff"/>
                </a:solidFill>
                <a:latin typeface="Times New Roman"/>
              </a:rPr>
              <a:t>медведи усиленно питаются и  жиреют. Жир для медведя- запас пищи на зимнюю спячку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6" name="Picture 2" descr="C:\Documents and Settings\ЗАЙКА и КОТ\Рабочий стол\МЕДВЕДЬ\наше\bear04кушает.jpg"/>
          <p:cNvPicPr/>
          <p:nvPr/>
        </p:nvPicPr>
        <p:blipFill>
          <a:blip r:embed="rId1"/>
          <a:stretch/>
        </p:blipFill>
        <p:spPr>
          <a:xfrm>
            <a:off x="1571760" y="2071800"/>
            <a:ext cx="6091200" cy="38862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e5ffff"/>
                </a:solidFill>
                <a:latin typeface="Times New Roman"/>
              </a:rPr>
              <a:t>Летом и в начале осени для них много еды: ягоды, плоды, сочные корни растений, рыба, насекомые, мёд диких пчёл и ос. Медведь – большой лакомка. В малиннике он может просидеть весь день. А мёд любит так, что даже имя своё получил из-за мёда:</a:t>
            </a:r>
            <a:br>
              <a:rPr sz="2400"/>
            </a:br>
            <a:r>
              <a:rPr b="1" lang="ru-RU" sz="2000" spc="-1" strike="noStrike">
                <a:solidFill>
                  <a:srgbClr val="e5ffff"/>
                </a:solidFill>
                <a:latin typeface="Times New Roman"/>
              </a:rPr>
              <a:t> </a:t>
            </a:r>
            <a:r>
              <a:rPr b="1" i="1" lang="ru-RU" sz="2800" spc="-1" strike="noStrike" u="sng">
                <a:solidFill>
                  <a:srgbClr val="e5ffff"/>
                </a:solidFill>
                <a:uFillTx/>
                <a:latin typeface="Times New Roman"/>
              </a:rPr>
              <a:t>мед-ведь (ведает, где мёд)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8" name="Picture 2" descr="C:\Documents and Settings\ЗАЙКА и КОТ\Рабочий стол\МЕДВЕДЬ\наше\chichkas.jpg"/>
          <p:cNvPicPr/>
          <p:nvPr/>
        </p:nvPicPr>
        <p:blipFill>
          <a:blip r:embed="rId1"/>
          <a:stretch/>
        </p:blipFill>
        <p:spPr>
          <a:xfrm>
            <a:off x="6659640" y="3500280"/>
            <a:ext cx="1492200" cy="1190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Documents and Settings\ЗАЙКА и КОТ\Рабочий стол\МЕДВЕДЬ\наше\images.jpeg"/>
          <p:cNvPicPr/>
          <p:nvPr/>
        </p:nvPicPr>
        <p:blipFill>
          <a:blip r:embed="rId2"/>
          <a:stretch/>
        </p:blipFill>
        <p:spPr>
          <a:xfrm>
            <a:off x="7500960" y="2214720"/>
            <a:ext cx="1477800" cy="1133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C:\Documents and Settings\ЗАЙКА и КОТ\Рабочий стол\МЕДВЕДЬ\наше\oves.jpg"/>
          <p:cNvPicPr/>
          <p:nvPr/>
        </p:nvPicPr>
        <p:blipFill>
          <a:blip r:embed="rId3"/>
          <a:stretch/>
        </p:blipFill>
        <p:spPr>
          <a:xfrm>
            <a:off x="428760" y="2428920"/>
            <a:ext cx="1168200" cy="1770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C:\Documents and Settings\ЗАЙКА и КОТ\Рабочий стол\МЕДВЕДЬ\наше\сот.jpg"/>
          <p:cNvPicPr/>
          <p:nvPr/>
        </p:nvPicPr>
        <p:blipFill>
          <a:blip r:embed="rId4"/>
          <a:stretch/>
        </p:blipFill>
        <p:spPr>
          <a:xfrm>
            <a:off x="7500960" y="4786200"/>
            <a:ext cx="1450800" cy="1683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C:\Documents and Settings\ЗАЙКА и КОТ\Рабочий стол\МЕДВЕДЬ\наше\мурав.jpg"/>
          <p:cNvPicPr/>
          <p:nvPr/>
        </p:nvPicPr>
        <p:blipFill>
          <a:blip r:embed="rId5"/>
          <a:stretch/>
        </p:blipFill>
        <p:spPr>
          <a:xfrm>
            <a:off x="357120" y="4786200"/>
            <a:ext cx="1414440" cy="1874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C:\Documents and Settings\ЗАЙКА и КОТ\Рабочий стол\МЕДВЕДЬ\наше\i_100.png"/>
          <p:cNvPicPr/>
          <p:nvPr/>
        </p:nvPicPr>
        <p:blipFill>
          <a:blip r:embed="rId6"/>
          <a:stretch/>
        </p:blipFill>
        <p:spPr>
          <a:xfrm>
            <a:off x="1692360" y="3500280"/>
            <a:ext cx="1433520" cy="1229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C:\Documents and Settings\ЗАЙКА и КОТ\Рабочий стол\МЕДВЕДЬ\наше\i_009.jpg"/>
          <p:cNvPicPr/>
          <p:nvPr/>
        </p:nvPicPr>
        <p:blipFill>
          <a:blip r:embed="rId7"/>
          <a:stretch/>
        </p:blipFill>
        <p:spPr>
          <a:xfrm>
            <a:off x="3143160" y="2500200"/>
            <a:ext cx="3286080" cy="37864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Times New Roman"/>
              </a:rPr>
              <a:t>Уже осенью после листопада медведи устраивают берлоги.</a:t>
            </a:r>
            <a:endParaRPr b="0" lang="en-US" sz="4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6" name="Содержимое 3" descr="3883.jpg"/>
          <p:cNvPicPr/>
          <p:nvPr/>
        </p:nvPicPr>
        <p:blipFill>
          <a:blip r:embed="rId1"/>
          <a:stretch/>
        </p:blipFill>
        <p:spPr>
          <a:xfrm>
            <a:off x="1403280" y="1557360"/>
            <a:ext cx="6572160" cy="4925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D:\клипарты\животные\мкдведи.png"/>
          <p:cNvPicPr/>
          <p:nvPr/>
        </p:nvPicPr>
        <p:blipFill>
          <a:blip r:embed="rId2"/>
          <a:stretch/>
        </p:blipFill>
        <p:spPr>
          <a:xfrm>
            <a:off x="5357880" y="4857840"/>
            <a:ext cx="752400" cy="10540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11280" y="5084280"/>
            <a:ext cx="80136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Зимой медведь спит:  у него  в это время появляется маленькие медвежат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ать ещё в  берлоге кормит их молок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7" descr="D:\животные\медвежата новорожд.jpg"/>
          <p:cNvPicPr/>
          <p:nvPr/>
        </p:nvPicPr>
        <p:blipFill>
          <a:blip r:embed="rId1"/>
          <a:stretch/>
        </p:blipFill>
        <p:spPr>
          <a:xfrm>
            <a:off x="900000" y="141120"/>
            <a:ext cx="7128000" cy="50277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611280" y="5661000"/>
            <a:ext cx="8532720" cy="137376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аким образом, медведи воспитывают  своё потомство  2 го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TextBox 1"/>
          <p:cNvSpPr/>
          <p:nvPr/>
        </p:nvSpPr>
        <p:spPr>
          <a:xfrm>
            <a:off x="571680" y="0"/>
            <a:ext cx="8286480" cy="94716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есной медведица вместе медвежатами выходит из берлоги и продолжает их кормить молок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16:55:55Z</dcterms:created>
  <dc:creator>Helen</dc:creator>
  <dc:description/>
  <dc:language>en-US</dc:language>
  <cp:lastModifiedBy>Лариса</cp:lastModifiedBy>
  <dcterms:modified xsi:type="dcterms:W3CDTF">2000-12-31T14:14:41Z</dcterms:modified>
  <cp:revision>80</cp:revision>
  <dc:subject/>
  <dc:title>Слайд 1</dc:title>
</cp:coreProperties>
</file>