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0FC-9CCF-4032-A391-E7E66252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49C-82D8-4D65-B88F-270B4F0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0AC-35E3-411A-8FBE-AA58C419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9C3-ABF5-49F3-A544-DFF6B88D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29E-A0E5-4817-A267-519AE6CF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CF7-57D5-47AE-A63C-C479525E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E0E-23C7-4267-B90F-8B2CFA4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249-3246-432F-8F65-6CA3213B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316-8ACA-453C-B599-593B33BF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69E-3B42-42D1-8248-DB3019C1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7AD-3ED5-41E4-A841-BBE6041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C85-A0C2-4513-A91F-5278E4AF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85C8-4A71-46A4-9CA1-78570DCB7E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imes New Roman"/>
              </a:rPr>
              <a:t>Дикие животные </a:t>
            </a:r>
            <a:br>
              <a:rPr sz="5400"/>
            </a:br>
            <a:r>
              <a:rPr b="1" lang="ru-RU" sz="5400" spc="-1" strike="noStrike">
                <a:solidFill>
                  <a:srgbClr val="e5ffff"/>
                </a:solidFill>
                <a:latin typeface="Times New Roman"/>
              </a:rPr>
              <a:t>нашего края: медведь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642600"/>
            <a:ext cx="821844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выполнила Орман Лидия 8 а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 проекта Давыдова Л. 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дведя знают все. Он – «хозяин леса». Это очень крупное, сильное, мощное и хищное животное. В высоту он может достигать 2-3 метров. Бурые медведи живут в лесах. Место обитания – север Омской области, Дальний Восток, Кавказ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971640" y="1835280"/>
          <a:ext cx="6696000" cy="502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66960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55640" y="40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ывают белые медведи, которые  живут в снег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7" descr="C:\Documents and Settings\ЗАЙКА и КОТ\Рабочий стол\МЕДВЕДЬ\белый медведь.jpg"/>
          <p:cNvPicPr/>
          <p:nvPr/>
        </p:nvPicPr>
        <p:blipFill>
          <a:blip r:embed="rId1"/>
          <a:stretch/>
        </p:blipFill>
        <p:spPr>
          <a:xfrm>
            <a:off x="1187280" y="1714680"/>
            <a:ext cx="6769440" cy="4738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79280" y="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то опасный хищник, пожирающий всё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 маленьких мышей до лос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2" descr="C:\Documents and Settings\ЗАЙКА и КОТ\Рабочий стол\МЕДВЕДЬ\наше\12злюка.jpg"/>
          <p:cNvPicPr/>
          <p:nvPr/>
        </p:nvPicPr>
        <p:blipFill>
          <a:blip r:embed="rId1"/>
          <a:stretch/>
        </p:blipFill>
        <p:spPr>
          <a:xfrm>
            <a:off x="4572000" y="1484280"/>
            <a:ext cx="4176720" cy="439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ЗАЙКА и КОТ\Рабочий стол\МЕДВЕДЬ\наше\247олень.jpg"/>
          <p:cNvPicPr/>
          <p:nvPr/>
        </p:nvPicPr>
        <p:blipFill>
          <a:blip r:embed="rId2"/>
          <a:stretch/>
        </p:blipFill>
        <p:spPr>
          <a:xfrm>
            <a:off x="2484360" y="256536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ЗАЙКА и КОТ\Рабочий стол\МЕДВЕДЬ\наше\лось.jpg"/>
          <p:cNvPicPr/>
          <p:nvPr/>
        </p:nvPicPr>
        <p:blipFill>
          <a:blip r:embed="rId3"/>
          <a:stretch/>
        </p:blipFill>
        <p:spPr>
          <a:xfrm>
            <a:off x="250920" y="4221000"/>
            <a:ext cx="2089080" cy="210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auss"/>
          <p:cNvPicPr/>
          <p:nvPr/>
        </p:nvPicPr>
        <p:blipFill>
          <a:blip r:embed="rId4"/>
          <a:stretch/>
        </p:blipFill>
        <p:spPr>
          <a:xfrm>
            <a:off x="179280" y="1413000"/>
            <a:ext cx="223380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3008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5ffff"/>
                </a:solidFill>
                <a:latin typeface="Arial"/>
              </a:rPr>
              <a:t>Летом </a:t>
            </a: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медведи усиленно питаются и  жиреют. Жир для медведя- запас пищи на зимнюю спячк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2" descr="C:\Documents and Settings\ЗАЙКА и КОТ\Рабочий стол\МЕДВЕДЬ\наше\bear04кушает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9120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Летом и в начале осени для них много еды: ягоды, плоды, сочные корни растений, рыба, насекомые, мёд диких пчёл и ос. Медведь – большой лакомка. В малиннике он может просидеть весь день. А мёд любит так, что даже имя своё получил из-за мёда:</a:t>
            </a:r>
            <a:br>
              <a:rPr sz="2400"/>
            </a:b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e5ffff"/>
                </a:solidFill>
                <a:uFillTx/>
                <a:latin typeface="Times New Roman"/>
              </a:rPr>
              <a:t>мед-ведь (ведает, где мёд)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2" descr="C:\Documents and Settings\ЗАЙКА и КОТ\Рабочий стол\МЕДВЕДЬ\наше\chichkas.jpg"/>
          <p:cNvPicPr/>
          <p:nvPr/>
        </p:nvPicPr>
        <p:blipFill>
          <a:blip r:embed="rId1"/>
          <a:stretch/>
        </p:blipFill>
        <p:spPr>
          <a:xfrm>
            <a:off x="6659640" y="3500280"/>
            <a:ext cx="1492200" cy="119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ЗАЙКА и КОТ\Рабочий стол\МЕДВЕДЬ\наше\images.jpeg"/>
          <p:cNvPicPr/>
          <p:nvPr/>
        </p:nvPicPr>
        <p:blipFill>
          <a:blip r:embed="rId2"/>
          <a:stretch/>
        </p:blipFill>
        <p:spPr>
          <a:xfrm>
            <a:off x="7500960" y="2214720"/>
            <a:ext cx="147780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ЗАЙКА и КОТ\Рабочий стол\МЕДВЕДЬ\наше\oves.jpg"/>
          <p:cNvPicPr/>
          <p:nvPr/>
        </p:nvPicPr>
        <p:blipFill>
          <a:blip r:embed="rId3"/>
          <a:stretch/>
        </p:blipFill>
        <p:spPr>
          <a:xfrm>
            <a:off x="428760" y="2428920"/>
            <a:ext cx="1168200" cy="177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ЗАЙКА и КОТ\Рабочий стол\МЕДВЕДЬ\наше\сот.jpg"/>
          <p:cNvPicPr/>
          <p:nvPr/>
        </p:nvPicPr>
        <p:blipFill>
          <a:blip r:embed="rId4"/>
          <a:stretch/>
        </p:blipFill>
        <p:spPr>
          <a:xfrm>
            <a:off x="7500960" y="4786200"/>
            <a:ext cx="1450800" cy="168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ЗАЙКА и КОТ\Рабочий стол\МЕДВЕДЬ\наше\мурав.jpg"/>
          <p:cNvPicPr/>
          <p:nvPr/>
        </p:nvPicPr>
        <p:blipFill>
          <a:blip r:embed="rId5"/>
          <a:stretch/>
        </p:blipFill>
        <p:spPr>
          <a:xfrm>
            <a:off x="357120" y="4786200"/>
            <a:ext cx="1414440" cy="187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Documents and Settings\ЗАЙКА и КОТ\Рабочий стол\МЕДВЕДЬ\наше\i_100.png"/>
          <p:cNvPicPr/>
          <p:nvPr/>
        </p:nvPicPr>
        <p:blipFill>
          <a:blip r:embed="rId6"/>
          <a:stretch/>
        </p:blipFill>
        <p:spPr>
          <a:xfrm>
            <a:off x="1692360" y="3500280"/>
            <a:ext cx="1433520" cy="122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Documents and Settings\ЗАЙКА и КОТ\Рабочий стол\МЕДВЕДЬ\наше\i_009.jpg"/>
          <p:cNvPicPr/>
          <p:nvPr/>
        </p:nvPicPr>
        <p:blipFill>
          <a:blip r:embed="rId7"/>
          <a:stretch/>
        </p:blipFill>
        <p:spPr>
          <a:xfrm>
            <a:off x="3143160" y="2500200"/>
            <a:ext cx="3286080" cy="3786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imes New Roman"/>
              </a:rPr>
              <a:t>Уже осенью после листопада медведи устраивают берлоги.</a:t>
            </a:r>
            <a:endParaRPr b="0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Содержимое 3" descr="3883.jpg"/>
          <p:cNvPicPr/>
          <p:nvPr/>
        </p:nvPicPr>
        <p:blipFill>
          <a:blip r:embed="rId1"/>
          <a:stretch/>
        </p:blipFill>
        <p:spPr>
          <a:xfrm>
            <a:off x="1403280" y="1557360"/>
            <a:ext cx="6572160" cy="492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клипарты\животные\мкдведи.png"/>
          <p:cNvPicPr/>
          <p:nvPr/>
        </p:nvPicPr>
        <p:blipFill>
          <a:blip r:embed="rId2"/>
          <a:stretch/>
        </p:blipFill>
        <p:spPr>
          <a:xfrm>
            <a:off x="5357880" y="4857840"/>
            <a:ext cx="752400" cy="1054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5084280"/>
            <a:ext cx="8013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имой медведь спит:  у него  в это время появляется маленькие медвежа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ь ещё в  берлоге кормит их моло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D:\животные\медвежата новорожд.jpg"/>
          <p:cNvPicPr/>
          <p:nvPr/>
        </p:nvPicPr>
        <p:blipFill>
          <a:blip r:embed="rId1"/>
          <a:stretch/>
        </p:blipFill>
        <p:spPr>
          <a:xfrm>
            <a:off x="900000" y="141120"/>
            <a:ext cx="7128000" cy="5027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611280" y="5661000"/>
            <a:ext cx="8532720" cy="13737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ким образом, медведи воспитывают  своё потомство  2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571680" y="0"/>
            <a:ext cx="8286480" cy="947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сной медведица вместе медвежатами выходит из берлоги и продолжает их кормить моло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6:55:55Z</dcterms:created>
  <dc:creator>Helen</dc:creator>
  <dc:description/>
  <dc:language>en-US</dc:language>
  <cp:lastModifiedBy>Лариса</cp:lastModifiedBy>
  <dcterms:modified xsi:type="dcterms:W3CDTF">2000-12-31T14:14:41Z</dcterms:modified>
  <cp:revision>80</cp:revision>
  <dc:subject/>
  <dc:title>Слайд 1</dc:title>
</cp:coreProperties>
</file>