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A83-7E6D-404F-975E-859B48E6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2FA-EB47-4CD2-82FD-526B0EF9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D08-5FC1-482C-BAC1-805D480D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F51-616F-480D-A72B-03759789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0B7E-BCF3-4475-A8CA-5B1C87C1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83F4-F8A4-4D07-B66E-DE17F2FC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2124-3960-48A9-9C84-D973405A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838A-CF10-4297-9F57-E6DAC51B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A191-1AE5-4169-8B36-381C3A52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08CA-B8DC-46F7-8783-57E5BE90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C4A1-C98A-4A87-A26F-A0EC1921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FBF-2099-49BE-865B-7C8FAC47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7135-55CE-406E-BAB3-88514E1A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1234-F413-4E70-9C4F-363DBE4A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3787-ECBD-42DF-BF9A-16B85C33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73E7-9F92-4DF9-B175-AED92727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15A8-27EA-4B58-B099-BBAFD807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8E5-5824-496D-9C90-75F546B5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D3E-E2AE-48B7-AD52-D29A33C8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47A-D048-4F68-AB73-49230612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3A7-E5A7-43D1-A577-E5E5361A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986-69C8-4D3F-BAE8-9FAC58DD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09B-6EBA-4811-ABA1-548F8CC4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20E-46E1-46EC-B5E7-7DAB77AE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1C94-C888-4622-8B93-971FD0DC29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EFAA-AC72-4921-A99A-3DC92E1FC8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osculture.ru/dataphotos/26AA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box.ru/gallery/thumbnail.php?id=86639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veslo.ru/2001/othet/foto/boroda/kamcha/28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semusic.ru/gastro/mygastro/photo/00017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332000" y="2349360"/>
            <a:ext cx="69246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родоохранные мероприят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нских каз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49360"/>
            <a:ext cx="1152360" cy="122400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04360 h 1224000"/>
              <a:gd name="textAreaBottom" fmla="*/ 719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5084640"/>
            <a:ext cx="1152360" cy="122400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04360 h 1224000"/>
              <a:gd name="textAreaBottom" fmla="*/ 719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51640" y="620640"/>
            <a:ext cx="1152720" cy="1224000"/>
          </a:xfrm>
          <a:custGeom>
            <a:avLst/>
            <a:gdLst>
              <a:gd name="textAreaLeft" fmla="*/ 474840 w 1152720"/>
              <a:gd name="textAreaRight" fmla="*/ 677880 w 1152720"/>
              <a:gd name="textAreaTop" fmla="*/ 504360 h 1224000"/>
              <a:gd name="textAreaBottom" fmla="*/ 719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51640" y="5157720"/>
            <a:ext cx="1152720" cy="1224000"/>
          </a:xfrm>
          <a:custGeom>
            <a:avLst/>
            <a:gdLst>
              <a:gd name="textAreaLeft" fmla="*/ 474840 w 1152720"/>
              <a:gd name="textAreaRight" fmla="*/ 677880 w 1152720"/>
              <a:gd name="textAreaTop" fmla="*/ 504360 h 1224000"/>
              <a:gd name="textAreaBottom" fmla="*/ 719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59280" y="3789360"/>
            <a:ext cx="2950920" cy="19764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2 -0.023 -0.02132 C -0.054 -0.02132 -0.086 0.14523 -0.086 0.31178 C -0.086 0.22784 -0.102 0.14523 -0.117 0.14523 C -0.133 0.14523 -0.148 0.22917 -0.148 0.31178 C -0.148 0.27048 -0.156 0.22784 -0.164 0.22784 C -0.172 0.22784 -0.18 0.26914 -0.18 0.31178 C -0.18 0.29046 -0.184 0.27048 -0.188 0.27048 C -0.192 0.27048 -0.196 0.2918 -0.196 0.31178 C -0.196 0.30112 -0.198 0.29046 -0.2 0.29046 C -0.201 0.29046 -0.204 0.30112 -0.204 0.31178 C -0.204 0.30645 -0.205 0.30112 -0.206 0.30112 C -0.206 0.29979 -0.208 0.30645 -0.208 0.31178 C -0.208 0.30912 -0.208 0.30645 -0.209 0.30645 C -0.209 0.30778 -0.21 0.30911 -0.21 0.31178 C -0.21 0.31045 -0.21 0.30912 -0.21 0.30778 C -0.211 0.30778 -0.211 0.30911 -0.211 0.31044 C -0.212 0.31044 -0.212 0.30911 -0.212 0.30778 C -0.213 0.30778 -0.213 0.30911 -0.213 0.31044 E">
                                      <p:cBhvr>
                                        <p:cTn id="36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1066 0.018 -0.02132 0.023 -0.02132 C 0.054 -0.02132 0.086 0.14523 0.086 0.31178 C 0.086 0.22784 0.102 0.14523 0.117 0.14523 C 0.133 0.14523 0.148 0.22917 0.148 0.31178 C 0.148 0.27048 0.156 0.22784 0.164 0.22784 C 0.172 0.22784 0.18 0.26914 0.18 0.31178 C 0.18 0.29046 0.184 0.27048 0.188 0.27048 C 0.192 0.27048 0.196 0.2918 0.196 0.31178 C 0.196 0.30112 0.198 0.29046 0.2 0.29046 C 0.201 0.29046 0.204 0.30112 0.204 0.31178 C 0.204 0.30645 0.205 0.30112 0.206 0.30112 C 0.206 0.30245 0.208 0.30645 0.208 0.31178 C 0.208 0.30912 0.208 0.30645 0.209 0.30645 C 0.209 0.30778 0.21 0.30911 0.21 0.31178 C 0.21 0.31045 0.21 0.30912 0.21 0.30778 C 0.211 0.30778 0.211 0.30911 0.211 0.31044 C 0.212 0.31044 0.212 0.30911 0.212 0.30778 C 0.213 0.30778 0.213 0.30911 0.213 0.31044 E">
                                      <p:cBhvr>
                                        <p:cTn id="3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 презентацией работали:  учащиеся 10   класса   МОУ  СОШ     «Финист»  Ненахов   Дмитрий   и   Бережная Екатерин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ководитель учитель биологии Белецкая Татьяна Владими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3214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ним из древнейших занятий донских казаков (гораздо древнее земледелия) было рыболовство. Черкасский округ был одним из центров рыбной ловли и рыбозаготов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1913040"/>
            <a:ext cx="5543640" cy="33670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546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Дон в 18-19 веках изобиловал рыбой. Но, не смотря на это, казаки следили за тем, чтобы рыба хищнически не вылавливалась. Для наблюдения за правильным рыболовством и недопущения хищничества был так называемый Каланчинский караул, ниже которого запрещалось ловить рыбу любыми ловушками. Каждый   рыбак должен был иметь билет от войсковой канцелярии,дающий   право свободного промысла в дозволенных мест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3kossack" descr="3kossack.JPG (11676 bytes)"/>
          <p:cNvPicPr/>
          <p:nvPr/>
        </p:nvPicPr>
        <p:blipFill>
          <a:blip r:embed="rId1"/>
          <a:stretch/>
        </p:blipFill>
        <p:spPr>
          <a:xfrm>
            <a:off x="5867280" y="981000"/>
            <a:ext cx="2076480" cy="2438640"/>
          </a:xfrm>
          <a:prstGeom prst="rect">
            <a:avLst/>
          </a:prstGeom>
          <a:ln w="0">
            <a:noFill/>
          </a:ln>
        </p:spPr>
      </p:pic>
      <p:pic>
        <p:nvPicPr>
          <p:cNvPr id="220" name="manych_th" descr=""/>
          <p:cNvPicPr/>
          <p:nvPr/>
        </p:nvPicPr>
        <p:blipFill>
          <a:blip r:embed="rId2"/>
          <a:stretch/>
        </p:blipFill>
        <p:spPr>
          <a:xfrm>
            <a:off x="5796000" y="407664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6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4691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Рассказывают, что казака, плюнувшего в Дон, жестоко, "без милости" били. Родовые реки для казаков были живыми существами. Они берегли и почитали их, как стариков-родителей. Казаки усвоили все приемы рыбной ловли и охоты, веками накопленные в здешних местах степными народами. Орудия, которыми они пользовались и пользуются для рыбной ловли и охоты находят   в древнейших   могильниках - это ловчие   корзины, сети, баг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У рыболовных станиц право на рыбную ловлю было подчинено общественно-уравнительной регламентации. Лов рыбы на Дону в особенно рыбных местах велся с соблюдением очереди. Каждый казак имел право ловить рыбу в пределах своего юрта, где воды не были сданы в аре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hoto9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995640" cy="4321080"/>
          </a:xfrm>
          <a:prstGeom prst="rect">
            <a:avLst/>
          </a:prstGeom>
          <a:ln w="0">
            <a:noFill/>
          </a:ln>
        </p:spPr>
      </p:pic>
    </p:spTree>
  </p:cSld>
  <p:transition spd="slow" advTm="31000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9280" y="549360"/>
            <a:ext cx="453708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Часть рыбы продавали, остальную перерабатывали на заводах, построенных у воды. Особенно ценным блюдом считали икру, но одним из самых вкусных рыбных блюд считался балык из осе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981000"/>
            <a:ext cx="2376720" cy="1727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3068640"/>
            <a:ext cx="2089440" cy="25923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35272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В каждом доме была лодка, а у некоторых две и более. Среди казаков были мастера, которые делали лодки на заказ. Делали обычно из ели и сосны, иногда из верб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При подходе к Дону лодку вытаскивали из воды, сушили, чистили, смолили, только тогда продолжали путь дальше по ре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Поскольку главными орудиями лова были сети, то зимой вся семья казака вязала сети. Причем плели их не только взрослые, но и дети. Отец сажал за работу даже самых маленьких. Вязали сети разных размеров под рыбца, чебака. Большие сети - волокуши смоли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hoto1" descr=""/>
          <p:cNvPicPr/>
          <p:nvPr/>
        </p:nvPicPr>
        <p:blipFill>
          <a:blip r:embed="rId1"/>
          <a:stretch/>
        </p:blipFill>
        <p:spPr>
          <a:xfrm>
            <a:off x="3851280" y="549360"/>
            <a:ext cx="514836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27000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зачий стол трудно представить себе без рыбы. Дон в то время изобиловал многими сортами рыбы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bigimage1" descr="Белуга"/>
          <p:cNvPicPr/>
          <p:nvPr/>
        </p:nvPicPr>
        <p:blipFill>
          <a:blip r:embed="rId1"/>
          <a:stretch/>
        </p:blipFill>
        <p:spPr>
          <a:xfrm>
            <a:off x="324000" y="1700280"/>
            <a:ext cx="2192040" cy="790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684360" y="2637000"/>
            <a:ext cx="1025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елуга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1" name="bigimage1" descr="Ерш"/>
          <p:cNvPicPr/>
          <p:nvPr/>
        </p:nvPicPr>
        <p:blipFill>
          <a:blip r:embed="rId2"/>
          <a:stretch/>
        </p:blipFill>
        <p:spPr>
          <a:xfrm>
            <a:off x="2627280" y="2565360"/>
            <a:ext cx="1905120" cy="961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276720" y="3789360"/>
            <a:ext cx="587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ерш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3" name="bigimage1" descr="Карп"/>
          <p:cNvPicPr/>
          <p:nvPr/>
        </p:nvPicPr>
        <p:blipFill>
          <a:blip r:embed="rId3"/>
          <a:stretch/>
        </p:blipFill>
        <p:spPr>
          <a:xfrm>
            <a:off x="4788000" y="1557360"/>
            <a:ext cx="1904760" cy="97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5219640" y="2637000"/>
            <a:ext cx="961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рп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bigimage1" descr="Русский осетр"/>
          <p:cNvPicPr/>
          <p:nvPr/>
        </p:nvPicPr>
        <p:blipFill>
          <a:blip r:embed="rId4"/>
          <a:stretch/>
        </p:blipFill>
        <p:spPr>
          <a:xfrm>
            <a:off x="7020000" y="2492280"/>
            <a:ext cx="1904760" cy="100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7740720" y="3645000"/>
            <a:ext cx="676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етр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7" name="bigimage1" descr="Сазан"/>
          <p:cNvPicPr/>
          <p:nvPr/>
        </p:nvPicPr>
        <p:blipFill>
          <a:blip r:embed="rId5"/>
          <a:stretch/>
        </p:blipFill>
        <p:spPr>
          <a:xfrm>
            <a:off x="395280" y="3573360"/>
            <a:ext cx="1905120" cy="885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971640" y="4653000"/>
            <a:ext cx="676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зан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9" name="bigimage1" descr="Сом"/>
          <p:cNvPicPr/>
          <p:nvPr/>
        </p:nvPicPr>
        <p:blipFill>
          <a:blip r:embed="rId6"/>
          <a:stretch/>
        </p:blipFill>
        <p:spPr>
          <a:xfrm>
            <a:off x="4859280" y="3429000"/>
            <a:ext cx="1905120" cy="934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5364000" y="4653000"/>
            <a:ext cx="792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м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bigimage1" descr="Стерлядь"/>
          <p:cNvPicPr/>
          <p:nvPr/>
        </p:nvPicPr>
        <p:blipFill>
          <a:blip r:embed="rId7"/>
          <a:stretch/>
        </p:blipFill>
        <p:spPr>
          <a:xfrm>
            <a:off x="2627280" y="4437000"/>
            <a:ext cx="1905120" cy="863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2987640" y="5516640"/>
            <a:ext cx="11145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ерлядь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3" name="bigimage1" descr="Судак"/>
          <p:cNvPicPr/>
          <p:nvPr/>
        </p:nvPicPr>
        <p:blipFill>
          <a:blip r:embed="rId8"/>
          <a:stretch/>
        </p:blipFill>
        <p:spPr>
          <a:xfrm>
            <a:off x="6948360" y="4365720"/>
            <a:ext cx="1905120" cy="863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7308720" y="5516640"/>
            <a:ext cx="1008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удак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5" name="bigimage1" descr="Чехонь"/>
          <p:cNvPicPr/>
          <p:nvPr/>
        </p:nvPicPr>
        <p:blipFill>
          <a:blip r:embed="rId9"/>
          <a:stretch/>
        </p:blipFill>
        <p:spPr>
          <a:xfrm>
            <a:off x="324000" y="5516640"/>
            <a:ext cx="1904760" cy="865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826920" y="6381720"/>
            <a:ext cx="809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ехонь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7" name="bigimage1" descr="Щука"/>
          <p:cNvPicPr/>
          <p:nvPr/>
        </p:nvPicPr>
        <p:blipFill>
          <a:blip r:embed="rId10"/>
          <a:stretch/>
        </p:blipFill>
        <p:spPr>
          <a:xfrm>
            <a:off x="4788000" y="5516640"/>
            <a:ext cx="1904760" cy="8650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5292720" y="6381720"/>
            <a:ext cx="792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щука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5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3000"/>
                            </p:stCondLst>
                            <p:childTnLst>
                              <p:par>
                                <p:cTn id="3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6000"/>
                            </p:stCondLst>
                            <p:childTnLst>
                              <p:par>
                                <p:cTn id="3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80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9000"/>
                            </p:stCondLst>
                            <p:childTnLst>
                              <p:par>
                                <p:cTn id="3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1000"/>
                            </p:stCondLst>
                            <p:childTnLst>
                              <p:par>
                                <p:cTn id="3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2000"/>
                            </p:stCondLst>
                            <p:childTnLst>
                              <p:par>
                                <p:cTn id="3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114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. Самым популярным горячим блюдом считалась уха.   Существовало огромное количество рецептов приготовления ухи. Даже в одной станице ее варили по-разному. Отличие донской ухи было в том, что ее варили с томатом. Особенно вкусна была уха, сваренная в котле на кост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Кроме того существовало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огромное количество вторых блюд из рыбы : рыба жареная, запеченная, маринованная с овощами. жареная с томатом, рыбные котлеты. Особенно удавались донским хозяйкам пироги и пирожки с рыб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268280"/>
            <a:ext cx="3533760" cy="3456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191280" y="4005360"/>
            <a:ext cx="2952720" cy="2160360"/>
          </a:xfrm>
          <a:prstGeom prst="rect">
            <a:avLst/>
          </a:prstGeom>
          <a:ln w="0">
            <a:noFill/>
          </a:ln>
        </p:spPr>
      </p:pic>
      <p:pic>
        <p:nvPicPr>
          <p:cNvPr id="252" name="kosake1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4897440" cy="3024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3132000" y="4005360"/>
            <a:ext cx="2857680" cy="2160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2857680" cy="2160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281240" y="2975040"/>
            <a:ext cx="841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охраним Дон для потомков!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3:57:13Z</dcterms:created>
  <dc:creator>1</dc:creator>
  <dc:description/>
  <dc:language>en-US</dc:language>
  <cp:lastModifiedBy>123</cp:lastModifiedBy>
  <dcterms:modified xsi:type="dcterms:W3CDTF">2013-10-16T17:42:25Z</dcterms:modified>
  <cp:revision>14</cp:revision>
  <dc:subject/>
  <dc:title>Слайд 1</dc:title>
</cp:coreProperties>
</file>