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0.gif" ContentType="image/gif"/>
  <Override PartName="/ppt/media/image8.wmf" ContentType="image/x-wm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6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" ContentType="application/msword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E63-5FB3-4394-AFB2-BC78BCFD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F9E-5FA1-41EB-9735-F0D4460F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69C-4C33-4783-90B0-84671E05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D33-8ED1-4D7F-BCB8-63287045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5857-51CA-4097-9962-419886E1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E2BB-7501-4C44-835B-F12E2384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6341-F6A1-4389-9C69-C5CB2F72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5DF5-9DFD-4D1F-AE8A-FA157F42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E350-09EF-4D9E-A6CE-65255F97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20EB-94FB-4ED9-85F2-8762B918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5A34-52D7-40F6-A1F5-79AF89F0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D0C-F720-4350-A9FF-64C2CF6C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B76A-7A35-41C1-9BBC-E4A0589D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1D8D-04D1-4494-B979-F632C37A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6E37-BC2B-42F0-8930-A75FDB59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850A-991B-4351-BBA8-05C669AF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D191-2A30-4237-8433-33A54E9F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F6098-4F08-4D88-827E-0312FFB4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32714-688A-4640-9C66-F72956F5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666B-6C62-4E1E-99C3-83A0E1C3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DA190-D0DF-4AF3-B137-0FC7BE14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6C611-4E28-47BD-8DD3-2A029E6D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250-F5CD-40F9-AD9E-C499901A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4E60-3456-4FC5-B86D-99A8388F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D695-3677-4E09-A67F-A0AD5BF1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C9580-0563-475B-AD22-34A33ACC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78F5-8BD3-4B1C-9451-614C6592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97911-2835-47EF-A772-26F7E36C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35AC4-055D-45C3-8E6E-5A4879FE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3D8D4-F5AA-4301-8FC6-1680764B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0DA-FC82-4E58-A18E-72C5E779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516-6EE6-42CC-9715-64B6045B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3AC-3486-4849-A7C8-81069AAB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522-3486-4AB3-A174-2131D0F0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0E8-220A-474A-BF4C-84A77E7C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056-C8B2-4529-A0FA-7B67E76E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Скругленный прямоугольник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Прямоугольник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Скругленный прямоугольник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F04C978-35E1-482C-A95D-4995E0A664D2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Прямоугольник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Прямоугольник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Скругленный прямоугольник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696464"/>
                </a:solidFill>
                <a:latin typeface="Franklin Gothic Book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FD3A58E-28ED-43AA-BDDB-4FAC965B6127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Perpetu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92" name="Скругленный прямоугольник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7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8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9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3350D15-7C27-47F0-AF6C-571B4D5ADECD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Perpetu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azeta.aif.ru/data/mags/kids/143/pics/22_01_07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H:/Documents%20and%20Settings/&#1087;&#1080;&#1086;&#1085;&#1077;&#1088;&#1099;/&#1056;&#1072;&#1073;&#1086;&#1095;&#1080;&#1081;%20&#1089;&#1090;&#1086;&#1083;/&#1055;&#1080;&#1086;&#1085;&#1077;&#1088;&#1099;%20-%20&#1075;&#1077;&#1088;&#1086;&#1080;/2.&#1050;&#1086;&#1083;&#1086;&#1082;&#1086;&#1083;&#1072;%20&#1056;&#1086;&#1089;&#1089;&#1080;&#1080;%20(-)_.mp3" TargetMode="External"/><Relationship Id="rId2" Type="http://schemas.microsoft.com/office/2007/relationships/media" Target="file:///H:/Documents%20and%20Settings/&#1087;&#1080;&#1086;&#1085;&#1077;&#1088;&#1099;/&#1056;&#1072;&#1073;&#1086;&#1095;&#1080;&#1081;%20&#1089;&#1090;&#1086;&#1083;/&#1055;&#1080;&#1086;&#1085;&#1077;&#1088;&#1099;%20-%20&#1075;&#1077;&#1088;&#1086;&#1080;/2.&#1050;&#1086;&#1083;&#1086;&#1082;&#1086;&#1083;&#1072;%20&#1056;&#1086;&#1089;&#1089;&#1080;&#1080;%20(-)_.mp3" TargetMode="External"/><Relationship Id="rId3" Type="http://schemas.openxmlformats.org/officeDocument/2006/relationships/image" Target="../media/image25.png"/><Relationship Id="rId4" Type="http://schemas.openxmlformats.org/officeDocument/2006/relationships/image" Target="../media/image10.gi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file:///H:/Documents%20and%20Settings/&#1087;&#1080;&#1086;&#1085;&#1077;&#1088;&#1099;/&#1056;&#1072;&#1073;&#1086;&#1095;&#1080;&#1081;%20&#1089;&#1090;&#1086;&#1083;/&#1055;&#1080;&#1086;&#1085;&#1077;&#1088;&#1099;%20-%20&#1075;&#1077;&#1088;&#1086;&#1080;/36.&#1055;&#1072;&#1084;&#1103;&#1090;&#1100;_(+).mp3" TargetMode="External"/><Relationship Id="rId3" Type="http://schemas.microsoft.com/office/2007/relationships/media" Target="file:///H:/Documents%20and%20Settings/&#1087;&#1080;&#1086;&#1085;&#1077;&#1088;&#1099;/&#1056;&#1072;&#1073;&#1086;&#1095;&#1080;&#1081;%20&#1089;&#1090;&#1086;&#1083;/&#1055;&#1080;&#1086;&#1085;&#1077;&#1088;&#1099;%20-%20&#1075;&#1077;&#1088;&#1086;&#1080;/36.&#1055;&#1072;&#1084;&#1103;&#1090;&#1100;_(+).mp3" TargetMode="Externa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26.wmf"/><Relationship Id="rId3" Type="http://schemas.openxmlformats.org/officeDocument/2006/relationships/image" Target="../media/image10.gif"/><Relationship Id="rId4" Type="http://schemas.openxmlformats.org/officeDocument/2006/relationships/audio" Target="file:///H:/Documents%20and%20Settings/&#1087;&#1080;&#1086;&#1085;&#1077;&#1088;&#1099;/&#1056;&#1072;&#1073;&#1086;&#1095;&#1080;&#1081;%20&#1089;&#1090;&#1086;&#1083;/&#1055;&#1080;&#1086;&#1085;&#1077;&#1088;&#1099;%20-%20&#1075;&#1077;&#1088;&#1086;&#1080;/25.&#1042;&#1099;&#1079;&#1099;&#1074;&#1072;&#1102;%20&#1103;%20&#1080;&#1093;%20&#1080;&#1079;%20&#1073;&#1077;&#1089;&#1089;&#1084;&#1077;&#1088;&#1090;&#1080;&#1103;%20(+)%20&#1089;&#1083;.%20&#1043;.&#1042;&#1077;&#1076;&#1077;&#1085;&#1077;&#1077;&#1074;&#1072;.mp3" TargetMode="External"/><Relationship Id="rId5" Type="http://schemas.microsoft.com/office/2007/relationships/media" Target="file:///H:/Documents%20and%20Settings/&#1087;&#1080;&#1086;&#1085;&#1077;&#1088;&#1099;/&#1056;&#1072;&#1073;&#1086;&#1095;&#1080;&#1081;%20&#1089;&#1090;&#1086;&#1083;/&#1055;&#1080;&#1086;&#1085;&#1077;&#1088;&#1099;%20-%20&#1075;&#1077;&#1088;&#1086;&#1080;/25.&#1042;&#1099;&#1079;&#1099;&#1074;&#1072;&#1102;%20&#1103;%20&#1080;&#1093;%20&#1080;&#1079;%20&#1073;&#1077;&#1089;&#1089;&#1084;&#1077;&#1088;&#1090;&#1080;&#1103;%20(+)%20&#1089;&#1083;.%20&#1043;.&#1042;&#1077;&#1076;&#1077;&#1085;&#1077;&#1077;&#1074;&#1072;.mp3" TargetMode="External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14240" y="3200400"/>
            <a:ext cx="7857720" cy="32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2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ffff"/>
                </a:solidFill>
                <a:latin typeface="Perpetua"/>
              </a:rPr>
              <a:t>8 февраля – День юного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Perpetua"/>
              </a:rPr>
              <a:t>героя- антифашиста</a:t>
            </a:r>
            <a:endParaRPr b="0" lang="ru-RU" sz="5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1071360" y="64296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7" name="Рисунок 4" descr="http://img01.chitalnya.ru/upload/162/69240165222436.jpg"/>
          <p:cNvPicPr/>
          <p:nvPr/>
        </p:nvPicPr>
        <p:blipFill>
          <a:blip r:embed="rId1"/>
          <a:stretch/>
        </p:blipFill>
        <p:spPr>
          <a:xfrm>
            <a:off x="2143080" y="3214800"/>
            <a:ext cx="3785760" cy="3285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928800" y="857160"/>
            <a:ext cx="8214840" cy="435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Perpetua"/>
              </a:rPr>
              <a:t>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Perpetua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D:\Мои документы2\Пионеры-герои\1f4ef5adafd6cdc3d3f3610f4aae575c.gif"/>
          <p:cNvPicPr/>
          <p:nvPr/>
        </p:nvPicPr>
        <p:blipFill>
          <a:blip r:embed="rId1"/>
          <a:stretch/>
        </p:blipFill>
        <p:spPr>
          <a:xfrm>
            <a:off x="0" y="4500720"/>
            <a:ext cx="731520" cy="202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-main-pic" descr="Картинка 3 из 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4880" y="1500120"/>
            <a:ext cx="4642920" cy="4978080"/>
          </a:xfrm>
          <a:prstGeom prst="rect">
            <a:avLst/>
          </a:prstGeom>
          <a:ln w="9525">
            <a:noFill/>
          </a:ln>
        </p:spPr>
      </p:pic>
      <p:sp>
        <p:nvSpPr>
          <p:cNvPr id="175" name="Прямоугольник 2"/>
          <p:cNvSpPr/>
          <p:nvPr/>
        </p:nvSpPr>
        <p:spPr>
          <a:xfrm>
            <a:off x="428760" y="1357200"/>
            <a:ext cx="8286480" cy="158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Perpetua"/>
              </a:rPr>
              <a:t> 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  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 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500120" y="428760"/>
            <a:ext cx="4357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c00000"/>
                </a:solidFill>
                <a:latin typeface="Perpetua"/>
              </a:rPr>
              <a:t>Витя Хом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0" y="1357200"/>
            <a:ext cx="8857800" cy="539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Они жили героями и погибли как герои.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   Орденом Отечественной войны 1 степени – посмертно- наградила Родина своего бесстрашного сын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Perpetua"/>
              </a:rPr>
              <a:t>  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erpetua"/>
              </a:rPr>
              <a:t>  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:\Мои документы2\Пионеры-герои\1f4ef5adafd6cdc3d3f3610f4aae575c.gif"/>
          <p:cNvPicPr/>
          <p:nvPr/>
        </p:nvPicPr>
        <p:blipFill>
          <a:blip r:embed="rId1"/>
          <a:stretch/>
        </p:blipFill>
        <p:spPr>
          <a:xfrm>
            <a:off x="214200" y="4572000"/>
            <a:ext cx="731520" cy="202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28880" y="0"/>
            <a:ext cx="7214760" cy="68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c00000"/>
                </a:solidFill>
                <a:latin typeface="Perpetua"/>
              </a:rPr>
              <a:t>Это случилось 4 ноября 1943 года. Посмертно награждена орденом Отечественной войны I степени.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81" name="Рисунок 3" descr="http://gazeta.aif.ru/data/mags/kids/143/pics/22_01_15.jpg"/>
          <p:cNvPicPr/>
          <p:nvPr/>
        </p:nvPicPr>
        <p:blipFill>
          <a:blip r:embed="rId1"/>
          <a:stretch/>
        </p:blipFill>
        <p:spPr>
          <a:xfrm>
            <a:off x="3357720" y="1928880"/>
            <a:ext cx="4142880" cy="4000320"/>
          </a:xfrm>
          <a:prstGeom prst="rect">
            <a:avLst/>
          </a:prstGeom>
          <a:ln w="9525">
            <a:noFill/>
          </a:ln>
        </p:spPr>
      </p:pic>
      <p:pic>
        <p:nvPicPr>
          <p:cNvPr id="182" name="Picture 2" descr="J:\пионерыгерои\орден отеч. войны.jpg"/>
          <p:cNvPicPr/>
          <p:nvPr/>
        </p:nvPicPr>
        <p:blipFill>
          <a:blip r:embed="rId2"/>
          <a:stretch/>
        </p:blipFill>
        <p:spPr>
          <a:xfrm>
            <a:off x="153720" y="3286080"/>
            <a:ext cx="176292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14720" y="0"/>
            <a:ext cx="6928920" cy="68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Perpetua"/>
              </a:rPr>
              <a:t>Командующий Крымским фронтом, узнав о его гибели, отдал приказ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Perpetua"/>
              </a:rPr>
              <a:t>наградить посмертно юного патриота орденом Красного Знамени</a:t>
            </a:r>
            <a:r>
              <a:rPr b="0" lang="ru-RU" sz="2600" spc="-1" strike="noStrike">
                <a:solidFill>
                  <a:srgbClr val="c00000"/>
                </a:solidFill>
                <a:latin typeface="Perpetua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85" name="Рисунок 3" descr="http://gazeta.aif.ru/data/mags/kids/143/pics/22_01_10.jpg"/>
          <p:cNvPicPr/>
          <p:nvPr/>
        </p:nvPicPr>
        <p:blipFill>
          <a:blip r:embed="rId1"/>
          <a:stretch/>
        </p:blipFill>
        <p:spPr>
          <a:xfrm>
            <a:off x="4143240" y="2428920"/>
            <a:ext cx="3166560" cy="349524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2" descr="J:\пионерыгерои\орден красного знамени.png"/>
          <p:cNvPicPr/>
          <p:nvPr/>
        </p:nvPicPr>
        <p:blipFill>
          <a:blip r:embed="rId2"/>
          <a:stretch/>
        </p:blipFill>
        <p:spPr>
          <a:xfrm>
            <a:off x="642960" y="3357720"/>
            <a:ext cx="1371600" cy="1581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J:\пионерыгерои\орден красного знамени.png"/>
          <p:cNvPicPr/>
          <p:nvPr/>
        </p:nvPicPr>
        <p:blipFill>
          <a:blip r:embed="rId3"/>
          <a:stretch/>
        </p:blipFill>
        <p:spPr>
          <a:xfrm>
            <a:off x="795240" y="3000240"/>
            <a:ext cx="2133360" cy="20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Их жизнь и подвиг стали сюжетами для фильмов. 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89" name="Содержимое 3" descr="http://gazeta.aif.ru/data/mags/kids/143/pics/22_01_10.jpg"/>
          <p:cNvPicPr/>
          <p:nvPr/>
        </p:nvPicPr>
        <p:blipFill>
          <a:blip r:embed="rId1"/>
          <a:stretch/>
        </p:blipFill>
        <p:spPr>
          <a:xfrm>
            <a:off x="1785960" y="2643120"/>
            <a:ext cx="2381040" cy="2781000"/>
          </a:xfrm>
          <a:prstGeom prst="rect">
            <a:avLst/>
          </a:prstGeom>
          <a:ln w="9525">
            <a:noFill/>
          </a:ln>
        </p:spPr>
      </p:pic>
      <p:pic>
        <p:nvPicPr>
          <p:cNvPr id="190" name="Рисунок 4" descr="http://gazeta.aif.ru/data/mags/kids/143/pics/22_01_15.jpg"/>
          <p:cNvPicPr/>
          <p:nvPr/>
        </p:nvPicPr>
        <p:blipFill>
          <a:blip r:embed="rId2"/>
          <a:stretch/>
        </p:blipFill>
        <p:spPr>
          <a:xfrm>
            <a:off x="6000840" y="2643120"/>
            <a:ext cx="2104560" cy="2809440"/>
          </a:xfrm>
          <a:prstGeom prst="rect">
            <a:avLst/>
          </a:prstGeom>
          <a:ln w="9525">
            <a:noFill/>
          </a:ln>
        </p:spPr>
      </p:pic>
      <p:sp>
        <p:nvSpPr>
          <p:cNvPr id="191" name="TextBox 5"/>
          <p:cNvSpPr/>
          <p:nvPr/>
        </p:nvSpPr>
        <p:spPr>
          <a:xfrm>
            <a:off x="2000160" y="5500800"/>
            <a:ext cx="192852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олод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Дуби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6143760" y="5572080"/>
            <a:ext cx="192852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Л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Михе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Девочка из блокадного Ленинград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857320" y="1447920"/>
            <a:ext cx="6286320" cy="51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95" name="Picture 3" descr="http://im8-tub.yandex.net/i?id=21150795&amp;tov=8"/>
          <p:cNvPicPr/>
          <p:nvPr/>
        </p:nvPicPr>
        <p:blipFill>
          <a:blip r:embed="rId1"/>
          <a:stretch/>
        </p:blipFill>
        <p:spPr>
          <a:xfrm>
            <a:off x="4429080" y="1428840"/>
            <a:ext cx="3113280" cy="2356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http://im3-tub.yandex.net/i?id=22706766&amp;tov=3"/>
          <p:cNvPicPr/>
          <p:nvPr/>
        </p:nvPicPr>
        <p:blipFill>
          <a:blip r:embed="rId2"/>
          <a:stretch/>
        </p:blipFill>
        <p:spPr>
          <a:xfrm>
            <a:off x="4429080" y="4357800"/>
            <a:ext cx="3080520" cy="20714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500040" y="3500280"/>
            <a:ext cx="278568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Та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Савич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214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Почему 8 февраля стало Днём юного героя-антифашист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99" name="Содержимое 3" descr="http://gazeta.aif.ru/data/mags/kids/143/pics/22_01_06.jpg"/>
          <p:cNvPicPr/>
          <p:nvPr/>
        </p:nvPicPr>
        <p:blipFill>
          <a:blip r:embed="rId1"/>
          <a:stretch/>
        </p:blipFill>
        <p:spPr>
          <a:xfrm>
            <a:off x="4643280" y="1285920"/>
            <a:ext cx="1642680" cy="1999800"/>
          </a:xfrm>
          <a:prstGeom prst="rect">
            <a:avLst/>
          </a:prstGeom>
          <a:ln w="9525">
            <a:noFill/>
          </a:ln>
        </p:spPr>
      </p:pic>
      <p:pic>
        <p:nvPicPr>
          <p:cNvPr id="200" name="Рисунок 4" descr="http://gazeta.aif.ru/data/mags/kids/143/pics/22_01_07.jpg"/>
          <p:cNvPicPr/>
          <p:nvPr/>
        </p:nvPicPr>
        <p:blipFill>
          <a:blip r:embed="rId2"/>
          <a:stretch/>
        </p:blipFill>
        <p:spPr>
          <a:xfrm>
            <a:off x="642960" y="4000680"/>
            <a:ext cx="1571400" cy="2071440"/>
          </a:xfrm>
          <a:prstGeom prst="rect">
            <a:avLst/>
          </a:prstGeom>
          <a:ln w="9525">
            <a:noFill/>
          </a:ln>
        </p:spPr>
      </p:pic>
      <p:pic>
        <p:nvPicPr>
          <p:cNvPr id="201" name="Рисунок 5" descr="http://gazeta.aif.ru/data/mags/kids/143/pics/22_01_08.jpg"/>
          <p:cNvPicPr/>
          <p:nvPr/>
        </p:nvPicPr>
        <p:blipFill>
          <a:blip r:embed="rId3"/>
          <a:stretch/>
        </p:blipFill>
        <p:spPr>
          <a:xfrm>
            <a:off x="2500200" y="1357200"/>
            <a:ext cx="1642680" cy="1856880"/>
          </a:xfrm>
          <a:prstGeom prst="rect">
            <a:avLst/>
          </a:prstGeom>
          <a:ln w="9525">
            <a:noFill/>
          </a:ln>
        </p:spPr>
      </p:pic>
      <p:pic>
        <p:nvPicPr>
          <p:cNvPr id="202" name="Рисунок 6" descr="http://gazeta.aif.ru/data/mags/kids/143/pics/22_01_09.jpg"/>
          <p:cNvPicPr/>
          <p:nvPr/>
        </p:nvPicPr>
        <p:blipFill>
          <a:blip r:embed="rId4"/>
          <a:stretch/>
        </p:blipFill>
        <p:spPr>
          <a:xfrm>
            <a:off x="2643120" y="4000680"/>
            <a:ext cx="1428480" cy="1999800"/>
          </a:xfrm>
          <a:prstGeom prst="rect">
            <a:avLst/>
          </a:prstGeom>
          <a:ln w="9525">
            <a:noFill/>
          </a:ln>
        </p:spPr>
      </p:pic>
      <p:pic>
        <p:nvPicPr>
          <p:cNvPr id="203" name="Рисунок 7" descr="http://gazeta.aif.ru/data/mags/kids/143/pics/22_01_11.jpg"/>
          <p:cNvPicPr/>
          <p:nvPr/>
        </p:nvPicPr>
        <p:blipFill>
          <a:blip r:embed="rId5"/>
          <a:stretch/>
        </p:blipFill>
        <p:spPr>
          <a:xfrm>
            <a:off x="285840" y="1143000"/>
            <a:ext cx="1499760" cy="1928520"/>
          </a:xfrm>
          <a:prstGeom prst="rect">
            <a:avLst/>
          </a:prstGeom>
          <a:ln w="9525">
            <a:noFill/>
          </a:ln>
        </p:spPr>
      </p:pic>
      <p:pic>
        <p:nvPicPr>
          <p:cNvPr id="204" name="Рисунок 8" descr="http://gazeta.aif.ru/data/mags/kids/143/pics/22_01_12.jpg"/>
          <p:cNvPicPr/>
          <p:nvPr/>
        </p:nvPicPr>
        <p:blipFill>
          <a:blip r:embed="rId6"/>
          <a:stretch/>
        </p:blipFill>
        <p:spPr>
          <a:xfrm>
            <a:off x="4714920" y="4000680"/>
            <a:ext cx="1428480" cy="2071440"/>
          </a:xfrm>
          <a:prstGeom prst="rect">
            <a:avLst/>
          </a:prstGeom>
          <a:ln w="9525">
            <a:noFill/>
          </a:ln>
        </p:spPr>
      </p:pic>
      <p:pic>
        <p:nvPicPr>
          <p:cNvPr id="205" name="Рисунок 9" descr="http://gazeta.aif.ru/data/mags/kids/143/pics/22_01_13.jpg"/>
          <p:cNvPicPr/>
          <p:nvPr/>
        </p:nvPicPr>
        <p:blipFill>
          <a:blip r:embed="rId7"/>
          <a:stretch/>
        </p:blipFill>
        <p:spPr>
          <a:xfrm>
            <a:off x="6858000" y="1000080"/>
            <a:ext cx="1499760" cy="2142720"/>
          </a:xfrm>
          <a:prstGeom prst="rect">
            <a:avLst/>
          </a:prstGeom>
          <a:ln w="9525">
            <a:noFill/>
          </a:ln>
        </p:spPr>
      </p:pic>
      <p:pic>
        <p:nvPicPr>
          <p:cNvPr id="206" name="Рисунок 10" descr="http://gazeta.aif.ru/data/mags/kids/143/pics/22_01_16.jpg"/>
          <p:cNvPicPr/>
          <p:nvPr/>
        </p:nvPicPr>
        <p:blipFill>
          <a:blip r:embed="rId8"/>
          <a:stretch/>
        </p:blipFill>
        <p:spPr>
          <a:xfrm>
            <a:off x="6786720" y="3929040"/>
            <a:ext cx="1642680" cy="2142720"/>
          </a:xfrm>
          <a:prstGeom prst="rect">
            <a:avLst/>
          </a:prstGeom>
          <a:ln w="9525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8280" y="1440"/>
            <a:ext cx="226800" cy="28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214200" y="3143160"/>
            <a:ext cx="185688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Са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овалё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2357280" y="3214800"/>
            <a:ext cx="185688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Га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омл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15"/>
          <p:cNvSpPr/>
          <p:nvPr/>
        </p:nvSpPr>
        <p:spPr>
          <a:xfrm>
            <a:off x="4572000" y="3214800"/>
            <a:ext cx="185688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асилий Короб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6715080" y="3214800"/>
            <a:ext cx="185688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Мар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ро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357120" y="6000840"/>
            <a:ext cx="185688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ит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Хом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2428920" y="6000840"/>
            <a:ext cx="1856880" cy="1186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Ю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Бондаров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19"/>
          <p:cNvSpPr/>
          <p:nvPr/>
        </p:nvSpPr>
        <p:spPr>
          <a:xfrm>
            <a:off x="4572000" y="6000840"/>
            <a:ext cx="185688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Н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уковер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20"/>
          <p:cNvSpPr/>
          <p:nvPr/>
        </p:nvSpPr>
        <p:spPr>
          <a:xfrm>
            <a:off x="6572160" y="6000840"/>
            <a:ext cx="185688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Ш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об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857160" y="500040"/>
            <a:ext cx="5571720" cy="691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азве погиб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ы  нам завещ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д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Жизнь обещ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Любовь обещ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ди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азве для смер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ждаются де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д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азве хо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ы нашей смер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д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72680" y="62866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D:\Мои документы2\Пионеры-герои\1f4ef5adafd6cdc3d3f3610f4aae575c.gif"/>
          <p:cNvPicPr/>
          <p:nvPr/>
        </p:nvPicPr>
        <p:blipFill>
          <a:blip r:embed="rId4"/>
          <a:stretch/>
        </p:blipFill>
        <p:spPr>
          <a:xfrm>
            <a:off x="357120" y="4829040"/>
            <a:ext cx="999720" cy="2028600"/>
          </a:xfrm>
          <a:prstGeom prst="rect">
            <a:avLst/>
          </a:prstGeom>
          <a:ln w="9525">
            <a:noFill/>
          </a:ln>
        </p:spPr>
      </p:pic>
      <p:pic>
        <p:nvPicPr>
          <p:cNvPr id="219" name="Picture 2" descr="J:\пионерыгерои\орден красного знамени.png"/>
          <p:cNvPicPr/>
          <p:nvPr/>
        </p:nvPicPr>
        <p:blipFill>
          <a:blip r:embed="rId5"/>
          <a:stretch/>
        </p:blipFill>
        <p:spPr>
          <a:xfrm>
            <a:off x="6090480" y="379800"/>
            <a:ext cx="2767320" cy="319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mediacall">
                                  <p:stCondLst>
                                    <p:cond delay="52000"/>
                                  </p:stCondLst>
                                  <p:childTnLst>
                                    <p:cmd type="call" cmd="play">
                                      <p:cBhvr>
                                        <p:cTn id="266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0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1000080" y="1000080"/>
            <a:ext cx="7143480" cy="447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Perpetua"/>
              </a:rPr>
              <a:t>Минута молчань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Perpetua"/>
              </a:rPr>
              <a:t>Склонитесь, и молод, и ста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Perpetua"/>
              </a:rPr>
              <a:t>В честь тех, кто за счасть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Perpetua"/>
              </a:rPr>
              <a:t>Кто жизнь ради жизни отд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D:\Мои документы2\Пионеры-герои\1f4ef5adafd6cdc3d3f3610f4aae575c.gif"/>
          <p:cNvPicPr/>
          <p:nvPr/>
        </p:nvPicPr>
        <p:blipFill>
          <a:blip r:embed="rId1"/>
          <a:stretch/>
        </p:blipFill>
        <p:spPr>
          <a:xfrm>
            <a:off x="357120" y="4572000"/>
            <a:ext cx="731520" cy="202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Пионеры- герои Великой Отечественной войны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7120" y="1447920"/>
            <a:ext cx="8500680" cy="51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Perpetua"/>
              </a:rPr>
              <a:t>     </a:t>
            </a: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Когда началась война, на защиту России поднялись тысячи мальчиков и девочек, твоих ровесников.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         </a:t>
            </a: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Они порой делали то,  что не под силу было сильным мужчинам.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Что руководило ими в ту грозную пору?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Тяга к приключениям?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Ответственность за судьбу своей страны?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Ненависть к оккупантам?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                     </a:t>
            </a: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Наверное, всё вместе.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         </a:t>
            </a: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Они совершили истинный подвиг.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285840" y="642960"/>
            <a:ext cx="8643600" cy="447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Perpetua"/>
              </a:rPr>
              <a:t>И  ложатся цветы на могильные плит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Perpetua"/>
              </a:rPr>
              <a:t>Нет! Никто не забыт и ничто не забыт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Perpetua"/>
              </a:rPr>
              <a:t>Люди! Покуда сердца стуча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Perpetua"/>
              </a:rPr>
              <a:t>Помните, какою ценой завоёвано счасть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Perpetua"/>
              </a:rPr>
              <a:t>Пожалуйста, 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D:\Мои документы2\Пионеры-герои\1f4ef5adafd6cdc3d3f3610f4aae575c.gif"/>
          <p:cNvPicPr/>
          <p:nvPr/>
        </p:nvPicPr>
        <p:blipFill>
          <a:blip r:embed="rId1"/>
          <a:stretch/>
        </p:blipFill>
        <p:spPr>
          <a:xfrm>
            <a:off x="357120" y="4224240"/>
            <a:ext cx="1142640" cy="2376000"/>
          </a:xfrm>
          <a:prstGeom prst="rect">
            <a:avLst/>
          </a:prstGeom>
          <a:ln w="9525">
            <a:noFill/>
          </a:ln>
        </p:spPr>
      </p:pic>
      <p:pic>
        <p:nvPicPr>
          <p:cNvPr id="22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01040" y="5857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>
                                  <p:stCondLst>
                                    <p:cond delay="3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42960" y="3200400"/>
            <a:ext cx="7929360" cy="34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/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ечная  память!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285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5"/>
          <p:cNvSpPr/>
          <p:nvPr/>
        </p:nvSpPr>
        <p:spPr>
          <a:xfrm>
            <a:off x="357120" y="571680"/>
            <a:ext cx="79293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0000"/>
                </a:solidFill>
                <a:latin typeface="Perpetua"/>
              </a:rPr>
              <a:t>Пионеры - геро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1214280" y="1714680"/>
          <a:ext cx="7000560" cy="435744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714680"/>
                    <a:ext cx="700056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Picture 4" descr="D:\Мои документы2\Пионеры-герои\1f4ef5adafd6cdc3d3f3610f4aae575c.gif"/>
          <p:cNvPicPr/>
          <p:nvPr/>
        </p:nvPicPr>
        <p:blipFill>
          <a:blip r:embed="rId3"/>
          <a:stretch/>
        </p:blipFill>
        <p:spPr>
          <a:xfrm>
            <a:off x="214200" y="4572000"/>
            <a:ext cx="731520" cy="2028600"/>
          </a:xfrm>
          <a:prstGeom prst="rect">
            <a:avLst/>
          </a:prstGeom>
          <a:ln w="9525">
            <a:noFill/>
          </a:ln>
        </p:spPr>
      </p:pic>
      <p:pic>
        <p:nvPicPr>
          <p:cNvPr id="23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0104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76950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357280" y="214200"/>
            <a:ext cx="6643440" cy="64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Perpetua"/>
              </a:rPr>
              <a:t>   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Погиб весной 1943 года в неравном бою. </a:t>
            </a: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Посмертно ему присвоено звание </a:t>
            </a: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               </a:t>
            </a: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Героя Советского Союза. </a:t>
            </a: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2" name="Рисунок 3" descr="http://gazeta.aif.ru/data/mags/kids/143/pics/22_01_02.jpg"/>
          <p:cNvPicPr/>
          <p:nvPr/>
        </p:nvPicPr>
        <p:blipFill>
          <a:blip r:embed="rId1"/>
          <a:stretch/>
        </p:blipFill>
        <p:spPr>
          <a:xfrm>
            <a:off x="2714760" y="428760"/>
            <a:ext cx="2928600" cy="2499840"/>
          </a:xfrm>
          <a:prstGeom prst="rect">
            <a:avLst/>
          </a:prstGeom>
          <a:ln w="9525">
            <a:noFill/>
          </a:ln>
        </p:spPr>
      </p:pic>
      <p:pic>
        <p:nvPicPr>
          <p:cNvPr id="143" name="Picture 2" descr="J:\пионерыгерои\герой ссср.jpg"/>
          <p:cNvPicPr/>
          <p:nvPr/>
        </p:nvPicPr>
        <p:blipFill>
          <a:blip r:embed="rId2"/>
          <a:stretch/>
        </p:blipFill>
        <p:spPr>
          <a:xfrm>
            <a:off x="214200" y="2714760"/>
            <a:ext cx="233712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43080" y="0"/>
            <a:ext cx="6857640" cy="67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Посмертно стал </a:t>
            </a: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Героем Советского Союза. </a:t>
            </a: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6" name="Рисунок 3" descr="http://gazeta.aif.ru/data/mags/kids/143/pics/22_01_03.jpg"/>
          <p:cNvPicPr/>
          <p:nvPr/>
        </p:nvPicPr>
        <p:blipFill>
          <a:blip r:embed="rId1"/>
          <a:stretch/>
        </p:blipFill>
        <p:spPr>
          <a:xfrm>
            <a:off x="3500280" y="285840"/>
            <a:ext cx="2857320" cy="3142800"/>
          </a:xfrm>
          <a:prstGeom prst="rect">
            <a:avLst/>
          </a:prstGeom>
          <a:ln w="9525">
            <a:noFill/>
          </a:ln>
        </p:spPr>
      </p:pic>
      <p:pic>
        <p:nvPicPr>
          <p:cNvPr id="147" name="Picture 2" descr="J:\пионерыгерои\герой ссср.jpg"/>
          <p:cNvPicPr/>
          <p:nvPr/>
        </p:nvPicPr>
        <p:blipFill>
          <a:blip r:embed="rId2"/>
          <a:stretch/>
        </p:blipFill>
        <p:spPr>
          <a:xfrm>
            <a:off x="428760" y="3214800"/>
            <a:ext cx="190872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28880" y="0"/>
            <a:ext cx="7071840" cy="67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Посмертно присвоено звание </a:t>
            </a: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         </a:t>
            </a: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Героя Советского Союза. </a:t>
            </a: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50" name="Рисунок 3" descr="http://gazeta.aif.ru/data/mags/kids/143/pics/22_01_05.jpg"/>
          <p:cNvPicPr/>
          <p:nvPr/>
        </p:nvPicPr>
        <p:blipFill>
          <a:blip r:embed="rId1"/>
          <a:stretch/>
        </p:blipFill>
        <p:spPr>
          <a:xfrm>
            <a:off x="3071880" y="142920"/>
            <a:ext cx="2999880" cy="2999880"/>
          </a:xfrm>
          <a:prstGeom prst="rect">
            <a:avLst/>
          </a:prstGeom>
          <a:ln w="9525">
            <a:noFill/>
          </a:ln>
        </p:spPr>
      </p:pic>
      <p:pic>
        <p:nvPicPr>
          <p:cNvPr id="151" name="Picture 2" descr="J:\пионерыгерои\герой ссср.jpg"/>
          <p:cNvPicPr/>
          <p:nvPr/>
        </p:nvPicPr>
        <p:blipFill>
          <a:blip r:embed="rId2"/>
          <a:stretch/>
        </p:blipFill>
        <p:spPr>
          <a:xfrm>
            <a:off x="285840" y="3357720"/>
            <a:ext cx="2142720" cy="16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357280" y="0"/>
            <a:ext cx="6786360" cy="67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 algn="ctr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c00000"/>
                </a:solidFill>
                <a:latin typeface="Perpetua"/>
              </a:rPr>
              <a:t>Посмертно присвоено звание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Perpetua"/>
              </a:rPr>
              <a:t>                </a:t>
            </a:r>
            <a:r>
              <a:rPr b="1" lang="ru-RU" sz="2600" spc="-1" strike="noStrike">
                <a:solidFill>
                  <a:srgbClr val="c00000"/>
                </a:solidFill>
                <a:latin typeface="Perpetua"/>
              </a:rPr>
              <a:t>Героя Советского Союза.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54" name="Рисунок 3" descr="http://gazeta.aif.ru/data/mags/kids/143/pics/22_01_04.jpg"/>
          <p:cNvPicPr/>
          <p:nvPr/>
        </p:nvPicPr>
        <p:blipFill>
          <a:blip r:embed="rId1"/>
          <a:stretch/>
        </p:blipFill>
        <p:spPr>
          <a:xfrm>
            <a:off x="3143160" y="214200"/>
            <a:ext cx="307152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5" name="Picture 2" descr="J:\пионерыгерои\герой ссср.jpg"/>
          <p:cNvPicPr/>
          <p:nvPr/>
        </p:nvPicPr>
        <p:blipFill>
          <a:blip r:embed="rId2"/>
          <a:stretch/>
        </p:blipFill>
        <p:spPr>
          <a:xfrm>
            <a:off x="571320" y="3357720"/>
            <a:ext cx="228564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gradFill rotWithShape="0">
            <a:gsLst>
              <a:gs pos="0">
                <a:srgbClr val="fadfde"/>
              </a:gs>
              <a:gs pos="100000">
                <a:srgbClr val="f7958c"/>
              </a:gs>
            </a:gsLst>
            <a:lin ang="2700000"/>
          </a:gradFill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ГЕРОИ   Советского Союза</a:t>
            </a:r>
            <a:endParaRPr b="0" lang="ru-RU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57" name="Содержимое 3" descr="http://gazeta.aif.ru/data/mags/kids/143/pics/22_01_02.jpg"/>
          <p:cNvPicPr/>
          <p:nvPr/>
        </p:nvPicPr>
        <p:blipFill>
          <a:blip r:embed="rId1"/>
          <a:stretch/>
        </p:blipFill>
        <p:spPr>
          <a:xfrm>
            <a:off x="0" y="1785960"/>
            <a:ext cx="2180880" cy="2809440"/>
          </a:xfrm>
          <a:prstGeom prst="rect">
            <a:avLst/>
          </a:prstGeom>
          <a:ln w="9525">
            <a:noFill/>
          </a:ln>
        </p:spPr>
      </p:pic>
      <p:pic>
        <p:nvPicPr>
          <p:cNvPr id="158" name="Рисунок 4" descr="http://gazeta.aif.ru/data/mags/kids/143/pics/22_01_03.jpg"/>
          <p:cNvPicPr/>
          <p:nvPr/>
        </p:nvPicPr>
        <p:blipFill>
          <a:blip r:embed="rId2"/>
          <a:stretch/>
        </p:blipFill>
        <p:spPr>
          <a:xfrm>
            <a:off x="2286000" y="3500280"/>
            <a:ext cx="2161800" cy="2809440"/>
          </a:xfrm>
          <a:prstGeom prst="rect">
            <a:avLst/>
          </a:prstGeom>
          <a:ln w="9525">
            <a:noFill/>
          </a:ln>
        </p:spPr>
      </p:pic>
      <p:pic>
        <p:nvPicPr>
          <p:cNvPr id="159" name="Рисунок 5" descr="http://gazeta.aif.ru/data/mags/kids/143/pics/22_01_04.jpg"/>
          <p:cNvPicPr/>
          <p:nvPr/>
        </p:nvPicPr>
        <p:blipFill>
          <a:blip r:embed="rId3"/>
          <a:stretch/>
        </p:blipFill>
        <p:spPr>
          <a:xfrm>
            <a:off x="4572000" y="3500280"/>
            <a:ext cx="2285640" cy="2714400"/>
          </a:xfrm>
          <a:prstGeom prst="rect">
            <a:avLst/>
          </a:prstGeom>
          <a:ln w="9525">
            <a:noFill/>
          </a:ln>
        </p:spPr>
      </p:pic>
      <p:pic>
        <p:nvPicPr>
          <p:cNvPr id="160" name="Рисунок 6" descr="http://gazeta.aif.ru/data/mags/kids/143/pics/22_01_05.jpg"/>
          <p:cNvPicPr/>
          <p:nvPr/>
        </p:nvPicPr>
        <p:blipFill>
          <a:blip r:embed="rId4"/>
          <a:stretch/>
        </p:blipFill>
        <p:spPr>
          <a:xfrm>
            <a:off x="7000920" y="1714320"/>
            <a:ext cx="2142720" cy="2809440"/>
          </a:xfrm>
          <a:prstGeom prst="rect">
            <a:avLst/>
          </a:prstGeom>
          <a:ln w="9525">
            <a:noFill/>
          </a:ln>
        </p:spPr>
      </p:pic>
      <p:sp>
        <p:nvSpPr>
          <p:cNvPr id="161" name="TextBox 7"/>
          <p:cNvSpPr/>
          <p:nvPr/>
        </p:nvSpPr>
        <p:spPr>
          <a:xfrm>
            <a:off x="0" y="4643280"/>
            <a:ext cx="214272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Лён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Гол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2286000" y="6072120"/>
            <a:ext cx="214272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Мар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аз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4572000" y="6072120"/>
            <a:ext cx="214272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Зина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Порт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6929280" y="4500720"/>
            <a:ext cx="221436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ален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от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4"/>
          <p:cNvGraphicFramePr/>
          <p:nvPr/>
        </p:nvGraphicFramePr>
        <p:xfrm>
          <a:off x="2143080" y="2071800"/>
          <a:ext cx="3785760" cy="304128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2071800"/>
                    <a:ext cx="3785760" cy="30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Box 6"/>
          <p:cNvSpPr/>
          <p:nvPr/>
        </p:nvSpPr>
        <p:spPr>
          <a:xfrm>
            <a:off x="785880" y="642960"/>
            <a:ext cx="5357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Perpetua"/>
              </a:rPr>
              <a:t>Витя Короб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28760" y="1431720"/>
            <a:ext cx="10998000" cy="45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D:\Мои документы2\Пионеры-герои\tn_00Вася Коробко.jpg"/>
          <p:cNvPicPr/>
          <p:nvPr/>
        </p:nvPicPr>
        <p:blipFill>
          <a:blip r:embed="rId1"/>
          <a:stretch/>
        </p:blipFill>
        <p:spPr>
          <a:xfrm>
            <a:off x="3071880" y="2428920"/>
            <a:ext cx="3428640" cy="3071520"/>
          </a:xfrm>
          <a:prstGeom prst="rect">
            <a:avLst/>
          </a:prstGeom>
          <a:ln w="9525">
            <a:noFill/>
          </a:ln>
        </p:spPr>
      </p:pic>
      <p:sp>
        <p:nvSpPr>
          <p:cNvPr id="170" name="TextBox 4"/>
          <p:cNvSpPr/>
          <p:nvPr/>
        </p:nvSpPr>
        <p:spPr>
          <a:xfrm>
            <a:off x="1000080" y="0"/>
            <a:ext cx="4714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Perpetua"/>
              </a:rPr>
              <a:t>Вася Короб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285840" y="571680"/>
            <a:ext cx="7357680" cy="13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  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 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244</TotalTime>
  <Application>LibreOffice/7.4.7.2$Linux_X86_64 LibreOffice_project/40$Build-2</Application>
  <AppVersion>15.0000</AppVersion>
  <Words>268</Words>
  <Paragraphs>12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8:37:23Z</dcterms:created>
  <dc:creator>Лера</dc:creator>
  <dc:description/>
  <dc:language>en-US</dc:language>
  <cp:lastModifiedBy>Анютка</cp:lastModifiedBy>
  <dcterms:modified xsi:type="dcterms:W3CDTF">2013-01-14T13:55:16Z</dcterms:modified>
  <cp:revision>47</cp:revision>
  <dc:subject/>
  <dc:title>8 февраля – День юного героя- антифашис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22</vt:r8>
  </property>
</Properties>
</file>