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gif" ContentType="image/gif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F4078-FD67-4E81-824F-EFDE86324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C07C2-4042-42A4-B454-3BE27F4EF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39361-BFFE-43D1-9EB9-CFEB618F4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59B68-D70F-4D64-9150-6F4DB9BBB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3975A-2B78-4008-8CBD-9DE8A4791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22535-738B-4248-80E2-49A664F12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0617C-957A-4EFB-A31C-EC305C82C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74CD2-BF91-432B-B106-7958D2CB8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A1757-B14E-4FC1-A64F-2A47EDA0A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EE5E5-2EDB-4A29-9518-D6A595308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C14C8-D808-4C16-AAA7-D3E22E168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33AB9-F9E7-49D6-AAB4-8111C17C3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32B20-EB4C-4385-A575-4AF45148D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B36C8-66FA-49B2-9958-910370EF2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C77F6-F876-48BF-B58B-B5F7576E4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0BCB1-E23C-4694-9C2C-8B3F62517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6A1E6-27A0-4593-96A7-B2F8DC89D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305FB-4169-42F3-9A64-BD0B1B544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33051-7EB7-4CCF-95B8-0E8166318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F9BF4-5331-4950-9B1D-92A4AB7F5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91535-F5FB-4F2B-A6D6-D052D0B3B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E213E-9C04-4F55-AB0A-226F895EC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BE826-35BD-47A0-86E7-410DF0EAA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8EB38-52E6-4625-8D35-2E4908A44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7942E-FF60-4E4A-8463-F2806F3BA61C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4D782-4E3F-4073-9E86-4DACE2BC6B8C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6;&#1077;&#1089;&#1087;&#1091;&#1073;&#1083;&#1080;&#1082;&#1072;_(&#1080;&#1079;&#1076;&#1072;&#1090;&#1077;&#1083;&#1100;&#1089;&#1090;&#1074;&#1086;)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10920" y="691920"/>
            <a:ext cx="7993080" cy="865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ecff"/>
                </a:solidFill>
                <a:latin typeface="Arial"/>
              </a:rPr>
              <a:t>Серебряно-Прудская СОШ имени маршала В.</a:t>
            </a:r>
            <a:r>
              <a:rPr b="0" lang="en-US" sz="18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ccecff"/>
                </a:solidFill>
                <a:latin typeface="Arial"/>
              </a:rPr>
              <a:t>И.</a:t>
            </a:r>
            <a:r>
              <a:rPr b="0" lang="en-US" sz="18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ccecff"/>
                </a:solidFill>
                <a:latin typeface="Arial"/>
              </a:rPr>
              <a:t>Чуйкова</a:t>
            </a: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32000" y="2205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ПРОЕКТНАЯ РАБОТА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СТРАНЫ МИРА.ЯПОНИЯ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Text Box 4"/>
          <p:cNvSpPr/>
          <p:nvPr/>
        </p:nvSpPr>
        <p:spPr>
          <a:xfrm>
            <a:off x="956880" y="4859280"/>
            <a:ext cx="484236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Автор: Тундавин Игорь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,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 2В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,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 п.г.т. Серебряные Пруды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Руководитель проекта: Колганова Е.В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Консультант: Тундавина О.В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9" name="Yaponskaya-muzyka-enigma-krasivaya-relaksiruyuschaya-melodiya(muzofon.com).mp3" descr=""/>
          <p:cNvPicPr/>
          <p:nvPr/>
        </p:nvPicPr>
        <p:blipFill>
          <a:blip r:embed="rId1"/>
          <a:stretch/>
        </p:blipFill>
        <p:spPr>
          <a:xfrm>
            <a:off x="4267080" y="31240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ПРОДУКТ ПРОЕКТА.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86" name="Picture 4" descr="DSC01499"/>
          <p:cNvPicPr/>
          <p:nvPr/>
        </p:nvPicPr>
        <p:blipFill>
          <a:blip r:embed="rId1"/>
          <a:stretch/>
        </p:blipFill>
        <p:spPr>
          <a:xfrm>
            <a:off x="2340000" y="2421000"/>
            <a:ext cx="4489560" cy="336708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circl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ВЫВОДЫ.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Text Box 5"/>
          <p:cNvSpPr/>
          <p:nvPr/>
        </p:nvSpPr>
        <p:spPr>
          <a:xfrm>
            <a:off x="633600" y="1589040"/>
            <a:ext cx="4045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Я УЗНАЛ МНОГО ИНТЕРЕСНОГО О ЯПОНИИ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ЭТО КРАСИВАЯ И СВОЕОБРАЗНАЯ СТРАНА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С БОГАТОЙ КУЛЬТУРОЙ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 advTm="5000">
    <p:push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5"/>
          <p:cNvSpPr/>
          <p:nvPr/>
        </p:nvSpPr>
        <p:spPr>
          <a:xfrm>
            <a:off x="755640" y="2133720"/>
            <a:ext cx="6337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comic"/>
              </a:rPr>
              <a:t>СПАСИБО ЗА ВНИМАНИЕ</a:t>
            </a:r>
            <a:r>
              <a:rPr b="0" i="1" lang="ru-RU" sz="4800" spc="-1" strike="noStrike">
                <a:solidFill>
                  <a:srgbClr val="ffffff"/>
                </a:solidFill>
                <a:latin typeface="comic"/>
              </a:rPr>
              <a:t>!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ccecff"/>
                </a:solidFill>
                <a:latin typeface="Arial"/>
              </a:rPr>
              <a:t>ЦЕЛЬ: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РАСШИРИТЬ  ЗНАНИЯ О ВЫБРАННОЙ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СТРАНЕ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Verdana"/>
              </a:rPr>
              <a:t>ЗАДАЧИ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Verdana"/>
              </a:rPr>
              <a:t>1.Найти и выбрать материал о стране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Verdana"/>
              </a:rPr>
              <a:t>2.Сделать продукт проекта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 advTm="5000"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Список литературы: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1.Япония: Справочник / Составители: В. Н. Ерёмин, К. О. Саркисов, А. И. Сенаторов; Под общ. ред. Г. Ф. Кима, К. О. Саркисова, А. И. Сенаторова. — М.: </a:t>
            </a:r>
            <a:r>
              <a:rPr b="0" lang="ru-RU" sz="1400" spc="-1" strike="noStrike" u="sng">
                <a:solidFill>
                  <a:srgbClr val="ffffcc"/>
                </a:solidFill>
                <a:uFillTx/>
                <a:latin typeface="Verdana"/>
                <a:hlinkClick r:id="rId1"/>
              </a:rPr>
              <a:t>Республика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, 1992. — 544 с. 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2. http://xn--p1af1b.xn--p1ai/%D0%AF%D0%BF%D0%BE%D0%BD%D0%B8%D1%8F 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3. </a:t>
            </a:r>
            <a:r>
              <a:rPr b="0" i="1" lang="ru-RU" sz="1400" spc="-1" strike="noStrike">
                <a:solidFill>
                  <a:srgbClr val="ffffff"/>
                </a:solidFill>
                <a:latin typeface="Verdana"/>
              </a:rPr>
              <a:t>Япония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 — статья из </a:t>
            </a:r>
            <a:r>
              <a:rPr b="0" lang="ru-RU" sz="1400" spc="-1" strike="noStrike" u="sng">
                <a:solidFill>
                  <a:srgbClr val="ffffff"/>
                </a:solidFill>
                <a:uFillTx/>
                <a:latin typeface="Verdana"/>
              </a:rPr>
              <a:t>Большой советской энциклопедии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 (3-е издание)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4. http://www.japantoday.ru/  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 advTm="5000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ЯПОНИЯ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ЯПОНИЯ- богатое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островное государство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в Восточной Азии с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загадочными  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обычаями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,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необычайной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природой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,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передовыми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технологиями и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непобедимым боевым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духом. Расположено в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Тихом океане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6" name="Picture 19" descr="Карта Японии. Туристическая карта Японии на русском, A0 - "/>
          <p:cNvPicPr/>
          <p:nvPr/>
        </p:nvPicPr>
        <p:blipFill>
          <a:blip r:embed="rId1"/>
          <a:stretch/>
        </p:blipFill>
        <p:spPr>
          <a:xfrm>
            <a:off x="5796000" y="1052640"/>
            <a:ext cx="2160720" cy="393516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4"/>
          <p:cNvSpPr/>
          <p:nvPr/>
        </p:nvSpPr>
        <p:spPr>
          <a:xfrm>
            <a:off x="950760" y="9237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8" name="Picture 5" descr="japanflag"/>
          <p:cNvPicPr/>
          <p:nvPr/>
        </p:nvPicPr>
        <p:blipFill>
          <a:blip r:embed="rId1"/>
          <a:stretch/>
        </p:blipFill>
        <p:spPr>
          <a:xfrm>
            <a:off x="395280" y="404640"/>
            <a:ext cx="1876320" cy="140976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6"/>
          <p:cNvSpPr/>
          <p:nvPr/>
        </p:nvSpPr>
        <p:spPr>
          <a:xfrm>
            <a:off x="572400" y="2165400"/>
            <a:ext cx="356688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ПЛОЩАДЬ-377 ТЫС.КВ.КМ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ЯПОНИЯ-СТРАНА ТРУДУГОЛИКОВ С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НАСЕЛЕНИЕМ-128 МЛН.ЧЕЛОВЕК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УМЕЩАЮЩИХСЯ НА ЧЕТЫРЕХ 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КРУПНЫХ ОСТРОВАХ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СТОЛИЦА-ТОКИО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,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ЯВЛЯЕТСЯ        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КРУПНЕЙШИМ МЕГАПОЛИСОМ МИРА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Text Box 7"/>
          <p:cNvSpPr/>
          <p:nvPr/>
        </p:nvSpPr>
        <p:spPr>
          <a:xfrm>
            <a:off x="2616480" y="725400"/>
            <a:ext cx="186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ФЛАГ СТРАНЫ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 advTm="5000">
    <p:wheel spokes="1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5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3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3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3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3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3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4"/>
          <p:cNvSpPr/>
          <p:nvPr/>
        </p:nvSpPr>
        <p:spPr>
          <a:xfrm>
            <a:off x="647280" y="563400"/>
            <a:ext cx="3925080" cy="21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ОДНА ИЗ ГЛАВНЫХ ДОСТОПРИМЕЧАТЕЛЬНОСТЕЙ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ЯПОНИИ-ГОРА ФУДЗИ ЯВЛЯЕТСЯ ОДНИМ ИЗ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НАИБОЛЕЕ ИЗВЕСТНЫХ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ВУЛКАНОВ В МИРЕ.ВЫСОТА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ГОРЫ 3776 М.ГОРА ЯВЛЯЕТСЯ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НАЦИОНАЛЬНЫМ ПАРКОМ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И СЛУЖИТ ПРЕДМЕТОМ КУЛЬТА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ЯПОНЦЕВ.ГОРА ФУДЗИ  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ЯВЛЯЕТСЯ ПОПУЛЯРНЫМ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СРЕДИ ЯПОНЦЕВ И ТУРИСТОВ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МЕСТОМ.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2" name="Picture 6" descr="Япония.jpg"/>
          <p:cNvPicPr/>
          <p:nvPr/>
        </p:nvPicPr>
        <p:blipFill>
          <a:blip r:embed="rId1"/>
          <a:stretch/>
        </p:blipFill>
        <p:spPr>
          <a:xfrm>
            <a:off x="4960800" y="1628640"/>
            <a:ext cx="3340080" cy="25387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8" descr="japan_300120101958_3"/>
          <p:cNvPicPr/>
          <p:nvPr/>
        </p:nvPicPr>
        <p:blipFill>
          <a:blip r:embed="rId2"/>
          <a:stretch/>
        </p:blipFill>
        <p:spPr>
          <a:xfrm>
            <a:off x="900000" y="4173480"/>
            <a:ext cx="3024360" cy="211608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 Box 4"/>
          <p:cNvSpPr/>
          <p:nvPr/>
        </p:nvSpPr>
        <p:spPr>
          <a:xfrm>
            <a:off x="370440" y="620640"/>
            <a:ext cx="408060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ВАЖНЫМИ ДОСТОПРИМЕЧАТЕЛЬНОСТЯМИ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ЯПОНИИ ТАКЖЕ ЯВЛЯЮТСЯ ОРИГАМИ</a:t>
            </a: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,</a:t>
            </a: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 САМУРАИ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РОБОТЫ И КАРА-ТЭ.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ОРИГАМИ-ТРАДИЦИОННОЕ ЯПОНСКОЕ ИСКУССТВО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СКЛАДЫВАНИЯ ИЗ БУМАГИ РАЗЛИЧНЫХ ФИГУРОК.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ИМЕННО В ЯПОНИИ ЭТО ИСКУССТВО СТАЛО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ПОПУЛЯРНЫМ И РАЗОШЛОСЬ ПО ВСЕМУ МИРУ.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5" name="Picture 6" descr="Orizuru"/>
          <p:cNvPicPr/>
          <p:nvPr/>
        </p:nvPicPr>
        <p:blipFill>
          <a:blip r:embed="rId1"/>
          <a:stretch/>
        </p:blipFill>
        <p:spPr>
          <a:xfrm>
            <a:off x="7020000" y="620640"/>
            <a:ext cx="1876320" cy="124956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7"/>
          <p:cNvSpPr/>
          <p:nvPr/>
        </p:nvSpPr>
        <p:spPr>
          <a:xfrm>
            <a:off x="438120" y="3849840"/>
            <a:ext cx="3903840" cy="12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САМУРАИ-ВОИНЫ-ДРУЖИННИКИ</a:t>
            </a: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,</a:t>
            </a: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НАХОДЯЩИЕСЯ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НА СЛУЖБЕ. НА ПРОТЯЖЕНИИ  МНОГИХ ВЕКОВ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САМУРАИ БЫЛИ И ОСТАЮТСЯ НЕОТЪЕМЛЕМОЙ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ЧАСТИЦЕЙ КУЛЬТУРЫ ЯПОНИИ. ДОБЛЕСТНЫЕ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ВОИНЫ КОТОРЫЕ БЕСПРЕКОСЛОВНО ДОЛЖНЫ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ПОДЧИНЯТЬСЯ ПРИКАЗАМ СВОЕГО ХОЗЯИНА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7" name="Picture 9" descr="300px-Samurai_with_sword"/>
          <p:cNvPicPr/>
          <p:nvPr/>
        </p:nvPicPr>
        <p:blipFill>
          <a:blip r:embed="rId2"/>
          <a:stretch/>
        </p:blipFill>
        <p:spPr>
          <a:xfrm>
            <a:off x="6696000" y="3789360"/>
            <a:ext cx="1908360" cy="239076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 Box 4"/>
          <p:cNvSpPr/>
          <p:nvPr/>
        </p:nvSpPr>
        <p:spPr>
          <a:xfrm>
            <a:off x="3365640" y="692280"/>
            <a:ext cx="5778360" cy="12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ТРАДИЦИОННАЯ ОДЕЖДА В ЯПОНИИ-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КИМАНО.С СЕРЕДИНЫ 19 ВЕКА СЧИТАЕТСЯ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ЯПОНСКИМ «НАЦИОНАЛЬНЫМ КОСТЮМОМ»</a:t>
            </a: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КИМОНО ИСПОЛЬЗУЕТСЯ ЯПОНЦАМИ НЕ ТОЛЬКО ДЛЯ ОСОБЫХ СОБЫТИЙ</a:t>
            </a: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,</a:t>
            </a: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ТАКИХ КАК СВАДЬБА ИЛИ НАЦИОНАЛЬНЫЕ ПРАЗДНИКИ</a:t>
            </a: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,</a:t>
            </a: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НО И В ЕЖЕДНЕВНОЙ ЖИЗНИ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9" name="Picture 6" descr="220px-Niigata_geisha_dancing"/>
          <p:cNvPicPr/>
          <p:nvPr/>
        </p:nvPicPr>
        <p:blipFill>
          <a:blip r:embed="rId1"/>
          <a:stretch/>
        </p:blipFill>
        <p:spPr>
          <a:xfrm>
            <a:off x="755640" y="517680"/>
            <a:ext cx="2016000" cy="188748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7"/>
          <p:cNvSpPr/>
          <p:nvPr/>
        </p:nvSpPr>
        <p:spPr>
          <a:xfrm>
            <a:off x="275400" y="3660840"/>
            <a:ext cx="353196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ЯПОНСКАЯ КУХНЯ-НАЦИОНАЛЬНАЯ КУХНЯ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ЯПОНЦЕВ. ОСНОВНЫМ ИНГРЕДИЕНТОМ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ЯПОНСКОЙ КУХНИ И ОСНОВОЙ ПИТАНИЯ В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ЯПОНИИ ВООБЩЕ ЯВЛЯЕТСЯ РИС.ВТОРЫМ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ПО ВАЖНОСТИ КОМПОНЕНТОМ ЯВЛЯЮТСЯ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МОРЕПРОДУКТЫ-РЫБА</a:t>
            </a: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,</a:t>
            </a: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МОЛЛЮСКИ И ДР.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БЛЮДА ЯПОНСКОЙ КУХНИ ЯВЛЯЮТСЯ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КЛЮЧЕВОЙ ДОСТОПРИМЕЧАТЕЛЬНОСТЬЮ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ДЛЯ ТУРИСТОВ ИЗ ДРУГИХ СТРАН.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1" name="Picture 9" descr="Национальные блюда Японии"/>
          <p:cNvPicPr/>
          <p:nvPr/>
        </p:nvPicPr>
        <p:blipFill>
          <a:blip r:embed="rId2"/>
          <a:stretch/>
        </p:blipFill>
        <p:spPr>
          <a:xfrm>
            <a:off x="6300720" y="3573360"/>
            <a:ext cx="1944720" cy="14526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7" descr="1"/>
          <p:cNvPicPr/>
          <p:nvPr/>
        </p:nvPicPr>
        <p:blipFill>
          <a:blip r:embed="rId1"/>
          <a:stretch/>
        </p:blipFill>
        <p:spPr>
          <a:xfrm>
            <a:off x="250920" y="2492280"/>
            <a:ext cx="3025800" cy="2009880"/>
          </a:xfrm>
          <a:prstGeom prst="rect">
            <a:avLst/>
          </a:prstGeom>
          <a:ln w="0">
            <a:noFill/>
          </a:ln>
        </p:spPr>
      </p:pic>
      <p:sp>
        <p:nvSpPr>
          <p:cNvPr id="183" name="Text Box 8"/>
          <p:cNvSpPr/>
          <p:nvPr/>
        </p:nvSpPr>
        <p:spPr>
          <a:xfrm>
            <a:off x="983520" y="554040"/>
            <a:ext cx="51033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СУМО-СЧИТАЕТСЯ НАЦИОНАЛЬНЫМ ВИДОМ СПОРТА ЯПОНИИ.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ЯПОНЦЫ ОТНОСЯТ СУМО К БОЕВЫМ ИСКУССТВАМ. ТРАДИЦИЯ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СУМО ВЕДЕТСЯ С ДРЕВНИХ ВРЕМЕН</a:t>
            </a: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,</a:t>
            </a: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 ПОЭТОМУ КАЖДЫЙ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ПОЕДИНОК СОПРОВОЖДАЕТСЯ МНОГОЧИСЛЕННЫМИ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РИТУАЛАМИ. ЯПОНИЯ ЯВЛЯЕТСЯ ПРИЗНАННЫМ ЦЕНТРОМ СУМО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И ЕДИНСТВЕННОЙ СТРАНОЙ</a:t>
            </a: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,</a:t>
            </a: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 ГДЕ ПРОВОДЯТСЯ СОРЕВНОВАНИЯ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ПРОФЕССИОНАЛОВ. 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4" name="Picture 10" descr="300px-Sumo_ceremony"/>
          <p:cNvPicPr/>
          <p:nvPr/>
        </p:nvPicPr>
        <p:blipFill>
          <a:blip r:embed="rId2"/>
          <a:stretch/>
        </p:blipFill>
        <p:spPr>
          <a:xfrm>
            <a:off x="5076720" y="3716280"/>
            <a:ext cx="2664000" cy="199872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03T20:07:55Z</dcterms:created>
  <dc:creator>Admin</dc:creator>
  <dc:description/>
  <dc:language>en-US</dc:language>
  <cp:lastModifiedBy>1Z</cp:lastModifiedBy>
  <dcterms:modified xsi:type="dcterms:W3CDTF">2014-06-01T16:31:42Z</dcterms:modified>
  <cp:revision>16</cp:revision>
  <dc:subject/>
  <dc:title>Серебряно-Прудская СОШ имени маршала В.И.Чуйкова</dc:title>
</cp:coreProperties>
</file>