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CE7-6EFC-42E4-9074-A1D5EF3A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424-901D-40B6-B6B8-1659AC11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58D-C37B-4364-B035-BB8FF995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19D-4B94-4500-8D19-074377A6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77E1-5ED2-4191-B9D4-0077374C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264D-3261-467F-9373-D70DDFDD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8154-F08B-4381-8684-C3445EFB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3B66-09D2-4A19-A661-38057C68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8ACE-E250-44C5-AB57-CFEE5F64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6E95-5D6D-4C00-B6FE-6B3DD419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A727-39BF-4787-B08E-AE3C504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FD7-23BA-414F-BA45-DEB787B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AE54-4133-4150-B41E-0BBA8824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599E-A27B-40DA-8770-36621FA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71AA-D4D9-4C4F-98AF-A6165E88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A17-DD8B-43D7-84A3-8EAF09E7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90DC-E237-443F-A7AA-0865DEFB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635-E548-45B9-9C33-07CBDF43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56C-0C9D-44D7-AD54-26B8E514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B70-6A64-4D8A-BD8E-CB2E92A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A81-7559-4581-9C28-1DE220C8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9A2-1BFA-4094-81D5-285E16F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468-B4F7-49A8-BD8B-152A325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FFD-72AD-48C9-A37A-6D3D0F7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C11C-9D1E-4CAB-84E4-8DDB29D971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505C-E283-4052-9357-F52D9B0EA5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9;&#1087;&#1091;&#1073;&#1083;&#1080;&#1082;&#1072;_(&#1080;&#1079;&#1076;&#1072;&#1090;&#1077;&#1083;&#1100;&#1089;&#1090;&#1074;&#1086;)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еребряно-Прудская СОШ имени маршала В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И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Чуйкова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ЕКТНАЯ РАБО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НЫ МИРА.ЯПО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56880" y="4859280"/>
            <a:ext cx="484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втор: Тундавин Игорь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2В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.г.т. Серебряные Пруд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уководитель проекта: Колганова Е.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сультант: Тундавина О.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Yaponskaya-muzyka-enigma-krasivaya-relaksiruyuschaya-melodiya(muzofon.com)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РОДУКТ ПРОЕКТ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4" descr="DSC01499"/>
          <p:cNvPicPr/>
          <p:nvPr/>
        </p:nvPicPr>
        <p:blipFill>
          <a:blip r:embed="rId1"/>
          <a:stretch/>
        </p:blipFill>
        <p:spPr>
          <a:xfrm>
            <a:off x="2340000" y="242100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ВОДЫ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33600" y="1589040"/>
            <a:ext cx="404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УЗНАЛ МНОГО ИНТЕРЕСНОГО О ЯПОН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ТО КРАСИВАЯ И СВОЕОБРАЗНАЯ СТРАНА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БОГАТОЙ КУЛЬТУР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755640" y="2133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ПАСИБО ЗА ВНИМАНИЕ</a:t>
            </a:r>
            <a:r>
              <a:rPr b="0" i="1" lang="ru-RU" sz="4800" spc="-1" strike="noStrike">
                <a:solidFill>
                  <a:srgbClr val="ffffff"/>
                </a:solidFill>
                <a:latin typeface="comic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ШИРИТЬ  ЗНАНИЯ О ВЫБРАН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1.Найти и выбрать материал о стр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2.Сделать продукт проек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писок литератур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.Япония: Справочник / Составители: В. Н. Ерёмин, К. О. Саркисов, А. И. Сенаторов; Под общ. ред. Г. Ф. Кима, К. О. Саркисова, А. И. Сенаторова. — М.: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1992. — 544 с.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. http://xn--p1af1b.xn--p1ai/%D0%AF%D0%BF%D0%BE%D0%BD%D0%B8%D1%8F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Япония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— статья из 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Большой советской энциклопедии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(3-е издание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4. http://www.japantoday.ru/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ЯПО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ПОНИЯ- богат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тровное государств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Восточной Азии 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гадочными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ычаям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ычайн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р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ередовым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хнологиями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победимым боевы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ухом. Расположено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ихом оке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9" descr="Карта Японии. Туристическая карта Японии на русском, A0 - "/>
          <p:cNvPicPr/>
          <p:nvPr/>
        </p:nvPicPr>
        <p:blipFill>
          <a:blip r:embed="rId1"/>
          <a:stretch/>
        </p:blipFill>
        <p:spPr>
          <a:xfrm>
            <a:off x="5796000" y="1052640"/>
            <a:ext cx="2160720" cy="393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95076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japanflag"/>
          <p:cNvPicPr/>
          <p:nvPr/>
        </p:nvPicPr>
        <p:blipFill>
          <a:blip r:embed="rId1"/>
          <a:stretch/>
        </p:blipFill>
        <p:spPr>
          <a:xfrm>
            <a:off x="395280" y="404640"/>
            <a:ext cx="1876320" cy="1409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72400" y="2165400"/>
            <a:ext cx="35668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ОЩАДЬ-377 ТЫС.КВ.КМ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ПОНИЯ-СТРАНА ТРУДУГОЛИКОВ 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СЕЛЕНИЕМ-128 МЛН.ЧЕЛОВЕ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МЕЩАЮЩИХСЯ НА ЧЕТЫРЕХ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УПНЫХ ОСТРОВА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ТОЛИЦА-ТОКИО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ВЛЯЕТСЯ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УПНЕЙШИМ МЕГАПОЛИСОМ МИР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616480" y="72540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ЛАГ СТРАН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647280" y="563400"/>
            <a:ext cx="3925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ДНА ИЗ ГЛАВНЫХ ДОСТОПРИМЕЧАТЕЛЬНОСТЕ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-ГОРА ФУДЗИ ЯВЛЯЕТСЯ ОДНИМ ИЗ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ИБОЛЕЕ ИЗВЕСТНЫХ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УЛКАНОВ В МИРЕ.ВЫСОТ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ГОРЫ 3776 М.ГОРА ЯВЛЯЕ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ЦИОНАЛЬНЫМ ПАРКО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СЛУЖИТ ПРЕДМЕТОМ КУЛЬТ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ЕВ.ГОРА ФУДЗИ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ВЛЯЕТСЯ ПОПУЛЯРНЫ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РЕДИ ЯПОНЦЕВ И ТУРИС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ЕСТО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Япония.jpg"/>
          <p:cNvPicPr/>
          <p:nvPr/>
        </p:nvPicPr>
        <p:blipFill>
          <a:blip r:embed="rId1"/>
          <a:stretch/>
        </p:blipFill>
        <p:spPr>
          <a:xfrm>
            <a:off x="4960800" y="1628640"/>
            <a:ext cx="3340080" cy="253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apan_300120101958_3"/>
          <p:cNvPicPr/>
          <p:nvPr/>
        </p:nvPicPr>
        <p:blipFill>
          <a:blip r:embed="rId2"/>
          <a:stretch/>
        </p:blipFill>
        <p:spPr>
          <a:xfrm>
            <a:off x="900000" y="4173480"/>
            <a:ext cx="3024360" cy="211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370440" y="620640"/>
            <a:ext cx="4080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АЖНЫМИ ДОСТОПРИМЕЧАТЕЛЬНОСТЯМ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 ТАКЖЕ ЯВЛЯЮТСЯ ОРИГАМ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САМУРА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ОБОТЫ И КАРА-ТЭ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РИГАМИ-ТРАДИЦИОННОЕ ЯПОНСКОЕ ИСКУССТВ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КЛАДЫВАНИЯ ИЗ БУМАГИ РАЗЛИЧНЫХ ФИГУРОК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МЕННО В ЯПОНИИ ЭТО ИСКУССТВО СТАЛ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ПУЛЯРНЫМ И РАЗОШЛОСЬ ПО ВСЕМУ МИРУ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6" descr="Orizuru"/>
          <p:cNvPicPr/>
          <p:nvPr/>
        </p:nvPicPr>
        <p:blipFill>
          <a:blip r:embed="rId1"/>
          <a:stretch/>
        </p:blipFill>
        <p:spPr>
          <a:xfrm>
            <a:off x="7020000" y="620640"/>
            <a:ext cx="1876320" cy="12495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438120" y="3849840"/>
            <a:ext cx="39038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АМУРАИ-ВОИНЫ-ДРУЖИННИК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ХОДЯЩИЕ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СЛУЖБЕ. НА ПРОТЯЖЕНИИ  МНОГИХ ВЕКО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АМУРАИ БЫЛИ И ОСТАЮТСЯ НЕОТЪЕМЛЕМО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ЧАСТИЦЕЙ КУЛЬТУРЫ ЯПОНИИ. ДОБЛЕСТНЫ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ОИНЫ КОТОРЫЕ БЕСПРЕКОСЛОВНО ДОЛЖН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ДЧИНЯТЬСЯ ПРИКАЗАМ СВОЕГО ХОЗЯИН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300px-Samurai_with_sword"/>
          <p:cNvPicPr/>
          <p:nvPr/>
        </p:nvPicPr>
        <p:blipFill>
          <a:blip r:embed="rId2"/>
          <a:stretch/>
        </p:blipFill>
        <p:spPr>
          <a:xfrm>
            <a:off x="6696000" y="3789360"/>
            <a:ext cx="1908360" cy="2390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365640" y="692280"/>
            <a:ext cx="5778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РАДИЦИОННАЯ ОДЕЖДА В ЯПОНИИ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ИМАНО.С СЕРЕДИНЫ 19 ВЕКА СЧИТАЕТ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ИМ «НАЦИОНАЛЬНЫМ КОСТЮМОМ»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ИМОНО ИСПОЛЬЗУЕТСЯ ЯПОНЦАМИ НЕ ТОЛЬКО ДЛЯ ОСОБЫХ СОБЫТИЙ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АКИХ КАК СВАДЬБА ИЛИ НАЦИОНАЛЬНЫЕ ПРАЗДНИКИ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О И В ЕЖЕДНЕВНОЙ ЖИЗН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6" descr="220px-Niigata_geisha_dancing"/>
          <p:cNvPicPr/>
          <p:nvPr/>
        </p:nvPicPr>
        <p:blipFill>
          <a:blip r:embed="rId1"/>
          <a:stretch/>
        </p:blipFill>
        <p:spPr>
          <a:xfrm>
            <a:off x="755640" y="517680"/>
            <a:ext cx="2016000" cy="1887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275400" y="3660840"/>
            <a:ext cx="3531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АЯ КУХНЯ-НАЦИОНАЛЬНАЯ КУХН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ЕВ. ОСНОВНЫМ ИНГРЕДИЕНТО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СКОЙ КУХНИ И ОСНОВОЙ ПИТАНИЯ 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ИИ ВООБЩЕ ЯВЛЯЕТСЯ РИС.ВТОРЫ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 ВАЖНОСТИ КОМПОНЕНТОМ ЯВЛЯЮТС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РЕПРОДУКТЫ-РЫБА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ОЛЛЮСКИ И ДР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ЛЮДА ЯПОНСКОЙ КУХНИ ЯВЛЯЮ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ЛЮЧЕВОЙ ДОСТОПРИМЕЧАТЕЛЬНОСТЬ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ЛЯ ТУРИСТОВ ИЗ ДРУГИХ СТРАН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9" descr="Национальные блюда Японии"/>
          <p:cNvPicPr/>
          <p:nvPr/>
        </p:nvPicPr>
        <p:blipFill>
          <a:blip r:embed="rId2"/>
          <a:stretch/>
        </p:blipFill>
        <p:spPr>
          <a:xfrm>
            <a:off x="6300720" y="3573360"/>
            <a:ext cx="1944720" cy="145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1"/>
          <p:cNvPicPr/>
          <p:nvPr/>
        </p:nvPicPr>
        <p:blipFill>
          <a:blip r:embed="rId1"/>
          <a:stretch/>
        </p:blipFill>
        <p:spPr>
          <a:xfrm>
            <a:off x="250920" y="2492280"/>
            <a:ext cx="3025800" cy="20098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983520" y="554040"/>
            <a:ext cx="510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УМО-СЧИТАЕТСЯ НАЦИОНАЛЬНЫМ ВИДОМ СПОРТА ЯПОНИ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ЯПОНЦЫ ОТНОСЯТ СУМО К БОЕВЫМ ИСКУССТВАМ. ТРАДИЦ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УМО ВЕДЕТСЯ С ДРЕВНИХ ВРЕМЕН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ОЭТОМУ КАЖДЫЙ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ОЕДИНОК СОПРОВОЖДАЕТСЯ МНОГОЧИСЛЕННЫМ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ИТУАЛАМИ. ЯПОНИЯ ЯВЛЯЕТСЯ ПРИЗНАННЫМ ЦЕНТРОМ СУМ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 ЕДИНСТВЕННОЙ СТРАНОЙ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ГДЕ ПРОВОДЯТСЯ СОРЕВНОВАН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ОФЕССИОНАЛОВ. 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10" descr="300px-Sumo_ceremony"/>
          <p:cNvPicPr/>
          <p:nvPr/>
        </p:nvPicPr>
        <p:blipFill>
          <a:blip r:embed="rId2"/>
          <a:stretch/>
        </p:blipFill>
        <p:spPr>
          <a:xfrm>
            <a:off x="5076720" y="37162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20:07:55Z</dcterms:created>
  <dc:creator>Admin</dc:creator>
  <dc:description/>
  <dc:language>en-US</dc:language>
  <cp:lastModifiedBy>1Z</cp:lastModifiedBy>
  <dcterms:modified xsi:type="dcterms:W3CDTF">2014-06-01T16:31:42Z</dcterms:modified>
  <cp:revision>16</cp:revision>
  <dc:subject/>
  <dc:title>Серебряно-Прудская СОШ имени маршала В.И.Чуйкова</dc:title>
</cp:coreProperties>
</file>