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37C-0D1B-4F44-A92E-85349110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3E7-3BBC-493E-8A9E-266D452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F2D-3467-44A0-B732-72266BF1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440-2630-4336-AD25-28851A59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0D29-2058-4B58-89EB-14E93FC9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D9E1-63E2-4A61-9861-BA07663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19A4-9A82-4B1A-9ED8-CA8C05B6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07C-8451-47B1-ABB7-328E07D5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B47F-51A4-4101-BD5E-8C8DDD37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7A53-9556-4B3D-A69E-DA29DCF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BAC-D3B9-4066-8250-32F5DBD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402-57DC-41DD-92E7-9BB69B4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B00-A2DF-447B-B50B-2CD9F0C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394-65AB-455D-ABD6-D618233A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A2B9-E06D-4549-A1BE-D19DF06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E1A7-6BF5-4546-A916-1FD678EB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58D-79A3-4022-B091-D76D779A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AB6-5590-442D-BF3A-F94E5965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12C-9D82-4572-94D4-9E6166E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93B-0143-4122-BAC2-BCDEC2E4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C62-8E41-4375-89E9-CFDBBB77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0B5-E3AE-444E-B6D2-2ED0C67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97F-BC46-4C79-9A1E-BCE5E6C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B04-8206-43CF-9645-CFE94AB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74D4-BB7A-44C7-9D72-2F50157BBA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645-A3A3-4886-A500-AF7C156422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9;&#1087;&#1091;&#1073;&#1083;&#1080;&#1082;&#1072;_(&#1080;&#1079;&#1076;&#1072;&#1090;&#1077;&#1083;&#1100;&#1089;&#1090;&#1074;&#1086;)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еребряно-Прудская СОШ имени маршала В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И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Чуйкова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ЕКТНАЯ РАБО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Ы МИРА.ЯПО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56880" y="4859280"/>
            <a:ext cx="484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втор: Тундавин Игорь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2В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.г.т. Серебряные Пру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уководитель проекта: Колганова Е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сультант: Тундавина О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Yaponskaya-muzyka-enigma-krasivaya-relaksiruyuschaya-melodiya(muzofon.com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ОДУКТ ПРОЕКТ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4" descr="DSC01499"/>
          <p:cNvPicPr/>
          <p:nvPr/>
        </p:nvPicPr>
        <p:blipFill>
          <a:blip r:embed="rId1"/>
          <a:stretch/>
        </p:blipFill>
        <p:spPr>
          <a:xfrm>
            <a:off x="2340000" y="242100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ВОДЫ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33600" y="1589040"/>
            <a:ext cx="404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УЗНАЛ МНОГО ИНТЕРЕСНОГО О ЯПОН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О КРАСИВАЯ И СВОЕОБРАЗНАЯ СТРАНА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БОГАТОЙ КУЛЬТУ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755640" y="2133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ПАСИБО ЗА ВНИМАНИЕ</a:t>
            </a:r>
            <a:r>
              <a:rPr b="0" i="1" lang="ru-RU" sz="4800" spc="-1" strike="noStrike">
                <a:solidFill>
                  <a:srgbClr val="ffffff"/>
                </a:solidFill>
                <a:latin typeface="comic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ШИРИТЬ  ЗНАНИЯ О ВЫБРАН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1.Найти и выбрать материал о 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2.Сделать продукт проек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.Япония: Справочник / Составители: В. Н. Ерёмин, К. О. Саркисов, А. И. Сенаторов; Под общ. ред. Г. Ф. Кима, К. О. Саркисова, А. И. Сенаторова. — М.: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1992. — 544 с.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. http://xn--p1af1b.xn--p1ai/%D0%AF%D0%BF%D0%BE%D0%BD%D0%B8%D1%8F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Япония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— статья из 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Большой советской энциклопедии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(3-е издание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. http://www.japantoday.ru/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ЯПО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ПОНИЯ- богат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тровное государств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Восточной Азии 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адочными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ычаям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ычай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р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ередовым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ологиям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победимым боевы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хом. Расположено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ихом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9" descr="Карта Японии. Туристическая карта Японии на русском, A0 - "/>
          <p:cNvPicPr/>
          <p:nvPr/>
        </p:nvPicPr>
        <p:blipFill>
          <a:blip r:embed="rId1"/>
          <a:stretch/>
        </p:blipFill>
        <p:spPr>
          <a:xfrm>
            <a:off x="5796000" y="1052640"/>
            <a:ext cx="2160720" cy="393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950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japanflag"/>
          <p:cNvPicPr/>
          <p:nvPr/>
        </p:nvPicPr>
        <p:blipFill>
          <a:blip r:embed="rId1"/>
          <a:stretch/>
        </p:blipFill>
        <p:spPr>
          <a:xfrm>
            <a:off x="395280" y="404640"/>
            <a:ext cx="1876320" cy="1409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2400" y="2165400"/>
            <a:ext cx="35668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ОЩАДЬ-377 ТЫС.КВ.КМ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ПОНИЯ-СТРАНА ТРУДУГОЛИКОВ 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СЕЛЕНИЕМ-128 МЛН.ЧЕЛОВЕ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МЕЩАЮЩИХСЯ НА ЧЕТЫРЕХ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ЫХ ОСТРОВА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ОЛИЦА-ТОКИО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ВЛЯЕТСЯ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ЕЙШИМ МЕГАПОЛИСОМ МИ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616480" y="72540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ЛАГ СТРАН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47280" y="563400"/>
            <a:ext cx="3925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 ИЗ ГЛАВНЫХ ДОСТОПРИМЕЧАТЕЛЬНОСТЕ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-ГОРА ФУДЗИ ЯВЛЯЕТСЯ ОДНИМ ИЗ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ИБОЛЕЕ ИЗВЕСТНЫ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УЛКАНОВ В МИРЕ.ВЫСО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ОРЫ 3776 М.ГОРА ЯВЛЯ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ЦИОНАЛЬНЫМ ПАРКО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СЛУЖИТ ПРЕДМЕТОМ КУЛЬ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ГОРА ФУДЗИ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ВЛЯЕТСЯ ПОПУЛЯРНЫ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РЕДИ ЯПОНЦЕВ И ТУРИС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СТО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Япония.jpg"/>
          <p:cNvPicPr/>
          <p:nvPr/>
        </p:nvPicPr>
        <p:blipFill>
          <a:blip r:embed="rId1"/>
          <a:stretch/>
        </p:blipFill>
        <p:spPr>
          <a:xfrm>
            <a:off x="4960800" y="1628640"/>
            <a:ext cx="3340080" cy="253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pan_300120101958_3"/>
          <p:cNvPicPr/>
          <p:nvPr/>
        </p:nvPicPr>
        <p:blipFill>
          <a:blip r:embed="rId2"/>
          <a:stretch/>
        </p:blipFill>
        <p:spPr>
          <a:xfrm>
            <a:off x="900000" y="4173480"/>
            <a:ext cx="3024360" cy="211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70440" y="620640"/>
            <a:ext cx="4080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АЖНЫМИ ДОСТОПРИМЕЧАТЕЛЬНОСТЯМ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ТАКЖЕ ЯВЛЯЮТСЯ ОРИГАМ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САМУРА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ОБОТЫ И КАРА-ТЭ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РИГАМИ-ТРАДИЦИОННОЕ ЯПОНСКОЕ ИСКУССТВ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КЛАДЫВАНИЯ ИЗ БУМАГИ РАЗЛИЧНЫХ ФИГУРОК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МЕННО В ЯПОНИИ ЭТО ИСКУССТВО СТАЛ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ПУЛЯРНЫМ И РАЗОШЛОСЬ ПО ВСЕМУ МИРУ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6" descr="Orizuru"/>
          <p:cNvPicPr/>
          <p:nvPr/>
        </p:nvPicPr>
        <p:blipFill>
          <a:blip r:embed="rId1"/>
          <a:stretch/>
        </p:blipFill>
        <p:spPr>
          <a:xfrm>
            <a:off x="7020000" y="620640"/>
            <a:ext cx="1876320" cy="1249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38120" y="3849840"/>
            <a:ext cx="39038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-ВОИНЫ-ДРУЖИН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ХОДЯЩИЕ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СЛУЖБЕ. НА ПРОТЯЖЕНИИ  МНОГИХ ВЕКО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 БЫЛИ И ОСТАЮТСЯ НЕОТЪЕМЛЕМО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АСТИЦЕЙ КУЛЬТУРЫ ЯПОНИИ. ДОБЛЕСТНЫ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ИНЫ КОТОРЫЕ БЕСПРЕКОСЛОВНО ДОЛЖН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ДЧИНЯТЬСЯ ПРИКАЗАМ СВОЕГО ХОЗЯИН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300px-Samurai_with_sword"/>
          <p:cNvPicPr/>
          <p:nvPr/>
        </p:nvPicPr>
        <p:blipFill>
          <a:blip r:embed="rId2"/>
          <a:stretch/>
        </p:blipFill>
        <p:spPr>
          <a:xfrm>
            <a:off x="6696000" y="3789360"/>
            <a:ext cx="190836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365640" y="692280"/>
            <a:ext cx="5778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РАДИЦИОННАЯ ОДЕЖДА В ЯПОНИ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АНО.С СЕРЕДИНЫ 19 ВЕКА СЧИТАЕ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ИМ «НАЦИОНАЛЬНЫМ КОСТЮМОМ»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ОНО ИСПОЛЬЗУЕТСЯ ЯПОНЦАМИ НЕ ТОЛЬКО ДЛЯ ОСОБЫХ СОБЫТИ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АКИХ КАК СВАДЬБА ИЛИ НАЦИОНАЛЬНЫЕ ПРАЗД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О И В ЕЖЕДНЕВНОЙ ЖИЗН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6" descr="220px-Niigata_geisha_dancing"/>
          <p:cNvPicPr/>
          <p:nvPr/>
        </p:nvPicPr>
        <p:blipFill>
          <a:blip r:embed="rId1"/>
          <a:stretch/>
        </p:blipFill>
        <p:spPr>
          <a:xfrm>
            <a:off x="755640" y="517680"/>
            <a:ext cx="2016000" cy="1887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275400" y="3660840"/>
            <a:ext cx="3531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АЯ КУХНЯ-НАЦИОНАЛЬНАЯ КУХН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 ОСНОВНЫМ ИНГРЕДИЕНТО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ОЙ КУХНИ И ОСНОВОЙ ПИТАНИЯ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ВООБЩЕ ЯВЛЯЕТСЯ РИС.ВТОРЫ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 ВАЖНОСТИ КОМПОНЕНТОМ ЯВЛЯЮ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РЕПРОДУКТЫ-РЫБА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ЛЛЮСКИ И ДР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ЛЮДА ЯПОНСКОЙ КУХНИ ЯВЛЯЮ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ЮЧЕВОЙ ДОСТОПРИМЕЧАТЕЛЬНОСТЬ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ЛЯ ТУРИСТОВ ИЗ ДРУГИХ СТРАН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9" descr="Национальные блюда Японии"/>
          <p:cNvPicPr/>
          <p:nvPr/>
        </p:nvPicPr>
        <p:blipFill>
          <a:blip r:embed="rId2"/>
          <a:stretch/>
        </p:blipFill>
        <p:spPr>
          <a:xfrm>
            <a:off x="6300720" y="3573360"/>
            <a:ext cx="1944720" cy="145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1"/>
          <p:cNvPicPr/>
          <p:nvPr/>
        </p:nvPicPr>
        <p:blipFill>
          <a:blip r:embed="rId1"/>
          <a:stretch/>
        </p:blipFill>
        <p:spPr>
          <a:xfrm>
            <a:off x="250920" y="2492280"/>
            <a:ext cx="302580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983520" y="554040"/>
            <a:ext cx="510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-СЧИТАЕТСЯ НАЦИОНАЛЬНЫМ ВИДОМ СПОРТА ЯПОНИ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Ы ОТНОСЯТ СУМО К БОЕВЫМ ИСКУССТВАМ. ТРАДИЦ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 ВЕДЕТСЯ С ДРЕВНИХ ВРЕМЕН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ОЭТОМУ КАЖДЫ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ЕДИНОК СОПРОВОЖДАЕТСЯ МНОГОЧИСЛЕННЫМ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ИТУАЛАМИ. ЯПОНИЯ ЯВЛЯЕТСЯ ПРИЗНАННЫМ ЦЕНТРОМ СУМ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ЕДИНСТВЕННОЙ СТРАНО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ГДЕ ПРОВОДЯТСЯ СОРЕВНОВ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ФЕССИОНАЛОВ. 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0" descr="300px-Sumo_ceremony"/>
          <p:cNvPicPr/>
          <p:nvPr/>
        </p:nvPicPr>
        <p:blipFill>
          <a:blip r:embed="rId2"/>
          <a:stretch/>
        </p:blipFill>
        <p:spPr>
          <a:xfrm>
            <a:off x="5076720" y="3716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20:07:55Z</dcterms:created>
  <dc:creator>Admin</dc:creator>
  <dc:description/>
  <dc:language>en-US</dc:language>
  <cp:lastModifiedBy>1Z</cp:lastModifiedBy>
  <dcterms:modified xsi:type="dcterms:W3CDTF">2014-06-01T16:31:42Z</dcterms:modified>
  <cp:revision>16</cp:revision>
  <dc:subject/>
  <dc:title>Серебряно-Прудская СОШ имени маршала В.И.Чуйкова</dc:title>
</cp:coreProperties>
</file>