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8E2E-01E8-42A6-9D9C-634CCA1F6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F8FE-AD0E-46E6-8ABF-21C1A2B23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6400-FD74-48B8-96A4-8C2E67BE9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24EE-B947-4064-BFBD-7D775DCA6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4A0A9-3813-4B8E-A751-852C291B5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69061-9157-4A13-A8E9-5C8D8F528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50C52-3AD2-4BB3-8C01-813CBCCDE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F20FA-6557-423B-A019-39E701963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6414D-8A9E-4334-8466-A63CF3971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3E10F-56BF-4D43-AF78-8EC529970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F0F4F-52D8-4355-A8B9-F799BD9A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937D-25A6-458C-9CC3-1130953D9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3A252-6324-4229-9778-708B1B8C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8E470-FF56-42A2-AA35-48529587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DE031-7235-4259-AD22-584578753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AC46E-E4D9-4F6E-9C60-D88914CDB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D1C30-E9BF-4802-81CB-DE2C0DB37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1DD4-3CC5-45D5-A2B4-615190069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C570-95BC-437B-B7AC-B6A9143D7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E381-64B2-4BD4-9024-B7D16AF15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6346-232C-4946-B5CC-1623D46D5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B435-48CB-45B0-8877-9D50D36C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93BE-5F86-45D2-AC5B-91E02C0E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652F-8632-4101-9893-A0884002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FA569-397D-44BF-B3E8-D185C5FF7EF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1580F-C70A-4248-81DC-7AD4DF066A5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6;&#1077;&#1089;&#1087;&#1091;&#1073;&#1083;&#1080;&#1082;&#1072;_(&#1080;&#1079;&#1076;&#1072;&#1090;&#1077;&#1083;&#1100;&#1089;&#1090;&#1074;&#1086;)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7993080" cy="865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Серебряно-Прудская СОШ имени маршала В.</a:t>
            </a: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И.</a:t>
            </a: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Чуйкова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32000" y="220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ОЕКТНАЯ РАБОТ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ТРАНЫ МИРА.ЯПОНИЯ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956880" y="4859280"/>
            <a:ext cx="4842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Автор: Тундавин Игорь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2В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п.г.т. Серебряные Пруды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Руководитель проекта: Колганова Е.В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Консультант: Тундавина О.В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9" name="Yaponskaya-muzyka-enigma-krasivaya-relaksiruyuschaya-melodiya(muzofon.com).mp3" descr=""/>
          <p:cNvPicPr/>
          <p:nvPr/>
        </p:nvPicPr>
        <p:blipFill>
          <a:blip r:embed="rId1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ПРОДУКТ ПРОЕКТА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6" name="Picture 4" descr="DSC01499"/>
          <p:cNvPicPr/>
          <p:nvPr/>
        </p:nvPicPr>
        <p:blipFill>
          <a:blip r:embed="rId1"/>
          <a:stretch/>
        </p:blipFill>
        <p:spPr>
          <a:xfrm>
            <a:off x="2340000" y="2421000"/>
            <a:ext cx="4489560" cy="33670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ВЫВОДЫ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633600" y="1589040"/>
            <a:ext cx="4045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Я УЗНАЛ МНОГО ИНТЕРЕСНОГО О ЯПОНИИ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ЭТО КРАСИВАЯ И СВОЕОБРАЗНАЯ СТРАНА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С БОГАТОЙ КУЛЬТУРОЙ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 advTm="5000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5"/>
          <p:cNvSpPr/>
          <p:nvPr/>
        </p:nvSpPr>
        <p:spPr>
          <a:xfrm>
            <a:off x="755640" y="2133720"/>
            <a:ext cx="633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"/>
              </a:rPr>
              <a:t>СПАСИБО ЗА ВНИМАНИЕ</a:t>
            </a:r>
            <a:r>
              <a:rPr b="0" i="1" lang="ru-RU" sz="4800" spc="-1" strike="noStrike">
                <a:solidFill>
                  <a:srgbClr val="ffffff"/>
                </a:solidFill>
                <a:latin typeface="comic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ecff"/>
                </a:solidFill>
                <a:latin typeface="Arial"/>
              </a:rPr>
              <a:t>ЦЕЛЬ: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АСШИРИТЬ  ЗНАНИЯ О ВЫБРАННОЙ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ТРАНЕ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ЗАДАЧИ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1.Найти и выбрать материал о стране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2.Сделать продукт проект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 advTm="5000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Список литературы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1.Япония: Справочник / Составители: В. Н. Ерёмин, К. О. Саркисов, А. И. Сенаторов; Под общ. ред. Г. Ф. Кима, К. О. Саркисова, А. И. Сенаторова. — М.: 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Республика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, 1992. — 544 с. 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2. http://xn--p1af1b.xn--p1ai/%D0%AF%D0%BF%D0%BE%D0%BD%D0%B8%D1%8F 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3. </a:t>
            </a:r>
            <a:r>
              <a:rPr b="0" i="1" lang="ru-RU" sz="1400" spc="-1" strike="noStrike">
                <a:solidFill>
                  <a:srgbClr val="ffffff"/>
                </a:solidFill>
                <a:latin typeface="Verdana"/>
              </a:rPr>
              <a:t>Япония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 — статья из </a:t>
            </a:r>
            <a:r>
              <a:rPr b="0" lang="ru-RU" sz="1400" spc="-1" strike="noStrike" u="sng">
                <a:solidFill>
                  <a:srgbClr val="ffffff"/>
                </a:solidFill>
                <a:uFillTx/>
                <a:latin typeface="Verdana"/>
              </a:rPr>
              <a:t>Большой советской энциклопедии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 (3-е издание)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4. http://www.japantoday.ru/  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5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ЯПОНИЯ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ЯПОНИЯ- богато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стровное государство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 Восточной Азии с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агадочными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бычаями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еобычайной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иродой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передовыми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ехнологиями и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епобедимым боевым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ухом. Расположено в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ихом океане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Picture 19" descr="Карта Японии. Туристическая карта Японии на русском, A0 - "/>
          <p:cNvPicPr/>
          <p:nvPr/>
        </p:nvPicPr>
        <p:blipFill>
          <a:blip r:embed="rId1"/>
          <a:stretch/>
        </p:blipFill>
        <p:spPr>
          <a:xfrm>
            <a:off x="5796000" y="1052640"/>
            <a:ext cx="2160720" cy="39351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4"/>
          <p:cNvSpPr/>
          <p:nvPr/>
        </p:nvSpPr>
        <p:spPr>
          <a:xfrm>
            <a:off x="950760" y="92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8" name="Picture 5" descr="japanflag"/>
          <p:cNvPicPr/>
          <p:nvPr/>
        </p:nvPicPr>
        <p:blipFill>
          <a:blip r:embed="rId1"/>
          <a:stretch/>
        </p:blipFill>
        <p:spPr>
          <a:xfrm>
            <a:off x="395280" y="404640"/>
            <a:ext cx="1876320" cy="140976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6"/>
          <p:cNvSpPr/>
          <p:nvPr/>
        </p:nvSpPr>
        <p:spPr>
          <a:xfrm>
            <a:off x="572400" y="2165400"/>
            <a:ext cx="356688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ПЛОЩАДЬ-377 ТЫС.КВ.КМ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ЯПОНИЯ-СТРАНА ТРУДУГОЛИКОВ С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НАСЕЛЕНИЕМ-128 МЛН.ЧЕЛОВЕК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УМЕЩАЮЩИХСЯ НА ЧЕТЫРЕХ 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КРУПНЫХ ОСТРОВАХ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СТОЛИЦА-ТОКИО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ЯВЛЯЕТСЯ        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КРУПНЕЙШИМ МЕГАПОЛИСОМ МИРА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2616480" y="725400"/>
            <a:ext cx="186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ФЛАГ СТРАНЫ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 advTm="5000">
    <p:wheel spokes="1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5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3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4"/>
          <p:cNvSpPr/>
          <p:nvPr/>
        </p:nvSpPr>
        <p:spPr>
          <a:xfrm>
            <a:off x="647280" y="563400"/>
            <a:ext cx="392508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ОДНА ИЗ ГЛАВНЫХ ДОСТОПРИМЕЧАТЕЛЬНОСТЕЙ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ЯПОНИИ-ГОРА ФУДЗИ ЯВЛЯЕТСЯ ОДНИМ ИЗ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НАИБОЛЕЕ ИЗВЕСТНЫХ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ВУЛКАНОВ В МИРЕ.ВЫСОТА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ГОРЫ 3776 М.ГОРА ЯВЛЯЕТСЯ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НАЦИОНАЛЬНЫМ ПАРКОМ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И СЛУЖИТ ПРЕДМЕТОМ КУЛЬТА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ЯПОНЦЕВ.ГОРА ФУДЗИ  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ЯВЛЯЕТСЯ ПОПУЛЯРНЫМ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СРЕДИ ЯПОНЦЕВ И ТУРИСТОВ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МЕСТОМ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Picture 6" descr="Япония.jpg"/>
          <p:cNvPicPr/>
          <p:nvPr/>
        </p:nvPicPr>
        <p:blipFill>
          <a:blip r:embed="rId1"/>
          <a:stretch/>
        </p:blipFill>
        <p:spPr>
          <a:xfrm>
            <a:off x="4960800" y="1628640"/>
            <a:ext cx="3340080" cy="2538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japan_300120101958_3"/>
          <p:cNvPicPr/>
          <p:nvPr/>
        </p:nvPicPr>
        <p:blipFill>
          <a:blip r:embed="rId2"/>
          <a:stretch/>
        </p:blipFill>
        <p:spPr>
          <a:xfrm>
            <a:off x="900000" y="4173480"/>
            <a:ext cx="3024360" cy="21160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4"/>
          <p:cNvSpPr/>
          <p:nvPr/>
        </p:nvSpPr>
        <p:spPr>
          <a:xfrm>
            <a:off x="370440" y="620640"/>
            <a:ext cx="40806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ВАЖНЫМИ ДОСТОПРИМЕЧАТЕЛЬНОСТЯМИ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ЯПОНИИ ТАКЖЕ ЯВЛЯЮТСЯ ОРИГАМИ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 САМУРАИ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РОБОТЫ И КАРА-ТЭ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ОРИГАМИ-ТРАДИЦИОННОЕ ЯПОНСКОЕ ИСКУССТВО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СКЛАДЫВАНИЯ ИЗ БУМАГИ РАЗЛИЧНЫХ ФИГУРОК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ИМЕННО В ЯПОНИИ ЭТО ИСКУССТВО СТАЛО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ПОПУЛЯРНЫМ И РАЗОШЛОСЬ ПО ВСЕМУ МИРУ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Picture 6" descr="Orizuru"/>
          <p:cNvPicPr/>
          <p:nvPr/>
        </p:nvPicPr>
        <p:blipFill>
          <a:blip r:embed="rId1"/>
          <a:stretch/>
        </p:blipFill>
        <p:spPr>
          <a:xfrm>
            <a:off x="7020000" y="620640"/>
            <a:ext cx="1876320" cy="124956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7"/>
          <p:cNvSpPr/>
          <p:nvPr/>
        </p:nvSpPr>
        <p:spPr>
          <a:xfrm>
            <a:off x="438120" y="3849840"/>
            <a:ext cx="390384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САМУРАИ-ВОИНЫ-ДРУЖИННИКИ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НАХОДЯЩИЕСЯ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НА СЛУЖБЕ. НА ПРОТЯЖЕНИИ  МНОГИХ ВЕКОВ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САМУРАИ БЫЛИ И ОСТАЮТСЯ НЕОТЪЕМЛЕМОЙ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ЧАСТИЦЕЙ КУЛЬТУРЫ ЯПОНИИ. ДОБЛЕСТНЫЕ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ВОИНЫ КОТОРЫЕ БЕСПРЕКОСЛОВНО ДОЛЖНЫ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ПОДЧИНЯТЬСЯ ПРИКАЗАМ СВОЕГО ХОЗЯИНА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7" name="Picture 9" descr="300px-Samurai_with_sword"/>
          <p:cNvPicPr/>
          <p:nvPr/>
        </p:nvPicPr>
        <p:blipFill>
          <a:blip r:embed="rId2"/>
          <a:stretch/>
        </p:blipFill>
        <p:spPr>
          <a:xfrm>
            <a:off x="6696000" y="3789360"/>
            <a:ext cx="1908360" cy="23907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4"/>
          <p:cNvSpPr/>
          <p:nvPr/>
        </p:nvSpPr>
        <p:spPr>
          <a:xfrm>
            <a:off x="3365640" y="692280"/>
            <a:ext cx="577836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ТРАДИЦИОННАЯ ОДЕЖДА В ЯПОНИИ-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КИМАНО.С СЕРЕДИНЫ 19 ВЕКА СЧИТАЕТСЯ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ЯПОНСКИМ «НАЦИОНАЛЬНЫМ КОСТЮМОМ»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КИМОНО ИСПОЛЬЗУЕТСЯ ЯПОНЦАМИ НЕ ТОЛЬКО ДЛЯ ОСОБЫХ СОБЫТИЙ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ТАКИХ КАК СВАДЬБА ИЛИ НАЦИОНАЛЬНЫЕ ПРАЗДНИКИ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НО И В ЕЖЕДНЕВНОЙ ЖИЗНИ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9" name="Picture 6" descr="220px-Niigata_geisha_dancing"/>
          <p:cNvPicPr/>
          <p:nvPr/>
        </p:nvPicPr>
        <p:blipFill>
          <a:blip r:embed="rId1"/>
          <a:stretch/>
        </p:blipFill>
        <p:spPr>
          <a:xfrm>
            <a:off x="755640" y="517680"/>
            <a:ext cx="2016000" cy="188748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7"/>
          <p:cNvSpPr/>
          <p:nvPr/>
        </p:nvSpPr>
        <p:spPr>
          <a:xfrm>
            <a:off x="275400" y="3660840"/>
            <a:ext cx="35319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ЯПОНСКАЯ КУХНЯ-НАЦИОНАЛЬНАЯ КУХНЯ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ЯПОНЦЕВ. ОСНОВНЫМ ИНГРЕДИЕНТОМ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ЯПОНСКОЙ КУХНИ И ОСНОВОЙ ПИТАНИЯ В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ЯПОНИИ ВООБЩЕ ЯВЛЯЕТСЯ РИС.ВТОРЫМ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ПО ВАЖНОСТИ КОМПОНЕНТОМ ЯВЛЯЮТСЯ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МОРЕПРОДУКТЫ-РЫБА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МОЛЛЮСКИ И ДР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БЛЮДА ЯПОНСКОЙ КУХНИ ЯВЛЯЮТСЯ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КЛЮЧЕВОЙ ДОСТОПРИМЕЧАТЕЛЬНОСТЬЮ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ДЛЯ ТУРИСТОВ ИЗ ДРУГИХ СТРАН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Picture 9" descr="Национальные блюда Японии"/>
          <p:cNvPicPr/>
          <p:nvPr/>
        </p:nvPicPr>
        <p:blipFill>
          <a:blip r:embed="rId2"/>
          <a:stretch/>
        </p:blipFill>
        <p:spPr>
          <a:xfrm>
            <a:off x="6300720" y="3573360"/>
            <a:ext cx="1944720" cy="14526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7" descr="1"/>
          <p:cNvPicPr/>
          <p:nvPr/>
        </p:nvPicPr>
        <p:blipFill>
          <a:blip r:embed="rId1"/>
          <a:stretch/>
        </p:blipFill>
        <p:spPr>
          <a:xfrm>
            <a:off x="250920" y="2492280"/>
            <a:ext cx="3025800" cy="200988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8"/>
          <p:cNvSpPr/>
          <p:nvPr/>
        </p:nvSpPr>
        <p:spPr>
          <a:xfrm>
            <a:off x="983520" y="554040"/>
            <a:ext cx="5103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СУМО-СЧИТАЕТСЯ НАЦИОНАЛЬНЫМ ВИДОМ СПОРТА ЯПОНИИ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ЯПОНЦЫ ОТНОСЯТ СУМО К БОЕВЫМ ИСКУССТВАМ. ТРАДИЦИЯ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СУМО ВЕДЕТСЯ С ДРЕВНИХ ВРЕМЕН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 ПОЭТОМУ КАЖДЫЙ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ПОЕДИНОК СОПРОВОЖДАЕТСЯ МНОГОЧИСЛЕННЫМИ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РИТУАЛАМИ. ЯПОНИЯ ЯВЛЯЕТСЯ ПРИЗНАННЫМ ЦЕНТРОМ СУМО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И ЕДИНСТВЕННОЙ СТРАНОЙ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 ГДЕ ПРОВОДЯТСЯ СОРЕВНОВАНИЯ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ПРОФЕССИОНАЛОВ. 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Picture 10" descr="300px-Sumo_ceremony"/>
          <p:cNvPicPr/>
          <p:nvPr/>
        </p:nvPicPr>
        <p:blipFill>
          <a:blip r:embed="rId2"/>
          <a:stretch/>
        </p:blipFill>
        <p:spPr>
          <a:xfrm>
            <a:off x="5076720" y="3716280"/>
            <a:ext cx="2664000" cy="19987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3T20:07:55Z</dcterms:created>
  <dc:creator>Admin</dc:creator>
  <dc:description/>
  <dc:language>en-US</dc:language>
  <cp:lastModifiedBy>1Z</cp:lastModifiedBy>
  <dcterms:modified xsi:type="dcterms:W3CDTF">2014-06-01T16:31:42Z</dcterms:modified>
  <cp:revision>16</cp:revision>
  <dc:subject/>
  <dc:title>Серебряно-Прудская СОШ имени маршала В.И.Чуйкова</dc:title>
</cp:coreProperties>
</file>