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66B-96E3-4517-AE8F-B318CA06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1C1-2FEB-4A72-B979-A86B091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16C-35F9-452F-AC86-653212A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326-455C-4C69-9057-0A4F2B4D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99C-D204-4443-95CC-A7CC152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96C-991A-4807-8C8B-0109F86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DA3-C4A9-41BD-87A8-E8BA12E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D47-95D5-4B3D-BE78-07CFE75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51E-21F2-4F6B-BFEE-46298FC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723-4802-4352-950C-0F6E503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26A-0A87-4C5F-9529-F0F9D5EE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F2C-3B11-4DBC-8D01-B4363930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BFB-2159-4843-973B-B8F6D184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B1D5-CAD8-4C24-BDA1-3278BB0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254-7F24-48A0-8043-F02D476D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7C4-CF84-4427-8B0D-4A7A322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460A-E887-463B-AD6C-940E5D5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400-D8D4-40A8-B327-62C39CD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79CE-CED6-4C07-9DCB-4ACED209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B8D-522D-4385-B854-3E5D07D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E0FB-7E56-4AF4-9846-E78D24B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C06-913A-4415-9B02-28A8343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CFB-8183-44B7-B1FE-4BB42E2F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F9C-CCCF-4DFA-A31A-DF40A2CD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4CC-B346-4CEA-8A91-793BC535188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813-0093-4132-A32E-8081873E74A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E4C-89B1-4E85-8E59-1A8882EFBF94}" type="datetime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8B1-7C2D-41B9-933E-6E236CAC2AC2}" type="slidenum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b6d"/>
                </a:solidFill>
                <a:latin typeface="Arial Black"/>
              </a:rPr>
              <a:t>Роль лексических и грамматических явлений в тексте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64" name="Picture 5" descr="examen_logo2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prouchebnik.ru/pictures/ll09-025176-1_1.jpg"/>
          <p:cNvPicPr/>
          <p:nvPr/>
        </p:nvPicPr>
        <p:blipFill>
          <a:blip r:embed="rId3"/>
          <a:stretch/>
        </p:blipFill>
        <p:spPr>
          <a:xfrm>
            <a:off x="317520" y="469800"/>
            <a:ext cx="391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043840" cy="514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определенно-личное предложение позволяет сосредоточить все вниман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на характере обозначаемой деятельност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, полностью отвлекаясь от вопроса о действующих лицах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Главный член выражен глаголом изъявительного наклон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 форме 3 лица множественного числа  настоящего, прошедшего или будущего времени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едставляя субъект как неопределенно-личный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(определить лицо по данному глагольному сказуемому нельзя)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оворящий имеет в виду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«кто-то другие, но не я»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сключает себя из возможных субъектов действия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акже глагол-сказуемое подчеркивает, что говорящему эти лица либо неизвестны, либо он не хочет их называ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68360" y="333360"/>
            <a:ext cx="8400960" cy="92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Грамматическая основа простого односоставного предложения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5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Однородные члены предложения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предложения позволяют подробно, в деталях, опис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ешность, характеры героев, их быт, окружающий мир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тупки героев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ушевное состоя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увства персонаже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увлеч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инамику действи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ледовательность или одновременность действи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могут представлять ряд синонимов, характеризующих одно понятие, явление или признак и использующихся вместе, чтобы полнее обрисовать е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яды однородных членов могут служить средством создания контраст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4480" y="620640"/>
            <a:ext cx="76438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ОБРАЩЕНИЕ</a:t>
            </a:r>
            <a:br>
              <a:rPr sz="3600"/>
            </a:b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42560" y="2205000"/>
            <a:ext cx="7643880" cy="36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звательная функция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называет того, к кому обращаются с речью; 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оценочная функция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ыражает отношение говорящего к собеседнику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479-DCAC-420B-A48B-5FAAE51941BE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14200" y="1341000"/>
            <a:ext cx="8715600" cy="5302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 выражаемому ими значению вводные слова и сочетания подразделяются на несколько разряд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Большую группу составляют вводные слова и словосочетания, выражающ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оценку говорящим степени достоверности сообщаемо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уверенность, предположение, сомнение, неуверенность и т.п.)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Эмоциональную оценку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общаемого дают вводные слова и словосочетания,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выражающие чувства говоряще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радость, удовольствие, сожаление, удивление, негодование и т.п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 Вводные слова и словосочетания могут указывать на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связь мыслей, последова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ложени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. Ряд вводных слов и словосочетаний указывает на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источник сообщ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водные слова и словосочетания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36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Восклицательное предложение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560" y="1916280"/>
            <a:ext cx="7643880" cy="47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ожет содержать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буждение к действию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редавать приказ, требование, выраженное формой повелительного наклонения глагола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идавать эмоциональную окраску высказыванию (радость, возмущение, гнев, удивление и т.д.)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872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опросительные предложен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0560" y="1412640"/>
            <a:ext cx="8435880" cy="544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ми называются предложения, в которых выражается стремление говорящего узнать что-либо или удостовериться в чем-либо. Они информируют о том, что хочет узнать говорящий. Это могут быть свед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человеке или предмете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Кто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ришёл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?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Что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ринёс?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мест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уд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пошел учитель?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он сейчас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характер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ак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ты смог поднять этот груз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цели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чем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ы купил эту книгу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достоверности информации (Ты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действительн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был дома?) и т.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е предложения используются для обмена информацией в диалог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ОБОСОБЛЕННЫЕ СОГЛАСОВАННЫЕ ОПРЕДЕЛЕНИЯ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ить признак предмета;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лнее раскрыть отличительные свой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збежать нагромождения сложных грамматических конструкц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ОБОСОБЛЕННЫЕ НЕСОГЛАСОВАННЫЕ ОПРЕДЕЛЕНИЯ</a:t>
            </a: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многогранно представить предмет или лицо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ополняют характеристику лица или предмета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C46-A799-481E-8FED-F3B53FA91248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1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00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приложения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8920" y="1484280"/>
            <a:ext cx="871380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собленные приложения могу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разно характеризовать лицо или предмет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яснять или уточнять определяемый предмет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внутренние и внешние свойства и качества героя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свойства и каче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точнее обозначать предмет или лицо через переименовани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1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обстоятельств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1125360"/>
            <a:ext cx="8785440" cy="590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 уточнить основное действие (как, почему, зачем, при каком условии оно происходит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ют экспрессивность реч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елают речь краткой, лаконичной, выразительно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детально описать действие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средством создания словесных картин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едут к разнообразию синтаксических конструкций, помогают избежать повторения, нагромождения сложных предложени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 их помощью передаваемое сообщение приобретает смысловую точнос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Уточняющие члены предложения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341360"/>
            <a:ext cx="8435880" cy="5516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щие члены, относясь к тому или иному члену предложения, сужают понятие, им передаваемое, или в каком-либо отношении ограничивают его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т время, место, признак предмета, переданные в общем вид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передать мысль конкретно, выпукло, с уточняющими смысл деталями обстановки, времени и т.п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зволяют передать тонкие оттенки смысла, подчеркнуть нужные детали, сообщить необходимые дополнительные сведения, конкретизировать значение других членов предложения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122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Фразеологиз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Ярко, эмоционально описыв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собенности душевного состояния, поведения человек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его поступки, действия, помогают легче их представить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тношение человека к окружающему миру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зволяют индивидуализировать речь героев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могают сделать язык насыщенным, колоритным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Сочинительные союзы в </a:t>
            </a:r>
            <a:r>
              <a:rPr b="1" lang="ru-RU" sz="2400" spc="-1" strike="noStrike">
                <a:solidFill>
                  <a:srgbClr val="002b6d"/>
                </a:solidFill>
                <a:latin typeface="Arial Black"/>
              </a:rPr>
              <a:t>сложносочинённом предложении </a:t>
            </a:r>
            <a:br>
              <a:rPr sz="2400"/>
            </a:b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197000"/>
          <a:ext cx="8496360" cy="54388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единяют части сложносочинённого предложения, выражают   значение одновременности событий.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противоречащих слов или предложений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двух одновременных событий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сходно по значению с союзом "между тем")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речие ожидаемому, должному с точки зрения говорящего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исоединение следствия к предполагаемому условию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87280" y="1341360"/>
          <a:ext cx="8856720" cy="5180040"/>
        </p:xfrm>
        <a:graphic>
          <a:graphicData uri="http://schemas.openxmlformats.org/drawingml/2006/table">
            <a:tbl>
              <a:tblPr/>
              <a:tblGrid>
                <a:gridCol w="8422920"/>
                <a:gridCol w="216000"/>
                <a:gridCol w="21780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. Определ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яют и распространяют слово, к которому присоединяется придаточное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. Изъясн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 Black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ополняют, поясняют один из членов главного предложения (чаще сказуемое)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. Цели: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цель, назначение действ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73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. Условия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условие, от которого зависит осуществление действия, события, явления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5. Причины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причину или обоснование действия (события, явления)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6. Уступки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то, что действие совершается вопреки условиям (несмотря на условие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7. Сравнения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ясняют содержание главного предложения, сравнивая одно событие (действие, явление) с другим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огут выражать знач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одновременности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числяемых событий;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следовательност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ричин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раскрывает причину того, о чём говорится в перв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первое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о-изъ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слово в первой части, которое имеет значение речи, мысли, чувства или восприятия, или слово, которое указывает на эти процессы: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рислушался, взглянул, оглянулся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; во втором случае можно говорить о пропуске слов типа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увидеть, услыша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опоставительно-против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ношения (содержание второго предложения сопоставляется с содержанием первого или противопоставляется ему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условно-врем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первое предложение указывает на время или на условие осуществления того, о чём говорится во втор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лед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содержание второго предложения является следствием того, о чём говорится в первом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Б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ессоюзные сложные предложения</a:t>
            </a:r>
            <a:r>
              <a:rPr b="0" lang="en-US" sz="4000" spc="-1" strike="noStrike">
                <a:solidFill>
                  <a:srgbClr val="002b6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99760" y="189000"/>
            <a:ext cx="7643880" cy="367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b6d"/>
                </a:solidFill>
                <a:latin typeface="Arial Black"/>
              </a:rPr>
              <a:t>Удачи на экзаменах!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6300720" y="55897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Егораева Г.Т.,    Москва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13" name="Picture 2" descr="C:\Users\Галина\AppData\Local\Temp\shutterstock_61302313.jpg"/>
          <p:cNvPicPr/>
          <p:nvPr/>
        </p:nvPicPr>
        <p:blipFill>
          <a:blip r:embed="rId2"/>
          <a:stretch/>
        </p:blipFill>
        <p:spPr>
          <a:xfrm>
            <a:off x="0" y="2924280"/>
            <a:ext cx="3419640" cy="4221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4352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b6d"/>
                </a:solidFill>
                <a:latin typeface="Arial Black"/>
              </a:rPr>
              <a:t>Антонимы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484280"/>
            <a:ext cx="896472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Антонимы —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слова, относящиеся к одной части речи, но противоположные по значению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добро-зло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онтекстные (или контекстуальные) антонимы —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в языке не противопоставлены по значению и являются антонимами только в тексте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Они сошлись.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олн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камень, стихи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оза, Лёд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ламен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 столь различны меж собой... (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А. Пушкин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Антонимы, в том числе контекстные, позволяют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точнить мысль, сделать ее ярче, образне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ть более полную характеристику какого-либо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редельное различие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между вещами, явлениями, качествам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авторскую оценку обознач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64388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Синони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избежать однообразия изложения;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азнообразят нашу речь, делая её живой и выразитель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сесторонне охарактеризовать образ, явление, поступок и т.д.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самые тонкие смысловые оттенк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онко и красочно описать предметы,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пособствуют точности и ясности высказывания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4d"/>
                </a:solidFill>
                <a:latin typeface="Arial Black"/>
              </a:rPr>
              <a:t>помогают с максимальной точностью и полнотой передать содержа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ют возможность выразить различные оттенки мысли, уточнить, подчеркнуть какое-то положени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86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Контекстные синони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сами по себе не являются синонимами, но становятся ими в определенном контекст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033"/>
                </a:solidFill>
                <a:latin typeface="Arial Black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Морские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суда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окинутые своими командами, иногда годами блуждают по океанам, пока их не поглотит пучина. Не раз эти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бродяги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океанов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становились источниками морских леген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бор делает речь яркой, художествен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ни позволяют увидеть и охарактеризов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утренний мир рассказчика или геро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, состоя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тражают недостающие смыслы слова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черкивают своеобразие авторской реч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увидеть новые лексические оттенки слов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9152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Архаизмы, истор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4d"/>
                </a:solidFill>
                <a:latin typeface="Arial Black"/>
              </a:rPr>
              <a:t>служат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воссоздания исторической обстановки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названиями предметов, явлений и т.п. прошлых лет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передачи торжественности момент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являются средством речевой характеристики персонаж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спользуются для создания комического эффекта, иронии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убедить читателя в правдивости изображаемых событ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643880" cy="64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Профессионал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могают определить принадлежность героя (рассказчика) к определённой профессии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4d"/>
                </a:solidFill>
                <a:latin typeface="Arial Black"/>
              </a:rPr>
              <a:t>служат для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бозначения различных производственных процессов, орудий производства, сырья, выпускаемой продукции и т.п.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оздания эффекта достоверности информации,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речевой характеристики персонажа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50920" y="333360"/>
            <a:ext cx="8642160" cy="65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6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 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ДИАЛЕКТИЗМЫ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передать местный языковой колорит, особенности речи героев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РАЗГОВОРНАЯ И ПРОСТОРЕЧНАЯ ЛЕКСИК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ёт стилистическую окраску слова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спользуется для словесной характеристики героя (рассказчика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КНИЖНЫЕ СЛОВ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автору обратить внимание читателя на важные события (общественные, политические), нравственные цен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 подчеркнуть и охарактеризовать общественно значимую проблему, 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для образного, эмоционального восприятия изображаемой действитель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речевой характеристикой персонаже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04480" y="692280"/>
            <a:ext cx="7643880" cy="129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Многозначные слова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560" y="2204640"/>
            <a:ext cx="7643880" cy="465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ом слов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выделяются первичное значение слова и производные от него значения. Новые значения возникают у слова в результате переноса наименования с одного объекта действительности на другие.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ые слова 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елают речь образной, помогают увидеть оттенки смысла.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2:55:32Z</dcterms:created>
  <dc:creator>Наталья</dc:creator>
  <dc:description/>
  <dc:language>en-US</dc:language>
  <cp:lastModifiedBy>Татьяна</cp:lastModifiedBy>
  <dcterms:modified xsi:type="dcterms:W3CDTF">2014-06-03T21:09:56Z</dcterms:modified>
  <cp:revision>35</cp:revision>
  <dc:subject/>
  <dc:title>Слайд 1</dc:title>
</cp:coreProperties>
</file>