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04480" y="2419200"/>
            <a:ext cx="76438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42560" y="2997000"/>
            <a:ext cx="764388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042560" y="4914720"/>
            <a:ext cx="764388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04480" y="2419200"/>
            <a:ext cx="76438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42560" y="2997000"/>
            <a:ext cx="3729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59360" y="2997000"/>
            <a:ext cx="3729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42560" y="4914720"/>
            <a:ext cx="3729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959360" y="4914720"/>
            <a:ext cx="3729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04480" y="2419200"/>
            <a:ext cx="76438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42560" y="2997000"/>
            <a:ext cx="2460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27000" y="2997000"/>
            <a:ext cx="2460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11440" y="2997000"/>
            <a:ext cx="2460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042560" y="4914720"/>
            <a:ext cx="2460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627000" y="4914720"/>
            <a:ext cx="2460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11440" y="4914720"/>
            <a:ext cx="2460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04480" y="2419200"/>
            <a:ext cx="76438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042560" y="2997000"/>
            <a:ext cx="7643880" cy="36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04480" y="2419200"/>
            <a:ext cx="76438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42560" y="2997000"/>
            <a:ext cx="764388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04480" y="2419200"/>
            <a:ext cx="76438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42560" y="2997000"/>
            <a:ext cx="372996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959360" y="2997000"/>
            <a:ext cx="372996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04480" y="2419200"/>
            <a:ext cx="76438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104480" y="2419200"/>
            <a:ext cx="764388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04480" y="2419200"/>
            <a:ext cx="76438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42560" y="2997000"/>
            <a:ext cx="3729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59360" y="2997000"/>
            <a:ext cx="372996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042560" y="4914720"/>
            <a:ext cx="3729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104480" y="2419200"/>
            <a:ext cx="76438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042560" y="2997000"/>
            <a:ext cx="7643880" cy="36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04480" y="2419200"/>
            <a:ext cx="76438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997000"/>
            <a:ext cx="372996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59360" y="2997000"/>
            <a:ext cx="3729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959360" y="4914720"/>
            <a:ext cx="3729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04480" y="2419200"/>
            <a:ext cx="76438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997000"/>
            <a:ext cx="3729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59360" y="2997000"/>
            <a:ext cx="3729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042560" y="4914720"/>
            <a:ext cx="764388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04480" y="2419200"/>
            <a:ext cx="76438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997000"/>
            <a:ext cx="764388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042560" y="4914720"/>
            <a:ext cx="764388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04480" y="2419200"/>
            <a:ext cx="76438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42560" y="2997000"/>
            <a:ext cx="3729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59360" y="2997000"/>
            <a:ext cx="3729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42560" y="4914720"/>
            <a:ext cx="3729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959360" y="4914720"/>
            <a:ext cx="3729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04480" y="2419200"/>
            <a:ext cx="76438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42560" y="2997000"/>
            <a:ext cx="2460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627000" y="2997000"/>
            <a:ext cx="2460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11440" y="2997000"/>
            <a:ext cx="2460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042560" y="4914720"/>
            <a:ext cx="2460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627000" y="4914720"/>
            <a:ext cx="2460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11440" y="4914720"/>
            <a:ext cx="2460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0CFB-A9D3-4329-B49B-92CAF6959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04480" y="2419200"/>
            <a:ext cx="76438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042560" y="2997000"/>
            <a:ext cx="7643880" cy="36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EB39-835B-4A89-915F-AABE6D007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04480" y="2419200"/>
            <a:ext cx="76438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42560" y="2997000"/>
            <a:ext cx="764388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EF82-22D8-4E02-991A-937C8C4B0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04480" y="2419200"/>
            <a:ext cx="76438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42560" y="2997000"/>
            <a:ext cx="372996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59360" y="2997000"/>
            <a:ext cx="372996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EE65-F801-4770-906D-CE7411B56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04480" y="2419200"/>
            <a:ext cx="76438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A727-5012-45E0-BA30-F56405EB5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04480" y="2419200"/>
            <a:ext cx="76438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042560" y="2997000"/>
            <a:ext cx="764388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1104480" y="2419200"/>
            <a:ext cx="764388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3513-5DAB-41B9-9F20-FC9F16370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04480" y="2419200"/>
            <a:ext cx="76438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42560" y="2997000"/>
            <a:ext cx="3729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959360" y="2997000"/>
            <a:ext cx="372996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042560" y="4914720"/>
            <a:ext cx="3729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EBB3-BAD1-47F9-8571-2A4813AF1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04480" y="2419200"/>
            <a:ext cx="76438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42560" y="2997000"/>
            <a:ext cx="372996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959360" y="2997000"/>
            <a:ext cx="3729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959360" y="4914720"/>
            <a:ext cx="3729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211A-46A8-4898-808B-3719515AB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04480" y="2419200"/>
            <a:ext cx="76438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42560" y="2997000"/>
            <a:ext cx="3729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59360" y="2997000"/>
            <a:ext cx="3729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042560" y="4914720"/>
            <a:ext cx="764388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DA1A-E5E2-4488-9CD8-4D21305E3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04480" y="2419200"/>
            <a:ext cx="76438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42560" y="2997000"/>
            <a:ext cx="764388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1042560" y="4914720"/>
            <a:ext cx="764388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B7AC-EFC3-45AD-978E-10EB77D40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04480" y="2419200"/>
            <a:ext cx="76438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42560" y="2997000"/>
            <a:ext cx="3729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959360" y="2997000"/>
            <a:ext cx="3729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042560" y="4914720"/>
            <a:ext cx="3729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959360" y="4914720"/>
            <a:ext cx="3729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E063-11A0-4ECE-8957-F95F2847C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04480" y="2419200"/>
            <a:ext cx="76438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42560" y="2997000"/>
            <a:ext cx="2460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627000" y="2997000"/>
            <a:ext cx="2460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211440" y="2997000"/>
            <a:ext cx="2460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1042560" y="4914720"/>
            <a:ext cx="2460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627000" y="4914720"/>
            <a:ext cx="2460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211440" y="4914720"/>
            <a:ext cx="2460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F777-680C-4724-B577-827D41B26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7933E-385D-475B-A526-628987819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04480" y="2419200"/>
            <a:ext cx="76438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042560" y="2997000"/>
            <a:ext cx="7643880" cy="36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006A9-6E38-4B92-BC20-E123C2B0F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04480" y="2419200"/>
            <a:ext cx="76438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42560" y="2997000"/>
            <a:ext cx="764388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F231B-D630-4587-AF15-46138B9CD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04480" y="2419200"/>
            <a:ext cx="76438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42560" y="2997000"/>
            <a:ext cx="372996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959360" y="2997000"/>
            <a:ext cx="372996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04480" y="2419200"/>
            <a:ext cx="76438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42560" y="2997000"/>
            <a:ext cx="372996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959360" y="2997000"/>
            <a:ext cx="372996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3190C-040F-4EF3-8E7D-8F2F9C047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04480" y="2419200"/>
            <a:ext cx="76438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93B80-9034-4C63-850F-17839EDD5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104480" y="2419200"/>
            <a:ext cx="764388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75EE2-954F-43EC-9A62-4C0A36C34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04480" y="2419200"/>
            <a:ext cx="76438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42560" y="2997000"/>
            <a:ext cx="3729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959360" y="2997000"/>
            <a:ext cx="372996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042560" y="4914720"/>
            <a:ext cx="3729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62964-1EA2-4698-985E-F1BA2566B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04480" y="2419200"/>
            <a:ext cx="76438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997000"/>
            <a:ext cx="372996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959360" y="2997000"/>
            <a:ext cx="3729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959360" y="4914720"/>
            <a:ext cx="3729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7BDC4-8030-40F8-82E1-E093A6EA4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04480" y="2419200"/>
            <a:ext cx="76438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997000"/>
            <a:ext cx="3729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959360" y="2997000"/>
            <a:ext cx="3729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042560" y="4914720"/>
            <a:ext cx="764388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3B19F-9627-4E5D-84D4-E380E0B5C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04480" y="2419200"/>
            <a:ext cx="76438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997000"/>
            <a:ext cx="764388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042560" y="4914720"/>
            <a:ext cx="764388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98494-7047-44FF-8570-7776E8433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04480" y="2419200"/>
            <a:ext cx="76438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42560" y="2997000"/>
            <a:ext cx="3729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959360" y="2997000"/>
            <a:ext cx="3729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042560" y="4914720"/>
            <a:ext cx="3729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959360" y="4914720"/>
            <a:ext cx="3729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65631-74E1-44E8-A521-2AD02DC40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04480" y="2419200"/>
            <a:ext cx="76438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42560" y="2997000"/>
            <a:ext cx="2460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627000" y="2997000"/>
            <a:ext cx="2460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211440" y="2997000"/>
            <a:ext cx="2460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042560" y="4914720"/>
            <a:ext cx="2460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627000" y="4914720"/>
            <a:ext cx="2460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211440" y="4914720"/>
            <a:ext cx="2460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4C110-F6D9-4BC2-BCA4-0908EECEA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04480" y="2419200"/>
            <a:ext cx="76438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104480" y="2419200"/>
            <a:ext cx="764388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04480" y="2419200"/>
            <a:ext cx="76438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42560" y="2997000"/>
            <a:ext cx="3729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59360" y="2997000"/>
            <a:ext cx="372996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042560" y="4914720"/>
            <a:ext cx="3729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04480" y="2419200"/>
            <a:ext cx="76438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42560" y="2997000"/>
            <a:ext cx="372996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59360" y="2997000"/>
            <a:ext cx="3729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59360" y="4914720"/>
            <a:ext cx="3729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04480" y="2419200"/>
            <a:ext cx="76438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42560" y="2997000"/>
            <a:ext cx="3729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59360" y="2997000"/>
            <a:ext cx="3729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42560" y="4914720"/>
            <a:ext cx="764388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04480" y="2419200"/>
            <a:ext cx="76438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0" y="5084640"/>
            <a:ext cx="9144000" cy="1989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42560" y="2997000"/>
            <a:ext cx="764388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66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66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2"/>
          <p:cNvSpPr/>
          <p:nvPr/>
        </p:nvSpPr>
        <p:spPr>
          <a:xfrm>
            <a:off x="2771640" y="6045120"/>
            <a:ext cx="6372360" cy="43200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40" name="Rectangle 3"/>
          <p:cNvSpPr/>
          <p:nvPr/>
        </p:nvSpPr>
        <p:spPr>
          <a:xfrm>
            <a:off x="2771640" y="5397480"/>
            <a:ext cx="6372360" cy="64764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04480" y="2419200"/>
            <a:ext cx="76438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042560" y="2997000"/>
            <a:ext cx="764388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66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66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3"/>
          <p:cNvSpPr/>
          <p:nvPr/>
        </p:nvSpPr>
        <p:spPr>
          <a:xfrm>
            <a:off x="0" y="5084640"/>
            <a:ext cx="9144000" cy="1989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04480" y="2419200"/>
            <a:ext cx="76438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1042560" y="2997000"/>
            <a:ext cx="764388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66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66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165DE-FDCA-48CE-AA39-B28CE91BDFD3}" type="datetime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F1FEC-25D1-426B-8C3C-E98B47A7BC97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3"/>
          <p:cNvSpPr/>
          <p:nvPr/>
        </p:nvSpPr>
        <p:spPr>
          <a:xfrm>
            <a:off x="0" y="5084640"/>
            <a:ext cx="9144000" cy="1989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04480" y="2419200"/>
            <a:ext cx="76438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042560" y="2997000"/>
            <a:ext cx="764388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66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66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66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93350-9F6E-4391-A23D-C94A1B82574F}" type="datetime"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30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66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A7700-69C6-4EDA-8BB1-7A7E59990462}" type="slidenum"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23640" y="404280"/>
            <a:ext cx="8351640" cy="57610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2b6d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b6d"/>
                </a:solidFill>
                <a:latin typeface="Arial Black"/>
              </a:rPr>
              <a:t>Роль лексических и грамматических явлений в тексте</a:t>
            </a:r>
            <a:endParaRPr b="0" lang="en-US" sz="4800" spc="-1" strike="noStrike">
              <a:solidFill>
                <a:srgbClr val="ff0066"/>
              </a:solidFill>
              <a:latin typeface="Arial"/>
            </a:endParaRPr>
          </a:p>
        </p:txBody>
      </p:sp>
      <p:pic>
        <p:nvPicPr>
          <p:cNvPr id="164" name="Picture 5" descr="examen_logo2"/>
          <p:cNvPicPr/>
          <p:nvPr/>
        </p:nvPicPr>
        <p:blipFill>
          <a:blip r:embed="rId2"/>
          <a:stretch/>
        </p:blipFill>
        <p:spPr>
          <a:xfrm>
            <a:off x="5724360" y="404640"/>
            <a:ext cx="2880000" cy="5954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http://www.prouchebnik.ru/pictures/ll09-025176-1_1.jpg"/>
          <p:cNvPicPr/>
          <p:nvPr/>
        </p:nvPicPr>
        <p:blipFill>
          <a:blip r:embed="rId3"/>
          <a:stretch/>
        </p:blipFill>
        <p:spPr>
          <a:xfrm>
            <a:off x="317520" y="469800"/>
            <a:ext cx="3913200" cy="15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468360" y="1484280"/>
            <a:ext cx="8043840" cy="51451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206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Неопределенно-личное предложение позволяет сосредоточить все внимание </a:t>
            </a:r>
            <a:r>
              <a:rPr b="0" lang="en-US" sz="2000" spc="-1" strike="noStrike">
                <a:solidFill>
                  <a:srgbClr val="ff0000"/>
                </a:solidFill>
                <a:latin typeface="Arial Black"/>
              </a:rPr>
              <a:t>на характере обозначаемой деятельности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 Black"/>
              </a:rPr>
              <a:t>, полностью отвлекаясь от вопроса о действующих лицах.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(Главный член выражен глаголом изъявительного наклонения 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</a:rPr>
              <a:t>в форме 3 лица множественного числа  настоящего, прошедшего или будущего времени).</a:t>
            </a: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Представляя субъект как неопределенно-личный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</a:rPr>
              <a:t>(определить лицо по данному глагольному сказуемому нельзя)</a:t>
            </a:r>
            <a:r>
              <a:rPr b="1" i="1" lang="en-US" sz="2000" spc="-1" strike="noStrike">
                <a:solidFill>
                  <a:srgbClr val="000000"/>
                </a:solidFill>
                <a:latin typeface="Arial Black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говорящий имеет в виду </a:t>
            </a:r>
            <a:r>
              <a:rPr b="1" lang="en-US" sz="2000" spc="-1" strike="noStrike">
                <a:solidFill>
                  <a:srgbClr val="ff0000"/>
                </a:solidFill>
                <a:latin typeface="Arial Black"/>
              </a:rPr>
              <a:t>«кто-то другие, но не я», </a:t>
            </a: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исключает себя из возможных субъектов действия. </a:t>
            </a: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Также глагол-сказуемое подчеркивает, что говорящему эти лица либо неизвестны, либо он не хочет их называть.</a:t>
            </a: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82" name="Rectangle 2"/>
          <p:cNvSpPr/>
          <p:nvPr/>
        </p:nvSpPr>
        <p:spPr>
          <a:xfrm>
            <a:off x="468360" y="333360"/>
            <a:ext cx="8400960" cy="9223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206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002b6d"/>
                </a:solidFill>
                <a:latin typeface="Arial Black"/>
              </a:rPr>
              <a:t>Грамматическая основа простого односоставного предложения</a:t>
            </a: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5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1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10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10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497800" cy="11509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2b6d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b6d"/>
                </a:solidFill>
                <a:latin typeface="Arial Black"/>
              </a:rPr>
              <a:t>Однородные члены предложения</a:t>
            </a:r>
            <a:endParaRPr b="0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79280" y="1483920"/>
            <a:ext cx="8785440" cy="53737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2b6d"/>
            </a:solidFill>
            <a:miter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Однородные члены предложения позволяют подробно, в деталях, описать</a:t>
            </a: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внешность, характеры героев, их быт, окружающий мир;</a:t>
            </a: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поступки героев;</a:t>
            </a: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их действия;</a:t>
            </a: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их душевное состояние;</a:t>
            </a: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чувства персонажей;</a:t>
            </a: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их увлечения;</a:t>
            </a: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динамику действий;</a:t>
            </a: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последовательность или одновременность действий.</a:t>
            </a: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Однородные члены могут представлять ряд синонимов, характеризующих одно понятие, явление или признак и использующихся вместе, чтобы полнее обрисовать его.</a:t>
            </a: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Ряды однородных членов могут служить средством создания контраста.</a:t>
            </a: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2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4" dur="1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1" dur="10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10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5" dur="10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2" dur="100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9" dur="1000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6" dur="1000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3" dur="1000"/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1000"/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7" dur="1000"/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4" dur="1000"/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1" dur="1000"/>
                                        <p:tgtEl>
                                          <p:spTgt spid="1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1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1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04480" y="620640"/>
            <a:ext cx="7643880" cy="11527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2b6d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 Black"/>
              </a:rPr>
              <a:t> </a:t>
            </a:r>
            <a:r>
              <a:rPr b="1" lang="en-US" sz="3600" spc="-1" strike="noStrike">
                <a:solidFill>
                  <a:srgbClr val="002b6d"/>
                </a:solidFill>
                <a:latin typeface="Arial Black"/>
              </a:rPr>
              <a:t>ОБРАЩЕНИЕ</a:t>
            </a:r>
            <a:br>
              <a:rPr sz="3600"/>
            </a:br>
            <a:endParaRPr b="0" lang="en-US" sz="36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042560" y="2205000"/>
            <a:ext cx="7643880" cy="36720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2b6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 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 Black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 Black"/>
              </a:rPr>
              <a:t>звательная функция: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называет того, к кому обращаются с речью; </a:t>
            </a: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 Black"/>
              </a:rPr>
              <a:t>оценочная функция: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выражает отношение говорящего к собеседнику.</a:t>
            </a: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87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DBD82-AC3A-41FA-BEAE-210B2A01E4B3}" type="datetime">
              <a:rPr b="0" lang="ru-RU" sz="1800" spc="-1" strike="noStrike">
                <a:solidFill>
                  <a:srgbClr val="0066ff"/>
                </a:solidFill>
                <a:latin typeface="Arial"/>
              </a:rPr>
              <a:t>30.07.26</a:t>
            </a:fld>
            <a:endParaRPr b="0" lang="en-US" sz="18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2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4" dur="1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1" dur="10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8" dur="10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14200" y="1341000"/>
            <a:ext cx="8715600" cy="5302440"/>
          </a:xfrm>
          <a:prstGeom prst="rect">
            <a:avLst/>
          </a:prstGeom>
          <a:solidFill>
            <a:srgbClr val="ffffff"/>
          </a:solidFill>
          <a:ln w="76320">
            <a:solidFill>
              <a:srgbClr val="002b6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Arial Black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По выражаемому ими значению вводные слова и сочетания подразделяются на несколько разрядов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1. Большую группу составляют вводные слова и словосочетания, выражающие </a:t>
            </a:r>
            <a:r>
              <a:rPr b="0" lang="en-US" sz="2000" spc="-1" strike="noStrike">
                <a:solidFill>
                  <a:srgbClr val="ff0000"/>
                </a:solidFill>
                <a:latin typeface="Arial Black"/>
              </a:rPr>
              <a:t>оценку говорящим степени достоверности сообщаемого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(уверенность, предположение, сомнение, неуверенность и т.п.). </a:t>
            </a: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Arial Black"/>
              </a:rPr>
              <a:t>. Эмоциональную оценку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сообщаемого дают вводные слова и словосочетания, </a:t>
            </a:r>
            <a:r>
              <a:rPr b="0" lang="en-US" sz="2000" spc="-1" strike="noStrike">
                <a:solidFill>
                  <a:srgbClr val="ff0000"/>
                </a:solidFill>
                <a:latin typeface="Arial Black"/>
              </a:rPr>
              <a:t>выражающие чувства говорящего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(радость, удовольствие, сожаление, удивление, негодование и т.п.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3. Вводные слова и словосочетания могут указывать на </a:t>
            </a:r>
            <a:r>
              <a:rPr b="0" lang="en-US" sz="2000" spc="-1" strike="noStrike">
                <a:solidFill>
                  <a:srgbClr val="ff0000"/>
                </a:solidFill>
                <a:latin typeface="Arial Black"/>
              </a:rPr>
              <a:t>связь мыслей, последовательность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изложения.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4. Ряд вводных слов и словосочетаний указывает на</a:t>
            </a:r>
            <a:r>
              <a:rPr b="0" lang="en-US" sz="2000" spc="-1" strike="noStrike">
                <a:solidFill>
                  <a:srgbClr val="ff0000"/>
                </a:solidFill>
                <a:latin typeface="Arial Black"/>
              </a:rPr>
              <a:t> источник сообщаемого.</a:t>
            </a: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89" name="Заголовок 1"/>
          <p:cNvSpPr/>
          <p:nvPr/>
        </p:nvSpPr>
        <p:spPr>
          <a:xfrm>
            <a:off x="457200" y="274680"/>
            <a:ext cx="8229600" cy="9396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2b6d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b6d"/>
                </a:solidFill>
                <a:latin typeface="Arial Black"/>
              </a:rPr>
              <a:t>Вводные слова и словосочетания</a:t>
            </a:r>
            <a:endParaRPr b="0" lang="en-US" sz="32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9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1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8" dur="10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8435880" cy="13683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2b6d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 Black"/>
              </a:rPr>
              <a:t>   </a:t>
            </a:r>
            <a:r>
              <a:rPr b="0" lang="en-US" sz="3200" spc="-1" strike="noStrike">
                <a:solidFill>
                  <a:srgbClr val="002060"/>
                </a:solidFill>
                <a:latin typeface="Arial Black"/>
              </a:rPr>
              <a:t>Восклицательное предложение</a:t>
            </a:r>
            <a:endParaRPr b="0" lang="en-US" sz="32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042560" y="1916280"/>
            <a:ext cx="7643880" cy="47527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2b6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Может содержать</a:t>
            </a: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побуждение к действию;</a:t>
            </a: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передавать приказ, требование, выраженное формой повелительного наклонения глагола;</a:t>
            </a: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придавать эмоциональную окраску высказыванию (радость, возмущение, гнев, удивление и т.д.)</a:t>
            </a: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9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4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1" dur="1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8" dur="10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5" dur="10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2" dur="1000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208720" cy="10792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2b6d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b6d"/>
                </a:solidFill>
                <a:latin typeface="Arial Black"/>
              </a:rPr>
              <a:t>Вопросительные предложения</a:t>
            </a:r>
            <a:endParaRPr b="0" lang="en-US" sz="32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250560" y="1412640"/>
            <a:ext cx="8435880" cy="54450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2b6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Вопросительными называются предложения, в которых выражается стремление говорящего узнать что-либо или удостовериться в чем-либо. Они информируют о том, что хочет узнать говорящий. Это могут быть сведения</a:t>
            </a: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о человеке или предмете (</a:t>
            </a:r>
            <a:r>
              <a:rPr b="1" i="1" lang="en-US" sz="2000" spc="-1" strike="noStrike">
                <a:solidFill>
                  <a:srgbClr val="000000"/>
                </a:solidFill>
                <a:latin typeface="Arial Black"/>
              </a:rPr>
              <a:t>Кто 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</a:rPr>
              <a:t>пришёл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? </a:t>
            </a:r>
            <a:r>
              <a:rPr b="1" i="1" lang="en-US" sz="2000" spc="-1" strike="noStrike">
                <a:solidFill>
                  <a:srgbClr val="000000"/>
                </a:solidFill>
                <a:latin typeface="Arial Black"/>
              </a:rPr>
              <a:t>Что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</a:rPr>
              <a:t> принёс?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);</a:t>
            </a: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о месте действия (</a:t>
            </a: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Куда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пошел учитель? </a:t>
            </a: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Где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он сейчас?);</a:t>
            </a: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о характере действия (</a:t>
            </a: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Как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ты смог поднять этот груз?);</a:t>
            </a: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о цели (</a:t>
            </a: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Зачем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ты купил эту книгу?);</a:t>
            </a: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о достоверности информации (Ты </a:t>
            </a:r>
            <a:r>
              <a:rPr b="1" i="1" lang="en-US" sz="2000" spc="-1" strike="noStrike">
                <a:solidFill>
                  <a:srgbClr val="000000"/>
                </a:solidFill>
                <a:latin typeface="Arial Black"/>
              </a:rPr>
              <a:t>действительно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был дома?) и т.д.</a:t>
            </a: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Вопросительные предложения используются для обмена информацией в диалоге.</a:t>
            </a: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3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8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9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5" dur="10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2" dur="10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9" dur="10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6" dur="10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3" dur="1000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10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0" dur="1000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1" dur="10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7" dur="1000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8" dur="1000" fill="hold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1000" fill="hold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99640" y="620640"/>
            <a:ext cx="76438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68360" y="189000"/>
            <a:ext cx="8424720" cy="64800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2b6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Arial Black"/>
              </a:rPr>
              <a:t> </a:t>
            </a:r>
            <a:r>
              <a:rPr b="1" lang="en-US" sz="2400" spc="-1" strike="noStrike">
                <a:solidFill>
                  <a:srgbClr val="002060"/>
                </a:solidFill>
                <a:latin typeface="Arial Black"/>
              </a:rPr>
              <a:t>ОБОСОБЛЕННЫЕ СОГЛАСОВАННЫЕ ОПРЕДЕЛЕНИЯ</a:t>
            </a:r>
            <a:r>
              <a:rPr b="1" lang="en-US" sz="2400" spc="-1" strike="noStrike">
                <a:solidFill>
                  <a:srgbClr val="0066ff"/>
                </a:solidFill>
                <a:latin typeface="Arial Black"/>
              </a:rPr>
              <a:t> </a:t>
            </a:r>
            <a:endParaRPr b="0" lang="en-US" sz="24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Помогают</a:t>
            </a:r>
            <a:endParaRPr b="0" lang="en-US" sz="24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уточнить признак предмета; </a:t>
            </a:r>
            <a:endParaRPr b="0" lang="en-US" sz="24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полнее раскрыть отличительные свойства предмета;</a:t>
            </a:r>
            <a:endParaRPr b="0" lang="en-US" sz="24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избежать нагромождения сложных грамматических конструкций.</a:t>
            </a:r>
            <a:endParaRPr b="0" lang="en-US" sz="24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 Black"/>
              </a:rPr>
              <a:t> </a:t>
            </a:r>
            <a:r>
              <a:rPr b="1" lang="en-US" sz="2400" spc="-1" strike="noStrike">
                <a:solidFill>
                  <a:srgbClr val="002b6d"/>
                </a:solidFill>
                <a:latin typeface="Arial Black"/>
              </a:rPr>
              <a:t>ОБОСОБЛЕННЫЕ НЕСОГЛАСОВАННЫЕ ОПРЕДЕЛЕНИЯ</a:t>
            </a:r>
            <a:r>
              <a:rPr b="1" lang="en-US" sz="1800" spc="-1" strike="noStrike">
                <a:solidFill>
                  <a:srgbClr val="0066ff"/>
                </a:solidFill>
                <a:latin typeface="Arial Black"/>
              </a:rPr>
              <a:t> </a:t>
            </a:r>
            <a:endParaRPr b="0" lang="en-US" sz="18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Помогают автору многогранно представить предмет или лицо;</a:t>
            </a:r>
            <a:endParaRPr b="0" lang="en-US" sz="24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дополняют характеристику лица или предмета.</a:t>
            </a:r>
            <a:endParaRPr b="0" lang="en-US" sz="2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96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DF118-6E2B-42D9-BC7F-6FC09A2C8AA2}" type="datetime">
              <a:rPr b="0" lang="ru-RU" sz="1800" spc="-1" strike="noStrike">
                <a:solidFill>
                  <a:srgbClr val="0066ff"/>
                </a:solidFill>
                <a:latin typeface="Arial"/>
              </a:rPr>
              <a:t>30.07.26</a:t>
            </a:fld>
            <a:endParaRPr b="0" lang="en-US" sz="18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0" dur="indefinite" restart="never" nodeType="tmRoot">
          <p:childTnLst>
            <p:seq>
              <p:cTn id="851" dur="indefinite" nodeType="mainSeq">
                <p:childTnLst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6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3" dur="10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4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0" dur="10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1" dur="10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10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7" dur="10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8" dur="10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10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100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5" dur="10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10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1" dur="100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2" dur="10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10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8" dur="1000"/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9" dur="1000" fill="hold"/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1000" fill="hold"/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5" dur="1000"/>
                                        <p:tgtEl>
                                          <p:spTgt spid="1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6" dur="1000" fill="hold"/>
                                        <p:tgtEl>
                                          <p:spTgt spid="1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1000" fill="hold"/>
                                        <p:tgtEl>
                                          <p:spTgt spid="1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2" dur="1000"/>
                                        <p:tgtEl>
                                          <p:spTgt spid="1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3" dur="1000" fill="hold"/>
                                        <p:tgtEl>
                                          <p:spTgt spid="1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1000" fill="hold"/>
                                        <p:tgtEl>
                                          <p:spTgt spid="1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79280" y="333360"/>
            <a:ext cx="8640720" cy="10080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2b6d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b6d"/>
                </a:solidFill>
                <a:latin typeface="Arial Black"/>
              </a:rPr>
              <a:t>Обособленные приложения</a:t>
            </a:r>
            <a:endParaRPr b="0" lang="en-US" sz="36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78920" y="1484280"/>
            <a:ext cx="8713800" cy="51847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2b6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Обособленные приложения могут</a:t>
            </a:r>
            <a:endParaRPr b="0" lang="en-US" sz="24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образно характеризовать лицо или предмет;</a:t>
            </a:r>
            <a:endParaRPr b="0" lang="en-US" sz="24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пояснять или уточнять определяемый предмет.</a:t>
            </a:r>
            <a:endParaRPr b="0" lang="en-US" sz="24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обозначать характерные внутренние и внешние свойства и качества героя;</a:t>
            </a:r>
            <a:endParaRPr b="0" lang="en-US" sz="24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обозначать характерные свойства и качества предмета;</a:t>
            </a:r>
            <a:endParaRPr b="0" lang="en-US" sz="24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точнее обозначать предмет или лицо через переименование.</a:t>
            </a:r>
            <a:endParaRPr b="0" lang="en-US" sz="24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5" dur="indefinite" restart="never" nodeType="tmRoot">
          <p:childTnLst>
            <p:seq>
              <p:cTn id="916" dur="indefinite" nodeType="mainSeq">
                <p:childTnLst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1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3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8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9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5" dur="1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6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2" dur="10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3" dur="10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10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9" dur="10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0" dur="10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10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10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7" dur="10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10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3" dur="100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4" dur="10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10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0" dur="1000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1" dur="1000" fill="hold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1000" fill="hold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497800" cy="7189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2b6d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b6d"/>
                </a:solidFill>
                <a:latin typeface="Arial Black"/>
              </a:rPr>
              <a:t>Обособленные обстоятельства</a:t>
            </a:r>
            <a:endParaRPr b="0" lang="en-US" sz="36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79280" y="1125360"/>
            <a:ext cx="8785440" cy="59040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2b6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Помогают автору уточнить основное действие (как, почему, зачем, при каком условии оно происходит)</a:t>
            </a: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создают экспрессивность речи,</a:t>
            </a: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делают речь краткой, лаконичной, выразительной,</a:t>
            </a: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позволяют детально описать действие,</a:t>
            </a: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служат средством создания словесных картин,</a:t>
            </a: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ведут к разнообразию синтаксических конструкций, помогают избежать повторения, нагромождения сложных предложений,</a:t>
            </a: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с их помощью передаваемое сообщение приобретает смысловую точность.</a:t>
            </a: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3" dur="indefinite" restart="never" nodeType="tmRoot">
          <p:childTnLst>
            <p:seq>
              <p:cTn id="974" dur="indefinite" nodeType="mainSeq">
                <p:childTnLst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9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81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7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3" dur="10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4" dur="1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1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0" dur="10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1" dur="10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10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7" dur="10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8" dur="10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10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4" dur="100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5" dur="10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10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1" dur="1000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2" dur="10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10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8" dur="1000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9" dur="10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10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5" dur="1000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6" dur="1000" fill="hold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1000" fill="hold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497800" cy="9349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2b6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200" spc="-1" strike="noStrike">
                <a:solidFill>
                  <a:srgbClr val="002060"/>
                </a:solidFill>
                <a:latin typeface="Arial Black"/>
              </a:rPr>
              <a:t>Уточняющие члены предложения</a:t>
            </a:r>
            <a:br>
              <a:rPr sz="3200"/>
            </a:br>
            <a:endParaRPr b="0" lang="en-US" sz="32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250560" y="1341360"/>
            <a:ext cx="8435880" cy="5516640"/>
          </a:xfrm>
          <a:prstGeom prst="rect">
            <a:avLst/>
          </a:prstGeom>
          <a:solidFill>
            <a:srgbClr val="ffffff"/>
          </a:solidFill>
          <a:ln w="76320">
            <a:solidFill>
              <a:srgbClr val="002b6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Уточняющие члены, относясь к тому или иному члену предложения, сужают понятие, им передаваемое, или в каком-либо отношении ограничивают его.</a:t>
            </a:r>
            <a:endParaRPr b="0" lang="en-US" sz="24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Уточняют время, место, признак предмета, переданные в общем виде.</a:t>
            </a:r>
            <a:endParaRPr b="0" lang="en-US" sz="24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Помогают передать мысль конкретно, выпукло, с уточняющими смысл деталями обстановки, времени и т.п.</a:t>
            </a:r>
            <a:endParaRPr b="0" lang="en-US" sz="24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Позволяют передать тонкие оттенки смысла, подчеркнуть нужные детали, сообщить необходимые дополнительные сведения, конкретизировать значение других членов предложения.</a:t>
            </a:r>
            <a:endParaRPr b="0" lang="en-US" sz="24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8" dur="indefinite" restart="never" nodeType="tmRoot">
          <p:childTnLst>
            <p:seq>
              <p:cTn id="1039" dur="indefinite" nodeType="mainSeq">
                <p:childTnLst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4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46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1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2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8" dur="1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9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10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6" dur="10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10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10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3" dur="10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10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9" dur="10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0" dur="10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10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497800" cy="12240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206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b6d"/>
                </a:solidFill>
                <a:latin typeface="Arial Black"/>
              </a:rPr>
              <a:t>Фразеологизмы</a:t>
            </a:r>
            <a:endParaRPr b="0" lang="en-US" sz="36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250560" y="1700280"/>
            <a:ext cx="8435880" cy="49687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206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Ярко, эмоционально описывают</a:t>
            </a:r>
            <a:endParaRPr b="0" lang="en-US" sz="24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особенности душевного состояния, поведения человека;</a:t>
            </a:r>
            <a:endParaRPr b="0" lang="en-US" sz="24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его поступки, действия, помогают легче их представить;</a:t>
            </a:r>
            <a:endParaRPr b="0" lang="en-US" sz="24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отношение человека к окружающему миру;</a:t>
            </a:r>
            <a:endParaRPr b="0" lang="en-US" sz="24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позволяют индивидуализировать речь героев;</a:t>
            </a:r>
            <a:endParaRPr b="0" lang="en-US" sz="24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помогают сделать язык насыщенным, колоритным.</a:t>
            </a:r>
            <a:endParaRPr b="0" lang="en-US" sz="24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8280360" cy="7923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2b6d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400" spc="-1" strike="noStrike">
                <a:solidFill>
                  <a:srgbClr val="002b6d"/>
                </a:solidFill>
                <a:latin typeface="Arial Black"/>
              </a:rPr>
              <a:t> </a:t>
            </a:r>
            <a:r>
              <a:rPr b="0" lang="ru-RU" sz="2400" spc="-1" strike="noStrike">
                <a:solidFill>
                  <a:srgbClr val="002b6d"/>
                </a:solidFill>
                <a:latin typeface="Arial Black"/>
              </a:rPr>
              <a:t>Сочинительные союзы в </a:t>
            </a:r>
            <a:r>
              <a:rPr b="1" lang="ru-RU" sz="2400" spc="-1" strike="noStrike">
                <a:solidFill>
                  <a:srgbClr val="002b6d"/>
                </a:solidFill>
                <a:latin typeface="Arial Black"/>
              </a:rPr>
              <a:t>сложносочинённом предложении </a:t>
            </a:r>
            <a:br>
              <a:rPr sz="2400"/>
            </a:br>
            <a:endParaRPr b="0" lang="en-US" sz="2400" spc="-1" strike="noStrike">
              <a:solidFill>
                <a:srgbClr val="ff0066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395280" y="1197000"/>
          <a:ext cx="8496360" cy="5438880"/>
        </p:xfrm>
        <a:graphic>
          <a:graphicData uri="http://schemas.openxmlformats.org/drawingml/2006/table">
            <a:tbl>
              <a:tblPr/>
              <a:tblGrid>
                <a:gridCol w="8496360"/>
              </a:tblGrid>
              <a:tr h="134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Соединяют части сложносочинённого предложения, выражают   значение одновременности событий. </a:t>
                      </a:r>
                      <a:endParaRPr b="0" lang="en-US" sz="2000" spc="-1" strike="noStrike">
                        <a:solidFill>
                          <a:srgbClr val="0066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13680">
                      <a:solidFill>
                        <a:srgbClr val="0066ff"/>
                      </a:solidFill>
                    </a:lnR>
                    <a:lnT w="1368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9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Обозначают противопоставление противоречащих слов или предложений.</a:t>
                      </a:r>
                      <a:endParaRPr b="0" lang="en-US" sz="2000" spc="-1" strike="noStrike">
                        <a:solidFill>
                          <a:srgbClr val="0066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1368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Обозначают противопоставление двух одновременных событий 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(сходно по значению с союзом "между тем").</a:t>
                      </a:r>
                      <a:endParaRPr b="0" lang="en-US" sz="2000" spc="-1" strike="noStrike">
                        <a:solidFill>
                          <a:srgbClr val="0066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1368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4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Обозначают противоречие ожидаемому, должному с точки зрения говорящего.</a:t>
                      </a:r>
                      <a:endParaRPr b="0" lang="en-US" sz="2000" spc="-1" strike="noStrike">
                        <a:solidFill>
                          <a:srgbClr val="0066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1368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4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Обозначают присоединение следствия к предполагаемому условию.</a:t>
                      </a:r>
                      <a:endParaRPr b="0" lang="en-US" sz="2000" spc="-1" strike="noStrike">
                        <a:solidFill>
                          <a:srgbClr val="0066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1368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13680">
                      <a:solidFill>
                        <a:srgbClr val="0066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2" dur="indefinite" restart="never" nodeType="tmRoot">
          <p:childTnLst>
            <p:seq>
              <p:cTn id="1083" dur="indefinite" nodeType="mainSeq">
                <p:childTnLst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8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90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5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6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0720" cy="863640"/>
          </a:xfrm>
          <a:prstGeom prst="rect">
            <a:avLst/>
          </a:prstGeom>
          <a:solidFill>
            <a:srgbClr val="ffffff"/>
          </a:solidFill>
          <a:ln w="76320">
            <a:solidFill>
              <a:srgbClr val="002b6d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b6d"/>
                </a:solidFill>
                <a:latin typeface="Arial Black"/>
              </a:rPr>
              <a:t>Роль придаточных частей в сложноподчинённых предложениях</a:t>
            </a:r>
            <a:endParaRPr b="0" lang="en-US" sz="2400" spc="-1" strike="noStrike">
              <a:solidFill>
                <a:srgbClr val="ff0066"/>
              </a:solidFill>
              <a:latin typeface="Arial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287280" y="1341360"/>
          <a:ext cx="8856720" cy="5180040"/>
        </p:xfrm>
        <a:graphic>
          <a:graphicData uri="http://schemas.openxmlformats.org/drawingml/2006/table">
            <a:tbl>
              <a:tblPr/>
              <a:tblGrid>
                <a:gridCol w="8422920"/>
                <a:gridCol w="216000"/>
                <a:gridCol w="217800"/>
              </a:tblGrid>
              <a:tr h="124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1. Определительные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:</a:t>
                      </a:r>
                      <a:endParaRPr b="0" lang="en-US" sz="2000" spc="-1" strike="noStrike">
                        <a:solidFill>
                          <a:srgbClr val="0066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Определяют и распространяют слово, к которому присоединяется придаточное.</a:t>
                      </a:r>
                      <a:endParaRPr b="0" lang="en-US" sz="2000" spc="-1" strike="noStrike">
                        <a:solidFill>
                          <a:srgbClr val="0066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1368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13680">
                      <a:solidFill>
                        <a:srgbClr val="0066ff"/>
                      </a:solidFill>
                    </a:lnR>
                    <a:lnT w="1368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720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2. Изъяснительные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:</a:t>
                      </a:r>
                      <a:endParaRPr b="0" lang="en-US" sz="2000" spc="-1" strike="noStrike">
                        <a:solidFill>
                          <a:srgbClr val="0066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ff"/>
                          </a:solidFill>
                          <a:latin typeface="Arial Black"/>
                        </a:rPr>
                        <a:t>  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Дополняют, поясняют один из членов главного предложения (чаще сказуемое).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2000" spc="-1" strike="noStrike">
                        <a:solidFill>
                          <a:srgbClr val="0066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ff"/>
                      </a:solidFill>
                    </a:lnL>
                    <a:lnR w="1368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354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3. Цели: </a:t>
                      </a:r>
                      <a:endParaRPr b="0" lang="en-US" sz="2000" spc="-1" strike="noStrike">
                        <a:solidFill>
                          <a:srgbClr val="0066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указывают на цель, назначение действия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2000" spc="-1" strike="noStrike">
                        <a:solidFill>
                          <a:srgbClr val="0066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ff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66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1368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17316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4. Условия:</a:t>
                      </a:r>
                      <a:endParaRPr b="0" lang="en-US" sz="2000" spc="-1" strike="noStrike">
                        <a:solidFill>
                          <a:srgbClr val="0066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указывают на условие, от которого зависит осуществление действия, события, явления.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2000" spc="-1" strike="noStrike">
                        <a:solidFill>
                          <a:srgbClr val="0066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ff"/>
                      </a:solidFill>
                    </a:lnL>
                    <a:lnR w="1368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13680">
                      <a:solidFill>
                        <a:srgbClr val="0066ff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1098" dur="indefinite" restart="never" nodeType="tmRoot">
          <p:childTnLst>
            <p:seq>
              <p:cTn id="1099" dur="indefinite" nodeType="mainSeq">
                <p:childTnLst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4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5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0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2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250560" y="1700280"/>
            <a:ext cx="8435880" cy="49687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2b6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 Black"/>
              </a:rPr>
              <a:t>5. Причины</a:t>
            </a:r>
            <a:r>
              <a:rPr b="0" lang="en-US" sz="2000" spc="-1" strike="noStrike">
                <a:solidFill>
                  <a:srgbClr val="ff0000"/>
                </a:solidFill>
                <a:latin typeface="Arial Black"/>
              </a:rPr>
              <a:t>:</a:t>
            </a: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указывают на причину или обоснование действия (события, явления) </a:t>
            </a: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 Black"/>
              </a:rPr>
              <a:t>6. Уступки:</a:t>
            </a: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указывают на то, что действие совершается вопреки условиям (несмотря на условие)</a:t>
            </a: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 Black"/>
              </a:rPr>
              <a:t>7. Сравнения:</a:t>
            </a: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поясняют содержание главного предложения, сравнивая одно событие (действие, явление) с другим.</a:t>
            </a: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97800" cy="9349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2b6d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b6d"/>
                </a:solidFill>
                <a:latin typeface="Arial Black"/>
              </a:rPr>
              <a:t>Роль придаточных частей в сложноподчинённых предложениях</a:t>
            </a:r>
            <a:endParaRPr b="0" lang="en-US" sz="2400" spc="-1" strike="noStrike">
              <a:solidFill>
                <a:srgbClr val="ff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4" dur="indefinite" restart="never" nodeType="tmRoot">
          <p:childTnLst>
            <p:seq>
              <p:cTn id="1115" dur="indefinite" nodeType="mainSeq">
                <p:childTnLst>
                  <p:par>
                    <p:cTn id="1116" fill="hold">
                      <p:stCondLst>
                        <p:cond delay="indefinite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0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22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7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8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10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5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2" dur="10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10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4" fill="hold">
                      <p:stCondLst>
                        <p:cond delay="indefinite"/>
                      </p:stCondLst>
                      <p:childTnLst>
                        <p:par>
                          <p:cTn id="1145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8" dur="1000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9" dur="10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10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fill="hold">
                      <p:stCondLst>
                        <p:cond delay="indefinite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5" dur="1000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6" dur="1000" fill="hold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1000" fill="hold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fill="hold">
                      <p:stCondLst>
                        <p:cond delay="indefinite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2" dur="1000"/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3" dur="1000" fill="hold"/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4" dur="1000" fill="hold"/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1000"/>
                                        <p:tgtEl>
                                          <p:spTgt spid="2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0" dur="1000" fill="hold"/>
                                        <p:tgtEl>
                                          <p:spTgt spid="2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1000" fill="hold"/>
                                        <p:tgtEl>
                                          <p:spTgt spid="2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179280" y="907560"/>
            <a:ext cx="8785440" cy="57610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2b6d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Могут выражать значения</a:t>
            </a: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i="1" lang="ru-RU" sz="2000" spc="-1" strike="noStrike">
                <a:solidFill>
                  <a:srgbClr val="ff0000"/>
                </a:solidFill>
                <a:latin typeface="Arial Black"/>
              </a:rPr>
              <a:t>одновременности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перечисляемых событий; </a:t>
            </a: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их </a:t>
            </a:r>
            <a:r>
              <a:rPr b="0" i="1" lang="ru-RU" sz="2000" spc="-1" strike="noStrike">
                <a:solidFill>
                  <a:srgbClr val="ff0000"/>
                </a:solidFill>
                <a:latin typeface="Arial Black"/>
              </a:rPr>
              <a:t>последовательности;</a:t>
            </a: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Arial Black"/>
              </a:rPr>
              <a:t>причинные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(второе предложение раскрывает причину того, о чём говорится в первом);</a:t>
            </a: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i="1" lang="ru-RU" sz="2000" spc="-1" strike="noStrike">
                <a:solidFill>
                  <a:srgbClr val="ff0000"/>
                </a:solidFill>
                <a:latin typeface="Arial Black"/>
              </a:rPr>
              <a:t>пояснительные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(второе предложение поясняет первое);</a:t>
            </a: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Arial Black"/>
              </a:rPr>
              <a:t>пояснительно-изъяснительные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(второе предложение поясняет слово в первой части, которое имеет значение речи, мысли, чувства или восприятия, или слово, которое указывает на эти процессы: </a:t>
            </a:r>
            <a:r>
              <a:rPr b="0" i="1" lang="ru-RU" sz="2000" spc="-1" strike="noStrike">
                <a:solidFill>
                  <a:srgbClr val="000000"/>
                </a:solidFill>
                <a:latin typeface="Arial Black"/>
              </a:rPr>
              <a:t>прислушался, взглянул, оглянулся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и т. п.; во втором случае можно говорить о пропуске слов типа </a:t>
            </a:r>
            <a:r>
              <a:rPr b="0" i="1" lang="ru-RU" sz="2000" spc="-1" strike="noStrike">
                <a:solidFill>
                  <a:srgbClr val="000000"/>
                </a:solidFill>
                <a:latin typeface="Arial Black"/>
              </a:rPr>
              <a:t>увидеть, услышать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и т. п.);</a:t>
            </a: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Arial Black"/>
              </a:rPr>
              <a:t>сопоставительно-противительные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отношения (содержание второго предложения сопоставляется с содержанием первого или противопоставляется ему);</a:t>
            </a: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Arial Black"/>
              </a:rPr>
              <a:t>условно-временные</a:t>
            </a:r>
            <a:r>
              <a:rPr b="0" i="1" lang="ru-RU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(первое предложение указывает на время или на условие осуществления того, о чём говорится во втором);</a:t>
            </a: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Arial Black"/>
              </a:rPr>
              <a:t>следствия</a:t>
            </a:r>
            <a:r>
              <a:rPr b="0" i="1" lang="ru-RU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(содержание второго предложения является следствием того, о чём говорится в первом).</a:t>
            </a: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2b6d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002b6d"/>
                </a:solidFill>
                <a:latin typeface="Arial Black"/>
              </a:rPr>
              <a:t>Б</a:t>
            </a:r>
            <a:r>
              <a:rPr b="1" lang="en-US" sz="2800" spc="-1" strike="noStrike">
                <a:solidFill>
                  <a:srgbClr val="002b6d"/>
                </a:solidFill>
                <a:latin typeface="Arial Black"/>
              </a:rPr>
              <a:t>ессоюзные сложные предложения</a:t>
            </a:r>
            <a:r>
              <a:rPr b="0" lang="en-US" sz="4000" spc="-1" strike="noStrike">
                <a:solidFill>
                  <a:srgbClr val="002b6d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2" dur="indefinite" restart="never" nodeType="tmRoot">
          <p:childTnLst>
            <p:seq>
              <p:cTn id="1173" dur="indefinite" nodeType="mainSeq">
                <p:childTnLst>
                  <p:par>
                    <p:cTn id="1174" fill="hold">
                      <p:stCondLst>
                        <p:cond delay="indefinite"/>
                      </p:stCondLst>
                      <p:childTnLst>
                        <p:par>
                          <p:cTn id="1175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8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9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80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5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6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" fill="hold">
                      <p:stCondLst>
                        <p:cond delay="indefinite"/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2" dur="10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3" dur="1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1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5" fill="hold">
                      <p:stCondLst>
                        <p:cond delay="indefinite"/>
                      </p:stCondLst>
                      <p:childTnLst>
                        <p:par>
                          <p:cTn id="1196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9" dur="10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fill="hold">
                      <p:stCondLst>
                        <p:cond delay="indefinite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6" dur="100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7" dur="10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8" dur="10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3" dur="1000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4" dur="10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10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1000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1" dur="10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10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fill="hold">
                      <p:stCondLst>
                        <p:cond delay="indefinite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7" dur="1000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8" dur="10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9" dur="10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0" fill="hold">
                      <p:stCondLst>
                        <p:cond delay="indefinite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4" dur="1000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5" dur="10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6" dur="10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7" fill="hold">
                      <p:stCondLst>
                        <p:cond delay="indefinite"/>
                      </p:stCondLst>
                      <p:childTnLst>
                        <p:par>
                          <p:cTn id="1238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1" dur="1000"/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2" dur="1000" fill="hold"/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3" dur="1000" fill="hold"/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4" fill="hold">
                      <p:stCondLst>
                        <p:cond delay="indefinite"/>
                      </p:stCondLst>
                      <p:childTnLst>
                        <p:par>
                          <p:cTn id="1245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8" dur="1000"/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9" dur="1000" fill="hold"/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0" dur="1000" fill="hold"/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99760" y="189000"/>
            <a:ext cx="7643880" cy="3673440"/>
          </a:xfrm>
          <a:prstGeom prst="rect">
            <a:avLst/>
          </a:prstGeom>
          <a:solidFill>
            <a:srgbClr val="ffffff"/>
          </a:solidFill>
          <a:ln w="76320">
            <a:solidFill>
              <a:srgbClr val="002b6d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2b6d"/>
                </a:solidFill>
                <a:latin typeface="Arial Black"/>
              </a:rPr>
              <a:t>Удачи на экзаменах!</a:t>
            </a:r>
            <a:endParaRPr b="0" lang="en-US" sz="6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212" name="Прямоугольник 3"/>
          <p:cNvSpPr/>
          <p:nvPr/>
        </p:nvSpPr>
        <p:spPr>
          <a:xfrm>
            <a:off x="6300720" y="5589720"/>
            <a:ext cx="41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Monotype Corsiva"/>
              </a:rPr>
              <a:t>Егораева Г.Т.,    Москва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pic>
        <p:nvPicPr>
          <p:cNvPr id="213" name="Picture 2" descr="C:\Users\Галина\AppData\Local\Temp\shutterstock_61302313.jpg"/>
          <p:cNvPicPr/>
          <p:nvPr/>
        </p:nvPicPr>
        <p:blipFill>
          <a:blip r:embed="rId2"/>
          <a:stretch/>
        </p:blipFill>
        <p:spPr>
          <a:xfrm>
            <a:off x="0" y="2924280"/>
            <a:ext cx="3419640" cy="4221000"/>
          </a:xfrm>
          <a:prstGeom prst="rect">
            <a:avLst/>
          </a:prstGeom>
          <a:ln w="38160">
            <a:solidFill>
              <a:srgbClr val="00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1" dur="indefinite" restart="never" nodeType="tmRoot">
          <p:childTnLst>
            <p:seq>
              <p:cTn id="1252" dur="indefinite" nodeType="mainSeq">
                <p:childTnLst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7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8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59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0" fill="hold">
                      <p:stCondLst>
                        <p:cond delay="indefinite"/>
                      </p:stCondLst>
                      <p:childTnLst>
                        <p:par>
                          <p:cTn id="1261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4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5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6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643520" cy="9349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206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b6d"/>
                </a:solidFill>
                <a:latin typeface="Arial Black"/>
              </a:rPr>
              <a:t>Антонимы</a:t>
            </a:r>
            <a:endParaRPr b="0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79280" y="1484280"/>
            <a:ext cx="8964720" cy="51847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2b6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Антонимы —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слова, относящиеся к одной части речи, но противоположные по значению: 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</a:rPr>
              <a:t>добро-зло</a:t>
            </a: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Контекстные (или контекстуальные) антонимы —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это слова, которые в языке не противопоставлены по значению и являются антонимами только в тексте: 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</a:rPr>
              <a:t>Они сошлись. </a:t>
            </a: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Волна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и</a:t>
            </a: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 камень, стихи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и </a:t>
            </a: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проза, Лёд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и</a:t>
            </a: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 пламень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не столь различны меж собой... (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</a:rPr>
              <a:t>А. Пушкин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)</a:t>
            </a: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Антонимы, в том числе контекстные, позволяют:</a:t>
            </a: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уточнить мысль, сделать ее ярче, образнее;</a:t>
            </a: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дать более полную характеристику какого-либо явления;</a:t>
            </a: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выразить</a:t>
            </a: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 предельное различие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между вещами, явлениями, качествами;</a:t>
            </a: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выразить авторскую оценку обозначаемого.</a:t>
            </a: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55280" y="333000"/>
            <a:ext cx="7643880" cy="863640"/>
          </a:xfrm>
          <a:prstGeom prst="rect">
            <a:avLst/>
          </a:prstGeom>
          <a:solidFill>
            <a:srgbClr val="ffffff"/>
          </a:solidFill>
          <a:ln w="76320">
            <a:solidFill>
              <a:srgbClr val="002b6d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b6d"/>
                </a:solidFill>
                <a:latin typeface="Arial Black"/>
              </a:rPr>
              <a:t>Синонимы</a:t>
            </a:r>
            <a:endParaRPr b="0" lang="en-US" sz="36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250560" y="1341000"/>
            <a:ext cx="8435880" cy="5327640"/>
          </a:xfrm>
          <a:prstGeom prst="rect">
            <a:avLst/>
          </a:prstGeom>
          <a:solidFill>
            <a:srgbClr val="ffffff"/>
          </a:solidFill>
          <a:ln w="76320">
            <a:solidFill>
              <a:srgbClr val="002b6d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помогают избежать однообразия изложения; </a:t>
            </a: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разнообразят нашу речь, делая её живой и выразительной;</a:t>
            </a: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позволяют </a:t>
            </a: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всесторонне охарактеризовать образ, явление, поступок и т.д.;</a:t>
            </a: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выразить самые тонкие смысловые оттенки;</a:t>
            </a: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тонко и красочно описать предметы, явления;</a:t>
            </a: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способствуют точности и ясности высказывания,</a:t>
            </a: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004d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4d"/>
                </a:solidFill>
                <a:latin typeface="Arial Black"/>
              </a:rPr>
              <a:t>помогают с максимальной точностью и полнотой передать содержание;</a:t>
            </a: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дают возможность выразить различные оттенки мысли, уточнить, подчеркнуть какое-то положение.</a:t>
            </a: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5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569080" cy="8650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2b6d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b6d"/>
                </a:solidFill>
                <a:latin typeface="Arial Black"/>
              </a:rPr>
              <a:t>Контекстные синонимы</a:t>
            </a:r>
            <a:endParaRPr b="0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250920" y="1197000"/>
            <a:ext cx="8642160" cy="54720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2b6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Это слова, которые сами по себе не являются синонимами, но становятся ими в определенном контексте.</a:t>
            </a: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7f0033"/>
                </a:solidFill>
                <a:latin typeface="Arial Black"/>
              </a:rPr>
              <a:t>Например: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 Black"/>
              </a:rPr>
              <a:t>Морские </a:t>
            </a:r>
            <a:r>
              <a:rPr b="1" i="1" lang="en-US" sz="2000" spc="-1" strike="noStrike">
                <a:solidFill>
                  <a:srgbClr val="ff0000"/>
                </a:solidFill>
                <a:latin typeface="Arial Black"/>
              </a:rPr>
              <a:t>суда</a:t>
            </a:r>
            <a:r>
              <a:rPr b="0" i="1" lang="en-US" sz="2000" spc="-1" strike="noStrike">
                <a:solidFill>
                  <a:srgbClr val="ff0000"/>
                </a:solidFill>
                <a:latin typeface="Arial Black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</a:rPr>
              <a:t> покинутые своими командами, иногда годами блуждают по океанам, пока их не поглотит пучина. Не раз эти </a:t>
            </a:r>
            <a:r>
              <a:rPr b="1" i="1" lang="en-US" sz="2000" spc="-1" strike="noStrike">
                <a:solidFill>
                  <a:srgbClr val="ff0000"/>
                </a:solidFill>
                <a:latin typeface="Arial Black"/>
              </a:rPr>
              <a:t>бродяги</a:t>
            </a:r>
            <a:r>
              <a:rPr b="1" i="1" lang="en-US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i="1" lang="en-US" sz="2000" spc="-1" strike="noStrike">
                <a:solidFill>
                  <a:srgbClr val="ff0000"/>
                </a:solidFill>
                <a:latin typeface="Arial Black"/>
              </a:rPr>
              <a:t>океанов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</a:rPr>
              <a:t> становились источниками морских легенд.</a:t>
            </a: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их</a:t>
            </a: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подбор делает речь яркой, художественной;</a:t>
            </a: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они позволяют увидеть и охарактеризовать</a:t>
            </a: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внутренний мир рассказчика или героя;</a:t>
            </a: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их действия, состояния;</a:t>
            </a: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отражают недостающие смыслы слова;</a:t>
            </a: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подчеркивают своеобразие авторской речи;</a:t>
            </a: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помогают увидеть новые лексические оттенки слова.</a:t>
            </a: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4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291520" cy="7923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2b6d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b6d"/>
                </a:solidFill>
                <a:latin typeface="Arial Black"/>
              </a:rPr>
              <a:t>Архаизмы, историзмы</a:t>
            </a:r>
            <a:endParaRPr b="0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250560" y="1341000"/>
            <a:ext cx="8435880" cy="5327640"/>
          </a:xfrm>
          <a:prstGeom prst="rect">
            <a:avLst/>
          </a:prstGeom>
          <a:solidFill>
            <a:srgbClr val="ffffff"/>
          </a:solidFill>
          <a:ln w="76320">
            <a:solidFill>
              <a:srgbClr val="002b6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4d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4d"/>
                </a:solidFill>
                <a:latin typeface="Arial Black"/>
              </a:rPr>
              <a:t>служат </a:t>
            </a:r>
            <a:endParaRPr b="0" lang="en-US" sz="24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для воссоздания исторической обстановки,</a:t>
            </a:r>
            <a:endParaRPr b="0" lang="en-US" sz="24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названиями предметов, явлений и т.п. прошлых лет,</a:t>
            </a:r>
            <a:endParaRPr b="0" lang="en-US" sz="24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для передачи торжественности момента,</a:t>
            </a:r>
            <a:endParaRPr b="0" lang="en-US" sz="24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являются средством речевой характеристики персонажа,</a:t>
            </a:r>
            <a:endParaRPr b="0" lang="en-US" sz="24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используются для создания комического эффекта, иронии;</a:t>
            </a:r>
            <a:endParaRPr b="0" lang="en-US" sz="24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помогают автору убедить читателя в правдивости изображаемых событий.</a:t>
            </a:r>
            <a:endParaRPr b="0" lang="en-US" sz="24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3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9280" y="333360"/>
            <a:ext cx="7643880" cy="649440"/>
          </a:xfrm>
          <a:prstGeom prst="rect">
            <a:avLst/>
          </a:prstGeom>
          <a:solidFill>
            <a:srgbClr val="ffffff"/>
          </a:solidFill>
          <a:ln w="76320">
            <a:solidFill>
              <a:srgbClr val="00206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b6d"/>
                </a:solidFill>
                <a:latin typeface="Arial Black"/>
              </a:rPr>
              <a:t>Профессионализмы</a:t>
            </a:r>
            <a:endParaRPr b="0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0560" y="1197000"/>
            <a:ext cx="8435880" cy="54720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206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Помогают определить принадлежность героя (рассказчика) к определённой профессии,</a:t>
            </a: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4d"/>
                </a:solidFill>
                <a:latin typeface="Arial Black"/>
              </a:rPr>
              <a:t>служат для </a:t>
            </a: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обозначения различных производственных процессов, орудий производства, сырья, выпускаемой продукции и т.п.,</a:t>
            </a: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создания эффекта достоверности информации, </a:t>
            </a: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речевой характеристики персонажа.</a:t>
            </a: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5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250920" y="333360"/>
            <a:ext cx="8642160" cy="6524640"/>
          </a:xfrm>
          <a:prstGeom prst="rect">
            <a:avLst/>
          </a:prstGeom>
          <a:solidFill>
            <a:srgbClr val="ffffff"/>
          </a:solidFill>
          <a:ln w="76320">
            <a:solidFill>
              <a:srgbClr val="00206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2b6d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b6d"/>
                </a:solidFill>
                <a:latin typeface="Arial Black"/>
              </a:rPr>
              <a:t> </a:t>
            </a:r>
            <a:r>
              <a:rPr b="1" lang="en-US" sz="2800" spc="-1" strike="noStrike">
                <a:solidFill>
                  <a:srgbClr val="002b6d"/>
                </a:solidFill>
                <a:latin typeface="Arial Black"/>
              </a:rPr>
              <a:t>ДИАЛЕКТИЗМЫ</a:t>
            </a: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помогают передать местный языковой колорит, особенности речи героев.</a:t>
            </a: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1" lang="en-US" sz="2400" spc="-1" strike="noStrike">
                <a:solidFill>
                  <a:srgbClr val="002b6d"/>
                </a:solidFill>
                <a:latin typeface="Arial Black"/>
              </a:rPr>
              <a:t>РАЗГОВОРНАЯ И ПРОСТОРЕЧНАЯ ЛЕКСИКА</a:t>
            </a:r>
            <a:endParaRPr b="0" lang="en-US" sz="24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создаёт стилистическую окраску слова,</a:t>
            </a: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используется для словесной характеристики героя (рассказчика).</a:t>
            </a: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b6d"/>
                </a:solidFill>
                <a:latin typeface="Arial Black"/>
              </a:rPr>
              <a:t>   </a:t>
            </a:r>
            <a:r>
              <a:rPr b="1" lang="en-US" sz="2400" spc="-1" strike="noStrike">
                <a:solidFill>
                  <a:srgbClr val="002b6d"/>
                </a:solidFill>
                <a:latin typeface="Arial Black"/>
              </a:rPr>
              <a:t>КНИЖНЫЕ СЛОВА</a:t>
            </a:r>
            <a:endParaRPr b="0" lang="en-US" sz="24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позволяют автору обратить внимание читателя на важные события (общественные, политические), нравственные ценности,</a:t>
            </a: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помогают автору подчеркнуть и охарактеризовать общественно значимую проблему,  </a:t>
            </a: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служат для образного, эмоционального восприятия изображаемой действительности,</a:t>
            </a: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служат речевой характеристикой персонажей.</a:t>
            </a: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1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04480" y="692280"/>
            <a:ext cx="7643880" cy="12967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206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b6d"/>
                </a:solidFill>
                <a:latin typeface="Arial Black"/>
              </a:rPr>
              <a:t>Многозначные слова</a:t>
            </a:r>
            <a:endParaRPr b="0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042560" y="2204640"/>
            <a:ext cx="7643880" cy="46530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206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В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 Black"/>
              </a:rPr>
              <a:t>многозначном слове</a:t>
            </a: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выделяются первичное значение слова и производные от него значения. Новые значения возникают у слова в результате переноса наименования с одного объекта действительности на другие. </a:t>
            </a: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 Black"/>
              </a:rPr>
              <a:t>Многозначные слова д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 Black"/>
              </a:rPr>
              <a:t>елают речь образной, помогают увидеть оттенки смысла.</a:t>
            </a:r>
            <a:r>
              <a:rPr b="0" i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5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1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1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8T12:55:32Z</dcterms:created>
  <dc:creator>Наталья</dc:creator>
  <dc:description/>
  <dc:language>en-US</dc:language>
  <cp:lastModifiedBy>Татьяна</cp:lastModifiedBy>
  <dcterms:modified xsi:type="dcterms:W3CDTF">2014-06-03T21:09:56Z</dcterms:modified>
  <cp:revision>35</cp:revision>
  <dc:subject/>
  <dc:title>Слайд 1</dc:title>
</cp:coreProperties>
</file>