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700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144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4256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700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144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04480" y="2419200"/>
            <a:ext cx="764388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2700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1144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4256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2700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1144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566F-97A0-484F-856D-12BBEB05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0AC5-3BB6-4762-A2A8-CB4900DE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4985-3913-4041-B9E6-12517045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A801-F0B5-41C4-A523-A3050120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D9AA-F75D-4CC7-8CDD-D1E01421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04480" y="2419200"/>
            <a:ext cx="764388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DECC-3587-48D5-8475-05D119B2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E075-5E79-4449-9452-3F702602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3A49-9DC3-4040-99E1-EBC0484D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8834-47DE-4F13-A911-13503BBF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3097-9DDD-406E-A912-614AE96E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5CED-BAB3-40AB-9578-C957EFE4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2700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1144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04256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2700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1144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C100-5079-49F8-A228-E343A9EB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E1DA-AF21-4C4F-AEA8-9E0AC96B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A2DD-FF0B-4F35-9242-2C6CCE74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0980-166D-47FA-9368-40C17D2E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49FF-AC40-469B-A82B-74297B17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B86F-0983-403B-84A6-0C5C3F08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104480" y="2419200"/>
            <a:ext cx="764388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199F-DC28-474D-AB87-B05D9E93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F9A4-C055-422A-846F-153D08BD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EB7E-B0F9-4520-873E-8B1049FA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47B1-5846-47C6-8C02-55394539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E608-D138-4380-8B36-8C63FE07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98BC-C2D9-4B36-A2B6-E03BB158F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2700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1144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04256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2700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21144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45A2-5824-49AA-90B4-41C48C5D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04480" y="2419200"/>
            <a:ext cx="764388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5084640"/>
            <a:ext cx="9144000" cy="198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"/>
          <p:cNvSpPr/>
          <p:nvPr/>
        </p:nvSpPr>
        <p:spPr>
          <a:xfrm>
            <a:off x="2771640" y="6045120"/>
            <a:ext cx="6372360" cy="432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0" name="Rectangle 3"/>
          <p:cNvSpPr/>
          <p:nvPr/>
        </p:nvSpPr>
        <p:spPr>
          <a:xfrm>
            <a:off x="2771640" y="5397480"/>
            <a:ext cx="6372360" cy="6476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0" y="5084640"/>
            <a:ext cx="9144000" cy="198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70F3-DEE6-4DA6-B908-DE758EAC46EE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744F-3B7D-4012-B1F4-933D060A957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0" y="5084640"/>
            <a:ext cx="9144000" cy="198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66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B7BE-174E-442B-A964-15374F213552}" type="datetime"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66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FB33-02F1-4FAC-B0F6-595B082FD096}" type="slidenum"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351640" cy="5761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b6d"/>
                </a:solidFill>
                <a:latin typeface="Arial Black"/>
              </a:rPr>
              <a:t>Роль лексических и грамматических явлений в тексте</a:t>
            </a:r>
            <a:endParaRPr b="0" lang="en-US" sz="48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164" name="Picture 5" descr="examen_logo2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5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www.prouchebnik.ru/pictures/ll09-025176-1_1.jpg"/>
          <p:cNvPicPr/>
          <p:nvPr/>
        </p:nvPicPr>
        <p:blipFill>
          <a:blip r:embed="rId3"/>
          <a:stretch/>
        </p:blipFill>
        <p:spPr>
          <a:xfrm>
            <a:off x="317520" y="469800"/>
            <a:ext cx="39132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043840" cy="5145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Неопределенно-личное предложение позволяет сосредоточить все внимание 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на характере обозначаемой деятельност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, полностью отвлекаясь от вопроса о действующих лицах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(Главный член выражен глаголом изъявительного наклонения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в форме 3 лица множественного числа  настоящего, прошедшего или будущего времени)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Представляя субъект как неопределенно-личный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(определить лицо по данному глагольному сказуемому нельзя)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говорящий имеет в виду </a:t>
            </a: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«кто-то другие, но не я»,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исключает себя из возможных субъектов действия. 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Также глагол-сказуемое подчеркивает, что говорящему эти лица либо неизвестны, либо он не хочет их называть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468360" y="333360"/>
            <a:ext cx="8400960" cy="9223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06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2b6d"/>
                </a:solidFill>
                <a:latin typeface="Arial Black"/>
              </a:rPr>
              <a:t>Грамматическая основа простого односоставного предложения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50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b6d"/>
                </a:solidFill>
                <a:latin typeface="Arial Black"/>
              </a:rPr>
              <a:t>Однородные члены предложения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Однородные члены предложения позволяют подробно, в деталях, описать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внешность, характеры героев, их быт, окружающий мир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ступки героев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х действия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х душевное состояние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чувства персонажей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х увлечения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динамику действий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следовательность или одновременность действий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Однородные члены могут представлять ряд синонимов, характеризующих одно понятие, явление или признак и использующихся вместе, чтобы полнее обрисовать его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Ряды однородных членов могут служить средством создания контраста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04480" y="620640"/>
            <a:ext cx="7643880" cy="1152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002b6d"/>
                </a:solidFill>
                <a:latin typeface="Arial Black"/>
              </a:rPr>
              <a:t>ОБРАЩЕНИЕ</a:t>
            </a:r>
            <a:br>
              <a:rPr sz="3600"/>
            </a:b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042560" y="2205000"/>
            <a:ext cx="7643880" cy="3672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 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звательная функция: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называет того, к кому обращаются с речью; 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оценочная функция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выражает отношение говорящего к собеседнику.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FE33-9360-4837-8364-3B08A6606D9F}" type="datetime">
              <a:rPr b="0" lang="ru-RU" sz="1800" spc="-1" strike="noStrike">
                <a:solidFill>
                  <a:srgbClr val="0066ff"/>
                </a:solidFill>
                <a:latin typeface="Arial"/>
              </a:rPr>
              <a:t>31.07.26</a:t>
            </a:fld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14200" y="1341000"/>
            <a:ext cx="8715600" cy="5302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 выражаемому ими значению вводные слова и сочетания подразделяются на несколько разрядов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. Большую группу составляют вводные слова и словосочетания, выражающие 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оценку говорящим степени достоверности сообщаемого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(уверенность, предположение, сомнение, неуверенность и т.п.). 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. Эмоциональную оценку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сообщаемого дают вводные слова и словосочетания, 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выражающие чувства говорящего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(радость, удовольствие, сожаление, удивление, негодование и т.п.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3. Вводные слова и словосочетания могут указывать на 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связь мыслей, последовательность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зложения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4. Ряд вводных слов и словосочетаний указывает на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 источник сообщаемого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9" name="Заголовок 1"/>
          <p:cNvSpPr/>
          <p:nvPr/>
        </p:nvSpPr>
        <p:spPr>
          <a:xfrm>
            <a:off x="457200" y="274680"/>
            <a:ext cx="8229600" cy="939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6d"/>
                </a:solidFill>
                <a:latin typeface="Arial Black"/>
              </a:rPr>
              <a:t>Вводные слова и словосочетания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35880" cy="1368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Arial Black"/>
              </a:rPr>
              <a:t>Восклицательное предложение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42560" y="1916280"/>
            <a:ext cx="7643880" cy="4752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Может содержать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побуждение к действию;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передавать приказ, требование, выраженное формой повелительного наклонения глагола;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придавать эмоциональную окраску высказыванию (радость, возмущение, гнев, удивление и т.д.)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08720" cy="10792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6d"/>
                </a:solidFill>
                <a:latin typeface="Arial Black"/>
              </a:rPr>
              <a:t>Вопросительные предложения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0560" y="1412640"/>
            <a:ext cx="8435880" cy="5445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Вопросительными называются предложения, в которых выражается стремление говорящего узнать что-либо или удостовериться в чем-либо. Они информируют о том, что хочет узнать говорящий. Это могут быть сведения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о человеке или предмете (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Кто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пришёл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? 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Что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принёс?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)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о месте действия (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Куда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пошел учитель?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Где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он сейчас?)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о характере действия (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Как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ты смог поднять этот груз?)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о цели (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Зачем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ты купил эту книгу?)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о достоверности информации (Ты 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действительно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был дома?) и т.д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Вопросительные предложения используются для обмена информацией в диалоге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8360" y="189000"/>
            <a:ext cx="8424720" cy="6480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Arial Black"/>
              </a:rPr>
              <a:t>ОБОСОБЛЕННЫЕ СОГЛАСОВАННЫЕ ОПРЕДЕЛЕНИЯ</a:t>
            </a:r>
            <a:r>
              <a:rPr b="1" lang="en-US" sz="2400" spc="-1" strike="noStrike">
                <a:solidFill>
                  <a:srgbClr val="0066ff"/>
                </a:solidFill>
                <a:latin typeface="Arial Black"/>
              </a:rPr>
              <a:t> 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омогают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уточнить признак предмета; 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олнее раскрыть отличительные свойства предмета;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избежать нагромождения сложных грамматических конструкций.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2b6d"/>
                </a:solidFill>
                <a:latin typeface="Arial Black"/>
              </a:rPr>
              <a:t>ОБОСОБЛЕННЫЕ НЕСОГЛАСОВАННЫЕ ОПРЕДЕЛЕНИЯ</a:t>
            </a:r>
            <a:r>
              <a:rPr b="1" lang="en-US" sz="1800" spc="-1" strike="noStrike">
                <a:solidFill>
                  <a:srgbClr val="0066ff"/>
                </a:solidFill>
                <a:latin typeface="Arial Black"/>
              </a:rPr>
              <a:t> </a:t>
            </a: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омогают автору многогранно представить предмет или лицо;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дополняют характеристику лица или предмета.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225E-1A63-4C02-BBAE-CB489A663023}" type="datetime">
              <a:rPr b="0" lang="ru-RU" sz="1800" spc="-1" strike="noStrike">
                <a:solidFill>
                  <a:srgbClr val="0066ff"/>
                </a:solidFill>
                <a:latin typeface="Arial"/>
              </a:rPr>
              <a:t>31.07.26</a:t>
            </a:fld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640720" cy="1008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b6d"/>
                </a:solidFill>
                <a:latin typeface="Arial Black"/>
              </a:rPr>
              <a:t>Обособленные приложения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78920" y="1484280"/>
            <a:ext cx="8713800" cy="5184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Обособленные приложения могут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образно характеризовать лицо или предмет;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ояснять или уточнять определяемый предмет.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обозначать характерные внутренние и внешние свойства и качества героя;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обозначать характерные свойства и качества предмета;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точнее обозначать предмет или лицо через переименование.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497800" cy="718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b6d"/>
                </a:solidFill>
                <a:latin typeface="Arial Black"/>
              </a:rPr>
              <a:t>Обособленные обстоятельства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79280" y="1125360"/>
            <a:ext cx="8785440" cy="590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могают автору уточнить основное действие (как, почему, зачем, при каком условии оно происходит)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создают экспрессивность речи,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делают речь краткой, лаконичной, выразительной,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зволяют детально описать действие,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служат средством создания словесных картин,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ведут к разнообразию синтаксических конструкций, помогают избежать повторения, нагромождения сложных предложений,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с их помощью передаваемое сообщение приобретает смысловую точность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93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200" spc="-1" strike="noStrike">
                <a:solidFill>
                  <a:srgbClr val="002060"/>
                </a:solidFill>
                <a:latin typeface="Arial Black"/>
              </a:rPr>
              <a:t>Уточняющие члены предложения</a:t>
            </a:r>
            <a:br>
              <a:rPr sz="3200"/>
            </a:b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1341360"/>
            <a:ext cx="8435880" cy="5516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Уточняющие члены, относясь к тому или иному члену предложения, сужают понятие, им передаваемое, или в каком-либо отношении ограничивают его.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Уточняют время, место, признак предмета, переданные в общем виде.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омогают передать мысль конкретно, выпукло, с уточняющими смысл деталями обстановки, времени и т.п.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озволяют передать тонкие оттенки смысла, подчеркнуть нужные детали, сообщить необходимые дополнительные сведения, конкретизировать значение других членов предложения.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7800" cy="122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b6d"/>
                </a:solidFill>
                <a:latin typeface="Arial Black"/>
              </a:rPr>
              <a:t>Фразеологизмы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50560" y="1700280"/>
            <a:ext cx="8435880" cy="4968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Ярко, эмоционально описывают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особенности душевного состояния, поведения человека;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его поступки, действия, помогают легче их представить;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отношение человека к окружающему миру;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позволяют индивидуализировать речь героев;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помогают сделать язык насыщенным, колоритным.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0360" cy="792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400" spc="-1" strike="noStrike">
                <a:solidFill>
                  <a:srgbClr val="002b6d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2b6d"/>
                </a:solidFill>
                <a:latin typeface="Arial Black"/>
              </a:rPr>
              <a:t>Сочинительные союзы в </a:t>
            </a:r>
            <a:r>
              <a:rPr b="1" lang="ru-RU" sz="2400" spc="-1" strike="noStrike">
                <a:solidFill>
                  <a:srgbClr val="002b6d"/>
                </a:solidFill>
                <a:latin typeface="Arial Black"/>
              </a:rPr>
              <a:t>сложносочинённом предложении </a:t>
            </a:r>
            <a:br>
              <a:rPr sz="2400"/>
            </a:b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95280" y="1197000"/>
          <a:ext cx="8496360" cy="5438880"/>
        </p:xfrm>
        <a:graphic>
          <a:graphicData uri="http://schemas.openxmlformats.org/drawingml/2006/table">
            <a:tbl>
              <a:tblPr/>
              <a:tblGrid>
                <a:gridCol w="8496360"/>
              </a:tblGrid>
              <a:tr h="13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оединяют части сложносочинённого предложения, выражают   значение одновременности событий. 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бозначают противопоставление противоречащих слов или предложений.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бозначают противопоставление двух одновременных событий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сходно по значению с союзом "между тем").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бозначают противоречие ожидаемому, должному с точки зрения говорящего.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бозначают присоединение следствия к предполагаемому условию.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0720" cy="863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6d"/>
                </a:solidFill>
                <a:latin typeface="Arial Black"/>
              </a:rPr>
              <a:t>Роль придаточных частей в сложноподчинённых предложениях</a:t>
            </a: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87280" y="1341360"/>
          <a:ext cx="8856720" cy="5180040"/>
        </p:xfrm>
        <a:graphic>
          <a:graphicData uri="http://schemas.openxmlformats.org/drawingml/2006/table">
            <a:tbl>
              <a:tblPr/>
              <a:tblGrid>
                <a:gridCol w="8422920"/>
                <a:gridCol w="216000"/>
                <a:gridCol w="217800"/>
              </a:tblGrid>
              <a:tr h="124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1. Определительные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: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пределяют и распространяют слово, к которому присоединяется придаточное.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2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2. Изъяснительные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: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Arial Black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Дополняют, поясняют один из членов главного предложения (чаще сказуемое)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5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3. Цели: 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казывают на цель, назначение действ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1731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4. Условия: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казывают на условие, от которого зависит осуществление действия, события, явления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50560" y="1700280"/>
            <a:ext cx="8435880" cy="4968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5. Причины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: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указывают на причину или обоснование действия (события, явления) 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6. Уступки: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указывают на то, что действие совершается вопреки условиям (несмотря на условие)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7. Сравнения: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поясняют содержание главного предложения, сравнивая одно событие (действие, явление) с другим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97800" cy="93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6d"/>
                </a:solidFill>
                <a:latin typeface="Arial Black"/>
              </a:rPr>
              <a:t>Роль придаточных частей в сложноподчинённых предложениях</a:t>
            </a: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79280" y="907560"/>
            <a:ext cx="8785440" cy="5761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огут выражать значения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одновременности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еречисляемых событий; 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х 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последовательности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причинные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(второе предложение раскрывает причину того, о чём говорится в первом)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пояснительные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(второе предложение поясняет первое)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пояснительно-изъяснительные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(второе предложение поясняет слово в первой части, которое имеет значение речи, мысли, чувства или восприятия, или слово, которое указывает на эти процессы: </a:t>
            </a: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прислушался, взглянул, оглянулся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 т. п.; во втором случае можно говорить о пропуске слов типа </a:t>
            </a: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увидеть, услыша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 т. п.)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сопоставительно-противительные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тношения (содержание второго предложения сопоставляется с содержанием первого или противопоставляется ему)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условно-временные</a:t>
            </a: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(первое предложение указывает на время или на условие осуществления того, о чём говорится во втором)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следствия</a:t>
            </a: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(содержание второго предложения является следствием того, о чём говорится в первом)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2b6d"/>
                </a:solidFill>
                <a:latin typeface="Arial Black"/>
              </a:rPr>
              <a:t>Б</a:t>
            </a:r>
            <a:r>
              <a:rPr b="1" lang="en-US" sz="2800" spc="-1" strike="noStrike">
                <a:solidFill>
                  <a:srgbClr val="002b6d"/>
                </a:solidFill>
                <a:latin typeface="Arial Black"/>
              </a:rPr>
              <a:t>ессоюзные сложные предложения</a:t>
            </a:r>
            <a:r>
              <a:rPr b="0" lang="en-US" sz="4000" spc="-1" strike="noStrike">
                <a:solidFill>
                  <a:srgbClr val="002b6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99760" y="189000"/>
            <a:ext cx="7643880" cy="367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2b6d"/>
                </a:solidFill>
                <a:latin typeface="Arial Black"/>
              </a:rPr>
              <a:t>Удачи на экзаменах!</a:t>
            </a:r>
            <a:endParaRPr b="0" lang="en-US" sz="6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6300720" y="558972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Егораева Г.Т.,    Москва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213" name="Picture 2" descr="C:\Users\Галина\AppData\Local\Temp\shutterstock_61302313.jpg"/>
          <p:cNvPicPr/>
          <p:nvPr/>
        </p:nvPicPr>
        <p:blipFill>
          <a:blip r:embed="rId2"/>
          <a:stretch/>
        </p:blipFill>
        <p:spPr>
          <a:xfrm>
            <a:off x="0" y="2924280"/>
            <a:ext cx="3419640" cy="42210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643520" cy="93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b6d"/>
                </a:solidFill>
                <a:latin typeface="Arial Black"/>
              </a:rPr>
              <a:t>Антонимы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79280" y="1484280"/>
            <a:ext cx="8964720" cy="5184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Антонимы —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слова, относящиеся к одной части речи, но противоположные по значению: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добро-зло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Контекстные (или контекстуальные) антонимы —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это слова, которые в языке не противопоставлены по значению и являются антонимами только в тексте: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Они сошлись.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Волна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и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камень, стихи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проза, Лёд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пламень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не столь различны меж собой... (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А. Пушкин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Антонимы, в том числе контекстные, позволяют: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уточнить мысль, сделать ее ярче, образнее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дать более полную характеристику какого-либо явления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выразить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предельное различие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между вещами, явлениями, качествами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выразить авторскую оценку обозначаемого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7643880" cy="863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b6d"/>
                </a:solidFill>
                <a:latin typeface="Arial Black"/>
              </a:rPr>
              <a:t>Синонимы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50560" y="1341000"/>
            <a:ext cx="8435880" cy="5327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могают избежать однообразия изложения; 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разнообразят нашу речь, делая её живой и выразительной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зволяют 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всесторонне охарактеризовать образ, явление, поступок и т.д.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выразить самые тонкие смысловые оттенки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тонко и красочно описать предметы, явления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способствуют точности и ясности высказывания,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4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4d"/>
                </a:solidFill>
                <a:latin typeface="Arial Black"/>
              </a:rPr>
              <a:t>помогают с максимальной точностью и полнотой передать содержание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дают возможность выразить различные оттенки мысли, уточнить, подчеркнуть какое-то положение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86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b6d"/>
                </a:solidFill>
                <a:latin typeface="Arial Black"/>
              </a:rPr>
              <a:t>Контекстные синонимы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Это слова, которые сами по себе не являются синонимами, но становятся ими в определенном контексте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0033"/>
                </a:solidFill>
                <a:latin typeface="Arial Black"/>
              </a:rPr>
              <a:t>Например: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Морские </a:t>
            </a:r>
            <a:r>
              <a:rPr b="1" i="1" lang="en-US" sz="2000" spc="-1" strike="noStrike">
                <a:solidFill>
                  <a:srgbClr val="ff0000"/>
                </a:solidFill>
                <a:latin typeface="Arial Black"/>
              </a:rPr>
              <a:t>суда</a:t>
            </a:r>
            <a:r>
              <a:rPr b="0" i="1" lang="en-US" sz="2000" spc="-1" strike="noStrike">
                <a:solidFill>
                  <a:srgbClr val="ff0000"/>
                </a:solidFill>
                <a:latin typeface="Arial Black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покинутые своими командами, иногда годами блуждают по океанам, пока их не поглотит пучина. Не раз эти </a:t>
            </a:r>
            <a:r>
              <a:rPr b="1" i="1" lang="en-US" sz="2000" spc="-1" strike="noStrike">
                <a:solidFill>
                  <a:srgbClr val="ff0000"/>
                </a:solidFill>
                <a:latin typeface="Arial Black"/>
              </a:rPr>
              <a:t>бродяги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 Black"/>
              </a:rPr>
              <a:t>океанов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становились источниками морских легенд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х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дбор делает речь яркой, художественной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они позволяют увидеть и охарактеризовать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внутренний мир рассказчика или героя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х действия, состояния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отражают недостающие смыслы слова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дчеркивают своеобразие авторской речи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могают увидеть новые лексические оттенки слова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91520" cy="792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b6d"/>
                </a:solidFill>
                <a:latin typeface="Arial Black"/>
              </a:rPr>
              <a:t>Архаизмы, историзмы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560" y="1341000"/>
            <a:ext cx="8435880" cy="5327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4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4d"/>
                </a:solidFill>
                <a:latin typeface="Arial Black"/>
              </a:rPr>
              <a:t>служат 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для воссоздания исторической обстановки,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названиями предметов, явлений и т.п. прошлых лет,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для передачи торжественности момента,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являются средством речевой характеристики персонажа,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используются для создания комического эффекта, иронии;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омогают автору убедить читателя в правдивости изображаемых событий.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643880" cy="649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b6d"/>
                </a:solidFill>
                <a:latin typeface="Arial Black"/>
              </a:rPr>
              <a:t>Профессионализмы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435880" cy="5472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Помогают определить принадлежность героя (рассказчика) к определённой профессии,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4d"/>
                </a:solidFill>
                <a:latin typeface="Arial Black"/>
              </a:rPr>
              <a:t>служат для 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обозначения различных производственных процессов, орудий производства, сырья, выпускаемой продукции и т.п.,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создания эффекта достоверности информации, 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речевой характеристики персонажа.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250920" y="333360"/>
            <a:ext cx="8642160" cy="6524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b6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b6d"/>
                </a:solidFill>
                <a:latin typeface="Arial Black"/>
              </a:rPr>
              <a:t> </a:t>
            </a:r>
            <a:r>
              <a:rPr b="1" lang="en-US" sz="2800" spc="-1" strike="noStrike">
                <a:solidFill>
                  <a:srgbClr val="002b6d"/>
                </a:solidFill>
                <a:latin typeface="Arial Black"/>
              </a:rPr>
              <a:t>ДИАЛЕКТИЗМЫ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могают передать местный языковой колорит, особенности речи героев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2400" spc="-1" strike="noStrike">
                <a:solidFill>
                  <a:srgbClr val="002b6d"/>
                </a:solidFill>
                <a:latin typeface="Arial Black"/>
              </a:rPr>
              <a:t>РАЗГОВОРНАЯ И ПРОСТОРЕЧНАЯ ЛЕКСИКА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создаёт стилистическую окраску слова,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спользуется для словесной характеристики героя (рассказчика)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b6d"/>
                </a:solidFill>
                <a:latin typeface="Arial Black"/>
              </a:rPr>
              <a:t>   </a:t>
            </a:r>
            <a:r>
              <a:rPr b="1" lang="en-US" sz="2400" spc="-1" strike="noStrike">
                <a:solidFill>
                  <a:srgbClr val="002b6d"/>
                </a:solidFill>
                <a:latin typeface="Arial Black"/>
              </a:rPr>
              <a:t>КНИЖНЫЕ СЛОВА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зволяют автору обратить внимание читателя на важные события (общественные, политические), нравственные ценности,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могают автору подчеркнуть и охарактеризовать общественно значимую проблему,  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служат для образного, эмоционального восприятия изображаемой действительности,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служат речевой характеристикой персонажей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04480" y="692280"/>
            <a:ext cx="7643880" cy="1296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b6d"/>
                </a:solidFill>
                <a:latin typeface="Arial Black"/>
              </a:rPr>
              <a:t>Многозначные слова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42560" y="2204640"/>
            <a:ext cx="7643880" cy="465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В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многозначном слове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выделяются первичное значение слова и производные от него значения. Новые значения возникают у слова в результате переноса наименования с одного объекта действительности на другие. 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Многозначные слова д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елают речь образной, помогают увидеть оттенки смысла.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2:55:32Z</dcterms:created>
  <dc:creator>Наталья</dc:creator>
  <dc:description/>
  <dc:language>en-US</dc:language>
  <cp:lastModifiedBy>Татьяна</cp:lastModifiedBy>
  <dcterms:modified xsi:type="dcterms:W3CDTF">2014-06-03T21:09:56Z</dcterms:modified>
  <cp:revision>35</cp:revision>
  <dc:subject/>
  <dc:title>Слайд 1</dc:title>
</cp:coreProperties>
</file>