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19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11.png" ContentType="image/png"/>
  <Override PartName="/ppt/media/image9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D46-94B9-478A-8642-D9C2AD66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A5B-9AE0-4632-B269-C82350B7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23C-F824-45BF-9F1D-8F75171E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B99-7F0F-4A3F-A125-A7EAB094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BBFA-BFA8-4F65-B350-F163E804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EBA1-81C5-4125-A28B-B1E85E19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51FF-A656-4C63-9958-B767499C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CA8B-AF8F-424E-93D1-81C9308D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AC77-5B16-4A9B-88BC-9F010BFC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BDD7-D58D-45EF-936D-033B2CA4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8A2F-FCAA-41D2-92FF-4AFC9033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505-DD0C-4FDC-B83C-8B76AEDC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965D-5427-486B-B162-4AC2C4E6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1DE8-7AA4-4754-8B71-03A2DFAA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E931-81D5-40E7-95EC-945CA6C4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BA98-3E07-4A80-9270-F23E6986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A37F-288D-43AA-98D7-EB11AABE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375-C895-4181-8CBC-E7B3F0B2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4D3-5E90-455A-A8BE-2E20E3FA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281-A4B1-4B5F-973C-DF3A157A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089-069F-4EFE-BE9F-3E31CD82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DA5-A210-43AC-9020-7CA4190D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3C3-6C6F-4090-9989-C047F110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42C-681E-43A6-851B-66483282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1A6D-9EA6-4397-88F1-F09D345987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EDB5-C0CA-4CB6-A298-6EC435A885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hutterstock_80713267"/>
          <p:cNvPicPr/>
          <p:nvPr/>
        </p:nvPicPr>
        <p:blipFill>
          <a:blip r:embed="rId1"/>
          <a:stretch/>
        </p:blipFill>
        <p:spPr>
          <a:xfrm>
            <a:off x="0" y="2205000"/>
            <a:ext cx="2771640" cy="4653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1332000" y="2492280"/>
            <a:ext cx="1152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WordArt 7" descr=""/>
          <p:cNvPicPr/>
          <p:nvPr/>
        </p:nvPicPr>
        <p:blipFill>
          <a:blip r:embed="rId2"/>
          <a:stretch/>
        </p:blipFill>
        <p:spPr>
          <a:xfrm>
            <a:off x="1249200" y="3054240"/>
            <a:ext cx="1030320" cy="359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shutterstock_83886223"/>
          <p:cNvPicPr/>
          <p:nvPr/>
        </p:nvPicPr>
        <p:blipFill>
          <a:blip r:embed="rId3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4716360" y="692280"/>
            <a:ext cx="40309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0" y="0"/>
            <a:ext cx="2843280" cy="22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examen_logo2"/>
          <p:cNvPicPr/>
          <p:nvPr/>
        </p:nvPicPr>
        <p:blipFill>
          <a:blip r:embed="rId4"/>
          <a:stretch/>
        </p:blipFill>
        <p:spPr>
          <a:xfrm>
            <a:off x="0" y="0"/>
            <a:ext cx="3321000" cy="836640"/>
          </a:xfrm>
          <a:prstGeom prst="rect">
            <a:avLst/>
          </a:prstGeom>
          <a:ln w="0">
            <a:noFill/>
          </a:ln>
        </p:spPr>
      </p:pic>
      <p:sp>
        <p:nvSpPr>
          <p:cNvPr id="89" name="WordArt 11"/>
          <p:cNvSpPr txBox="1"/>
          <p:nvPr/>
        </p:nvSpPr>
        <p:spPr>
          <a:xfrm>
            <a:off x="4284720" y="907920"/>
            <a:ext cx="424800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нгвистический анали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удожественного текста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способ формирован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овых и коммуникативных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петенций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щихс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4754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ботаем с текстом. Автор – образ Гри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14200" y="836280"/>
            <a:ext cx="878688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троп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ует автор для создания зрите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а Гриш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изобразительные возможнос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лово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огают понять  физическое состояние мальчи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помощью каких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ексических средст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 сум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ть его душевное состояни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 качества мальчика проявляются в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иалог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Нюш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овы характерные особенности ег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ч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ов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оль односоставных предложени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диалог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ексические и синтаксическ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ства использует автор, чтобы нарисовать картину трагического одиночества мальчика после предполагаемого ухода Нюш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изобразительные возможнос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рфолог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могают увидеть в тексте настроение мальчи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ов смысл повтор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интаксически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нструкций в речи Гриш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приём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вуковых изобразительных ресурсо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ского языка использует автор и какова их роль в текс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чему предпоследний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бзац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едставлен только одним предложени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ие языковые средства помогают определить авторское отношение к Гри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shutterstock_124498567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Diagram 47"/>
          <p:cNvGrpSpPr/>
          <p:nvPr/>
        </p:nvGrpSpPr>
        <p:grpSpPr>
          <a:xfrm>
            <a:off x="520560" y="235080"/>
            <a:ext cx="8111880" cy="6147360"/>
            <a:chOff x="520560" y="235080"/>
            <a:chExt cx="8111880" cy="6147360"/>
          </a:xfrm>
        </p:grpSpPr>
        <p:sp>
          <p:nvSpPr>
            <p:cNvPr id="142" name="_s3076"/>
            <p:cNvSpPr/>
            <p:nvPr/>
          </p:nvSpPr>
          <p:spPr>
            <a:xfrm flipH="1" flipV="1">
              <a:off x="2956320" y="2430720"/>
              <a:ext cx="812520" cy="497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3077"/>
            <p:cNvSpPr/>
            <p:nvPr/>
          </p:nvSpPr>
          <p:spPr>
            <a:xfrm>
              <a:off x="1117080" y="1137600"/>
              <a:ext cx="206784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078"/>
            <p:cNvSpPr/>
            <p:nvPr/>
          </p:nvSpPr>
          <p:spPr>
            <a:xfrm flipH="1">
              <a:off x="2557440" y="3601800"/>
              <a:ext cx="1010880" cy="18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3079"/>
            <p:cNvSpPr/>
            <p:nvPr/>
          </p:nvSpPr>
          <p:spPr>
            <a:xfrm>
              <a:off x="520560" y="3164040"/>
              <a:ext cx="2067120" cy="159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0"/>
            <p:cNvSpPr/>
            <p:nvPr/>
          </p:nvSpPr>
          <p:spPr>
            <a:xfrm flipH="1">
              <a:off x="3678120" y="4142520"/>
              <a:ext cx="447120" cy="72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3081"/>
            <p:cNvSpPr/>
            <p:nvPr/>
          </p:nvSpPr>
          <p:spPr>
            <a:xfrm>
              <a:off x="2201040" y="4786560"/>
              <a:ext cx="206712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082"/>
            <p:cNvSpPr/>
            <p:nvPr/>
          </p:nvSpPr>
          <p:spPr>
            <a:xfrm>
              <a:off x="5021280" y="4142520"/>
              <a:ext cx="450000" cy="72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083"/>
            <p:cNvSpPr/>
            <p:nvPr/>
          </p:nvSpPr>
          <p:spPr>
            <a:xfrm>
              <a:off x="4889880" y="4784400"/>
              <a:ext cx="206712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3084"/>
            <p:cNvSpPr/>
            <p:nvPr/>
          </p:nvSpPr>
          <p:spPr>
            <a:xfrm>
              <a:off x="5578560" y="3603960"/>
              <a:ext cx="1010880" cy="17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085"/>
            <p:cNvSpPr/>
            <p:nvPr/>
          </p:nvSpPr>
          <p:spPr>
            <a:xfrm>
              <a:off x="6564600" y="3159720"/>
              <a:ext cx="206784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086"/>
            <p:cNvSpPr/>
            <p:nvPr/>
          </p:nvSpPr>
          <p:spPr>
            <a:xfrm flipV="1">
              <a:off x="5404320" y="2421360"/>
              <a:ext cx="809640" cy="49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3087"/>
            <p:cNvSpPr/>
            <p:nvPr/>
          </p:nvSpPr>
          <p:spPr>
            <a:xfrm>
              <a:off x="5965200" y="1135440"/>
              <a:ext cx="206712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3088"/>
            <p:cNvSpPr/>
            <p:nvPr/>
          </p:nvSpPr>
          <p:spPr>
            <a:xfrm flipV="1">
              <a:off x="4573080" y="1828800"/>
              <a:ext cx="0" cy="801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3089"/>
            <p:cNvSpPr/>
            <p:nvPr/>
          </p:nvSpPr>
          <p:spPr>
            <a:xfrm>
              <a:off x="3541320" y="235080"/>
              <a:ext cx="206712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0000"/>
                  </a:solidFill>
                  <a:latin typeface="Arial"/>
                </a:rPr>
                <a:t>Морфемика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(худЕНЬКий,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лечИКам) 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3090"/>
            <p:cNvSpPr/>
            <p:nvPr/>
          </p:nvSpPr>
          <p:spPr>
            <a:xfrm>
              <a:off x="3562200" y="2708280"/>
              <a:ext cx="2067840" cy="1518840"/>
            </a:xfrm>
            <a:prstGeom prst="ellipse">
              <a:avLst/>
            </a:prstGeom>
            <a:solidFill>
              <a:srgbClr val="008000"/>
            </a:solidFill>
            <a:ln w="76320">
              <a:solidFill>
                <a:srgbClr val="00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ffffff"/>
                  </a:solidFill>
                  <a:latin typeface="Arial Black"/>
                </a:rPr>
                <a:t>Гришка</a:t>
              </a:r>
              <a:endParaRPr b="1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66"/>
          <p:cNvSpPr/>
          <p:nvPr/>
        </p:nvSpPr>
        <p:spPr>
          <a:xfrm>
            <a:off x="6012000" y="692280"/>
            <a:ext cx="2952720" cy="18000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разеолог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семи пядей во лбу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м по себе; держалс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стороне; один на оди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с тьмой), зашёлс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охотом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7"/>
          <p:cNvSpPr/>
          <p:nvPr/>
        </p:nvSpPr>
        <p:spPr>
          <a:xfrm>
            <a:off x="3419640" y="189000"/>
            <a:ext cx="2592360" cy="187164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нетик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ме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..</a:t>
            </a:r>
            <a:r>
              <a:rPr b="1" lang="ru-RU" sz="16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м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нё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п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м углам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нную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ю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8"/>
          <p:cNvSpPr/>
          <p:nvPr/>
        </p:nvSpPr>
        <p:spPr>
          <a:xfrm>
            <a:off x="324000" y="260280"/>
            <a:ext cx="3097080" cy="25192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оп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Метафор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о капельке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екла в его слабеньки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ганизм жизнь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Эпите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уденький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лед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вым  звонки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хотом;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дор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ме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9"/>
          <p:cNvSpPr/>
          <p:nvPr/>
        </p:nvSpPr>
        <p:spPr>
          <a:xfrm>
            <a:off x="285840" y="2928960"/>
            <a:ext cx="2520720" cy="1728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и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худЕНЬКий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а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нь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й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ечИКи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0"/>
          <p:cNvSpPr/>
          <p:nvPr/>
        </p:nvSpPr>
        <p:spPr>
          <a:xfrm>
            <a:off x="250920" y="4724280"/>
            <a:ext cx="4465440" cy="2133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екси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Контекстные антонимы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все)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йду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(Гришка)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танется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антонимы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сег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ржался в стороне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иког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смеялс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лексические повторы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ня не будет; какая ты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просторечные слова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скал (стойку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1"/>
          <p:cNvSpPr/>
          <p:nvPr/>
        </p:nvSpPr>
        <p:spPr>
          <a:xfrm>
            <a:off x="4859280" y="4797360"/>
            <a:ext cx="4284720" cy="2060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лаголы несовершенного вид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редл.54-56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лаголы будущего времен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меня)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 будет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междомет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ойёёй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2"/>
          <p:cNvSpPr/>
          <p:nvPr/>
        </p:nvSpPr>
        <p:spPr>
          <a:xfrm>
            <a:off x="5940360" y="2565360"/>
            <a:ext cx="3024360" cy="24494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Безличные предложения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неопределённо-лично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диалог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парцелляц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редл.30-31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радац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засмеялся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шелся хохотом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инверсия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йти ненадолго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мотрел, не мигая и т.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435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ем с текстом.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втор – образ Ню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42920" y="1143000"/>
            <a:ext cx="8858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акое ёмко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ексическое средство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первом абза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спользуется автором для создания характеристики Нюш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чему, рассказывая о работе Нюши в больнице, авт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спользуе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лаголы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совершенного вида прошедшего времен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чему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нолог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юши выделен автором в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дельный абзац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аков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ункция пунктуационных знаков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монологе Нюш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бъяснит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оль лексических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второв в монологе деву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айдите в монологе Нюши сложноподчинённые предложения, определите  разряд  придаточных. Какова их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амматическа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рол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 помощью слов какой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асти реч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втор создаёт картину детально подчеркнутых действий Нюш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акие средств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языковой выразительност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аиболее полно передают отношение автора к героине рассказ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йте характеристику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интаксических особенностей реч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юши. Объясните, какова их ро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ите смысловые отношения между частям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ессоюзных сложных предложе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их экспрессивных возможностях в передаче душевного состояние Нюш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троп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использованные автором в характеристике Нюши, помогают достичь художественного эффек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shutterstock_129535778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Diagram 5"/>
          <p:cNvGrpSpPr/>
          <p:nvPr/>
        </p:nvGrpSpPr>
        <p:grpSpPr>
          <a:xfrm>
            <a:off x="621360" y="191520"/>
            <a:ext cx="7837560" cy="6472080"/>
            <a:chOff x="621360" y="191520"/>
            <a:chExt cx="7837560" cy="6472080"/>
          </a:xfrm>
        </p:grpSpPr>
        <p:sp>
          <p:nvSpPr>
            <p:cNvPr id="168" name="_s4118"/>
            <p:cNvSpPr/>
            <p:nvPr/>
          </p:nvSpPr>
          <p:spPr>
            <a:xfrm flipH="1" flipV="1">
              <a:off x="2651760" y="2618280"/>
              <a:ext cx="946440" cy="407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4117"/>
            <p:cNvSpPr/>
            <p:nvPr/>
          </p:nvSpPr>
          <p:spPr>
            <a:xfrm>
              <a:off x="621360" y="1407240"/>
              <a:ext cx="2178000" cy="161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4100"/>
            <p:cNvSpPr/>
            <p:nvPr/>
          </p:nvSpPr>
          <p:spPr>
            <a:xfrm flipH="1">
              <a:off x="2651760" y="3831480"/>
              <a:ext cx="950040" cy="405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4101"/>
            <p:cNvSpPr/>
            <p:nvPr/>
          </p:nvSpPr>
          <p:spPr>
            <a:xfrm>
              <a:off x="624960" y="3834360"/>
              <a:ext cx="2178000" cy="161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4102"/>
            <p:cNvSpPr/>
            <p:nvPr/>
          </p:nvSpPr>
          <p:spPr>
            <a:xfrm>
              <a:off x="4538520" y="4232160"/>
              <a:ext cx="3600" cy="81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4103"/>
            <p:cNvSpPr/>
            <p:nvPr/>
          </p:nvSpPr>
          <p:spPr>
            <a:xfrm>
              <a:off x="3454560" y="5045040"/>
              <a:ext cx="2178000" cy="161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4104"/>
            <p:cNvSpPr/>
            <p:nvPr/>
          </p:nvSpPr>
          <p:spPr>
            <a:xfrm>
              <a:off x="5478480" y="3829320"/>
              <a:ext cx="946440" cy="407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4105"/>
            <p:cNvSpPr/>
            <p:nvPr/>
          </p:nvSpPr>
          <p:spPr>
            <a:xfrm>
              <a:off x="6280920" y="3831480"/>
              <a:ext cx="2178000" cy="161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4106"/>
            <p:cNvSpPr/>
            <p:nvPr/>
          </p:nvSpPr>
          <p:spPr>
            <a:xfrm flipV="1">
              <a:off x="5478480" y="2618280"/>
              <a:ext cx="946440" cy="404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4107"/>
            <p:cNvSpPr/>
            <p:nvPr/>
          </p:nvSpPr>
          <p:spPr>
            <a:xfrm>
              <a:off x="6280920" y="1404720"/>
              <a:ext cx="2178000" cy="161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4108"/>
            <p:cNvSpPr/>
            <p:nvPr/>
          </p:nvSpPr>
          <p:spPr>
            <a:xfrm flipV="1">
              <a:off x="4538520" y="1807560"/>
              <a:ext cx="0" cy="812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4109"/>
            <p:cNvSpPr/>
            <p:nvPr/>
          </p:nvSpPr>
          <p:spPr>
            <a:xfrm>
              <a:off x="3451680" y="191520"/>
              <a:ext cx="2178000" cy="161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4110"/>
            <p:cNvSpPr/>
            <p:nvPr/>
          </p:nvSpPr>
          <p:spPr>
            <a:xfrm>
              <a:off x="3451680" y="2620440"/>
              <a:ext cx="2178000" cy="161856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cc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 Black"/>
                </a:rPr>
                <a:t>Нюша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19"/>
          <p:cNvSpPr/>
          <p:nvPr/>
        </p:nvSpPr>
        <p:spPr>
          <a:xfrm>
            <a:off x="3203640" y="189000"/>
            <a:ext cx="5761080" cy="1871640"/>
          </a:xfrm>
          <a:prstGeom prst="rect">
            <a:avLst/>
          </a:prstGeom>
          <a:solidFill>
            <a:srgbClr val="def6f1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лаголы несовершенного вида; глаголы будущег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времен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ойду иска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уду знать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лагол повелительного наклонения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ослушай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Наречия образа действ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говори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вёрдо и громко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терл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пешно, по-детс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179280" y="333360"/>
            <a:ext cx="2664000" cy="31669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удожественны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ств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ельнос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Сравнени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оходила 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тчаянного енота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олько чт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игравшего схватку с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мым хищным зверем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эпитеты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смешная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юш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шеломлённа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юша и т.д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179280" y="4437000"/>
            <a:ext cx="3529080" cy="194472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нктуац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Эмоционально-экспрессивна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функция восклицатель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знаков и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многоточий  в монолог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редложения 33-3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2"/>
          <p:cNvSpPr/>
          <p:nvPr/>
        </p:nvSpPr>
        <p:spPr>
          <a:xfrm>
            <a:off x="6227640" y="2060640"/>
            <a:ext cx="2665440" cy="4176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кс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Иноязычное слово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волонтёр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бровольн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имающи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стие в каком-либо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ле; добровольн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огающий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онтекстные антоним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отчаянный енот 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мы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ищный зверь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3"/>
          <p:cNvSpPr/>
          <p:nvPr/>
        </p:nvSpPr>
        <p:spPr>
          <a:xfrm>
            <a:off x="3564000" y="4581360"/>
            <a:ext cx="2736720" cy="2087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таксис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диалог и монолог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ой порядок слов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стые и сложно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чинённы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е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250920" y="3645000"/>
            <a:ext cx="2520720" cy="72072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рфем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ннУШ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820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оль языковых средств вырази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SmartArt 3" descr=""/>
          <p:cNvPicPr/>
          <p:nvPr/>
        </p:nvPicPr>
        <p:blipFill>
          <a:blip r:embed="rId1"/>
          <a:stretch/>
        </p:blipFill>
        <p:spPr>
          <a:xfrm>
            <a:off x="158760" y="652320"/>
            <a:ext cx="8620200" cy="6126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Region\Desktop\шаттерсток\shutterstock_45412960.jpg"/>
          <p:cNvPicPr/>
          <p:nvPr/>
        </p:nvPicPr>
        <p:blipFill>
          <a:blip r:embed="rId2"/>
          <a:stretch/>
        </p:blipFill>
        <p:spPr>
          <a:xfrm>
            <a:off x="3780000" y="2852640"/>
            <a:ext cx="1800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ем с текстом.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втор – персонажи расск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85840" y="2143080"/>
            <a:ext cx="8618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овите мысли и чувства персонажей рассказа, которые прямо не  названы, но предполагаются в содержании тек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ч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едсестры участвует в создании её художественного  образа, помогает передать характе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события выражаю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лаголы повелительного и условного наклонени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монологе медсестр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анализируйте указанный фрагмент текста с точки зрения ег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интаксических особенност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Определите, каки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гуры реч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огают увидеть авторское отношение к персонажам и изображаем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йдите в указанном фрагмент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днокоренны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лова. Какую мысль автора они помогают поня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ую роль выполняют в текст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водные сло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йдите в текст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онструкции, осложняющие предлож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Охарактеризуйте их по значению,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оснуйте выделение указанных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бзац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тек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ажит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бзац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котором наиболее явно отражена авторская пози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shutterstock_63736768"/>
          <p:cNvPicPr/>
          <p:nvPr/>
        </p:nvPicPr>
        <p:blipFill>
          <a:blip r:embed="rId1"/>
          <a:stretch/>
        </p:blipFill>
        <p:spPr>
          <a:xfrm>
            <a:off x="179280" y="0"/>
            <a:ext cx="18716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Diagram 5"/>
          <p:cNvGrpSpPr/>
          <p:nvPr/>
        </p:nvGrpSpPr>
        <p:grpSpPr>
          <a:xfrm>
            <a:off x="179280" y="2520"/>
            <a:ext cx="8784720" cy="6666120"/>
            <a:chOff x="179280" y="2520"/>
            <a:chExt cx="8784720" cy="6666120"/>
          </a:xfrm>
        </p:grpSpPr>
        <p:sp>
          <p:nvSpPr>
            <p:cNvPr id="194" name="_s5124"/>
            <p:cNvSpPr/>
            <p:nvPr/>
          </p:nvSpPr>
          <p:spPr>
            <a:xfrm flipH="1">
              <a:off x="2370600" y="3334320"/>
              <a:ext cx="110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5125"/>
            <p:cNvSpPr/>
            <p:nvPr/>
          </p:nvSpPr>
          <p:spPr>
            <a:xfrm>
              <a:off x="179280" y="2502360"/>
              <a:ext cx="2195280" cy="166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5126"/>
            <p:cNvSpPr/>
            <p:nvPr/>
          </p:nvSpPr>
          <p:spPr>
            <a:xfrm>
              <a:off x="4569840" y="4165920"/>
              <a:ext cx="0" cy="83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5127"/>
            <p:cNvSpPr/>
            <p:nvPr/>
          </p:nvSpPr>
          <p:spPr>
            <a:xfrm>
              <a:off x="3473640" y="5002920"/>
              <a:ext cx="2195280" cy="166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5128"/>
            <p:cNvSpPr/>
            <p:nvPr/>
          </p:nvSpPr>
          <p:spPr>
            <a:xfrm>
              <a:off x="5666040" y="3334320"/>
              <a:ext cx="110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5129"/>
            <p:cNvSpPr/>
            <p:nvPr/>
          </p:nvSpPr>
          <p:spPr>
            <a:xfrm>
              <a:off x="6768720" y="2502360"/>
              <a:ext cx="2195280" cy="166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5130"/>
            <p:cNvSpPr/>
            <p:nvPr/>
          </p:nvSpPr>
          <p:spPr>
            <a:xfrm flipV="1">
              <a:off x="4569840" y="1665720"/>
              <a:ext cx="0" cy="83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5131"/>
            <p:cNvSpPr/>
            <p:nvPr/>
          </p:nvSpPr>
          <p:spPr>
            <a:xfrm>
              <a:off x="3473640" y="2520"/>
              <a:ext cx="2195280" cy="166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132"/>
            <p:cNvSpPr/>
            <p:nvPr/>
          </p:nvSpPr>
          <p:spPr>
            <a:xfrm>
              <a:off x="3473640" y="2502360"/>
              <a:ext cx="2195280" cy="1665720"/>
            </a:xfrm>
            <a:prstGeom prst="ellipse">
              <a:avLst/>
            </a:prstGeom>
            <a:solidFill>
              <a:srgbClr val="66ffff"/>
            </a:solidFill>
            <a:ln w="76320">
              <a:solidFill>
                <a:srgbClr val="00ffcc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сонажи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рассказ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9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удожественные средства выразитель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питеты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достн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моции; залилас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мехом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лексический повтор 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идела» (предл.50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равнительный оборот (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е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тлым вихрем разлетел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»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тафор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н смеялся в сердце каждого, а они смеялись в его сердце»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0" y="1773360"/>
            <a:ext cx="3203640" cy="31683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Глаголы несовершенног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и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дет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…жили, ждали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глаголы повелительного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и условного наклонени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не старайтесь развеселить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довался бы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трицательные местоимение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аречие и частиц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икто и никог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чезнет…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0" y="5013360"/>
            <a:ext cx="4284720" cy="1844640"/>
          </a:xfrm>
          <a:prstGeom prst="rect">
            <a:avLst/>
          </a:prstGeom>
          <a:solidFill>
            <a:srgbClr val="ffcccc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ксика и фразеолог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Фразеологиз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ривязалис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й душой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лилас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частливы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ехом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зговорное слов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с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высыпали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6084720" y="1917720"/>
            <a:ext cx="3059280" cy="4824360"/>
          </a:xfrm>
          <a:prstGeom prst="rect">
            <a:avLst/>
          </a:prstGeom>
          <a:solidFill>
            <a:srgbClr val="99ff99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с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ункту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чинные отношен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сложном предложении 3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 разными видами связи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водное СС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к счастью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ложное предложение 51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ридаточны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пределительн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моционально-экспрес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ивная функц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осклицательно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на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ришка смеётся!»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4"/>
          <p:cNvSpPr/>
          <p:nvPr/>
        </p:nvSpPr>
        <p:spPr>
          <a:xfrm>
            <a:off x="4356000" y="5013360"/>
            <a:ext cx="1656000" cy="18446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и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риш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ень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е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ю –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е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тс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Oval 4"/>
          <p:cNvSpPr/>
          <p:nvPr/>
        </p:nvSpPr>
        <p:spPr>
          <a:xfrm>
            <a:off x="3492360" y="2637000"/>
            <a:ext cx="2448000" cy="151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мерт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2268000" y="3573360"/>
            <a:ext cx="129708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5867280" y="3500280"/>
            <a:ext cx="576360" cy="14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V="1">
            <a:off x="4643280" y="1916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142920" y="333360"/>
            <a:ext cx="9001080" cy="165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удожественные средства выразитель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тафо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длинный коридор темно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жающийся солнечный лу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ый хищный звер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питеты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яжел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ные дети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уденький, блед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лицетвор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крадывающейся…страшной тьмой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50920" y="3500280"/>
            <a:ext cx="2808360" cy="2881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Глагол будущег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ишут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6335640" y="3573360"/>
            <a:ext cx="2557440" cy="280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зличны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лож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иалог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нверс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ня насовс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1" dur="indefinite" restart="never" nodeType="tmRoot">
          <p:childTnLst>
            <p:seq>
              <p:cTn id="1922" dur="indefinite" nodeType="mainSeq">
                <p:childTnLst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9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4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9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1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3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8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8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3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7" descr="shutterstock_101602015"/>
          <p:cNvPicPr/>
          <p:nvPr/>
        </p:nvPicPr>
        <p:blipFill>
          <a:blip r:embed="rId1"/>
          <a:stretch/>
        </p:blipFill>
        <p:spPr>
          <a:xfrm>
            <a:off x="0" y="189000"/>
            <a:ext cx="8964720" cy="6669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9"/>
          <p:cNvSpPr/>
          <p:nvPr/>
        </p:nvSpPr>
        <p:spPr>
          <a:xfrm>
            <a:off x="3995640" y="2997360"/>
            <a:ext cx="10796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24"/>
          <p:cNvSpPr txBox="1"/>
          <p:nvPr/>
        </p:nvSpPr>
        <p:spPr>
          <a:xfrm>
            <a:off x="357120" y="404640"/>
            <a:ext cx="8391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 помогает преодолеть болезнь и одиночество?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8" name="WordArt 25"/>
          <p:cNvSpPr txBox="1"/>
          <p:nvPr/>
        </p:nvSpPr>
        <p:spPr>
          <a:xfrm>
            <a:off x="2643120" y="3068640"/>
            <a:ext cx="992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Гриш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9" name="WordArt 26"/>
          <p:cNvSpPr txBox="1"/>
          <p:nvPr/>
        </p:nvSpPr>
        <p:spPr>
          <a:xfrm>
            <a:off x="3857760" y="3141720"/>
            <a:ext cx="107136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Гриш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жира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0" name="WordArt 27"/>
          <p:cNvSpPr txBox="1"/>
          <p:nvPr/>
        </p:nvSpPr>
        <p:spPr>
          <a:xfrm>
            <a:off x="5148360" y="2857680"/>
            <a:ext cx="84780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Гришка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жира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Нюш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1" name="WordArt 28"/>
          <p:cNvSpPr txBox="1"/>
          <p:nvPr/>
        </p:nvSpPr>
        <p:spPr>
          <a:xfrm>
            <a:off x="6227640" y="2643120"/>
            <a:ext cx="106200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Гриш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жира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Нюша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медсестр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2" name="WordArt 30"/>
          <p:cNvSpPr txBox="1"/>
          <p:nvPr/>
        </p:nvSpPr>
        <p:spPr>
          <a:xfrm>
            <a:off x="7643880" y="2857680"/>
            <a:ext cx="1152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Гришка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жира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Нюша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медсестра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все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3" name="WordArt 31"/>
          <p:cNvSpPr txBox="1"/>
          <p:nvPr/>
        </p:nvSpPr>
        <p:spPr>
          <a:xfrm>
            <a:off x="1643040" y="4929120"/>
            <a:ext cx="727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Активное участие в судьбе человека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радостные эмоции и осознание себя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неотъемлемой частью большой жизни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42560" y="188640"/>
            <a:ext cx="450036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)Аннушка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абота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ничным клоуном. (2)Раз в неделю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о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други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онтерами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иезжа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больницу и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азвлека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жело больных детей,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отор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жи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м месяцами. (3)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Игра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ни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азучива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мешные стихи, и детишки,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все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шой привязавшись к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не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 нетерпением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ждали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сво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юшу, как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она 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едставила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6) Гришка смотрел на Нюшу не мигая,  и она, не в силах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держ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гляда этих ждущих только честного ответа глаз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пятилась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окну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е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подоконник и, легонько притянув  мальчика к себе, осторожно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ня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о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716000" y="188640"/>
            <a:ext cx="442764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Морф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Глаголы несовершенного ви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шедшего време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дчёркивают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будничность, повторяемость действ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о которых повествуется в текс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Глаголы совершенного ви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могают увидеть,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что действия совершаются лишь один раз и в строг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Местоиме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азывают на предметы, признаки, не называя их и являясь заместителя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менательных слов в предлож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интаксис (грамма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я однородных членов предло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ование подлежащего со сказуем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я обособленных членов предложен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0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7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4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1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6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7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8" dur="1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3" dur="10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матика сочинений на лингвистическую 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524988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ка и грамматика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ка и фразеолог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 художественной литературы. Средства речевой вырази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ф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аксис и пунк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 и речь (устная и письмен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shutterstock_99449843"/>
          <p:cNvPicPr/>
          <p:nvPr/>
        </p:nvPicPr>
        <p:blipFill>
          <a:blip r:embed="rId1"/>
          <a:stretch/>
        </p:blipFill>
        <p:spPr>
          <a:xfrm>
            <a:off x="5867280" y="1557360"/>
            <a:ext cx="3097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42560" y="188640"/>
            <a:ext cx="450036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ябре больных,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к счастью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ыло  совсем мало. (5)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от 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т раз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овую комнату пришли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сег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ятеро. (6)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Сред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х, как всегда,  был Гришка – </a:t>
            </a:r>
            <a:r>
              <a:rPr b="1" lang="ru-RU" sz="1600" spc="-1" strike="noStrike">
                <a:solidFill>
                  <a:srgbClr val="00a800"/>
                </a:solidFill>
                <a:latin typeface="Arial"/>
              </a:rPr>
              <a:t>худень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a800"/>
                </a:solidFill>
                <a:latin typeface="Arial"/>
              </a:rPr>
              <a:t>бледны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ьчик лет десяти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н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ид. (7)Он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н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г играть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движные игры,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потому чт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нужден был всегда таскать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з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собой железную стойку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с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пельниц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из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торой </a:t>
            </a:r>
            <a:r>
              <a:rPr b="1" i="1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по капельке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струилась в его </a:t>
            </a:r>
            <a:r>
              <a:rPr b="1" i="1" lang="ru-RU" sz="1600" spc="-1" strike="noStrike" u="sng">
                <a:solidFill>
                  <a:srgbClr val="00a800"/>
                </a:solidFill>
                <a:uFillTx/>
                <a:latin typeface="Arial"/>
              </a:rPr>
              <a:t>слабенький</a:t>
            </a:r>
            <a:r>
              <a:rPr b="1" i="1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 организм жизнь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8)Гришка называл стойку «жирафом» и повязывал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н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е свой желтый в клетку шарф,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наверное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чтобы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«жираф» не простудился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9)Мальчишка </a:t>
            </a: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всег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ff"/>
                </a:solidFill>
                <a:latin typeface="Arial"/>
              </a:rPr>
              <a:t>держался в сторон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никог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н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меялся.  (10)Старшая медсестра,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горестно вздохнув, 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так 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казала Нюше однажды: «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о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от играть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с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ми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ряд л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удет,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и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не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старайтес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его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развеселить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11) </a:t>
            </a:r>
            <a:r>
              <a:rPr b="1" lang="ru-RU" sz="1600" spc="-1" strike="noStrike">
                <a:solidFill>
                  <a:srgbClr val="cc00ff"/>
                </a:solidFill>
                <a:latin typeface="Arial"/>
              </a:rPr>
              <a:t>Семи пядей во лб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альчишка, и и было бы здорово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бы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он тоже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радовал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о Гришенька как-то </a:t>
            </a:r>
            <a:r>
              <a:rPr b="1" lang="ru-RU" sz="1600" spc="-1" strike="noStrike">
                <a:solidFill>
                  <a:srgbClr val="ff00ff"/>
                </a:solidFill>
                <a:latin typeface="Arial"/>
              </a:rPr>
              <a:t>сам по себе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(12)Будет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прост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ff"/>
                </a:solidFill>
                <a:latin typeface="Arial"/>
              </a:rPr>
              <a:t>со стороны наблюдать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716000" y="188640"/>
            <a:ext cx="442764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уденький, капелька, слабенький, Гришень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ужебные слова (предлоги, частицы, союз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лительное и условное наклонения глагол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не старайтесь развеселить, радовался бы)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разе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держался в стороне, семи пядей во лбу, сам по себе, наблюдать со сторон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с (грамма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вводные слова, обособленные приложение и обстоятельство, СПП (7,8,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метафор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 капельке струилась в его слабенький организм жиз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питеты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худенький, слабенький, горест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здохнув)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6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3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7" dur="1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8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4" dur="1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1" dur="10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2" dur="1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1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2" dur="10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3" dur="1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42560" y="189000"/>
            <a:ext cx="435780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5)- Нюша,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тебе не страш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6)-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 чего мне боять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7)- Что ты однажды придешь, 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еня не будет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 деть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)- Значит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,  я пой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вою палату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иска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теб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9)-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 в палат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же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не буд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0)- Тогда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я пойду искать теб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большому окну у столовой, где ты любишь стоять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1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)-  И у окн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 будет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2)И в другой игровой комнат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 буд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(23)Ты не боишься, что однажды ты придешь, 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еня насовсем н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4)- Значит, я буду знать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бя выписали…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5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- С «жирафом"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- Гришка кивнул на стойку с капельницей,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же не выпишу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716000" y="189000"/>
            <a:ext cx="442764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Язык и 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кция диа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ль пунк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так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Безличные предложения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ражающих психофизическое состояние человека, возникающее в результате действия какой-то причин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еопределённо-личны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ениях важен сам факт, событие или действие, а сам субъект действия остается необозначенным, так как указание на него, с точки зрения говорящего, несуще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 использует в тексте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глаголы в будущем времени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чтобы рассказать, что произойдёт после предыдущих событий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ие и стилистические функции данного абза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5" dur="indefinite" restart="never" nodeType="tmRoot">
          <p:childTnLst>
            <p:seq>
              <p:cTn id="2256" dur="indefinite" nodeType="mainSeq">
                <p:childTnLst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0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7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6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7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3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0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7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4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1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8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1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3240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9)Нюша представила: если бы вдруг здание больницы разрезали надвое, то в самой середине получившегося среза все люди увидели бы их – Нюшу, Гришку и жирафа, </a:t>
            </a: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спасающихся от длинного коридора темноты в сужающемся солнечном луч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30)И Нюша вдруг поняла: и солнце </a:t>
            </a: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вот-в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уйдет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на </a:t>
            </a: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вот-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уйдет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все люди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уйду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ишка </a:t>
            </a:r>
            <a:r>
              <a:rPr b="1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останется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(31)Один на од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подкрадывающейся к его худеньким плечикам  страшной тьмо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64000" y="188640"/>
            <a:ext cx="5580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с (грамматика, фигуры реч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пояснительных отношений в сложных предложениях 29 – 30 с разными видами связ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ловные отношения в СП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особленное определение (достоверно описывает состояние героев)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особленное при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осоставное неопределённо-личное пред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тивительные отношения в предложении 3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лнце – она – все люди (градац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обый смысл можно придать высказыванию при помощи парцелляции: точка после слова «останется» – сигнал конца повествования,  и потому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мысловой центр высказывания сосредоточивается на фразеологизме «один на один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текстные антонимы «все люди» – «Гришка», «коридор темноты – солнечный луч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ысловая роль лексических повторов (частиц «вот-вот» и глагола «уйдёт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питет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уденьк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лечики)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лицетворение «подкрадывающаяся… страшная тьм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удЕНЬКие плечИ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8" dur="indefinite" restart="never" nodeType="tmRoot">
          <p:childTnLst>
            <p:seq>
              <p:cTn id="2349" dur="indefinite" nodeType="mainSeq">
                <p:childTnLst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4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1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8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9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5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2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9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6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3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0" dur="1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4" dur="1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5" dur="1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1" dur="10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8" dur="10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10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5" dur="10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6" dur="10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10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2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3" dur="1000" fill="hold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1000"/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0" dur="1000" fill="hold"/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1000" fill="hold"/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6" dur="1000"/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7" dur="1000" fill="hold"/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3" dur="1000"/>
                                        <p:tgtEl>
                                          <p:spTgt spid="2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2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1000" fill="hold"/>
                                        <p:tgtEl>
                                          <p:spTgt spid="2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42920" y="333360"/>
            <a:ext cx="300024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33)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нь, когда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я при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тебя насовсем не будет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когда н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ступи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34)Потому что ты будешь всегд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5)Никто и никогда,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ослушай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6)Никто и никог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исчезает насовсем,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пока…пока… по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смеется в чьем-то сердц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86080" y="333360"/>
            <a:ext cx="58579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он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Устная 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интакси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ложноподчинённые предложения; восклицательные предложе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орфолог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оль глаголов будущего и настоящего врем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тор акцентирует внимание на важных деталях в контексте произведения, на накале чувств герое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унктуация (эмоционально-экспрессивная функция восклицательных знаков и многоточий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ая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ог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ять эмоциональное состояние автора высказывания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сти значение недоговоренности, незаконченности мысли, вызванной эмоциональным состоя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ие и стилистические функции абза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6" dur="indefinite" restart="never" nodeType="tmRoot">
          <p:childTnLst>
            <p:seq>
              <p:cTn id="2477" dur="indefinite" nodeType="mainSeq">
                <p:childTnLst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9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6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7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4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1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8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5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2" dur="1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10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0" dur="10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14200" y="188640"/>
            <a:ext cx="450072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50)Она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увидела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мешну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юшу-енота,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увидел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ядом с ней трясущихся от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мех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ришку и жирафа, и – «Гришка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ме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» -  сама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залилас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счастлив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мехом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(51)В коридор </a:t>
            </a:r>
            <a:r>
              <a:rPr b="1" i="1" lang="ru-RU" sz="2000" spc="-1" strike="noStrike">
                <a:solidFill>
                  <a:srgbClr val="195c4e"/>
                </a:solidFill>
                <a:latin typeface="Arial"/>
              </a:rPr>
              <a:t>высыпа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се, кто был в комна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52)И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С</a:t>
            </a: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ветлым ви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р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нё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по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м углам, под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т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ар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енну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ю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(53)А Гришка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охо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та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от душ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 мог ни о чем думат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54)Все, что ему хотелось,  -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ох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ть и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ох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ть дальше, так же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легко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ак же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заразитель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громко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ему было радостно, что с ним смеются и другие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714920" y="260280"/>
            <a:ext cx="417816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художественной речи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днокоренные сло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зображают явление с различных сторон и выделяют в нем разнообразные свойства и признаки. В данном случае они служат иллюстрацией к внезапно возникшей атмосфере весел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ельные средства фоне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Звукопис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дает речи особую наглядность и изобразительность, способствует более яркой и образной передаче чувств и настроений автора или героя. В данном случае используются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иемы аллитерации и звукоподражания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могающие  воспроизвести шум вихря и звучание радостного сме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наречий (конкретизация, детализация действ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ксика и фраз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оп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эпитеты, сравнени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3" dur="indefinite" restart="never" nodeType="tmRoot">
          <p:childTnLst>
            <p:seq>
              <p:cTn id="2584" dur="indefinite" nodeType="mainSeq">
                <p:childTnLst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6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2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8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3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0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5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0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1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0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1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6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6184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нные единицы языка в художественном тек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907560"/>
            <a:ext cx="4546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звол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очнить мысль, сделать её ярче, образн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илить зримость и наглядность изображаем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ть настроение, чув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черкнуть контраст в изображаем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азить психофизическое состояние человека, оценку его действ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ть характеристику геро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ть звуковой обра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тенить авторское   отношение к изображаемому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ют возможность ученику увидеть и понять смысл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любого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предложенного высказ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shutterstock_110667575"/>
          <p:cNvPicPr/>
          <p:nvPr/>
        </p:nvPicPr>
        <p:blipFill>
          <a:blip r:embed="rId1"/>
          <a:stretch/>
        </p:blipFill>
        <p:spPr>
          <a:xfrm>
            <a:off x="5219640" y="1413000"/>
            <a:ext cx="3408480" cy="4690800"/>
          </a:xfrm>
          <a:prstGeom prst="rect">
            <a:avLst/>
          </a:prstGeom>
          <a:ln w="0">
            <a:noFill/>
          </a:ln>
        </p:spPr>
      </p:pic>
      <p:sp>
        <p:nvSpPr>
          <p:cNvPr id="239" name="Правая фигурная скобка 7"/>
          <p:cNvSpPr/>
          <p:nvPr/>
        </p:nvSpPr>
        <p:spPr>
          <a:xfrm rot="6859200">
            <a:off x="6876000" y="1124640"/>
            <a:ext cx="1295280" cy="360360"/>
          </a:xfrm>
          <a:custGeom>
            <a:avLst/>
            <a:gdLst>
              <a:gd name="textAreaLeft" fmla="*/ 0 w 1295280"/>
              <a:gd name="textAreaRight" fmla="*/ 467640 w 1295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трелка вниз 8"/>
          <p:cNvSpPr/>
          <p:nvPr/>
        </p:nvSpPr>
        <p:spPr>
          <a:xfrm>
            <a:off x="2050920" y="5013360"/>
            <a:ext cx="217440" cy="431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8" dur="indefinite" restart="never" nodeType="tmRoot">
          <p:childTnLst>
            <p:seq>
              <p:cTn id="2649" dur="indefinite" nodeType="mainSeq">
                <p:childTnLst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4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8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5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3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9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0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6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7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3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4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0" dur="1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1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4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E:\картинки с шаттерстока\shutterstock_934501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7" descr=""/>
          <p:cNvPicPr/>
          <p:nvPr/>
        </p:nvPicPr>
        <p:blipFill>
          <a:blip r:embed="rId2"/>
          <a:stretch/>
        </p:blipFill>
        <p:spPr>
          <a:xfrm>
            <a:off x="2919240" y="5894280"/>
            <a:ext cx="62312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5" dur="indefinite" restart="never" nodeType="tmRoot">
          <p:childTnLst>
            <p:seq>
              <p:cTn id="2726" dur="indefinite" nodeType="mainSeq">
                <p:childTnLst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Язык подобен многоэтажному зданию. Его этажи –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диницы: звук, морфема, слово, словосочетание, предложение… И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ажда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з них занимает своё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сто в системе,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аждая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ыполняет свою работу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В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П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пример, в предложении 52 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лым в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 пронё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п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 углам, под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нную Ню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») аллитерация помогает услышать шум сильного порыва ветра»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евероятная новость о том, что Гришка смеётся, поразила окружающих, и многозначное слово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ыпа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все)» помогает зримо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ить, как в коридоре появилась толпа люд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меньшительно-ласкательный суффикс -еньк-  в слове «Гришенька» и словосочетание со связью примыкание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рестн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дохнув», в котором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речие подчёркивает признак действия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ражают доброе отношение старшей медсестры к мальчику и её беспокойство о том, что Гришка не умеет радоваться и смеять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яснительные отнош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бессоюзном сложном предложении 3 помогают понять, почему не всем детям разрешали играть с клоунам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" descr="C:\Users\Region\Desktop\картинки с шаттерстока\shutterstock_54108196.jpg"/>
          <p:cNvPicPr/>
          <p:nvPr/>
        </p:nvPicPr>
        <p:blipFill>
          <a:blip r:embed="rId1"/>
          <a:stretch/>
        </p:blipFill>
        <p:spPr>
          <a:xfrm>
            <a:off x="6095880" y="5013360"/>
            <a:ext cx="25797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9" dur="indefinite" restart="never" nodeType="tmRoot">
          <p:childTnLst>
            <p:seq>
              <p:cTn id="2740" dur="indefinite" nodeType="mainSeq">
                <p:childTnLst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5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9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fill="hold">
                      <p:stCondLst>
                        <p:cond delay="indefinite"/>
                      </p:stCondLst>
                      <p:childTnLst>
                        <p:par>
                          <p:cTn id="2763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6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7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8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3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4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0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1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Автор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идёт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 мысли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 слова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читатель – от слов к мысли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. Шамф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юша представляет, как больницу разрезают надвое, и с ней раскалывается весь мир. При этом жираф словно тоже становится на сторону света. Он тоже живой, он тоже входит в местоимение «их» и держит оборону против тьмы: «по капельке» несет жизнь в «слабенький организм» Гришки. Именно эта метафора помогает представить жирафа верным  другом мальчика, спасающим его от смер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втор текста всего двумя эпитетами «худенький и бледный» рисует внешность Гришки, и читатель понимает, что мальчик боле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Автор очень тонко раскрывает проблему сопереживания, умения взять на себя боль другого человек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доровая Нюша, обнявшая Гришку в темном коридоре, представляет их обоих  «спасающимися от длинного коридора темноты в сужающемся солнечном луче». Эта метафора помогает понять, что Нюша не просто сочувствует мальчику – она ощущает  его страх и желание спрятаться от приближающейся темноты, ставшей и для нее тоже «страшн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втор дала очень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ёмку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стику Нюше, сказав, что она  «волонтёр». Это иноязычное слово заставляет испытывать к девушке ещё большую симпатию: значит, Нюша бескорыстно и добровольно помогает больным детя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shutterstock_124923329"/>
          <p:cNvPicPr/>
          <p:nvPr/>
        </p:nvPicPr>
        <p:blipFill>
          <a:blip r:embed="rId1"/>
          <a:stretch/>
        </p:blipFill>
        <p:spPr>
          <a:xfrm>
            <a:off x="5867280" y="4941720"/>
            <a:ext cx="30481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3" dur="indefinite" restart="never" nodeType="tmRoot">
          <p:childTnLst>
            <p:seq>
              <p:cTn id="2784" dur="indefinite" nodeType="mainSeq">
                <p:childTnLst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9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0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fill="hold">
                      <p:stCondLst>
                        <p:cond delay="indefinite"/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6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3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4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0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1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7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8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4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5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Читатель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роника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в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ир образ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удожественного произведения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через его речевую ткан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. М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Кожи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юша – очень хороший человек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на действительно спасает Гришку от одиночества и страшных мыслей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контекстные антонимы «отчаянный енот» - «самый хищный зверь» подчёркивают её самоотверженность в борьбе за жизнь мальч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Гришка ещё ребёнок,  поэтому  даже из капельницы сделал игрушку, и придаточное цели в предложении 8 поясняет, зачем он повязал на неё свой шарф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В рассказе нет чуда исцеления, но есть радость от возвращения в жизнь надежды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дость от найденного ответа на мучивший вопрос,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укопись в предложении 54 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х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ть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х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ть») помогает услышать безудержное «ха-ха-ха»,  и мы тоже радуемся тому, что Гришка наконец-то засмеялся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Желая заставить Гришку поверить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целительную силу радости и любви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то, что он будет жить, Нюша использует в речи метафору: человек не исчезает насовсем, «пока он смеётся в чьём-то сердц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shutterstock_92767564"/>
          <p:cNvPicPr/>
          <p:nvPr/>
        </p:nvPicPr>
        <p:blipFill>
          <a:blip r:embed="rId1"/>
          <a:stretch/>
        </p:blipFill>
        <p:spPr>
          <a:xfrm>
            <a:off x="5292720" y="5429160"/>
            <a:ext cx="1835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7" dur="indefinite" restart="never" nodeType="tmRoot">
          <p:childTnLst>
            <p:seq>
              <p:cTn id="2828" dur="indefinite" nodeType="mainSeq">
                <p:childTnLst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3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0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7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4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5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1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2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43160" y="0"/>
            <a:ext cx="5786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 особенности употреблени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ексических средст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их роль в раскрытии темы текста (наличие синонимов, антонимов, фразеологизмов, слов в переносном значении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, как выбор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ческих средст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зан с темой и мыслью текста (какие предложения преобладают: по характеру грамматической основы, по цели высказывания и т. д.; порядок слов в предложениях; экспрессивность односоставных предложений; роль однородных членов и п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метить выразительнос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морфологических средст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особенности употребления различных частей реч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ать роль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удожественных средств выразитель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эпитетов, метафор, сравнений, олицетворений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Region\Desktop\картинки с шаттерстока\shutterstock_113243617.jpg"/>
          <p:cNvPicPr/>
          <p:nvPr/>
        </p:nvPicPr>
        <p:blipFill>
          <a:blip r:embed="rId1"/>
          <a:stretch/>
        </p:blipFill>
        <p:spPr>
          <a:xfrm>
            <a:off x="0" y="0"/>
            <a:ext cx="307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Художественный текст заставляет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братить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нимание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 только и не столько на то,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казано, но и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на то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ак сказано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. В. Джанджа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втор ни разу в тексте не упомянул слово «смерть», но оно точно передано в метафоре «самый хищный звер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юше очень важно убедить Гришку в том, что он никогда не исчезнет насовсем, и это можно увидеть в однородных обстоятельствах: девушка начала говорить «твёрдо и громк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о, какие сильные эмоции испытал Гришка, увидев Нюшу, похожую на енота, передаёт градация «засмеялся» - «зашелся хохот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льные детишки, конечно, чувствовали, что Нюша очень хочет их порадовать, и поэтому их ответная любовь передана фразеологизмом «привязались всей душ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Нюша, нечаянно рассмешив Гришку, даже не подозревала, что это, может быть, станет началом его выздоровления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на в этот момент «походила на отчаянного енота, только что выигравшего схватку с самым хищным зверем», и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анное сравнение позволяет сделать такое предположен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6" dur="indefinite" restart="never" nodeType="tmRoot">
          <p:childTnLst>
            <p:seq>
              <p:cTn id="2877" dur="indefinite" nodeType="mainSeq">
                <p:childTnLst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2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9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0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6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7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8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4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5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1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8" dur="1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1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4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5" dur="10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10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4373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Языком человек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 только выражает что-либо, он им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ыражае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акже и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самого себ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орг фон Габелен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зволнованность Нюши, её искреннее желание убедить Гришку в том, что «никто не исчезает насовсем» и в то же время невозможность найти нужные слова переданы лексическим повтором слова «пока» в предложении 36 и многоточиями после этого сло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адость автора от того, что в  больницу не поступают новые тяжело больные дети, можно увидеть в использовании вводного слова в предложении 4 («В ноябре больных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 счастью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было»)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тношение автора к Гришке как к хрупкому существу передано выбором словосочетаний с подчинительной связью примыкание: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гонь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тянув»,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торожн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няла»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означая признак действий, наречия детально их характеризую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таршая медсестра, несомненно, добрый человек, она любит Гришку, переживает за него, поэтому её радость от того, что мальчик наконец-то захохотал, передано и фразеологизмом «залилась смехом», и эпитетом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смехом)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7" dur="indefinite" restart="never" nodeType="tmRoot">
          <p:childTnLst>
            <p:seq>
              <p:cTn id="2928" dur="indefinite" nodeType="mainSeq">
                <p:childTnLst>
                  <p:par>
                    <p:cTn id="2929" fill="hold">
                      <p:stCondLst>
                        <p:cond delay="indefinite"/>
                      </p:stCondLst>
                      <p:childTnLst>
                        <p:par>
                          <p:cTn id="2930" fill="hold">
                            <p:stCondLst>
                              <p:cond delay="0"/>
                            </p:stCondLst>
                            <p:childTnLst>
                              <p:par>
                                <p:cTn id="29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fill="hold">
                      <p:stCondLst>
                        <p:cond delay="indefinite"/>
                      </p:stCondLst>
                      <p:childTnLst>
                        <p:par>
                          <p:cTn id="2937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0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7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1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2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8" dur="10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9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5052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Мысль формирует себя без утайки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о всей полноте; поэтому-то она легко находит и ясное для себя выражение. И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синтаксис, и грамматика,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и знаки препинания охотно ей повинуютс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Салтыков-Щедрин </a:t>
            </a:r>
            <a:br>
              <a:rPr sz="20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ежелание Нюши показать мальчику свои слёзы, испугать его можно увидеть в однородных сказуемых, отражающих последовательность действий: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рнулась…, вытер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лёз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и посмотре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идаточное причины в сложноподчинённом предложении 7 помогает читателю понять, почему Гришка не мог играть в подвижные игр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втор, рассказывая о работе Нюши, использует глаголы несовершенного вида прошедшего времени, которые подчёркивают постоянство, неизменность её действий 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езжала…, развлекала…, играла…, разучива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тихи»), и нам становится понятно, что для девушки занятия с больными детьми стали частью её жизн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оражённый Гришка выражает свое радостное изумление при виде изменившегося лица Нюшки с помощью междометия: «Ойёёй!», а многоточие в предложении 42 передаёт заминку мальчика, не сразу сообразившего, на кого же стала похожа Нюш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осклицательные предложения в монологе Нюши (предложения 33-36) помогают почувствовать, как потрясена девушка разговором с Гришкой и как хочется ей отвлечь мальчика от страшных мысл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1" dur="indefinite" restart="never" nodeType="tmRoot">
          <p:childTnLst>
            <p:seq>
              <p:cTn id="2972" dur="indefinite" nodeType="mainSeq">
                <p:childTnLst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7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9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6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1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8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9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5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fill="hold">
                      <p:stCondLst>
                        <p:cond delay="indefinite"/>
                      </p:stCondLst>
                      <p:childTnLst>
                        <p:par>
                          <p:cTn id="3009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3" dur="1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4" dur="1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6" dur="100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1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76360" y="188640"/>
            <a:ext cx="5484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«Мысль формирует себя без утайки, во всей полноте; поэтому-то она легко находит и ясное для себя выражение. 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синтаксис, и грамматика, и знаки препина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охотно ей повинуются»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М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Е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Салтыков-Щед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….Это легко можно доказ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ившись к тексту. Нюше хочется развеселить ребят,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тет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смеш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стихи)» отражает её жела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юша -  добрая девушка, ей очень жалко Гришку,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разеологиз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мок в горле» помогает читателю понять, что она с трудом сдерживает слёзы…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... Гришку измучила болезнь,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рфем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уменьшительно-ласкательный суффикс –еньк-) в слове «слабенький» не только помогает представить состояние мальчика, но и показывает сочувственное отношение автора к нему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shutterstock_109971878"/>
          <p:cNvPicPr/>
          <p:nvPr/>
        </p:nvPicPr>
        <p:blipFill>
          <a:blip r:embed="rId1"/>
          <a:stretch/>
        </p:blipFill>
        <p:spPr>
          <a:xfrm>
            <a:off x="0" y="2060640"/>
            <a:ext cx="3203640" cy="4797360"/>
          </a:xfrm>
          <a:prstGeom prst="rect">
            <a:avLst/>
          </a:prstGeom>
          <a:ln w="0">
            <a:noFill/>
          </a:ln>
        </p:spPr>
      </p:pic>
      <p:sp>
        <p:nvSpPr>
          <p:cNvPr id="254" name="WordArt 8"/>
          <p:cNvSpPr txBox="1"/>
          <p:nvPr/>
        </p:nvSpPr>
        <p:spPr>
          <a:xfrm>
            <a:off x="324000" y="260280"/>
            <a:ext cx="196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шибки!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4373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о мнению писателя В.Г.Короленко, «русский язык обладает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семи средствам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выражения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амых тонких ощущен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ттенков мысл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тельно, богатство и уникальность нашего языка заключаются не только в том, что он содержит огромное количество слов, но, главным образом, в том, что его речевые возможности помогают выразить всё, о чём мы думаем и что испытыв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имер, медсестра, желая рассказать Нюше, что Гришка умен не по годам, характеризует его с помощью фразеологизма «семь пядей во лб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вот в предложении 3 автор использует слово «детишки» с уменьшительно-ласкательным суффиксом, и мы сразу понимаем, что он относится к ним с сочувствием и добр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м образом, выразительные возможности нашего языка помогают точно передавать свои мысли и чув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shutterstock_93007861"/>
          <p:cNvPicPr/>
          <p:nvPr/>
        </p:nvPicPr>
        <p:blipFill>
          <a:blip r:embed="rId1"/>
          <a:stretch/>
        </p:blipFill>
        <p:spPr>
          <a:xfrm>
            <a:off x="250920" y="5157720"/>
            <a:ext cx="2195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9" dur="indefinite" restart="never" nodeType="tmRoot">
          <p:childTnLst>
            <p:seq>
              <p:cTn id="3030" dur="indefinite" nodeType="mainSeq">
                <p:childTnLst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5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6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2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3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0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2" fill="hold">
                      <p:stCondLst>
                        <p:cond delay="indefinite"/>
                      </p:stCondLst>
                      <p:childTnLst>
                        <p:par>
                          <p:cTn id="3053" fill="hold">
                            <p:stCondLst>
                              <p:cond delay="0"/>
                            </p:stCondLst>
                            <p:childTnLst>
                              <p:par>
                                <p:cTn id="30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6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7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3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4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удожник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мыслит образам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он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рисует, показывает,  изображает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 этом и заключаетс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пецифика языка художественной литератур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,- утверждает лингвист Г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га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действительно так. Писатель воспринимает мир особо, он по-другому, глубже, чувствует его и с помощью слова создаёт такие образы, которые помогают читателю увидеть то, что  скрыто между стр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, в тексте О. Павловой интересен образ капельницы - «жирафа» и ее постепенное «оживление». В предложении 45 «жираф» «трясся…, тонко звеня, словно вторя задорному смеху мальчика», а в предложении 50 он уже «трясся от смеха» вместе с Гришей. Сравнительный оборот и олицетворение показывают победу радости и жизни над «страшной тьм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маю, что и талант писателя определяется тем, насколько точно и убедительно он может воплотить в словесных образах мир, окружающий на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shutterstock_89597992"/>
          <p:cNvPicPr/>
          <p:nvPr/>
        </p:nvPicPr>
        <p:blipFill>
          <a:blip r:embed="rId1"/>
          <a:stretch/>
        </p:blipFill>
        <p:spPr>
          <a:xfrm>
            <a:off x="2771640" y="5145120"/>
            <a:ext cx="30481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6" dur="indefinite" restart="never" nodeType="tmRoot">
          <p:childTnLst>
            <p:seq>
              <p:cTn id="3067" dur="indefinite" nodeType="mainSeq">
                <p:childTnLst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3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4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9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0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fill="hold">
                      <p:stCondLst>
                        <p:cond delay="indefinite"/>
                      </p:stCondLst>
                      <p:childTnLst>
                        <p:par>
                          <p:cTn id="3083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6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7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8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3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4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«Литературной энциклопедии» утверждается, что, «заставляя героев говорить друг с другом, вместо того чтобы передать их разговор от себя, автор может внести соответствующие оттенки в такой диалог.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Тематикой и манерой речи он характеризует своих героев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ствительно, высказывая свои мысли или отношение к  событиям, людям, понятиям, человек открывается сам, и мы можем понять, каков 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имер, недетская серьёзность Гришки, его пытливый ум раскрываются в  коротком диалоге с Нюш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сль об исчезновении «насовсем» волнует мальчика. Это передает лексический повтор: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ня не буд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детьми» , «и в палат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н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ж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не буд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, «и у окн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 будет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«и в другой игровой комнат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 буд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.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Гришка словно не раз думал о своём исчезновении «насовсем», и уже представил, как его действительно нет нигде в тех местах больницы, где он мог бы находиться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о ребёнок не знает, какие эмоции  должны быть при мысль о смерти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этому спрашивает Нюшу: «Тебе не страшно?», «Ты не боишься?»  Эти вопросительные предложен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с отрицательной частицей «не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ют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крытую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дежду мальчика на то, что в исчезновении насовсем нет ничего пугающе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енно диалог помог понять, почему медсест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азала о Гришке, что он «семи пядей во лбу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" descr="C:\Users\Region\Desktop\картинки с шаттерстока\shutterstock_117311479.jpg"/>
          <p:cNvPicPr/>
          <p:nvPr/>
        </p:nvPicPr>
        <p:blipFill>
          <a:blip r:embed="rId1"/>
          <a:stretch/>
        </p:blipFill>
        <p:spPr>
          <a:xfrm>
            <a:off x="6012000" y="4869000"/>
            <a:ext cx="3132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6" dur="indefinite" restart="never" nodeType="tmRoot">
          <p:childTnLst>
            <p:seq>
              <p:cTn id="3097" dur="indefinite" nodeType="mainSeq">
                <p:childTnLst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2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5" fill="hold">
                      <p:stCondLst>
                        <p:cond delay="indefinite"/>
                      </p:stCondLst>
                      <p:childTnLst>
                        <p:par>
                          <p:cTn id="3106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9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0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6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7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3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4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0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2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fill="hold">
                      <p:stCondLst>
                        <p:cond delay="indefinite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7" dur="1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8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4" dur="1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5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того чтобы речь была правильной, четкой, ясной и понятной, необходимо тщательно подбирать словесный материал для выражения своих мыс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ллюстрируем данное предположение примерами из тек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имер, автор говорит о том, что Гришка вынужден был «таскать» за собой капельницу. Этот глагол несовершенного вида обозначает действие,  повторяющее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 дня в день. Ведь именно из капельницы «струится….жизнь» в слабенький организм мальчика, и эта метафора как бы дополнительно поясняет, почему Гришка неразлучен с «жираф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овательно, прав был писател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.А.Федин, утверждавший, что «…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точность слова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олько требованием стиля, требованием вкуса, но, прежде всего,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требованием смысл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" descr="C:\Users\Region\Desktop\картинки с шаттерстока\shutterstock_124284274.jpg"/>
          <p:cNvPicPr/>
          <p:nvPr/>
        </p:nvPicPr>
        <p:blipFill>
          <a:blip r:embed="rId1"/>
          <a:stretch/>
        </p:blipFill>
        <p:spPr>
          <a:xfrm>
            <a:off x="0" y="4757760"/>
            <a:ext cx="2316240" cy="2100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hutterstock_126836015"/>
          <p:cNvPicPr/>
          <p:nvPr/>
        </p:nvPicPr>
        <p:blipFill>
          <a:blip r:embed="rId2"/>
          <a:stretch/>
        </p:blipFill>
        <p:spPr>
          <a:xfrm>
            <a:off x="5796000" y="4797360"/>
            <a:ext cx="3048120" cy="188460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5"/>
          <p:cNvSpPr/>
          <p:nvPr/>
        </p:nvSpPr>
        <p:spPr>
          <a:xfrm>
            <a:off x="2700360" y="5589720"/>
            <a:ext cx="2519280" cy="144360"/>
          </a:xfrm>
          <a:prstGeom prst="rightArrow">
            <a:avLst>
              <a:gd name="adj1" fmla="val 50000"/>
              <a:gd name="adj2" fmla="val 436284"/>
            </a:avLst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6300720" y="4941720"/>
            <a:ext cx="1079640" cy="432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!!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42920" y="142560"/>
            <a:ext cx="87868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ый лингвист Н.С.Валгина утверждает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«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функции абзац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сно связаны с функционально-стилевой принадлежностью текста, вместе с тем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тражают 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ндивидуально-авторскую  особенность оформления текст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тельно, абзац выступает как средство, позволяющее правильно понять информацию в любом тексте, однако, используя абзацный отступ, автор в художественном произведении может по- своему выразить значимость какой-либо мысли в развитии микро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, Павловой О. хотелось  подчеркнуть, насколько серьёзно больны дети, и поэтому она вынесла эту мысль - всего одно  предложение 3 - во второй абза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едпоследний  абзац – вновь одно предложение («А Гришка хохотал  от души и не мог ни о чем думать») - передает важность этого события для всех, в том числе и для мальчика, и писательница абзацным отступом подчеркнула э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м образом, каждый абзац развивает и поддерживает  часть главной идеи и помогает увидеть ав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shutterstock_129414266"/>
          <p:cNvPicPr/>
          <p:nvPr/>
        </p:nvPicPr>
        <p:blipFill>
          <a:blip r:embed="rId1"/>
          <a:stretch/>
        </p:blipFill>
        <p:spPr>
          <a:xfrm>
            <a:off x="5580000" y="5084640"/>
            <a:ext cx="30481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7" dur="indefinite" restart="never" nodeType="tmRoot">
          <p:childTnLst>
            <p:seq>
              <p:cTn id="3148" dur="indefinite" nodeType="mainSeq">
                <p:childTnLst>
                  <p:par>
                    <p:cTn id="3149" fill="hold">
                      <p:stCondLst>
                        <p:cond delay="indefinite"/>
                      </p:stCondLst>
                      <p:childTnLst>
                        <p:par>
                          <p:cTn id="3150" fill="hold">
                            <p:stCondLst>
                              <p:cond delay="0"/>
                            </p:stCondLst>
                            <p:childTnLst>
                              <p:par>
                                <p:cTn id="3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0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1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3" fill="hold">
                      <p:stCondLst>
                        <p:cond delay="indefinite"/>
                      </p:stCondLst>
                      <p:childTnLst>
                        <p:par>
                          <p:cTn id="3164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7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8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9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0" fill="hold">
                      <p:stCondLst>
                        <p:cond delay="indefinite"/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4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5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6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1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786120" y="214200"/>
            <a:ext cx="5143680" cy="642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ать изобразительные особенности 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н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е слов текста (слова с оценочными суффиксами; особенности приставок в словах; употребление однокоренных слов и форм слова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метить (если есть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нетические особенно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ллитерация, ассонанс, звукоподража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Region\Desktop\картинки с шаттерстока\shutterstock_113243617.jpg"/>
          <p:cNvPicPr/>
          <p:nvPr/>
        </p:nvPicPr>
        <p:blipFill>
          <a:blip r:embed="rId1"/>
          <a:stretch/>
        </p:blipFill>
        <p:spPr>
          <a:xfrm>
            <a:off x="214200" y="214200"/>
            <a:ext cx="35006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хема 1" descr=""/>
          <p:cNvPicPr/>
          <p:nvPr/>
        </p:nvPicPr>
        <p:blipFill>
          <a:blip r:embed="rId1"/>
          <a:stretch/>
        </p:blipFill>
        <p:spPr>
          <a:xfrm>
            <a:off x="-6480" y="182520"/>
            <a:ext cx="9156960" cy="660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C:\Users\Region\Desktop\шаттерсток\shutterstock_64151398.jpg"/>
          <p:cNvPicPr/>
          <p:nvPr/>
        </p:nvPicPr>
        <p:blipFill>
          <a:blip r:embed="rId2"/>
          <a:stretch/>
        </p:blipFill>
        <p:spPr>
          <a:xfrm>
            <a:off x="3708360" y="2565360"/>
            <a:ext cx="1871640" cy="18003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"/>
          <p:cNvSpPr/>
          <p:nvPr/>
        </p:nvSpPr>
        <p:spPr>
          <a:xfrm>
            <a:off x="4140360" y="34290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Авто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903600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)Аннушка  работала больничным клоуном. (2)Раз в неделю она с другими волонтерами приезжала в больницу и развлекала тяжело больных детей, которые жили там месяцами. (3)Играла с ними, разучивала смешные стихи, и детишки, всей душой привязавшись к ней, с нетерпением ждали свою Нюшу, как она им представила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3)Родители и врачи не всех детей  отпускали играть с клоунами: многим ребятам было запрещено волноваться, испытывать сильные, пусть даже радостные эмоции, потому что болезни могли дать осложн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4)В ноябре больных, к счастью, было  совсем мало. (5)Вот и в этот раз в игровую комнату пришли всего пятеро. (6)Среди них, как всегда,  был Гришка – худенький и бледный мальчик лет десяти на вид. (7)Он не мог играть в подвижные игры, потому что вынужден был всегда таскать за собой железную стойку с капельницей, из которой по капельке струилась в его слабенький организм жизнь. (8)Гришка называл стойку «жирафом» и повязывал на нее свой желтый в клетку шарф, наверное, чтобы «жираф» не простудился.  (9)Мальчишка всегда держался в стороне  и никогда не смеялся.  (10)Старшая медсестра, горестно вздохнув, так и сказала Нюше однажды: «Вон тот играть с вами вряд ли будет, и не старайтесь его развеселить. (11)Семи пядей во лбу мальчишка, и было бы здорово, если бы он тоже радовался, но Гришенька как-то сам по себе.  (12)Будет просто со стороны наблюдат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3)Потому Нюша и удивилась, когда мальчик в перерыве между играми подошел к ней и попросил выйти с ним ненадолго в коридор – «что-то важное узнат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4)Они вышли из игровой, прикрыв за собой дверь, и встали у ок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5)- Нюша, тебе не страшно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6)- А чего мне бояться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7)- Что ты однажды придешь, а меня не будет с детьм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8)- Значит,  я пойду в твою палату искать тебя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9)- И в палате меня тоже не будет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0)- Тогда я пойду искать тебя к большому окну у столовой, где ты любишь стоять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1)-  И у окна не будет. (22)И в другой игровой комнате не будет. (23)Ты не боишься, что однажды ты придешь, а меня насовсем нет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4)- Значит, я буду знать, что тебя выписали…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5)- С жирафом, - Гришка кивнул на стойку с капельницей, – уже не выпишу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6) Гришка смотрел на Нюшу не мигая,  и она, не в силах выдержать взгляда этих ждущих только честного ответа глаз, попятилась  к окну, села на подоконник и, легонько притянув  мальчика к себе, осторожно обняла его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7)- Гриш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8)В пустом прохладном коридоре они были одни, и свет остывающего, слабеющего ноябрьского солнца проникал в коридор лишь на пару метров.  (29)Нюша представила: если бы вдруг здание больницы разрезали надвое, то в самой середине получившегося среза все люди увидели бы их – Нюшу, Гришку и жирафа, спасающихся от длинного коридора темноты в сужающемся солнечном луче. (30)И Нюша вдруг поняла: и солнце вот-вот  уйдет, и она вот-вот уйдет, и все люди уйдут, а Гришка останется. (31)Один на один с подкрадывающейся к его худеньким плечикам  страшной тьмой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(32)И тогда Нюша начала говорить твердо и громко, чтобы ее голос был слышен даже в самом дальнем и самом темном углу коридора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33)- Такой день, когда я приду, а тебя насовсем не будет, никогда не наступит! (34)Потому что ты будешь всегда! (35)Никто и никогда, послушай! (36)Никто и никогда не исчезает насовсем, пока…пока… пока он смеется в чьем-то сердц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37)Предательский комок в горле заставил  Нюшу всхлипнуть неожиданно громко, отчего Гришка вздрогнул и испуганно отпрянул от нее.  (38)Девушка отвернулась, поспешно, по-детски - ладошками – вытерла слезы и посмотрела на нег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39)- Ойёёоой! (40)Какая ты… – мальчик словно не мог подобрать слова. (41)- Какая ты! (42)Как…ено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43)И тут Гришка засмеялся. (44)Зашелся никем раньше в больнице не слыханным первым  звонким хохотом.  (45)Рука, которой он держался за жирафа, тряслась, а с ней трясся  и жираф, тонко звеня, словно вторя задорному смеху мальч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46)Ничего не понимая, Нюша посмотрела на свое отражение в стекле окна. (47)Вытирая слезы, она размазала потекшую тушь одинаковыми полосками от глаз куда-то к ушам и действительно походила на отчаянного енота, только что выигравшего схватку с самым хищным звер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48)Открылась дверь игровой, и в проеме появилась старшая медсестра. (49)Наверное, она хотела что-то спросить, но не успела.  (50)Она увидела смешную Нюшу-енота, увидела рядом с ней трясущихся от смеха Гришку и жирафа, и – «Гришка смеется!» -  сама залилась счастливым смехом.  (51)В коридор высыпали все, кто был в комнате. (52)И смех светлым вихрем пронёсся по всем углам, подхватив и ошарашенную Нюшу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(53)А Гришка хохотал  от души и не мог ни о чем думать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4)Все, что ему хотелось,  - хохотать и хохотать дальше, так же легко, так же заразительно и громко, и ему было радостно, что с ним смеются и другие дети. (55)И ему теперь было совсем не страшно. (56)Потому что он смеялся  в сердце каждого, а они смеялись в его сердце. (57)А это значило, что никто из них  отныне никогда уже не исчезнет насовсем…                                       (По Павловой О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Organization Chart 5"/>
          <p:cNvGrpSpPr/>
          <p:nvPr/>
        </p:nvGrpSpPr>
        <p:grpSpPr>
          <a:xfrm>
            <a:off x="142920" y="214200"/>
            <a:ext cx="8784000" cy="6479640"/>
            <a:chOff x="142920" y="214200"/>
            <a:chExt cx="8784000" cy="6479640"/>
          </a:xfrm>
        </p:grpSpPr>
        <p:cxnSp>
          <p:nvCxnSpPr>
            <p:cNvPr id="103" name="_s1028"/>
            <p:cNvCxnSpPr>
              <a:stCxn id="104" idx="3"/>
              <a:endCxn id="105" idx="2"/>
            </p:cNvCxnSpPr>
            <p:nvPr/>
          </p:nvCxnSpPr>
          <p:spPr>
            <a:xfrm flipV="1">
              <a:off x="5449320" y="1013040"/>
              <a:ext cx="843120" cy="30128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06" name="_s1029"/>
            <p:cNvCxnSpPr>
              <a:stCxn id="107" idx="3"/>
              <a:endCxn id="105" idx="2"/>
            </p:cNvCxnSpPr>
            <p:nvPr/>
          </p:nvCxnSpPr>
          <p:spPr>
            <a:xfrm flipV="1">
              <a:off x="5449320" y="1013760"/>
              <a:ext cx="843120" cy="529956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08" name="_s1030"/>
            <p:cNvCxnSpPr>
              <a:stCxn id="109" idx="3"/>
              <a:endCxn id="105" idx="2"/>
            </p:cNvCxnSpPr>
            <p:nvPr/>
          </p:nvCxnSpPr>
          <p:spPr>
            <a:xfrm flipV="1">
              <a:off x="5449320" y="1013040"/>
              <a:ext cx="843120" cy="415620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10" name="_s1031"/>
            <p:cNvCxnSpPr>
              <a:stCxn id="111" idx="3"/>
              <a:endCxn id="105" idx="2"/>
            </p:cNvCxnSpPr>
            <p:nvPr/>
          </p:nvCxnSpPr>
          <p:spPr>
            <a:xfrm flipV="1">
              <a:off x="5449320" y="1013400"/>
              <a:ext cx="843120" cy="18691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12" name="_s1032"/>
            <p:cNvCxnSpPr>
              <a:stCxn id="113" idx="3"/>
              <a:endCxn id="105" idx="2"/>
            </p:cNvCxnSpPr>
            <p:nvPr/>
          </p:nvCxnSpPr>
          <p:spPr>
            <a:xfrm flipV="1">
              <a:off x="5449320" y="1013400"/>
              <a:ext cx="843120" cy="72576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05" name="_s1033"/>
            <p:cNvSpPr/>
            <p:nvPr/>
          </p:nvSpPr>
          <p:spPr>
            <a:xfrm>
              <a:off x="3656520" y="214200"/>
              <a:ext cx="5270400" cy="762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>
              <a:off x="142920" y="1357560"/>
              <a:ext cx="5270400" cy="76212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300" spc="-1" strike="noStrike">
                  <a:solidFill>
                    <a:srgbClr val="000000"/>
                  </a:solidFill>
                  <a:latin typeface="Arial"/>
                </a:rPr>
                <a:t>Настоящий психолог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5"/>
            <p:cNvSpPr/>
            <p:nvPr/>
          </p:nvSpPr>
          <p:spPr>
            <a:xfrm>
              <a:off x="142920" y="2501280"/>
              <a:ext cx="5270400" cy="76212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еловек, любящий людей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148320" y="4788360"/>
              <a:ext cx="5264640" cy="76212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еловек, пробуждающий добрые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увства и желание творить добро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7"/>
            <p:cNvSpPr/>
            <p:nvPr/>
          </p:nvSpPr>
          <p:spPr>
            <a:xfrm>
              <a:off x="142920" y="5931720"/>
              <a:ext cx="5270400" cy="76212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птимис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>
              <a:off x="142920" y="3644640"/>
              <a:ext cx="5270400" cy="76212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еловек, умеющий, как свою,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увствовать чужую боль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WordArt 34"/>
          <p:cNvSpPr txBox="1"/>
          <p:nvPr/>
        </p:nvSpPr>
        <p:spPr>
          <a:xfrm>
            <a:off x="4286160" y="333360"/>
            <a:ext cx="3886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тор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5" name="Picture 39" descr="shutterstock_75463795"/>
          <p:cNvPicPr/>
          <p:nvPr/>
        </p:nvPicPr>
        <p:blipFill>
          <a:blip r:embed="rId1"/>
          <a:stretch/>
        </p:blipFill>
        <p:spPr>
          <a:xfrm>
            <a:off x="6372360" y="1268280"/>
            <a:ext cx="27716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втора можно уви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Diagram 8"/>
          <p:cNvGrpSpPr/>
          <p:nvPr/>
        </p:nvGrpSpPr>
        <p:grpSpPr>
          <a:xfrm>
            <a:off x="334440" y="754200"/>
            <a:ext cx="8477640" cy="5225760"/>
            <a:chOff x="334440" y="754200"/>
            <a:chExt cx="8477640" cy="5225760"/>
          </a:xfrm>
        </p:grpSpPr>
        <p:sp>
          <p:nvSpPr>
            <p:cNvPr id="118" name="_s2052"/>
            <p:cNvSpPr/>
            <p:nvPr/>
          </p:nvSpPr>
          <p:spPr>
            <a:xfrm flipH="1" flipV="1">
              <a:off x="3057480" y="2302560"/>
              <a:ext cx="897840" cy="664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053"/>
            <p:cNvSpPr/>
            <p:nvPr/>
          </p:nvSpPr>
          <p:spPr>
            <a:xfrm>
              <a:off x="1467720" y="1240200"/>
              <a:ext cx="1936080" cy="1207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dc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пейзаже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и в интерьере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и т.д.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054"/>
            <p:cNvSpPr/>
            <p:nvPr/>
          </p:nvSpPr>
          <p:spPr>
            <a:xfrm flipH="1" flipV="1">
              <a:off x="2251080" y="3173400"/>
              <a:ext cx="1373040" cy="1494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55"/>
            <p:cNvSpPr/>
            <p:nvPr/>
          </p:nvSpPr>
          <p:spPr>
            <a:xfrm>
              <a:off x="334440" y="2468880"/>
              <a:ext cx="1935360" cy="12074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языковом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формлении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текста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56"/>
            <p:cNvSpPr/>
            <p:nvPr/>
          </p:nvSpPr>
          <p:spPr>
            <a:xfrm flipH="1">
              <a:off x="2532600" y="3728880"/>
              <a:ext cx="1205640" cy="4338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57"/>
            <p:cNvSpPr/>
            <p:nvPr/>
          </p:nvSpPr>
          <p:spPr>
            <a:xfrm>
              <a:off x="733680" y="3863880"/>
              <a:ext cx="1935360" cy="12074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отборе и 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смыслении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материала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058"/>
            <p:cNvSpPr/>
            <p:nvPr/>
          </p:nvSpPr>
          <p:spPr>
            <a:xfrm flipH="1">
              <a:off x="3768840" y="3992040"/>
              <a:ext cx="475200" cy="8157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59"/>
            <p:cNvSpPr/>
            <p:nvPr/>
          </p:nvSpPr>
          <p:spPr>
            <a:xfrm>
              <a:off x="2476080" y="4772520"/>
              <a:ext cx="1935360" cy="1207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 прямых 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ценках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60"/>
            <p:cNvSpPr/>
            <p:nvPr/>
          </p:nvSpPr>
          <p:spPr>
            <a:xfrm>
              <a:off x="4902480" y="3992040"/>
              <a:ext cx="479520" cy="8157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61"/>
            <p:cNvSpPr/>
            <p:nvPr/>
          </p:nvSpPr>
          <p:spPr>
            <a:xfrm>
              <a:off x="4746240" y="4770360"/>
              <a:ext cx="1936080" cy="1207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интонации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2"/>
            <p:cNvSpPr/>
            <p:nvPr/>
          </p:nvSpPr>
          <p:spPr>
            <a:xfrm>
              <a:off x="5407920" y="3728880"/>
              <a:ext cx="1205640" cy="4312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63"/>
            <p:cNvSpPr/>
            <p:nvPr/>
          </p:nvSpPr>
          <p:spPr>
            <a:xfrm>
              <a:off x="6484320" y="3859200"/>
              <a:ext cx="1936080" cy="12074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речи 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персонажей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64"/>
            <p:cNvSpPr/>
            <p:nvPr/>
          </p:nvSpPr>
          <p:spPr>
            <a:xfrm flipV="1">
              <a:off x="5522400" y="3170880"/>
              <a:ext cx="1368720" cy="15192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65"/>
            <p:cNvSpPr/>
            <p:nvPr/>
          </p:nvSpPr>
          <p:spPr>
            <a:xfrm>
              <a:off x="6876720" y="2464200"/>
              <a:ext cx="1935360" cy="12074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отношении 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кружающих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к ним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66"/>
            <p:cNvSpPr/>
            <p:nvPr/>
          </p:nvSpPr>
          <p:spPr>
            <a:xfrm flipV="1">
              <a:off x="5191200" y="2302560"/>
              <a:ext cx="893520" cy="664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67"/>
            <p:cNvSpPr/>
            <p:nvPr/>
          </p:nvSpPr>
          <p:spPr>
            <a:xfrm>
              <a:off x="5739120" y="1237680"/>
              <a:ext cx="1936080" cy="12074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описании 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их действий,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поступков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 flipV="1">
              <a:off x="4571280" y="1958760"/>
              <a:ext cx="0" cy="8679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69"/>
            <p:cNvSpPr/>
            <p:nvPr/>
          </p:nvSpPr>
          <p:spPr>
            <a:xfrm>
              <a:off x="3605040" y="754200"/>
              <a:ext cx="1936080" cy="120708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8dc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описании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нешности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героев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70"/>
            <p:cNvSpPr/>
            <p:nvPr/>
          </p:nvSpPr>
          <p:spPr>
            <a:xfrm>
              <a:off x="3605040" y="2827440"/>
              <a:ext cx="1936080" cy="12074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32" descr="shutterstock_45670960"/>
          <p:cNvPicPr/>
          <p:nvPr/>
        </p:nvPicPr>
        <p:blipFill>
          <a:blip r:embed="rId11"/>
          <a:stretch/>
        </p:blipFill>
        <p:spPr>
          <a:xfrm>
            <a:off x="3348000" y="2438280"/>
            <a:ext cx="25192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40:38Z</dcterms:created>
  <dc:creator>zampoto</dc:creator>
  <dc:description/>
  <dc:language>en-US</dc:language>
  <cp:lastModifiedBy>Татьяна</cp:lastModifiedBy>
  <dcterms:modified xsi:type="dcterms:W3CDTF">2014-06-04T20:32:36Z</dcterms:modified>
  <cp:revision>38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