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11.png" ContentType="image/png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37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43.wmf" ContentType="image/x-wmf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3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CB78-5D78-4633-826E-D49BE9B3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05F5-11A5-4FCD-84CF-2920C8AB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C893-EC64-444B-BA90-D9468532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8C46-2E6E-471F-8DD7-614FC131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77AC-B537-4B63-AAD6-1C360E69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AE68-A3CB-4806-9E23-6A69B8B6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F799-ABD7-48A0-AC1F-BBA7DEF8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D371-05DE-49C3-92BD-F782253C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776C-943E-45DE-850B-D74D65FF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AE63-BB6D-44C6-BBA2-3EE103D7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0060-E4FA-42AD-AABF-DB86AD8F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F49B-7E8A-4350-AEF7-293AAF94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5394-1527-4055-A971-1305D4E4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92EB-5665-41C7-A3AB-53394334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AC98-17D2-4F17-A232-C187FBED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40AF-CA06-4EE6-8D1D-D4F452FD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EFBD-ECBE-4C52-96DA-F783043F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9E3C-7018-451F-B012-BA3B4212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A18C-0640-4624-B31D-0BC36584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7867-558E-4B28-AD65-F0A37E54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5758-F9B7-4BD8-AC23-697F1FE0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4B52-9385-41F0-A462-D6A183B4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2F1B-C606-42A8-B46E-1F8BF6A9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E5AE-E275-4C1C-896A-2693C503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5E71-D27C-4D6B-9F41-E5AEA04475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6BE2-D0B4-4535-B5B6-A8105E41F7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5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7.png"/><Relationship Id="rId4" Type="http://schemas.openxmlformats.org/officeDocument/2006/relationships/image" Target="../media/image21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2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следовательное  и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араллельное соединение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оводник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76720" y="2205000"/>
            <a:ext cx="237492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084720" y="2205000"/>
            <a:ext cx="2362320" cy="3600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95280" y="2205000"/>
            <a:ext cx="2362320" cy="3600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979640" y="602136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у выполнила: Бердникова Людмила Юрьевна, учитель физики Ф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В(С)ОШ№2, г. Кировгр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284720" y="836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противление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55640" y="836640"/>
            <a:ext cx="3046320" cy="4464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500720" y="1844640"/>
            <a:ext cx="2808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дельное сопротивлени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некоторых вещест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626920" y="2491920"/>
            <a:ext cx="779796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дь          – 0,0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люминий – 0,02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льфрам – 0,05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хром      -- 1,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56920" y="524844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делайте выв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790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акон Ома для участка цепи (1826 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2361960" cy="3267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140360" y="1700280"/>
            <a:ext cx="23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= U/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211640" y="2708280"/>
            <a:ext cx="2808360" cy="2197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490120" y="5318280"/>
            <a:ext cx="426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делайте вывод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ешить задач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противление человека примерно 1000 Ом. Убьет ли человека ток, прошедший через его тело при напряжении 24 вольт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сортируйте формулы для последовательного и параллельного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I = U/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44000" y="2487600"/>
            <a:ext cx="18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= R1/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77080" y="1773360"/>
            <a:ext cx="1762200" cy="901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187280" y="3284640"/>
            <a:ext cx="1705320" cy="1009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851280" y="1700280"/>
            <a:ext cx="1440000" cy="7635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995640" y="51577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=nR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6948360" y="2924280"/>
            <a:ext cx="1440000" cy="853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1116000" y="5084640"/>
            <a:ext cx="1944720" cy="1224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3924360" y="3789360"/>
            <a:ext cx="1728720" cy="934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6948360" y="4221000"/>
            <a:ext cx="1440000" cy="8175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116000" y="4437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=A/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08360" y="2781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= q/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8"/>
          <a:stretch/>
        </p:blipFill>
        <p:spPr>
          <a:xfrm>
            <a:off x="6948360" y="5300640"/>
            <a:ext cx="1440000" cy="892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41080" y="25844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1080" y="350028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9640" y="4508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558972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33440" y="17208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86000" y="28209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48000" y="39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21080" y="5300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2160" y="19890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13440" y="306864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84720" y="4508640"/>
            <a:ext cx="7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86520" y="5465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6000" y="1700280"/>
            <a:ext cx="144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следовательное соедин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68360" y="14126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4176720" cy="4608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6372360" y="1916280"/>
            <a:ext cx="1833480" cy="936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6443640" y="3357720"/>
            <a:ext cx="1728720" cy="934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6516720" y="4724280"/>
            <a:ext cx="1704960" cy="1009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588000" y="6093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=n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Елочная гирлян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648320" y="1700280"/>
            <a:ext cx="4038480" cy="4392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араллельное соедин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619520" cy="4530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084720" y="2708280"/>
            <a:ext cx="1440000" cy="8175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084720" y="1557360"/>
            <a:ext cx="1440000" cy="7635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6084720" y="3933720"/>
            <a:ext cx="1440000" cy="892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6084720" y="5157720"/>
            <a:ext cx="1440000" cy="8542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158520" y="616428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= R1/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араллельное соедин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55640" y="1600200"/>
            <a:ext cx="7704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7752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569080" cy="5759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700360" y="184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Групповая рабо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11280" y="1600200"/>
            <a:ext cx="7993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иды соедине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29600" cy="4530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924360" y="5877000"/>
            <a:ext cx="1407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80000" y="582444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мешанное соединение проводник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9640" y="1638360"/>
            <a:ext cx="768996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032360" cy="33130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500720" y="1052640"/>
            <a:ext cx="4410000" cy="3240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2050920" y="4508640"/>
            <a:ext cx="4753080" cy="1536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268360" y="260280"/>
            <a:ext cx="58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зберись с соединениям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ест. Соединение проводник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берите законы для последовательного соединения провод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 = U1 + U2 +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= I1 + I2 +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 = U1 = U2 =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= I1 = I2 =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Выберите законы для параллельного соединения провод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 = U1 + U2 +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= I1 = I2 =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= I1 + I2 +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 = U1 = U2 =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95280" y="907920"/>
            <a:ext cx="8353440" cy="43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При последовательном соединении проводников верно,   что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R = 1/R1 + 1/R2 +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 = R1 + R2 +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х общее сопротивление больше большего из сопротивл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х общее сопротивление меньше меньшего из сопротивл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При параллельном соединении проводников верно, что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х общее сопротивление меньше меньшего из сопротивл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 = R1 + R2 +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х общее сопротивление больше большего из сопротивл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R = 1/R1 + 1/R2 +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84360" y="907920"/>
            <a:ext cx="7848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Лампочку и резистор подключили к одинаковым источникам тока. В лампочке сила тока больше, чем в резисторе. Знач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противление лампочки больше, чем сопротивление резисто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льзя узнать, сопротивление чего больше: лампочки или резисто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противление резистора больше, чем сопротивление лампоч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ампочка и резистор имеют равные сопротив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В лампочке и резисторе сила тока одинакова. Но напряжение на лампочке больше, чем на резисторе. Знач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противление резистора больше, чем сопротивление лампоч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льзя узнать, сопротивление чего больше: лампочки или резисто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ампочка и резистор имеют равные сопротив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противление лампочки больше, чем сопротивление резисто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6985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848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11280" y="189000"/>
            <a:ext cx="8188200" cy="79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Цель урок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 формирование знаний, умений и навыков у учащихся по теме: «Последовательное и параллельное соединение  проводников»  путем составления электрических цепей и решения зада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Задач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бразовательны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повторить и закрепить основные понятия, формулы, закон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углубить и расширить знания о данных видах соединения проводников;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научить определять силу тока, напряжение, сопротивление при последовательном и параллельном   соединении проводник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научить учащихся разбираться и составлять электрические цеп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научить решать задачи на смешанное соедин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азвивающие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развивать навыки решения задач на данную тему, самостоятельности и творческого мышления, умение слушать, анализировать, умение делать выводы, проводить взаимооценку деятельности, развивать память, творческие способ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оспитатель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 способствовать формированию научного мир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зрения, способствовать пробуждению познавательного интерес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предмету, развивать способности к сотрудничеству, общению, работе в коллектив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для 2-го этапа (первая половина)"/>
          <p:cNvPicPr/>
          <p:nvPr/>
        </p:nvPicPr>
        <p:blipFill>
          <a:blip r:embed="rId1"/>
          <a:stretch/>
        </p:blipFill>
        <p:spPr>
          <a:xfrm>
            <a:off x="-612720" y="260280"/>
            <a:ext cx="4651200" cy="54738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для 2-го этапа (первая половина)"/>
          <p:cNvPicPr/>
          <p:nvPr/>
        </p:nvPicPr>
        <p:blipFill>
          <a:blip r:embed="rId2"/>
          <a:stretch/>
        </p:blipFill>
        <p:spPr>
          <a:xfrm>
            <a:off x="3419640" y="260280"/>
            <a:ext cx="48243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рисуйте схем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дведение итогов. Рефлексия урок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 вы думаете мы достигли цели уро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ие задания были наиболее интересн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ие задания были наиболее трудны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цените собственную деятельность на уроке и поставьте себе самооцен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асибо за урок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спомни физический смысл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еличин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ла тока -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3024000" cy="3798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003640" y="292428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 = q/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2158920" cy="2808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987640" y="692280"/>
            <a:ext cx="5977080" cy="53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мпермет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включении амперметра в электрическую цепь необходимо знать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Амперметр включается в электрическую цепь последовательно с тем элементом цеп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лу тока в котором необходимо измери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При подключении надо соблюдать полярность: "+" амперметра подключается к "+" источника то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"минус" амперметра - к "минусу" источника тока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условное обозначение ампермет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26920" y="4653000"/>
            <a:ext cx="17290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39640" y="507960"/>
            <a:ext cx="7561440" cy="67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наешь ли ты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лектрический ток, протекающий через тело             человека, оказывает следующие воздейств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нее 0,01 А — не ощущается или ощущается очень слаб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,02 А — вызывает болезненные ощущ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,03 А — нарушает дых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,1 А - вызывает фибрилляцию сердца, что нередко приводит к смерти (самый опасный ток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олее 0,2 А — вызывает сильный ожог и останавливает дых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3384720" cy="41036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апряжение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U=A/q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льтмет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11280" y="1600200"/>
            <a:ext cx="3884400" cy="3844800"/>
            <a:chOff x="611280" y="1600200"/>
            <a:chExt cx="3884400" cy="384480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611280" y="1600200"/>
              <a:ext cx="3884400" cy="38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 txBox="1"/>
            <p:nvPr/>
          </p:nvSpPr>
          <p:spPr>
            <a:xfrm>
              <a:off x="611280" y="1600200"/>
              <a:ext cx="3884400" cy="384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измерения напряжения на участке цепи вольтметр подключают параллельно. При этом клемму вольтметра со знаком "+" соединяют с точкой, которая соединена с положительным полюсом источника то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5219640" y="4365720"/>
            <a:ext cx="10810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00000" y="549360"/>
            <a:ext cx="74170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пасное напряж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АСНОЕ НАПРЯЖЕНИЕ — это напряжение, превышающее 34 В амплитудного значения переменного или 100 В постоянного то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71640" y="3659040"/>
            <a:ext cx="78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олния – от 100 МВ и выш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4451400"/>
            <a:ext cx="44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 МВ = 1 000 000 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21:27:08Z</dcterms:created>
  <dc:creator>User</dc:creator>
  <dc:description/>
  <dc:language>en-US</dc:language>
  <cp:lastModifiedBy>User</cp:lastModifiedBy>
  <dcterms:modified xsi:type="dcterms:W3CDTF">2013-04-06T14:08:04Z</dcterms:modified>
  <cp:revision>10</cp:revision>
  <dc:subject/>
  <dc:title>Последовательное  и  параллельное соединение  проводников</dc:title>
</cp:coreProperties>
</file>