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11.png" ContentType="image/png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37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8.wmf" ContentType="image/x-wmf"/>
  <Override PartName="/ppt/media/image40.png" ContentType="image/png"/>
  <Override PartName="/ppt/media/image42.png" ContentType="image/png"/>
  <Override PartName="/ppt/media/image43.wmf" ContentType="image/x-wmf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3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725C-508D-4F8A-8331-C32499634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7AE7-0AFA-4C50-9498-8BBB8E9A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E249-9F70-4A79-8D17-89191B84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3C52-6556-4E87-9809-EF2D4467D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D927-80E6-4F80-B190-2DB35BB03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C481-3369-4CA0-846F-ABF99C09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F479-BF12-4CD9-8040-B733274E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652E-3178-4DF5-80ED-2EAA0DB4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D75D-3D7A-467C-B85C-4AF81751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D880-6652-431B-9E13-570E5663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D698-41D4-4795-9322-52249D4A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96CE-98F2-4EF2-9D3D-BD6DA3BC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E660-E09F-40D0-957B-487B5B4B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AF1C-A4AB-4504-8E1E-CC9C98DF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DBA0-C8C8-40EE-BBE3-FAE0EF9C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F4AF-95EB-47C3-AFFB-213F0E4A8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BA88-8A29-437E-A2DF-112927B66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35F1-FFEE-4C2D-8BFD-D2FF0678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C35B-0184-4408-8610-BE1EBB89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49BC-2DCC-473E-B97B-12A1526B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036E-748F-43DF-BB04-7A6D9AC0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04CA-4E6E-4713-BD91-2B463505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B245-4861-4EA6-A3D9-E0CE4A44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CD94-D5F3-44E7-9DE4-8FF8D76B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56A0-E740-41F4-B2DF-03ED70E0B3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8D2B-C3A0-4311-AFCA-044539E867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5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17.png"/><Relationship Id="rId4" Type="http://schemas.openxmlformats.org/officeDocument/2006/relationships/image" Target="../media/image21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2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оследовательное  и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араллельное соединение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оводник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276720" y="2205000"/>
            <a:ext cx="2374920" cy="3600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084720" y="2205000"/>
            <a:ext cx="2362320" cy="3600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395280" y="2205000"/>
            <a:ext cx="2362320" cy="36003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979640" y="602136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у выполнила: Бердникова Людмила Юрьевна, учитель физики Ф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 В(С)ОШ№2, г. Кировгр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284720" y="836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противление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755640" y="836640"/>
            <a:ext cx="3046320" cy="4464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500720" y="1844640"/>
            <a:ext cx="2808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Удельное сопротивление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некоторых вещест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626920" y="2491920"/>
            <a:ext cx="7797960" cy="39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дь          – 0,0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люминий – 0,02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льфрам – 0,05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ихром      -- 1,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56920" y="524844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делайте выв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277560"/>
            <a:ext cx="790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Закон Ома для участка цепи (1826 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2361960" cy="32673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140360" y="1700280"/>
            <a:ext cx="23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 = U/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211640" y="2708280"/>
            <a:ext cx="2808360" cy="21970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490120" y="5318280"/>
            <a:ext cx="426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делайте вывод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Решить задач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противление человека примерно 1000 Ом. Убьет ли человека ток, прошедший через его тело при напряжении 24 вольт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сортируйте формулы для последовательного и параллельного соеди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 I = U/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44000" y="2487600"/>
            <a:ext cx="187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= R1/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877080" y="1773360"/>
            <a:ext cx="1762200" cy="9014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187280" y="3284640"/>
            <a:ext cx="1705320" cy="1009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3851280" y="1700280"/>
            <a:ext cx="1440000" cy="7635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995640" y="515772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=nR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6948360" y="2924280"/>
            <a:ext cx="1440000" cy="8539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1116000" y="5084640"/>
            <a:ext cx="1944720" cy="1224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3924360" y="3789360"/>
            <a:ext cx="1728720" cy="934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7"/>
          <a:stretch/>
        </p:blipFill>
        <p:spPr>
          <a:xfrm>
            <a:off x="6948360" y="4221000"/>
            <a:ext cx="1440000" cy="8175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116000" y="44370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=A/q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08360" y="278136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= q/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8"/>
          <a:stretch/>
        </p:blipFill>
        <p:spPr>
          <a:xfrm>
            <a:off x="6948360" y="5300640"/>
            <a:ext cx="1440000" cy="8920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41080" y="25844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41080" y="350028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9640" y="4508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8360" y="558972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133440" y="17208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86000" y="28209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348000" y="3933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21080" y="5300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2160" y="198900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13440" y="306864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084720" y="4508640"/>
            <a:ext cx="73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86520" y="54658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6000" y="1700280"/>
            <a:ext cx="144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оследовательное соедин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68360" y="14126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4176720" cy="46083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6372360" y="1916280"/>
            <a:ext cx="1833480" cy="9363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6443640" y="3357720"/>
            <a:ext cx="1728720" cy="9349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6516720" y="4724280"/>
            <a:ext cx="1704960" cy="1009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6588000" y="60930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=n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Елочная гирлян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648320" y="1700280"/>
            <a:ext cx="4038480" cy="4392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араллельное соедин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619520" cy="45306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084720" y="2708280"/>
            <a:ext cx="1440000" cy="8175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084720" y="1557360"/>
            <a:ext cx="1440000" cy="7635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6084720" y="3933720"/>
            <a:ext cx="1440000" cy="892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6084720" y="5157720"/>
            <a:ext cx="1440000" cy="8542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158520" y="616428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= R1/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араллельное соедин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755640" y="1600200"/>
            <a:ext cx="7704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77528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569080" cy="57592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2700360" y="184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Групповая рабо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11280" y="1600200"/>
            <a:ext cx="79930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иды соединен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29600" cy="45309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3924360" y="5877000"/>
            <a:ext cx="1407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780000" y="582444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мешанное соединение проводник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39640" y="1638360"/>
            <a:ext cx="768996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032360" cy="33130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500720" y="1052640"/>
            <a:ext cx="4410000" cy="3240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2050920" y="4508640"/>
            <a:ext cx="4753080" cy="1536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2268360" y="260280"/>
            <a:ext cx="58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азберись с соединениям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ест. Соединение проводник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берите законы для последовательного соединения проводни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 = U1 + U2 +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= I1 + I2 +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 = U1 = U2 =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= I1 = I2 =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Выберите законы для параллельного соединения проводн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 = U1 + U2 +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= I1 = I2 =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= I1 + I2 +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 = U1 = U2 =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95280" y="907920"/>
            <a:ext cx="8353440" cy="43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При последовательном соединении проводников верно,   что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R = 1/R1 + 1/R2 +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 = R1 + R2 +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х общее сопротивление больше большего из сопротивл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х общее сопротивление меньше меньшего из сопротивл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При параллельном соединении проводников верно, что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х общее сопротивление меньше меньшего из сопротивл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 = R1 + R2 +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х общее сопротивление больше большего из сопротивл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/R = 1/R1 + 1/R2 +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84360" y="907920"/>
            <a:ext cx="7848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Лампочку и резистор подключили к одинаковым источникам тока. В лампочке сила тока больше, чем в резисторе. Знач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противление лампочки больше, чем сопротивление резисто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льзя узнать, сопротивление чего больше: лампочки или резисто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противление резистора больше, чем сопротивление лампоч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ампочка и резистор имеют равные сопротивл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В лампочке и резисторе сила тока одинакова. Но напряжение на лампочке больше, чем на резисторе. Знач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противление резистора больше, чем сопротивление лампоч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льзя узнать, сопротивление чего больше: лампочки или резисто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ампочка и резистор имеют равные сопротивл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противление лампочки больше, чем сопротивление резисто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6985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8483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11280" y="189000"/>
            <a:ext cx="8188200" cy="79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Цель урок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: формирование знаний, умений и навыков у учащихся по теме: «Последовательное и параллельное соединение  проводников»  путем составления электрических цепей и решения зада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Задач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бразовательны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повторить и закрепить основные понятия, формулы, закон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углубить и расширить знания о данных видах соединения проводников;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научить определять силу тока, напряжение, сопротивление при последовательном и параллельном   соединении проводник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научить учащихся разбираться и составлять электрические цеп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научить решать задачи на смешанное соедин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Развивающие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развивать навыки решения задач на данную тему, самостоятельности и творческого мышления, умение слушать, анализировать, умение делать выводы, проводить взаимооценку деятельности, развивать память, творческие способ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оспитательны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: способствовать формированию научного мир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ззрения, способствовать пробуждению познавательного интерес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предмету, развивать способности к сотрудничеству, общению, работе в коллектив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для 2-го этапа (первая половина)"/>
          <p:cNvPicPr/>
          <p:nvPr/>
        </p:nvPicPr>
        <p:blipFill>
          <a:blip r:embed="rId1"/>
          <a:stretch/>
        </p:blipFill>
        <p:spPr>
          <a:xfrm>
            <a:off x="-612720" y="260280"/>
            <a:ext cx="4651200" cy="54738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для 2-го этапа (первая половина)"/>
          <p:cNvPicPr/>
          <p:nvPr/>
        </p:nvPicPr>
        <p:blipFill>
          <a:blip r:embed="rId2"/>
          <a:stretch/>
        </p:blipFill>
        <p:spPr>
          <a:xfrm>
            <a:off x="3419640" y="260280"/>
            <a:ext cx="48243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рисуйте схем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одведение итогов. Рефлексия урок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 вы думаете мы достигли цели уро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ие задания были наиболее интересн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ие задания были наиболее трудны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цените собственную деятельность на уроке и поставьте себе самооцен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пасибо за урок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280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спомни физический смысл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еличин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ла тока -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3024000" cy="3798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003640" y="292428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 = q/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2158920" cy="2808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987640" y="692280"/>
            <a:ext cx="5977080" cy="53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Ампермет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 включении амперметра в электрическую цепь необходимо знать 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Амперметр включается в электрическую цепь последовательно с тем элементом цеп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илу тока в котором необходимо измери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При подключении надо соблюдать полярность: "+" амперметра подключается к "+" источника ток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 "минус" амперметра - к "минусу" источника тока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условное обозначение ампермет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826920" y="4653000"/>
            <a:ext cx="17290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39640" y="507960"/>
            <a:ext cx="7561440" cy="67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Знаешь ли ты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Электрический ток, протекающий через тело             человека, оказывает следующие воздействия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нее 0,01 А — не ощущается или ощущается очень слаб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,02 А — вызывает болезненные ощущ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,03 А — нарушает дыха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,1 А - вызывает фибрилляцию сердца, что нередко приводит к смерти (самый опасный ток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олее 0,2 А — вызывает сильный ожог и останавливает дых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3384720" cy="41036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апряжение 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U=A/q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ольтмет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11280" y="1600200"/>
            <a:ext cx="3884400" cy="3844800"/>
            <a:chOff x="611280" y="1600200"/>
            <a:chExt cx="3884400" cy="384480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611280" y="1600200"/>
              <a:ext cx="3884400" cy="38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 txBox="1"/>
            <p:nvPr/>
          </p:nvSpPr>
          <p:spPr>
            <a:xfrm>
              <a:off x="611280" y="1600200"/>
              <a:ext cx="3884400" cy="384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ля измерения напряжения на участке цепи вольтметр подключают параллельно. При этом клемму вольтметра со знаком "+" соединяют с точкой, которая соединена с положительным полюсом источника то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5219640" y="4365720"/>
            <a:ext cx="10810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00000" y="549360"/>
            <a:ext cx="74170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пасное напряж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ПАСНОЕ НАПРЯЖЕНИЕ — это напряжение, превышающее 34 В амплитудного значения переменного или 100 В постоянного то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71640" y="3659040"/>
            <a:ext cx="78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Молния – от 100 МВ и выш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00000" y="4451400"/>
            <a:ext cx="443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 МВ = 1 000 000 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21:27:08Z</dcterms:created>
  <dc:creator>User</dc:creator>
  <dc:description/>
  <dc:language>en-US</dc:language>
  <cp:lastModifiedBy>User</cp:lastModifiedBy>
  <dcterms:modified xsi:type="dcterms:W3CDTF">2013-04-06T14:08:04Z</dcterms:modified>
  <cp:revision>10</cp:revision>
  <dc:subject/>
  <dc:title>Последовательное  и  параллельное соединение  проводников</dc:title>
</cp:coreProperties>
</file>