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3578-A781-40C1-A6D3-48E7A550D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C954-7C02-4F48-8DCF-AA124D0D9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D75A-B777-4B02-9C8C-DC16CBFAA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A9E-17FA-4340-BB9B-5705E3F47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3E55D-78E5-4C41-BBE2-C332DF57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A9D50-B215-4399-8325-A99924AD7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F18B-1774-490B-BA80-11A658055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79F6-1FC6-48C1-BE59-084454C42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5340B-0AD1-4624-A4B0-7B3DDE236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CEF1-5321-4CF4-84FD-990731460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DC844-E306-4398-825B-F4037BAAA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6083-F857-4285-B5E0-BD5D69382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BBBD-1CC5-4C7D-93BE-75873111C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38266-89FC-42E0-B589-09737F73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90FCE-FF32-4605-9297-871B9FF5E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711E-ACF8-46DA-84FC-1F4485D62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9329E-D69F-4332-95FF-B2F77FD3F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F37-FC58-4517-8C26-FB0DC7E0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BB47-85A7-4444-B712-82EF91262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A068-CA3A-427A-9ED7-675930BAD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C401-B22B-461D-83D2-6C3C8D6A7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61F61-F382-441D-BBC3-C365C7CA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4A74-5F5D-4E84-A638-0A9B313F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44C3-5AA3-4A1E-97AF-CC29C244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A05E-5B65-4CCC-9E92-E51461EB2AB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F225E-0173-4558-80E3-359F446303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j0290690"/>
          <p:cNvPicPr/>
          <p:nvPr/>
        </p:nvPicPr>
        <p:blipFill>
          <a:blip r:embed="rId1"/>
          <a:stretch/>
        </p:blipFill>
        <p:spPr>
          <a:xfrm>
            <a:off x="1981080" y="380880"/>
            <a:ext cx="579132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352680" y="556272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is presentation is made by English teacher      Tatiyana Abdrakhma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passk secondary school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609480" y="5334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families in Britain colour eggs and put them into bas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j0172490"/>
          <p:cNvPicPr/>
          <p:nvPr/>
        </p:nvPicPr>
        <p:blipFill>
          <a:blip r:embed="rId1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aster_clipart_basket[1]"/>
          <p:cNvPicPr/>
          <p:nvPr/>
        </p:nvPicPr>
        <p:blipFill>
          <a:blip r:embed="rId2"/>
          <a:stretch/>
        </p:blipFill>
        <p:spPr>
          <a:xfrm>
            <a:off x="2590920" y="685800"/>
            <a:ext cx="4114800" cy="4495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easter_01"/>
          <p:cNvPicPr/>
          <p:nvPr/>
        </p:nvPicPr>
        <p:blipFill>
          <a:blip r:embed="rId1"/>
          <a:stretch/>
        </p:blipFill>
        <p:spPr>
          <a:xfrm>
            <a:off x="304920" y="1066680"/>
            <a:ext cx="8153280" cy="556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1523880" y="609480"/>
            <a:ext cx="47246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HAPP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143" name="Picture 9" descr="j0172490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75744e9d6ea2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9" descr="j0304935"/>
          <p:cNvPicPr/>
          <p:nvPr/>
        </p:nvPicPr>
        <p:blipFill>
          <a:blip r:embed="rId2"/>
          <a:stretch/>
        </p:blipFill>
        <p:spPr>
          <a:xfrm>
            <a:off x="0" y="0"/>
            <a:ext cx="237348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5936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60958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j0305499"/>
          <p:cNvPicPr/>
          <p:nvPr/>
        </p:nvPicPr>
        <p:blipFill>
          <a:blip r:embed="rId3"/>
          <a:stretch/>
        </p:blipFill>
        <p:spPr>
          <a:xfrm rot="21429000">
            <a:off x="6511680" y="3526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41280" y="6172200"/>
            <a:ext cx="87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Easter festival people decorate churches with white lilies and all the families go t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parade"/>
          <p:cNvPicPr/>
          <p:nvPr/>
        </p:nvPicPr>
        <p:blipFill>
          <a:blip r:embed="rId1"/>
          <a:stretch/>
        </p:blipFill>
        <p:spPr>
          <a:xfrm>
            <a:off x="304920" y="838080"/>
            <a:ext cx="5790960" cy="4496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7" name="Picture 7" descr="easter_parade_o_s_t_"/>
          <p:cNvPicPr/>
          <p:nvPr/>
        </p:nvPicPr>
        <p:blipFill>
          <a:blip r:embed="rId2"/>
          <a:stretch/>
        </p:blipFill>
        <p:spPr>
          <a:xfrm>
            <a:off x="0" y="0"/>
            <a:ext cx="198108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Text Box 10"/>
          <p:cNvSpPr/>
          <p:nvPr/>
        </p:nvSpPr>
        <p:spPr>
          <a:xfrm>
            <a:off x="304920" y="62485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9080" y="575136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hurch people walk down the streets in their new Easter hats and suits. This procession of people is called Easter Pa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bunnyhat"/>
          <p:cNvPicPr/>
          <p:nvPr/>
        </p:nvPicPr>
        <p:blipFill>
          <a:blip r:embed="rId3"/>
          <a:stretch/>
        </p:blipFill>
        <p:spPr>
          <a:xfrm>
            <a:off x="6248520" y="1600200"/>
            <a:ext cx="2657520" cy="376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1" name="Picture 13" descr="j0172490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easter_10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3" name="Picture 8" descr="j0410305"/>
          <p:cNvPicPr/>
          <p:nvPr/>
        </p:nvPicPr>
        <p:blipFill>
          <a:blip r:embed="rId2"/>
          <a:stretch/>
        </p:blipFill>
        <p:spPr>
          <a:xfrm>
            <a:off x="838080" y="4114800"/>
            <a:ext cx="1622520" cy="179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436379"/>
          <p:cNvPicPr/>
          <p:nvPr/>
        </p:nvPicPr>
        <p:blipFill>
          <a:blip r:embed="rId3"/>
          <a:stretch/>
        </p:blipFill>
        <p:spPr>
          <a:xfrm>
            <a:off x="53352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517680" y="5979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many Easter symbols in great Brita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s, Easter Bunnies, Chic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4" descr="j0172490"/>
          <p:cNvPicPr/>
          <p:nvPr/>
        </p:nvPicPr>
        <p:blipFill>
          <a:blip r:embed="rId4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910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17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8" name="Picture 5" descr="2043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28954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Text Box 7"/>
          <p:cNvSpPr/>
          <p:nvPr/>
        </p:nvSpPr>
        <p:spPr>
          <a:xfrm>
            <a:off x="3505320" y="2133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Easter traditions is eating hot cross bu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920" y="48006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whit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a hot cross bu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j0172490"/>
          <p:cNvPicPr/>
          <p:nvPr/>
        </p:nvPicPr>
        <p:blipFill>
          <a:blip r:embed="rId3"/>
          <a:stretch/>
        </p:blipFill>
        <p:spPr>
          <a:xfrm>
            <a:off x="76201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otel-chocolat-easter-eggs"/>
          <p:cNvPicPr/>
          <p:nvPr/>
        </p:nvPicPr>
        <p:blipFill>
          <a:blip r:embed="rId1"/>
          <a:stretch/>
        </p:blipFill>
        <p:spPr>
          <a:xfrm>
            <a:off x="228600" y="228600"/>
            <a:ext cx="670572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3" name="Picture 8" descr="photo23"/>
          <p:cNvPicPr/>
          <p:nvPr/>
        </p:nvPicPr>
        <p:blipFill>
          <a:blip r:embed="rId2"/>
          <a:stretch/>
        </p:blipFill>
        <p:spPr>
          <a:xfrm>
            <a:off x="5105520" y="4114800"/>
            <a:ext cx="3886200" cy="251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0" y="4757760"/>
            <a:ext cx="5105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like Easter very much because it is a tasty holi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ster children eat chocolate Easter eggs, chocolate bunnies and a lot of sw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004_6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5029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4572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s hide Easter eggs in the house or in the garden. Little children think that Easter Bunny brings and hides eggs for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j0172490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228600" y="4572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orning little children are busy with hunting eg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j0172490"/>
          <p:cNvPicPr/>
          <p:nvPr/>
        </p:nvPicPr>
        <p:blipFill>
          <a:blip r:embed="rId1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teven_hunting_eggs"/>
          <p:cNvPicPr/>
          <p:nvPr/>
        </p:nvPicPr>
        <p:blipFill>
          <a:blip r:embed="rId2"/>
          <a:stretch/>
        </p:blipFill>
        <p:spPr>
          <a:xfrm>
            <a:off x="5181480" y="2362320"/>
            <a:ext cx="375948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2" name="Picture 10" descr="trenduk-huntingeggs-330x220"/>
          <p:cNvPicPr/>
          <p:nvPr/>
        </p:nvPicPr>
        <p:blipFill>
          <a:blip r:embed="rId3"/>
          <a:stretch/>
        </p:blipFill>
        <p:spPr>
          <a:xfrm>
            <a:off x="228600" y="152280"/>
            <a:ext cx="4724280" cy="3429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a_Easter_eggs_400"/>
          <p:cNvPicPr/>
          <p:nvPr/>
        </p:nvPicPr>
        <p:blipFill>
          <a:blip r:embed="rId1"/>
          <a:stretch/>
        </p:blipFill>
        <p:spPr>
          <a:xfrm>
            <a:off x="4952880" y="3581280"/>
            <a:ext cx="3962520" cy="3048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4" name="Picture 4" descr="Reagan_at_WH_Easter_Egg_Roll_1982"/>
          <p:cNvPicPr/>
          <p:nvPr/>
        </p:nvPicPr>
        <p:blipFill>
          <a:blip r:embed="rId2"/>
          <a:stretch/>
        </p:blipFill>
        <p:spPr>
          <a:xfrm>
            <a:off x="304920" y="304920"/>
            <a:ext cx="5410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5867280" y="213372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ren like to pl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 egg-rol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510552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, Easter eg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l forward not bac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4-10-09T16:33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