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9E141-B6CF-47C6-B84F-68AE887D8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EB9D9-8276-4642-B2B0-8704192E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DEF5-6BB2-4738-9DA2-3D3CF717B6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96627-1A99-4326-9C8B-8F3CFF7148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E3FFA-F9F7-4E58-B7BA-409F04F594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11A70-1121-42D7-ACC3-AB5E4EB9C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1AD40-6306-4AD6-BED0-C56F656968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99A3B-3FB1-482F-8FF7-A8ACA2D82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26244-D43F-479B-8814-5D7ED95224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A37DA-D1BB-436E-B38F-D85016041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D973D-7065-46AB-8541-5AEB06F9C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0079-C64D-4726-B6AB-79CAC3E41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40CF7-0ADD-48AE-8701-1EC64D89C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238F4D-91B6-4B05-9A19-F124580ED3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7317-DF48-4002-8B0A-EF298536D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85B4-2719-4DEB-95D3-A81694536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B6D3E-AB84-46BB-A136-DC99883B7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CEC0C-1B08-485E-BC8F-B4E4313873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3315B-97A6-4DFD-B8EB-0BDD71295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C391-2B57-4572-AD2C-BA020A4B7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716C8-1AD4-4A8C-BF36-AC16D7FA4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1B45E-4F04-4C47-B0D4-EC79D4FC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B1B92-4F23-4D4C-806D-AF71765D2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6A37A-D7EF-45F6-BCF2-04F1C5DCC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918FA-B343-4EE4-9A43-9893652B56B1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1EAD7-6782-4257-9936-DBC1D26F6FE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j0290690"/>
          <p:cNvPicPr/>
          <p:nvPr/>
        </p:nvPicPr>
        <p:blipFill>
          <a:blip r:embed="rId1"/>
          <a:stretch/>
        </p:blipFill>
        <p:spPr>
          <a:xfrm>
            <a:off x="1981080" y="380880"/>
            <a:ext cx="579132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352680" y="5562720"/>
            <a:ext cx="5486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is presentation is made by English teacher      Tatiyana Abdrakhma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passk secondary school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7"/>
          <p:cNvSpPr/>
          <p:nvPr/>
        </p:nvSpPr>
        <p:spPr>
          <a:xfrm>
            <a:off x="609480" y="5334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e families in Britain colour eggs and put them into bas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j0172490"/>
          <p:cNvPicPr/>
          <p:nvPr/>
        </p:nvPicPr>
        <p:blipFill>
          <a:blip r:embed="rId1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easter_clipart_basket[1]"/>
          <p:cNvPicPr/>
          <p:nvPr/>
        </p:nvPicPr>
        <p:blipFill>
          <a:blip r:embed="rId2"/>
          <a:stretch/>
        </p:blipFill>
        <p:spPr>
          <a:xfrm>
            <a:off x="2590920" y="685800"/>
            <a:ext cx="4114800" cy="4495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easter_01"/>
          <p:cNvPicPr/>
          <p:nvPr/>
        </p:nvPicPr>
        <p:blipFill>
          <a:blip r:embed="rId1"/>
          <a:stretch/>
        </p:blipFill>
        <p:spPr>
          <a:xfrm>
            <a:off x="304920" y="1066680"/>
            <a:ext cx="8153280" cy="556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42" name="WordArt 8"/>
          <p:cNvSpPr txBox="1"/>
          <p:nvPr/>
        </p:nvSpPr>
        <p:spPr>
          <a:xfrm>
            <a:off x="1523880" y="609480"/>
            <a:ext cx="47246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HAPP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143" name="Picture 9" descr="j0172490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75744e9d6ea2"/>
          <p:cNvPicPr/>
          <p:nvPr/>
        </p:nvPicPr>
        <p:blipFill>
          <a:blip r:embed="rId1"/>
          <a:stretch/>
        </p:blipFill>
        <p:spPr>
          <a:xfrm>
            <a:off x="533520" y="228600"/>
            <a:ext cx="754380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1" name="Picture 9" descr="j0304935"/>
          <p:cNvPicPr/>
          <p:nvPr/>
        </p:nvPicPr>
        <p:blipFill>
          <a:blip r:embed="rId2"/>
          <a:stretch/>
        </p:blipFill>
        <p:spPr>
          <a:xfrm>
            <a:off x="0" y="0"/>
            <a:ext cx="237348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5936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60958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4" descr="j0305499"/>
          <p:cNvPicPr/>
          <p:nvPr/>
        </p:nvPicPr>
        <p:blipFill>
          <a:blip r:embed="rId3"/>
          <a:stretch/>
        </p:blipFill>
        <p:spPr>
          <a:xfrm rot="21429000">
            <a:off x="6511680" y="3526920"/>
            <a:ext cx="2286000" cy="3009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341280" y="6172200"/>
            <a:ext cx="87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Easter festival people decorate churches with white lilies and all the families go t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parade"/>
          <p:cNvPicPr/>
          <p:nvPr/>
        </p:nvPicPr>
        <p:blipFill>
          <a:blip r:embed="rId1"/>
          <a:stretch/>
        </p:blipFill>
        <p:spPr>
          <a:xfrm>
            <a:off x="304920" y="838080"/>
            <a:ext cx="5790960" cy="44960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7" name="Picture 7" descr="easter_parade_o_s_t_"/>
          <p:cNvPicPr/>
          <p:nvPr/>
        </p:nvPicPr>
        <p:blipFill>
          <a:blip r:embed="rId2"/>
          <a:stretch/>
        </p:blipFill>
        <p:spPr>
          <a:xfrm>
            <a:off x="0" y="0"/>
            <a:ext cx="1981080" cy="1828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8" name="Text Box 10"/>
          <p:cNvSpPr/>
          <p:nvPr/>
        </p:nvSpPr>
        <p:spPr>
          <a:xfrm>
            <a:off x="304920" y="62485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89080" y="575136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hurch people walk down the streets in their new Easter hats and suits. This procession of people is called Easter Pa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bunnyhat"/>
          <p:cNvPicPr/>
          <p:nvPr/>
        </p:nvPicPr>
        <p:blipFill>
          <a:blip r:embed="rId3"/>
          <a:stretch/>
        </p:blipFill>
        <p:spPr>
          <a:xfrm>
            <a:off x="6248520" y="1600200"/>
            <a:ext cx="2657520" cy="376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1" name="Picture 13" descr="j0172490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easter_10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3" name="Picture 8" descr="j0410305"/>
          <p:cNvPicPr/>
          <p:nvPr/>
        </p:nvPicPr>
        <p:blipFill>
          <a:blip r:embed="rId2"/>
          <a:stretch/>
        </p:blipFill>
        <p:spPr>
          <a:xfrm>
            <a:off x="838080" y="4114800"/>
            <a:ext cx="1622520" cy="179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436379"/>
          <p:cNvPicPr/>
          <p:nvPr/>
        </p:nvPicPr>
        <p:blipFill>
          <a:blip r:embed="rId3"/>
          <a:stretch/>
        </p:blipFill>
        <p:spPr>
          <a:xfrm>
            <a:off x="53352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517680" y="597996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many Easter symbols in great Brita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s, Easter Bunnies, Chic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4" descr="j0172490"/>
          <p:cNvPicPr/>
          <p:nvPr/>
        </p:nvPicPr>
        <p:blipFill>
          <a:blip r:embed="rId4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910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31748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8" name="Picture 5" descr="2043"/>
          <p:cNvPicPr/>
          <p:nvPr/>
        </p:nvPicPr>
        <p:blipFill>
          <a:blip r:embed="rId2"/>
          <a:stretch/>
        </p:blipFill>
        <p:spPr>
          <a:xfrm>
            <a:off x="0" y="228600"/>
            <a:ext cx="3352680" cy="28954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9" name="Text Box 7"/>
          <p:cNvSpPr/>
          <p:nvPr/>
        </p:nvSpPr>
        <p:spPr>
          <a:xfrm>
            <a:off x="3505320" y="2133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Easter traditions is eating hot cross bu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920" y="480060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whit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a hot cross bu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j0172490"/>
          <p:cNvPicPr/>
          <p:nvPr/>
        </p:nvPicPr>
        <p:blipFill>
          <a:blip r:embed="rId3"/>
          <a:stretch/>
        </p:blipFill>
        <p:spPr>
          <a:xfrm>
            <a:off x="76201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hotel-chocolat-easter-eggs"/>
          <p:cNvPicPr/>
          <p:nvPr/>
        </p:nvPicPr>
        <p:blipFill>
          <a:blip r:embed="rId1"/>
          <a:stretch/>
        </p:blipFill>
        <p:spPr>
          <a:xfrm>
            <a:off x="228600" y="228600"/>
            <a:ext cx="670572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3" name="Picture 8" descr="photo23"/>
          <p:cNvPicPr/>
          <p:nvPr/>
        </p:nvPicPr>
        <p:blipFill>
          <a:blip r:embed="rId2"/>
          <a:stretch/>
        </p:blipFill>
        <p:spPr>
          <a:xfrm>
            <a:off x="5105520" y="4114800"/>
            <a:ext cx="3886200" cy="2514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4" name="Text Box 9"/>
          <p:cNvSpPr/>
          <p:nvPr/>
        </p:nvSpPr>
        <p:spPr>
          <a:xfrm>
            <a:off x="0" y="4757760"/>
            <a:ext cx="5105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like Easter very much because it is a tasty holi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ster children eat chocolate Easter eggs, chocolate bunnies and a lot of sw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004_6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5029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457200" y="5715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s hide Easter eggs in the house or in the garden. Little children think that Easter Bunny brings and hides eggs for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j0172490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228600" y="4572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morning little children are busy with hunting eg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j0172490"/>
          <p:cNvPicPr/>
          <p:nvPr/>
        </p:nvPicPr>
        <p:blipFill>
          <a:blip r:embed="rId1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teven_hunting_eggs"/>
          <p:cNvPicPr/>
          <p:nvPr/>
        </p:nvPicPr>
        <p:blipFill>
          <a:blip r:embed="rId2"/>
          <a:stretch/>
        </p:blipFill>
        <p:spPr>
          <a:xfrm>
            <a:off x="5181480" y="2362320"/>
            <a:ext cx="375948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2" name="Picture 10" descr="trenduk-huntingeggs-330x220"/>
          <p:cNvPicPr/>
          <p:nvPr/>
        </p:nvPicPr>
        <p:blipFill>
          <a:blip r:embed="rId3"/>
          <a:stretch/>
        </p:blipFill>
        <p:spPr>
          <a:xfrm>
            <a:off x="228600" y="152280"/>
            <a:ext cx="4724280" cy="3429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a_Easter_eggs_400"/>
          <p:cNvPicPr/>
          <p:nvPr/>
        </p:nvPicPr>
        <p:blipFill>
          <a:blip r:embed="rId1"/>
          <a:stretch/>
        </p:blipFill>
        <p:spPr>
          <a:xfrm>
            <a:off x="4952880" y="3581280"/>
            <a:ext cx="3962520" cy="3048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4" name="Picture 4" descr="Reagan_at_WH_Easter_Egg_Roll_1982"/>
          <p:cNvPicPr/>
          <p:nvPr/>
        </p:nvPicPr>
        <p:blipFill>
          <a:blip r:embed="rId2"/>
          <a:stretch/>
        </p:blipFill>
        <p:spPr>
          <a:xfrm>
            <a:off x="304920" y="304920"/>
            <a:ext cx="54100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5867280" y="213372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ren like to pl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 egg-rol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510552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, Easter eg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l forward not bac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4-10-09T16:33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