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E30B-2617-40FF-B7C9-3ED43868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996D-441A-454B-9E27-87327E7A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950B-C49E-4915-9C64-0D035240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A5EF-6110-438F-A971-5E1E930B9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D35F-1C23-4C7F-BAD1-BB2E18B9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D6B5-5423-48CF-9779-BE07197F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7B35-2422-4463-A40A-09155E2B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6883-B640-4EA4-B11D-98320567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7B56-540C-4076-86A3-D247B14B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5E57-CE6A-4FB2-8E44-D25F9444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CB05-E667-4EE9-8260-C7EFF16E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0BF6-C0E0-4168-8F67-1C42A785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FF3A-1EAF-490B-BD8E-79CE8AC58D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01.olx-st.com/ui/15/27/83/1315134013_246922483_1----.pn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ДЕНЬ ГИМНАЗИСТА</a:t>
            </a:r>
            <a:br>
              <a:rPr sz="3600"/>
            </a:br>
            <a:r>
              <a:rPr b="0" lang="ru-RU" sz="2900" spc="-1" strike="noStrike">
                <a:solidFill>
                  <a:srgbClr val="990033"/>
                </a:solidFill>
                <a:latin typeface="Arial"/>
              </a:rPr>
              <a:t>МОУ гимназия «Еврогимназия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5" descr="Картинка 42 из 125671"/>
          <p:cNvPicPr/>
          <p:nvPr/>
        </p:nvPicPr>
        <p:blipFill>
          <a:blip r:embed="rId1"/>
          <a:srcRect l="0" t="0" r="0" b="3792"/>
          <a:stretch/>
        </p:blipFill>
        <p:spPr>
          <a:xfrm>
            <a:off x="826920" y="1628640"/>
            <a:ext cx="749016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Вильгельм Кюхельбекер </a:t>
            </a:r>
            <a:br>
              <a:rPr sz="4000"/>
            </a:br>
            <a:r>
              <a:rPr b="0" i="1" lang="ru-RU" sz="4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«</a:t>
            </a:r>
            <a:r>
              <a:rPr b="1" i="1" lang="ru-RU" sz="4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19 ОКТЯБРЯ 1836 ГОД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ит поток времен. Их темный ва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овь выплеснул на берег жизни наш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щенный день, который полной чаш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ругу друзей и я торжествовал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http://im8-tub-ru.yandex.net/i?id=96557032-49-72"/>
          <p:cNvPicPr/>
          <p:nvPr/>
        </p:nvPicPr>
        <p:blipFill>
          <a:blip r:embed="rId1"/>
          <a:stretch/>
        </p:blipFill>
        <p:spPr>
          <a:xfrm>
            <a:off x="4932360" y="1557360"/>
            <a:ext cx="33130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Александр Пушкин </a:t>
            </a:r>
            <a:br>
              <a:rPr sz="4000"/>
            </a:br>
            <a:r>
              <a:rPr b="1" i="1" lang="ru-RU" sz="4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«И. И. ПУЩИНУ»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первый друг, мой друг бесценный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я судьбу благословил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мой двор уединенны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альным снегом занесенны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й колокольчик огласил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ю святое провиденье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голос мой душе твое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ует то же утешень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озарит он заточень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ом лицейских ясных дней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Картинка 10 из 126104"/>
          <p:cNvPicPr/>
          <p:nvPr/>
        </p:nvPicPr>
        <p:blipFill>
          <a:blip r:embed="rId1"/>
          <a:stretch/>
        </p:blipFill>
        <p:spPr>
          <a:xfrm>
            <a:off x="5003640" y="1916280"/>
            <a:ext cx="34210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716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Александр Пушкин </a:t>
            </a:r>
            <a:br>
              <a:rPr sz="4000"/>
            </a:br>
            <a:r>
              <a:rPr b="1" i="1" lang="ru-RU" sz="4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«19 ОКТЯБРЯ 1825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9280" y="2349000"/>
            <a:ext cx="7704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зья мои, прекрасен наш союз!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, как душа, неразделим и вечен —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лебим, свободен и беспечен,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стался он под сенью дружных муз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да бы нас ни бросила судьбин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частие куда б ни повело,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те же мы: нам целый мир чужбина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чество нам Царское Село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Картинка 179 из 126023"/>
          <p:cNvPicPr/>
          <p:nvPr/>
        </p:nvPicPr>
        <p:blipFill>
          <a:blip r:embed="rId1"/>
          <a:stretch/>
        </p:blipFill>
        <p:spPr>
          <a:xfrm>
            <a:off x="6227640" y="260280"/>
            <a:ext cx="259092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ПОСВЯЩЕНИЕ В ЗАНКОВ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356000" y="1268280"/>
            <a:ext cx="4608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ем мы вам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гда не лениться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коле с охотой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ся, трудитьс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ем в Мир Знан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ти посмелей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у научиться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стретить друзей!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Картинка 3 из 6"/>
          <p:cNvPicPr/>
          <p:nvPr/>
        </p:nvPicPr>
        <p:blipFill>
          <a:blip r:embed="rId1"/>
          <a:stretch/>
        </p:blipFill>
        <p:spPr>
          <a:xfrm>
            <a:off x="468360" y="1413000"/>
            <a:ext cx="3816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140360" y="907920"/>
            <a:ext cx="4557600" cy="560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 свободою горим,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 сердца, для чести живы,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друг, отчизне посвятим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ши прекрасные порывы!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С.Пушки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Картинка 45 из 126090"/>
          <p:cNvPicPr/>
          <p:nvPr/>
        </p:nvPicPr>
        <p:blipFill>
          <a:blip r:embed="rId1"/>
          <a:stretch/>
        </p:blipFill>
        <p:spPr>
          <a:xfrm>
            <a:off x="324000" y="1628640"/>
            <a:ext cx="390204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Друзья, прекрасен наш союз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ru-RU" sz="4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ДЕНЬ ГИМНАЗИСТА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284720" y="2224440"/>
            <a:ext cx="4390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годня в этот славн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нь гимназиста отмеча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всей страны нашей боль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аздник велик и почита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Картинка 11 из 12567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773360"/>
            <a:ext cx="382716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Ах, </a:t>
            </a:r>
            <a:r>
              <a:rPr b="1" i="1" lang="en-US" sz="5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XIX </a:t>
            </a:r>
            <a:r>
              <a:rPr b="1" i="1" lang="ru-RU" sz="5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тот век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Картинка 6 из 30955"/>
          <p:cNvPicPr/>
          <p:nvPr/>
        </p:nvPicPr>
        <p:blipFill>
          <a:blip r:embed="rId1"/>
          <a:stretch/>
        </p:blipFill>
        <p:spPr>
          <a:xfrm>
            <a:off x="1116000" y="1268280"/>
            <a:ext cx="6885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19 октября 1811 года – открытие Императорского Царскосельского Лице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200letlicey10oct11-02"/>
          <p:cNvPicPr/>
          <p:nvPr/>
        </p:nvPicPr>
        <p:blipFill>
          <a:blip r:embed="rId1"/>
          <a:stretch/>
        </p:blipFill>
        <p:spPr>
          <a:xfrm>
            <a:off x="900000" y="2060640"/>
            <a:ext cx="741528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1403280" y="2725920"/>
            <a:ext cx="7488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рой ленив, порой упрям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й лукав, порою прям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й смирен, порой мятежен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й печален, молчалив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й сердечно говорлив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С.Пушк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http://im0-tub-ru.yandex.net/i?id=99885263-15-72"/>
          <p:cNvPicPr/>
          <p:nvPr/>
        </p:nvPicPr>
        <p:blipFill>
          <a:blip r:embed="rId1"/>
          <a:stretch/>
        </p:blipFill>
        <p:spPr>
          <a:xfrm>
            <a:off x="250920" y="549360"/>
            <a:ext cx="26352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ИТОГИ КОНКУРСА ЧТЕЦ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3280" y="1600200"/>
            <a:ext cx="432144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вязина Анна - 1а к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хатадзе Софья - 2 к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лькова Анастасия - 3б к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браменко Сергей -  4б к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3059280" y="4149720"/>
            <a:ext cx="28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"/>
          <p:cNvPicPr/>
          <p:nvPr/>
        </p:nvPicPr>
        <p:blipFill>
          <a:blip r:embed="rId1"/>
          <a:stretch/>
        </p:blipFill>
        <p:spPr>
          <a:xfrm>
            <a:off x="2987640" y="4292640"/>
            <a:ext cx="2879640" cy="21524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6084720" y="4149720"/>
            <a:ext cx="20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5076720" y="422100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1" descr=""/>
          <p:cNvPicPr/>
          <p:nvPr/>
        </p:nvPicPr>
        <p:blipFill>
          <a:blip r:embed="rId2"/>
          <a:stretch/>
        </p:blipFill>
        <p:spPr>
          <a:xfrm>
            <a:off x="6012000" y="4292640"/>
            <a:ext cx="2881080" cy="21542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2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900000" y="1413000"/>
            <a:ext cx="32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8" descr=""/>
          <p:cNvPicPr/>
          <p:nvPr/>
        </p:nvPicPr>
        <p:blipFill>
          <a:blip r:embed="rId3"/>
          <a:stretch/>
        </p:blipFill>
        <p:spPr>
          <a:xfrm>
            <a:off x="1476360" y="1341360"/>
            <a:ext cx="2735280" cy="20448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0"/>
          <p:cNvSpPr/>
          <p:nvPr/>
        </p:nvSpPr>
        <p:spPr>
          <a:xfrm>
            <a:off x="0" y="3573360"/>
            <a:ext cx="29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1" descr=""/>
          <p:cNvPicPr/>
          <p:nvPr/>
        </p:nvPicPr>
        <p:blipFill>
          <a:blip r:embed="rId4"/>
          <a:stretch/>
        </p:blipFill>
        <p:spPr>
          <a:xfrm>
            <a:off x="108000" y="3789360"/>
            <a:ext cx="270036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АХ, ЧТО  ЗА  ПРЕЛЕСТЬ  ЭТИ СКАЗКИ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3240000" cy="4994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3360600" cy="496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ПОБЕДИТЕЛИ ВИКТОРИНЫ, ПОСВЯЩЕННОЙ ТВОРЧЕСТВУ А.С.ПУШКИ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6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-а класс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туев А.,Лебедева А, Ковязина А, Шалагинова М, Нургалеев Т, Татарова 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-б клас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вбун М,Михайлова А, Егорова А, Свяжин С, Ерохин 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клас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устовалова Н, Корлыханов М, Цепелева К, Фаляхова 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844280"/>
            <a:ext cx="40384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-а класс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вина М, Сметанина М, Кузнецова 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-б класс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юмов А, Мелькова Н, Шмелёв 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-а класс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енко О, Вольхин Л, Рогожников 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-б класс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резина Е, Постникова К, Велижанина 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Антон Дельвиг «Прощальная песнь   воспитанников</a:t>
            </a:r>
            <a:br>
              <a:rPr sz="3600"/>
            </a:br>
            <a:r>
              <a:rPr b="1" i="1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Царскосельского Лицея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000" y="2708280"/>
            <a:ext cx="397044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есть лет промчалось, как мечтанье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ъятьях сладкой тишины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уж отечества призванье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мит нам: шествуйте, сыны!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im5-tub-ru.yandex.net/i?id=139958180-43-72"/>
          <p:cNvPicPr/>
          <p:nvPr/>
        </p:nvPicPr>
        <p:blipFill>
          <a:blip r:embed="rId1"/>
          <a:stretch/>
        </p:blipFill>
        <p:spPr>
          <a:xfrm>
            <a:off x="5364000" y="2637000"/>
            <a:ext cx="28512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5T17:35:25Z</dcterms:created>
  <dc:creator>Admin</dc:creator>
  <dc:description/>
  <dc:language>en-US</dc:language>
  <cp:lastModifiedBy>Елена</cp:lastModifiedBy>
  <dcterms:modified xsi:type="dcterms:W3CDTF">2014-10-24T16:49:37Z</dcterms:modified>
  <cp:revision>34</cp:revision>
  <dc:subject/>
  <dc:title>Слайд 1</dc:title>
</cp:coreProperties>
</file>