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1AB-5651-4B2E-BEB2-6D7DA21B9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F536-F3BC-4849-B7FA-8D0C41C67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FEE-BDC6-4221-903F-C9AC6D21A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86B2-A5AB-4ED2-921E-9FDC023A5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9DA-302F-4ED2-9B88-61FDD9F33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932-58C7-4829-8323-37B8F13C6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585-4CA3-4803-9CED-13E07B4A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E7C-A8C0-4485-806F-F84F1B2B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466-3DFF-44B4-B00C-4DC90F23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8D3-1D3E-470F-8A3D-EC24747B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734-DB3D-45BC-98CA-5737201D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223-CF3B-4183-86C7-AE406EE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DB5-8816-48EC-8340-FE51ECB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1D7-6850-4590-AAC9-443C40A6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B31-35FD-4632-B80F-52D2D269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ED6-3F61-483E-A3AD-E3D1978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858-0A32-4393-B6A9-864A038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D69-32BB-4E83-AA94-991DE43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FEC-4114-4F6D-AEB9-81AEA37EA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2;&#1072;&#1085;&#1076;&#1080;&#1085;&#1072;&#1074;&#1089;&#1082;&#1080;&#1077;_&#1103;&#1079;&#1099;&#1082;&#1080;" TargetMode="External"/><Relationship Id="rId2" Type="http://schemas.openxmlformats.org/officeDocument/2006/relationships/hyperlink" Target="http://ru.wikipedia.org/wiki/&#1048;&#1084;&#1077;&#1085;&#1080;&#1085;&#1099;" TargetMode="External"/><Relationship Id="rId3" Type="http://schemas.openxmlformats.org/officeDocument/2006/relationships/hyperlink" Target="http://ru.wikipedia.org/wiki/18_&#1080;&#1102;&#1085;&#1103;" TargetMode="External"/><Relationship Id="rId4" Type="http://schemas.openxmlformats.org/officeDocument/2006/relationships/hyperlink" Target="http://ru.wikipedia.org/wiki/2_&#1086;&#1082;&#1090;&#1103;&#1073;&#1088;&#1103;" TargetMode="External"/><Relationship Id="rId5" Type="http://schemas.openxmlformats.org/officeDocument/2006/relationships/hyperlink" Target="http://ru.wikipedia.org/wiki/&#1048;&#1075;&#1086;&#1088;&#1100;_&#1056;&#1102;&#1088;&#1080;&#1082;&#1086;&#1074;&#1080;&#1095;" TargetMode="External"/><Relationship Id="rId6" Type="http://schemas.openxmlformats.org/officeDocument/2006/relationships/hyperlink" Target="http://ru.wikipedia.org/wiki/&#1048;&#1075;&#1086;&#1088;&#1100;_&#1054;&#1083;&#1100;&#1075;&#1086;&#1074;&#1080;&#1095;" TargetMode="External"/><Relationship Id="rId7" Type="http://schemas.openxmlformats.org/officeDocument/2006/relationships/hyperlink" Target="http://ru.wikipedia.org/wiki/&#1054;&#1083;&#1077;&#1075;_&#1057;&#1074;&#1103;&#1090;&#1086;&#1089;&#1083;&#1072;&#1074;&#1080;&#1095;_%28&#1082;&#1085;&#1103;&#1079;&#1100;_&#1095;&#1077;&#1088;&#1085;&#1080;&#1075;&#1086;&#1074;&#1089;&#1082;&#1080;&#1081;%29" TargetMode="External"/><Relationship Id="rId8" Type="http://schemas.openxmlformats.org/officeDocument/2006/relationships/hyperlink" Target="http://ru.wikipedia.org/wiki/&#1048;&#1075;&#1086;&#1088;&#1100;_&#1043;&#1083;&#1077;&#1073;&#1086;&#1074;&#1080;&#1095;" TargetMode="External"/><Relationship Id="rId9" Type="http://schemas.openxmlformats.org/officeDocument/2006/relationships/hyperlink" Target="http://ru.wikipedia.org/wiki/&#1043;&#1083;&#1077;&#1073;_&#1056;&#1086;&#1089;&#1090;&#1080;&#1089;&#1083;&#1072;&#1074;&#1080;&#1095;_%28&#1082;&#1085;&#1103;&#1079;&#1100;_&#1088;&#1103;&#1079;&#1072;&#1085;&#1089;&#1082;&#1080;&#1081;%29" TargetMode="External"/><Relationship Id="rId10" Type="http://schemas.openxmlformats.org/officeDocument/2006/relationships/hyperlink" Target="http://ru.wikipedia.org/wiki/&#1048;&#1075;&#1086;&#1088;&#1100;_&#1057;&#1074;&#1103;&#1090;&#1086;&#1089;&#1083;&#1072;&#1074;&#1080;&#1095;" TargetMode="External"/><Relationship Id="rId11" Type="http://schemas.openxmlformats.org/officeDocument/2006/relationships/hyperlink" Target="http://ru.wikipedia.org/wiki/&#1057;&#1074;&#1103;&#1090;&#1086;&#1089;&#1083;&#1072;&#1074;_&#1054;&#1083;&#1077;&#1075;&#1086;&#1074;&#1080;&#1095;" TargetMode="External"/><Relationship Id="rId12" Type="http://schemas.openxmlformats.org/officeDocument/2006/relationships/hyperlink" Target="http://ru.wikipedia.org/wiki/&#1057;&#1083;&#1086;&#1074;&#1086;_&#1086;_&#1087;&#1086;&#1083;&#1082;&#1091;_&#1048;&#1075;&#1086;&#1088;&#1077;&#1074;&#1077;" TargetMode="External"/><Relationship Id="rId13" Type="http://schemas.openxmlformats.org/officeDocument/2006/relationships/hyperlink" Target="http://ru.wikipedia.org/wiki/&#1050;&#1085;&#1103;&#1079;&#1100;_&#1048;&#1075;&#1086;&#1088;&#1100;_%28&#1086;&#1087;&#1077;&#1088;&#1072;%29" TargetMode="External"/><Relationship Id="rId14" Type="http://schemas.openxmlformats.org/officeDocument/2006/relationships/hyperlink" Target="http://ru.wikipedia.org/wiki/&#1057;&#1083;&#1086;&#1074;&#1086;_&#1086;_&#1087;&#1086;&#1083;&#1082;&#1091;_&#1048;&#1075;&#1086;&#1088;&#1077;&#1074;&#1077;" TargetMode="External"/><Relationship Id="rId15" Type="http://schemas.openxmlformats.org/officeDocument/2006/relationships/hyperlink" Target="http://ru.wikipedia.org/wiki/&#1048;&#1075;&#1086;&#1088;&#1100;_&#1050;&#1072;&#1088;&#1082;&#1072;&#1088;&#1086;&#1074;" TargetMode="External"/><Relationship Id="rId16" Type="http://schemas.openxmlformats.org/officeDocument/2006/relationships/hyperlink" Target="http://ru.wikipedia.org/wiki/&#1058;&#1077;&#1088;&#1088;&#1080;_&#1055;&#1088;&#1072;&#1090;&#1095;&#1077;&#1090;&#1090;" TargetMode="External"/><Relationship Id="rId17" Type="http://schemas.openxmlformats.org/officeDocument/2006/relationships/hyperlink" Target="http://ru.wikipedia.org/wiki/&#1055;&#1083;&#1086;&#1089;&#1082;&#1080;&#1081;_&#1084;&#1080;&#1088;" TargetMode="External"/><Relationship Id="rId18" Type="http://schemas.openxmlformats.org/officeDocument/2006/relationships/hyperlink" Target="http://ru.wikipedia.org/wiki/&#1048;&#1075;&#1086;&#1088;&#1100;_%28&#1055;&#1083;&#1086;&#1089;&#1082;&#1080;&#1081;_&#1084;&#1080;&#1088;%29" TargetMode="External"/><Relationship Id="rId19" Type="http://schemas.openxmlformats.org/officeDocument/2006/relationships/hyperlink" Target="http://ru.wikipedia.org/wiki/&#1048;&#1075;&#1086;&#1088;&#1100;_&#1056;&#1102;&#1088;&#1080;&#1082;&#1086;&#1074;&#1080;&#1095;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85880" y="2428920"/>
            <a:ext cx="761976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трольно-оценочная деяте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условиях внедрения ФГОС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785960" y="357120"/>
            <a:ext cx="4610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здел "Моя уче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60760" y="1643760"/>
            <a:ext cx="22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ка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24960" y="2143800"/>
            <a:ext cx="33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и любимые предм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71680" y="26431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ваемость по г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3000240" y="3071880"/>
            <a:ext cx="50580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здел "Мои дости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052240" y="4200120"/>
            <a:ext cx="38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б участии в олимпиа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167800" y="4643640"/>
            <a:ext cx="36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б участии в конкур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455000" y="5072400"/>
            <a:ext cx="42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спортивных соревн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5448240"/>
            <a:ext cx="76438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б участии в проек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214280" y="578808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б участии в областных, районных, школьных и классных праздниках и мероприя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266840" y="723960"/>
            <a:ext cx="5095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здел "Мое творчеств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85840" y="2432520"/>
            <a:ext cx="550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Творческие работы ( литературные работы, фотоматериалы своих увлечений, рисунк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86240" y="37148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Я умею      Я м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18920" y="4422960"/>
            <a:ext cx="551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Лучше всего я ум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Я не очень хорошо умею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Больше всего я хочу научиться лучше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от, что мне для этого ну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" descr=""/>
          <p:cNvPicPr/>
          <p:nvPr/>
        </p:nvPicPr>
        <p:blipFill>
          <a:blip r:embed="rId1"/>
          <a:stretch/>
        </p:blipFill>
        <p:spPr>
          <a:xfrm>
            <a:off x="311040" y="738360"/>
            <a:ext cx="8156520" cy="44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Box 1" descr=""/>
          <p:cNvPicPr/>
          <p:nvPr/>
        </p:nvPicPr>
        <p:blipFill>
          <a:blip r:embed="rId1"/>
          <a:stretch/>
        </p:blipFill>
        <p:spPr>
          <a:xfrm>
            <a:off x="3206880" y="334800"/>
            <a:ext cx="2797200" cy="1317960"/>
          </a:xfrm>
          <a:prstGeom prst="rect">
            <a:avLst/>
          </a:prstGeom>
          <a:ln w="0">
            <a:noFill/>
          </a:ln>
        </p:spPr>
      </p:pic>
      <p:cxnSp>
        <p:nvCxnSpPr>
          <p:cNvPr id="104" name="Прямая со стрелкой 3"/>
          <p:cNvCxnSpPr/>
          <p:nvPr/>
        </p:nvCxnSpPr>
        <p:spPr>
          <a:xfrm>
            <a:off x="5428080" y="1499760"/>
            <a:ext cx="1358280" cy="13582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5" name="Прямая со стрелкой 5"/>
          <p:cNvCxnSpPr/>
          <p:nvPr/>
        </p:nvCxnSpPr>
        <p:spPr>
          <a:xfrm>
            <a:off x="4642200" y="1785600"/>
            <a:ext cx="72360" cy="17866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6" name="Прямая со стрелкой 7"/>
          <p:cNvCxnSpPr/>
          <p:nvPr/>
        </p:nvCxnSpPr>
        <p:spPr>
          <a:xfrm flipH="1">
            <a:off x="2356560" y="1357200"/>
            <a:ext cx="1429560" cy="1286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107" name="TextBox 11" descr=""/>
          <p:cNvPicPr/>
          <p:nvPr/>
        </p:nvPicPr>
        <p:blipFill>
          <a:blip r:embed="rId2"/>
          <a:stretch/>
        </p:blipFill>
        <p:spPr>
          <a:xfrm>
            <a:off x="133200" y="2998800"/>
            <a:ext cx="3097440" cy="6033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2" descr=""/>
          <p:cNvPicPr/>
          <p:nvPr/>
        </p:nvPicPr>
        <p:blipFill>
          <a:blip r:embed="rId3"/>
          <a:stretch/>
        </p:blipFill>
        <p:spPr>
          <a:xfrm>
            <a:off x="2779560" y="3713040"/>
            <a:ext cx="3449880" cy="60336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3" descr=""/>
          <p:cNvPicPr/>
          <p:nvPr/>
        </p:nvPicPr>
        <p:blipFill>
          <a:blip r:embed="rId4"/>
          <a:stretch/>
        </p:blipFill>
        <p:spPr>
          <a:xfrm>
            <a:off x="5132520" y="2859120"/>
            <a:ext cx="3803400" cy="59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Мои рисунки\img198.jpg"/>
          <p:cNvPicPr/>
          <p:nvPr/>
        </p:nvPicPr>
        <p:blipFill>
          <a:blip r:embed="rId1"/>
          <a:stretch/>
        </p:blipFill>
        <p:spPr>
          <a:xfrm>
            <a:off x="1928880" y="285840"/>
            <a:ext cx="5143320" cy="619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ятно 2 5"/>
          <p:cNvSpPr/>
          <p:nvPr/>
        </p:nvSpPr>
        <p:spPr>
          <a:xfrm>
            <a:off x="500040" y="428760"/>
            <a:ext cx="857160" cy="642960"/>
          </a:xfrm>
          <a:prstGeom prst="irregularSeal2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642960" y="2286000"/>
            <a:ext cx="642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1571760" y="2143080"/>
            <a:ext cx="57132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1"/>
          <p:cNvSpPr/>
          <p:nvPr/>
        </p:nvSpPr>
        <p:spPr>
          <a:xfrm>
            <a:off x="714240" y="4143240"/>
            <a:ext cx="8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571760" y="37861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уга 14"/>
          <p:cNvSpPr/>
          <p:nvPr/>
        </p:nvSpPr>
        <p:spPr>
          <a:xfrm>
            <a:off x="785880" y="785880"/>
            <a:ext cx="285840" cy="7128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уга 15"/>
          <p:cNvSpPr/>
          <p:nvPr/>
        </p:nvSpPr>
        <p:spPr>
          <a:xfrm>
            <a:off x="785880" y="857160"/>
            <a:ext cx="214200" cy="4608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Арка 16"/>
          <p:cNvSpPr/>
          <p:nvPr/>
        </p:nvSpPr>
        <p:spPr>
          <a:xfrm>
            <a:off x="785880" y="785880"/>
            <a:ext cx="214200" cy="142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357120" y="13572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 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9"/>
          <p:cNvSpPr/>
          <p:nvPr/>
        </p:nvSpPr>
        <p:spPr>
          <a:xfrm>
            <a:off x="357120" y="1428840"/>
            <a:ext cx="857160" cy="357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1"/>
          <p:cNvSpPr/>
          <p:nvPr/>
        </p:nvSpPr>
        <p:spPr>
          <a:xfrm>
            <a:off x="857160" y="4786200"/>
            <a:ext cx="500040" cy="35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звернутая стрелка 31"/>
          <p:cNvSpPr/>
          <p:nvPr/>
        </p:nvSpPr>
        <p:spPr>
          <a:xfrm>
            <a:off x="1000080" y="2786040"/>
            <a:ext cx="928800" cy="928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Арка 32"/>
          <p:cNvSpPr/>
          <p:nvPr/>
        </p:nvSpPr>
        <p:spPr>
          <a:xfrm rot="10800000">
            <a:off x="428760" y="5597280"/>
            <a:ext cx="674640" cy="617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Арка 33"/>
          <p:cNvSpPr/>
          <p:nvPr/>
        </p:nvSpPr>
        <p:spPr>
          <a:xfrm rot="10800000">
            <a:off x="928800" y="557208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35"/>
          <p:cNvSpPr/>
          <p:nvPr/>
        </p:nvSpPr>
        <p:spPr>
          <a:xfrm>
            <a:off x="142920" y="5572080"/>
            <a:ext cx="1928880" cy="8571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1857240" y="71424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ерное написание бу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1857240" y="1285920"/>
            <a:ext cx="692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 препинания в конце предложения неверный, или нет знака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2500200" y="228600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пуск бу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2428920" y="31431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тановка бу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2"/>
          <p:cNvSpPr/>
          <p:nvPr/>
        </p:nvSpPr>
        <p:spPr>
          <a:xfrm>
            <a:off x="2143080" y="39290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отмечены трудности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2428920" y="500076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ерно выделен ударный с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2500200" y="60721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а не разделены на с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358120" cy="653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755640" y="152280"/>
            <a:ext cx="745344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истема оцен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142920" y="4724280"/>
            <a:ext cx="4103640" cy="1152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Tahoma"/>
              </a:rPr>
              <a:t>Внутренняя оценка</a:t>
            </a: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учитель</a:t>
            </a: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ученик</a:t>
            </a: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ОУ и 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896000" y="1089000"/>
            <a:ext cx="3851280" cy="1297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Tahoma"/>
              </a:rPr>
              <a:t>Внешняя оценка</a:t>
            </a: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ahoma"/>
              </a:rPr>
              <a:t>государственные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751280" y="2673360"/>
            <a:ext cx="1944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ито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804000" y="2673360"/>
            <a:ext cx="2087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мониторин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Tahoma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Tahoma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472000" y="2529000"/>
            <a:ext cx="2664000" cy="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6767640" y="2386080"/>
            <a:ext cx="0" cy="142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6767640" y="2386080"/>
            <a:ext cx="0" cy="142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472000" y="2529000"/>
            <a:ext cx="0" cy="14436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8136000" y="2529000"/>
            <a:ext cx="0" cy="14436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5148360" y="4113360"/>
            <a:ext cx="1476360" cy="107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4824360" y="375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ение,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356000" y="5229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084720" y="5192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42920" y="5950080"/>
            <a:ext cx="7058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стартовая готовность, срезовые работы, портфоли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: самооценка, самоанализ, взаи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77760"/>
            <a:ext cx="9001080" cy="675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360" y="1052640"/>
            <a:ext cx="939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способности решать учебно-практически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и достижения – планируемы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ый подход: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изированных работ (устных, письменн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тандартизированных работ: проектов, практических работ, портфолио, самоанализа, самооценк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евый подход  в инструментарии, в представлении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етание внешней и внутренней оце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етание персонифицированных и неперсонифицирован-ных процед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ция результатов на основе контекст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истема оценки: основные особен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785960" y="500040"/>
            <a:ext cx="5829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здел"Мой ми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1"/>
          <p:cNvSpPr txBox="1"/>
          <p:nvPr/>
        </p:nvSpPr>
        <p:spPr>
          <a:xfrm>
            <a:off x="3143160" y="2000160"/>
            <a:ext cx="18288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ё и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500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2322000"/>
            <a:ext cx="900108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́гор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мужское имя.     Игорь  произошло от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скандинавског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ни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gvar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gla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Первая часть имени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имя скандинавского бога изобилия, вторая —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ar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означает «воинство, сила»,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умиротворение. Первоначально: одно из имен эпитетов бога-громовержц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Игорь никак не связано со словом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г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ные формы имени Игорь в русском языке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Гоша, Игорёк, Игорёчек, Игорюша, Игорюха, Игорюш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одной из версий Игорь - древнегерманское имя, используемое племенами проживающими на территории Германии в древ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Имени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18 июня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2 октяб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mbria"/>
              </a:rPr>
              <a:t>Русские князь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Игорь Рюрикович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ок. 878—945) — правитель Киевской Руси, по летописи — сын Рюр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Игорь Ольгович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?—1147) — святой, князь киевский, сын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Олега Святославич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Игорь Глебович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?—1195) — сын князя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Глеба Ростиславич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нязь рязанск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Игорь Святославич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1151—1202) — из рода князей черниговских, сын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1"/>
              </a:rPr>
              <a:t>Святослава Олегович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нязь Новгород-Северск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mbria"/>
              </a:rPr>
              <a:t>Игори в литературе и искусств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2"/>
              </a:rPr>
              <a:t>Слово о полку Игорев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величайший памятник средневековой древнерусской литерату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3"/>
              </a:rPr>
              <a:t>«Князь Игорь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опера русского композитора А. П. Бородина в четырёх действиях с прологом по мотивам древнерусский поэмы «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4"/>
              </a:rPr>
              <a:t>Слово о полку Игорев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5"/>
              </a:rPr>
              <a:t>Игорь Каркар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персонаж в романах о Гарри Поттере — сторонник Волан-де-Морта, Пожиратель смер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тальон Печкин из рассказов Э. Успенского носит имя Игор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нигах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6"/>
              </a:rPr>
              <a:t>Терри Пратчетт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7"/>
              </a:rPr>
              <a:t>Плоскому мир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действует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8"/>
              </a:rPr>
              <a:t>клан Игоре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9"/>
              </a:rPr>
              <a:t>Игорь Рюрикович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ок. 878—945) — правитель Киевской Руси, по летописи — сын Рюр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горь Глебович (?—1195) — сын князя Глеба Ростиславича, князь рязанск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ordArt 2" descr=""/>
          <p:cNvPicPr/>
          <p:nvPr/>
        </p:nvPicPr>
        <p:blipFill>
          <a:blip r:embed="rId1"/>
          <a:stretch/>
        </p:blipFill>
        <p:spPr>
          <a:xfrm>
            <a:off x="2706840" y="450720"/>
            <a:ext cx="268272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360d90ada58f"/>
          <p:cNvPicPr/>
          <p:nvPr/>
        </p:nvPicPr>
        <p:blipFill>
          <a:blip r:embed="rId2"/>
          <a:stretch/>
        </p:blipFill>
        <p:spPr>
          <a:xfrm>
            <a:off x="6357960" y="428760"/>
            <a:ext cx="1784160" cy="200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85840" y="228024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В моей семье есть Мама. Я её люблю и ценю. Задай ей вопрос, она объяснит и  расскажет .  Мы проводим  много с ней времени  вместе, и  разговариваем о ценностях в жизни. Очень вкусно и  с душой готов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не очень повезло, что у меня с ней глубокое понимание, строгость, любовь и лас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Я её очень люблю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1"/>
          <p:cNvSpPr txBox="1"/>
          <p:nvPr/>
        </p:nvSpPr>
        <p:spPr>
          <a:xfrm>
            <a:off x="2643120" y="285840"/>
            <a:ext cx="2184480" cy="9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"/>
              </a:rPr>
              <a:t>Мой го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7120" y="934200"/>
            <a:ext cx="828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 живу в городе Омске. Омск — мой родной город. Я здесь родился,  поэтому я считаю себя коренным омичом и очень люблю этот горо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мск — один из самых крупных городов Сибири. Это промышленный центр, здесь работают несколько заводов, много торговых центров, архитектурных памятников, муз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многое об истории родного города можно узнать в Омском краеведческом музее. Есть в нашем городе и еще один музей — Врубеля (художественны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285920" y="2214720"/>
            <a:ext cx="142884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449600" y="1227960"/>
            <a:ext cx="24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143160" y="3286080"/>
            <a:ext cx="166536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6143760" y="3071880"/>
            <a:ext cx="1428480" cy="1333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3111480" y="3357000"/>
            <a:ext cx="292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б Омска выращенный на «Флоре 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4768920"/>
            <a:ext cx="8643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проводятся выставки художников-профессионалов, а также народных мастеров. В нашем городе много библиотек, кинотеатров, есть три театра (драматический, музыкальный, театр кукол «Арлекин» и ТЮЗ), цирк, поэтому каждый имеет возможность провести свое свободное время так, как ему хочет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 красив и наряден Омск в праздники, когда дома и дороги украшаются флагами, лампочками, яркими щитами и транспарантами с поздравлениями, а на главной улице Ленина поводятся конце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ашем городе  много деревьев и наш город можно назвать «Город-сад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не очень хочется, чтобы Омск со временем превратился в самый чистый и зеленый город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1"/>
          <p:cNvSpPr txBox="1"/>
          <p:nvPr/>
        </p:nvSpPr>
        <p:spPr>
          <a:xfrm>
            <a:off x="857160" y="571680"/>
            <a:ext cx="3071880" cy="185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         </a:t>
            </a:r>
            <a:endParaRPr b="1" lang="en-US" sz="18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643720" y="10000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1000080" y="2857680"/>
            <a:ext cx="4143600" cy="310824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6" descr=""/>
          <p:cNvPicPr/>
          <p:nvPr/>
        </p:nvPicPr>
        <p:blipFill>
          <a:blip r:embed="rId3"/>
          <a:stretch/>
        </p:blipFill>
        <p:spPr>
          <a:xfrm>
            <a:off x="1023840" y="42840"/>
            <a:ext cx="2871720" cy="120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28:34Z</dcterms:created>
  <dc:creator>Sasha</dc:creator>
  <dc:description/>
  <dc:language>en-US</dc:language>
  <cp:lastModifiedBy>алёна</cp:lastModifiedBy>
  <dcterms:modified xsi:type="dcterms:W3CDTF">2014-10-24T14:45:17Z</dcterms:modified>
  <cp:revision>24</cp:revision>
  <dc:subject/>
  <dc:title>Слайд 1</dc:title>
</cp:coreProperties>
</file>