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7.wmf" ContentType="image/x-wmf"/>
  <Override PartName="/ppt/media/image16.jpeg" ContentType="image/jpeg"/>
  <Override PartName="/ppt/media/image15.png" ContentType="image/png"/>
  <Override PartName="/ppt/media/image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4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8.png" ContentType="image/png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dt" idx="46"/>
          </p:nvPr>
        </p:nvSpPr>
        <p:spPr>
          <a:xfrm>
            <a:off x="5675040" y="-360"/>
            <a:ext cx="43434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ftr" idx="47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 type="sldNum" idx="48"/>
          </p:nvPr>
        </p:nvSpPr>
        <p:spPr>
          <a:xfrm>
            <a:off x="5675040" y="6541560"/>
            <a:ext cx="43434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B2F7-ECD1-489C-8A5C-1ACC84A31810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3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Номер слайда 3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49DA-F054-4ECE-9545-8F6C841694EB}" type="slidenum">
              <a:rPr b="0" lang="ru-RU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3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Номер слайда 3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6853-9F49-4320-B5FB-0E96ED8B408E}" type="slidenum">
              <a:rPr b="0" lang="ru-RU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FC35-224D-4C75-AFF7-C9F7D229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F1F-CB3A-4F4C-990B-EB8139A6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93F41-D3DD-47BB-A5D1-6D26FEA7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4F480-A41D-4E01-90AB-C2A1D2A5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89BFE-D686-47A1-AC66-23FE3278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46AB0-8FC1-4610-9803-E6A73C0A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69A1C-0B27-468C-96EA-C3F8B38A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A41B0-14E6-4FEB-95D5-1AE94A91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82B55-013A-4EC6-AF0C-FEBA0289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1803B-3A29-403A-ACE4-39DAE850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30640-F2FF-425F-916C-6538DE75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8DBE1-EBA0-4C63-A442-1CF673BD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A33-B9BB-45F0-ABAD-35F6D976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5BA8E-9A92-4D2B-B7B7-151A2191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9B670-D0F3-404D-BEC6-D9980D6A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6DB4A-4379-4C2F-9F3E-6F51D0D6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FA5C2-F2F5-4D36-8756-959A694E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65B81-EFF7-4E86-B4C9-D1223E23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83006-B32D-4882-9ADA-8CE4F012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CF240-5547-411B-9A4A-9BCB6592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77DA3-13FB-4780-AEC9-A92B89F7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05676-F62C-4289-99B8-B432B96D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6AC94-52F4-4DED-A36D-A447932A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B0D4-EC55-4704-B3C5-95D1B107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2381F-D717-4296-8C67-3720B459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16A91-5C05-428E-8BA2-93D5E6F6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0F2A1-9455-40BC-B715-A14DA4B3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6A2F5-5BED-4FE0-A9BB-B1898D08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6752D-0160-4B41-B0DE-8A172151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70362-BEDD-4AA8-9FD3-C95B2061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40D24-010E-4991-A53C-E4E9D2EF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51E6C-78DD-4C53-8746-5A2E5961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2AAE5-E044-401C-95C1-E42B5EA8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A4443-61EE-43E5-8E63-5533FF5B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1A6D6-062B-4A63-A1D4-6AA5AB63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76605-5C16-465E-BC87-0E00410B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EFCF9-AB3B-48F2-BDCE-CD4EADED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C9978-F0DD-4217-93E2-75CCE1F0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B6932-F8D7-4406-AA45-7E7A01EE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66607-4419-4FCC-B3CD-06698640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093CC-B3D4-4E42-9C7C-A36AA16F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F4E78-02CD-4634-A75E-FA2E1C4D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E1470-56E8-48DA-863C-3B0192D3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B7951-F5FA-4556-9801-FE9A0C71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60C2A-080E-4698-9F56-1307A72D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49043-4F85-4B8D-8435-1280B60D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525EA-EE9C-4CEA-B1FF-6426B98F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AD16A-D84F-4A7F-B78F-D380D78D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F2096-EDCC-43BE-804D-8219453D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D1CC3-2552-4316-9B37-2781B9AD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70313-28EB-439E-8F51-9825FE4E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25BB2-AE1A-47F1-BDF4-AC2B7512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CFE2F-22D8-4D50-9358-6DEB4247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0352D-3E49-4CE3-9E82-F3B342A1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C17534-3EF1-46C5-A06E-FB790C74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32863-1D7C-42AC-A7C5-E849B458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08E75-4D96-4FF9-AE2B-16E6E12E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A94BB-7261-45D9-BCCD-892E3E9B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D4C8E5-1241-4022-A759-407A86E5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3BB31-2A09-4BAD-8E67-49D2CBB2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7F8CA-EFA1-4B87-A341-5B57C641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C14CF-E346-4046-BB6B-72FE7520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CB56D5-D0F5-4145-9472-90FA7C54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DF688-D01D-452A-8D35-2B32FEF7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712122-BFEA-4AFA-9C98-0D9D8A67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6C1504-06C4-415B-BF04-08E9B8CF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6CEFD2-5377-4720-BCEE-826EB4E7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85B9F-8678-4B4B-9D2F-D3747DA8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9A7FCE-4FD0-4B61-AEDC-B63120CC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50C08E-88BE-4D3D-8ADA-3A9D6B82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9D72A-D3EF-403E-B7D5-6E584ABD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03FB75-E343-4421-8DB5-AECB07FC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90F2D9-37DA-41C8-83FC-2810EBB1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F82EA-8177-4E33-85FE-CBDAE2CE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4E9FF3-9EA5-418F-9174-3FA1ACF5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B58923-D103-4128-B212-AA9D510E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74E056-4E39-47B2-9772-2CC1F237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4B0E87-B4CD-4B1E-978E-B2995AFC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AC7A1-8335-4285-A36E-7357311C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E37A26-3769-4723-9437-C3E48BB5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DD3DFF-CD19-4D6B-8E93-B5D3D13A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09A23-945A-4028-B48D-0027779D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FED388-5094-4CA1-BDA9-8EA7D815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D46E9B-45AC-41A9-8850-A5C2A054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06C7B4-31D9-4738-9067-77E7C5ED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4C67D7-4A34-43AE-9176-F18AB5C0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E71AB3-2A18-41EB-AE99-6CED28F2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2ADCF3-CE52-49A0-B43E-E35D7DB0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715D27-F746-4707-BB97-8B12ED76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D3EB7-0FC8-4D39-A246-E30217C7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73F7DB-2E2C-4C7C-B0E2-6BCFCD76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C6CB8-95FB-4FF5-96BF-A7508669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2F96-B3F1-49CC-9B22-4B5B2A37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B4403-9AFE-4557-8F4A-65F810CF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C5422-D9F5-4FD7-B3A0-B3D5276C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19066-4E02-4BA6-939B-9F010EBE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C6B25-DC1E-46F9-8513-050B9459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EC27E-E7D3-4BAD-AE08-F48EBAD6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E0FED-8002-495B-A367-A197AEFB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0D804-6D4D-4D62-9DAC-1671A495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175E4-BE48-4262-845E-CF48A78E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35E49-450D-4558-9D8F-CBEF3F22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3E3A2-3767-45EC-B67C-66CFF95E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98D-29F3-4E74-A786-D252F427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DCEE3-17C2-40F3-B420-8D9F3783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71BEC-A616-45FF-944D-5286A27C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0A8AE-5E50-4164-A0E3-BE1F65F5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8AFFC-4535-4AEF-A97F-DFC43A29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C1C60-E74B-40B4-B5BC-F43D2AAC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D40C3-C270-4DBF-9FD8-FBBCF3B5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E4425-D2AD-4209-9345-034DF810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D5FE1-4835-4816-BF57-A11E5B62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81869-C7F8-4AD8-BFB8-8DFDB46B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93A91-4A2B-4336-8F5E-9D56D338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F4FB-AAD8-40D8-9A77-624992AC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74543-F9C3-4F17-8248-4FDA2B0A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E001D-13AF-4C1C-BC28-9DB87980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CFE44-F761-4FD2-A14F-81583656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1E6D3-530B-4500-B2A8-427173AD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4979C-6842-46B0-91EB-B095590D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A9D23-470F-4426-A958-4D73A0DA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321C5-7B26-4BD5-A876-CB0D0942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8E5DF-60A5-4E76-A4AD-7834228E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F94E7-E46F-4EDC-A22B-C606B7A5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05A4D-50B7-420D-80B9-38CD7480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DBE1-7513-472F-B480-2E8A6D01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B356C-47D3-49A1-A405-578AAA01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5F789-3F6D-4E11-AFBF-38BF4565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EB2F3-2B31-4BD2-AE1F-85F089F0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C97FF-CFEA-43FB-B6E8-64DFF24A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11CF1-2342-40D8-8BA0-B8A24C52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C60EF-393F-45E1-BBA8-84816170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4A187-A03E-45B0-BFED-F22B1F31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DC979-B90A-454D-95CB-8640FD96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07730-69FE-4B2E-B226-37569A3D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4732D-A007-4E06-AE43-684EB6D2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F7E-DBCD-4495-81EC-A6E9F784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A4441-AE17-4C43-97B4-E0DEAE48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8002EB-93AB-46AC-806B-CDBC4D3B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0C12B6-0B55-4604-9472-8EFE8BB1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5D3A27-66AB-4005-87C7-1A5B56C1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DBF365-8509-4FAC-8162-35FBE896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8B7A80-4B1A-401E-AFBF-21B2F184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38DD76-F27F-4B38-A7EA-53E6EE97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3FF13C-DCD3-4903-A43C-FC833CE4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116132-87AC-49BF-9F66-A029F279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C5CC14-4CFE-479A-B6E3-B9D3415D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2B65-2F0E-4B9E-A7F7-82D52F7B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B44CCB-5B8B-474E-AA28-BAA8287C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15AEE5-76A0-4FE7-8091-707A78E6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55B7EC-A087-4187-9DB1-6D71FE20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46F4F-EF08-4DEF-8BC3-32C1E457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58D09-96AD-4F1E-9028-D630A113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A0A5F-54E3-4B14-971A-8A8E68FF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B818F-BF49-488B-9C02-B3C4C1E4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0427C-1A51-4C3F-AB68-65F10C1C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58575-AF24-41E0-BF38-7121B547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EA20F-FE77-4892-9D7E-CA17C381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FA1-0E06-46C1-824F-C9B123B9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50A12-8CFA-476D-AFAB-E17F54AA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049B4-81A6-4495-980A-F5A67517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AD2B5-49C4-4403-A4B8-C6A8F6B6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E331E-CFAF-4BD4-9EEB-84D3CAB9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24474-F691-4B1B-B0CE-A225A737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1D1AD-FD01-42BD-80C4-CE69EC93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B39FF-1B6D-4CAF-AB76-16A3E35C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C0871-3EDB-4DBD-9DB3-08F0BA38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FA034-A924-457B-A7D8-44F349B7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CE454-1D32-46E9-95D2-5CD5F979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3F15-86C3-434C-9C0C-731AA38F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582C7-99AE-4949-8F29-30F65954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01A5A-1DD9-4D3F-AECB-A4E3E12B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66923-CE0D-4EB2-9872-8DE65999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C7F68-6531-4D87-B90D-0049FA06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E7AD4-9A3F-4178-85AA-1B24442B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A468A-CF1B-4D72-BD14-A27F5EA0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3579F-82A2-489E-B412-3E90AE83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BD2C7-8C0D-4886-B26C-129902C1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523C7-20E9-414A-B618-1650FD5C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83023-AAFB-4E66-A421-7164AAE4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75B2-B5F1-43D3-ACE3-3A26A5DC0B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41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FB71-360D-45EE-A2EA-6364F3FBDF5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7BDC-4986-4B29-BF23-CADC91BD44E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49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8312-156B-4354-B3D8-29CFCC3FCCB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E155-9F8F-42BD-88EB-BDB416EEE1B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89A7-8409-46B3-B524-C1CF30A714F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62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62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63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B25A-8116-406E-8C7D-A9C647F115C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C1E7-85B8-4B1E-B244-4575BD553EC1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B3A0-8797-487E-8BB7-486F3BBBD24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9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4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F559-33E7-4D19-9A52-CB54FC9B95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ая соединительная линия 8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576A-44C9-470E-80B6-DEFD913D1DD0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A4C5-EF15-41B1-859C-B8D3349676B6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dt" idx="1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27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EDBA-5CBD-4B96-A41E-95BF2E7C61B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1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2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2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9687-1309-4206-867F-D365F6E8DDA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36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440F-3F2D-427D-9571-F44054B9F8F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1023480" y="2999880"/>
            <a:ext cx="779004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b7"/>
                </a:solidFill>
                <a:latin typeface="Arial"/>
              </a:rPr>
              <a:t>Работу подготовил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b7"/>
                </a:solidFill>
                <a:latin typeface="Arial"/>
              </a:rPr>
              <a:t>обучающиеся 6 В класс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b7"/>
                </a:solidFill>
                <a:latin typeface="Arial"/>
              </a:rPr>
              <a:t>МОУ «СОШ №23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b7"/>
                </a:solidFill>
                <a:latin typeface="Arial"/>
              </a:rPr>
              <a:t>Червяков Паве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b7"/>
                </a:solidFill>
                <a:latin typeface="Arial"/>
              </a:rPr>
              <a:t>Сарибекян Ай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b7"/>
                </a:solidFill>
                <a:latin typeface="Arial"/>
              </a:rPr>
              <a:t>Руководитель: Аксянова Л.Х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WordArt 5"/>
          <p:cNvSpPr txBox="1"/>
          <p:nvPr/>
        </p:nvSpPr>
        <p:spPr>
          <a:xfrm>
            <a:off x="1071720" y="857160"/>
            <a:ext cx="73436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тематические понятия в пословицах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1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Rectangle 5" descr=""/>
          <p:cNvPicPr/>
          <p:nvPr/>
        </p:nvPicPr>
        <p:blipFill>
          <a:blip r:embed="rId1"/>
          <a:stretch/>
        </p:blipFill>
        <p:spPr>
          <a:xfrm>
            <a:off x="255600" y="274680"/>
            <a:ext cx="8437680" cy="12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1" name="Object 4"/>
          <p:cNvGraphicFramePr/>
          <p:nvPr/>
        </p:nvGraphicFramePr>
        <p:xfrm>
          <a:off x="1523880" y="183204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83204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68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68" fill="hold"/>
                                        <p:tgtEl>
                                          <p:spTgt spid="7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68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68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Заголовок 3" descr=""/>
          <p:cNvPicPr/>
          <p:nvPr/>
        </p:nvPicPr>
        <p:blipFill>
          <a:blip r:embed="rId1"/>
          <a:stretch/>
        </p:blipFill>
        <p:spPr>
          <a:xfrm>
            <a:off x="743040" y="1682640"/>
            <a:ext cx="8566200" cy="2968560"/>
          </a:xfrm>
          <a:prstGeom prst="rect">
            <a:avLst/>
          </a:prstGeom>
          <a:ln w="0">
            <a:noFill/>
          </a:ln>
        </p:spPr>
      </p:pic>
    </p:spTree>
  </p:cSld>
  <p:transition advTm="1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Rectangle 2" descr=""/>
          <p:cNvPicPr/>
          <p:nvPr/>
        </p:nvPicPr>
        <p:blipFill>
          <a:blip r:embed="rId1"/>
          <a:stretch/>
        </p:blipFill>
        <p:spPr>
          <a:xfrm>
            <a:off x="341280" y="237960"/>
            <a:ext cx="8504280" cy="18288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 txBox="1"/>
          <p:nvPr/>
        </p:nvSpPr>
        <p:spPr>
          <a:xfrm>
            <a:off x="304560" y="198108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Для этого мы: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- Рассказали о диаграммах, их видах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- О их применениях в различных сферах деятельности человек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- Показывали с их помощью: как можно наглядно увидеть соотношение чисел в пословицах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- Ответили на вопрос учебной задачи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707" name="Содержимое 3" descr="Хотите скачать Анимация спасибо за внимание для презентации …"/>
          <p:cNvPicPr/>
          <p:nvPr/>
        </p:nvPicPr>
        <p:blipFill>
          <a:blip r:embed="rId1"/>
          <a:stretch/>
        </p:blipFill>
        <p:spPr>
          <a:xfrm>
            <a:off x="1630440" y="155412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0" y="16729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Математика вокруг нас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Решение задач саахостической лини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Понятие диаграм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Виды диаграм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Построение диаграм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advTm="15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3"/>
          <p:cNvSpPr/>
          <p:nvPr/>
        </p:nvSpPr>
        <p:spPr>
          <a:xfrm>
            <a:off x="1428840" y="2286000"/>
            <a:ext cx="70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Цель прек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-формирование математической грамотности учащихс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-формирование навыков коллективной деятель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-формирование навыка поиска информ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Диаграмма - это ещё один вид математической модели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Она даёт наглядное представление о соотношении размеров тех или иных величин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На диаграмме размеры геометрических фигур даются в том же отношении, в котором соответствующие им величины находятся в действительност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5" name="WordArt 4"/>
          <p:cNvSpPr txBox="1"/>
          <p:nvPr/>
        </p:nvSpPr>
        <p:spPr>
          <a:xfrm>
            <a:off x="900000" y="765000"/>
            <a:ext cx="5972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42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 такое  диаграмма?</a:t>
            </a:r>
            <a:endParaRPr b="0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42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Если на шкале линейки деления соответствуют единицам длины, то на оси диаграммы рейтинга они соответствуют процентам успеваемости и обучаемости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Этому условию соответствуют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столбчатая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линейная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конусная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цилиндрическая диаграмм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7" name="WordArt 4"/>
          <p:cNvSpPr txBox="1"/>
          <p:nvPr/>
        </p:nvSpPr>
        <p:spPr>
          <a:xfrm>
            <a:off x="2556000" y="549360"/>
            <a:ext cx="4105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диаграмм.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Если на шкале линейки деления соответствуют единицам длины, то на оси диаграммы рейтинга они соответствуют процентам успеваемости и обучаемости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Этому условию соответствуют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столбчатая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линейная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конусная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цилиндрическая диаграмм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9" name="WordArt 4"/>
          <p:cNvSpPr txBox="1"/>
          <p:nvPr/>
        </p:nvSpPr>
        <p:spPr>
          <a:xfrm>
            <a:off x="2556000" y="549360"/>
            <a:ext cx="4105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диаграмм.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WordArt 4"/>
          <p:cNvSpPr txBox="1"/>
          <p:nvPr/>
        </p:nvSpPr>
        <p:spPr>
          <a:xfrm>
            <a:off x="457200" y="27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иаграмм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691" name="Object 39"/>
          <p:cNvGraphicFramePr/>
          <p:nvPr/>
        </p:nvGraphicFramePr>
        <p:xfrm>
          <a:off x="755640" y="2403360"/>
          <a:ext cx="7802640" cy="30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403360"/>
                    <a:ext cx="780264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Rectangle 42"/>
          <p:cNvSpPr/>
          <p:nvPr/>
        </p:nvSpPr>
        <p:spPr>
          <a:xfrm>
            <a:off x="1116000" y="1700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Rectangle 5" descr=""/>
          <p:cNvPicPr/>
          <p:nvPr/>
        </p:nvPicPr>
        <p:blipFill>
          <a:blip r:embed="rId1"/>
          <a:stretch/>
        </p:blipFill>
        <p:spPr>
          <a:xfrm>
            <a:off x="255600" y="274680"/>
            <a:ext cx="8437680" cy="12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5" name="Object 4"/>
          <p:cNvGraphicFramePr/>
          <p:nvPr/>
        </p:nvGraphicFramePr>
        <p:xfrm>
          <a:off x="1523880" y="183204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83204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Rectangle 5" descr=""/>
          <p:cNvPicPr/>
          <p:nvPr/>
        </p:nvPicPr>
        <p:blipFill>
          <a:blip r:embed="rId1"/>
          <a:stretch/>
        </p:blipFill>
        <p:spPr>
          <a:xfrm>
            <a:off x="255600" y="274680"/>
            <a:ext cx="8437680" cy="12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Object 4"/>
          <p:cNvGraphicFramePr/>
          <p:nvPr/>
        </p:nvGraphicFramePr>
        <p:xfrm>
          <a:off x="1523880" y="183204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83204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1:33:58Z</dcterms:created>
  <dc:creator>EBirukova</dc:creator>
  <dc:description/>
  <dc:language>en-US</dc:language>
  <cp:lastModifiedBy>Ренат Рустам</cp:lastModifiedBy>
  <dcterms:modified xsi:type="dcterms:W3CDTF">2014-10-24T13:31:48Z</dcterms:modified>
  <cp:revision>46</cp:revision>
  <dc:subject/>
  <dc:title>МАТЕМАТИКА В ПОСЛОВИЦАХ И ПОГОВОРКАХ</dc:title>
</cp:coreProperties>
</file>