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4F0-3156-401F-9111-907E1323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921-42C3-4415-A52A-241802D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0FA-6300-4EFD-A2B7-979019D2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B9E-A563-424D-8183-CB1BD275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215-5154-4EBB-BE72-40B8DC1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71D-F50A-47C8-8037-CA075B82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40D-5319-476A-B985-FDB1D3A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A4C-AA12-43D1-8BD2-887CADF4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A60-7A86-4118-BC24-403A7643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CE0-10E8-4ABC-B0E3-24853F2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54A-1019-4D4E-881C-48A5E4E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75F-E06C-4D0A-BCB6-2F906E5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BE2-C515-4E68-8C33-F02DAD5C5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47;&#1059;.ppt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уктурная схема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1125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Тест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Центральная часть компьюте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90960" y="2781360"/>
            <a:ext cx="73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вопро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мин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очный выбор  и множественны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6915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81800" y="1670040"/>
            <a:ext cx="4438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5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нточная библиоте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79280" y="2250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илище с большим количеством носителей и несколькими накоп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5640" y="385992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рузка нос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0" y="4525920"/>
            <a:ext cx="4932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й носитель может быть загружен в любой накоп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копителем закрепляется определенная часть общего хранилища нос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img1067"/>
          <p:cNvPicPr/>
          <p:nvPr/>
        </p:nvPicPr>
        <p:blipFill>
          <a:blip r:embed="rId2"/>
          <a:stretch/>
        </p:blipFill>
        <p:spPr>
          <a:xfrm>
            <a:off x="5483160" y="1112760"/>
            <a:ext cx="36608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284328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PlusMinus.gif"/>
          <p:cNvPicPr/>
          <p:nvPr/>
        </p:nvPicPr>
        <p:blipFill>
          <a:blip r:embed="rId1"/>
          <a:stretch/>
        </p:blipFill>
        <p:spPr>
          <a:xfrm>
            <a:off x="1260360" y="2492280"/>
            <a:ext cx="792360" cy="93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2195640" y="2421000"/>
            <a:ext cx="69483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большого объём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бильность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190600" y="4653000"/>
            <a:ext cx="44535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ая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цена накоп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PlusMinus.gif"/>
          <p:cNvPicPr/>
          <p:nvPr/>
        </p:nvPicPr>
        <p:blipFill>
          <a:blip r:embed="rId2"/>
          <a:stretch/>
        </p:blipFill>
        <p:spPr>
          <a:xfrm>
            <a:off x="1260360" y="4700520"/>
            <a:ext cx="792360" cy="86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DD-Server-SEAGATE-Cheetah-10K-6-36GB-10000rpm-8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438200"/>
            <a:ext cx="5508720" cy="5419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0" y="2707920"/>
            <a:ext cx="33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ёсткий ди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ches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132000" y="1341360"/>
            <a:ext cx="237672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2565360"/>
          <a:ext cx="8496000" cy="2417760"/>
        </p:xfrm>
        <a:graphic>
          <a:graphicData uri="http://schemas.openxmlformats.org/drawingml/2006/table">
            <a:tbl>
              <a:tblPr/>
              <a:tblGrid>
                <a:gridCol w="3744720"/>
                <a:gridCol w="2232000"/>
                <a:gridCol w="2519280"/>
              </a:tblGrid>
              <a:tr h="101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рхив 6,6 Пб в течение 5 лет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енточная библиот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сковая 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 долл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 млн. долла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энергопотреб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долла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тыс. долл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24000" y="5300640"/>
          <a:ext cx="8496000" cy="1366920"/>
        </p:xfrm>
        <a:graphic>
          <a:graphicData uri="http://schemas.openxmlformats.org/drawingml/2006/table">
            <a:tbl>
              <a:tblPr/>
              <a:tblGrid>
                <a:gridCol w="3743280"/>
                <a:gridCol w="2233440"/>
                <a:gridCol w="2519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осту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Picture 98" descr="PlusMinus.gif"/>
          <p:cNvPicPr/>
          <p:nvPr/>
        </p:nvPicPr>
        <p:blipFill>
          <a:blip r:embed="rId1"/>
          <a:srcRect l="29394" t="5910" r="32812" b="57585"/>
          <a:stretch/>
        </p:blipFill>
        <p:spPr>
          <a:xfrm>
            <a:off x="7308720" y="5302080"/>
            <a:ext cx="648000" cy="62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0" descr="PlusMinus.gif"/>
          <p:cNvPicPr/>
          <p:nvPr/>
        </p:nvPicPr>
        <p:blipFill>
          <a:blip r:embed="rId2"/>
          <a:srcRect l="29394" t="5910" r="32812" b="57585"/>
          <a:stretch/>
        </p:blipFill>
        <p:spPr>
          <a:xfrm>
            <a:off x="7308720" y="6021360"/>
            <a:ext cx="648000" cy="625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1" descr="PlusMinus.gif"/>
          <p:cNvPicPr/>
          <p:nvPr/>
        </p:nvPicPr>
        <p:blipFill>
          <a:blip r:embed="rId3"/>
          <a:srcRect l="29394" t="54939" r="32812" b="7645"/>
          <a:stretch/>
        </p:blipFill>
        <p:spPr>
          <a:xfrm>
            <a:off x="4859280" y="5302080"/>
            <a:ext cx="647640" cy="641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2" descr="PlusMinus.gif"/>
          <p:cNvPicPr/>
          <p:nvPr/>
        </p:nvPicPr>
        <p:blipFill>
          <a:blip r:embed="rId4"/>
          <a:srcRect l="29394" t="54939" r="32812" b="7645"/>
          <a:stretch/>
        </p:blipFill>
        <p:spPr>
          <a:xfrm>
            <a:off x="4859280" y="6021360"/>
            <a:ext cx="647640" cy="641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4"/>
          <p:cNvSpPr/>
          <p:nvPr/>
        </p:nvSpPr>
        <p:spPr>
          <a:xfrm>
            <a:off x="250920" y="1341360"/>
            <a:ext cx="86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нточная библиотека и дисков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равн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81080" y="213372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400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жёсткий диск называют винчес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196640" y="2852640"/>
            <a:ext cx="69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в се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852360" y="155736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/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66760" y="2997360"/>
            <a:ext cx="88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в се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дения о первом жёстком д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уктурная схема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9280" y="2060640"/>
            <a:ext cx="8785440" cy="576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ая 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150920" y="692280"/>
            <a:ext cx="6662880" cy="1368360"/>
            <a:chOff x="1150920" y="692280"/>
            <a:chExt cx="6662880" cy="1368360"/>
          </a:xfrm>
        </p:grpSpPr>
        <p:sp>
          <p:nvSpPr>
            <p:cNvPr id="47" name="Rectangle 5"/>
            <p:cNvSpPr/>
            <p:nvPr/>
          </p:nvSpPr>
          <p:spPr>
            <a:xfrm>
              <a:off x="1150920" y="693720"/>
              <a:ext cx="2411280" cy="3603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ИКРОПРОЦЕСС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5364000" y="765000"/>
              <a:ext cx="2449800" cy="3603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СНОВНАЯ ПАМЯ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1150920" y="1054080"/>
              <a:ext cx="241128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401840" y="1125360"/>
              <a:ext cx="720720" cy="28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Л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401840" y="1557360"/>
              <a:ext cx="720720" cy="28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2627280" y="1557360"/>
              <a:ext cx="720720" cy="28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Э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2627280" y="1125360"/>
              <a:ext cx="720720" cy="28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5364000" y="1125360"/>
              <a:ext cx="1224000" cy="35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588000" y="1125360"/>
              <a:ext cx="1225800" cy="35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З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4"/>
            <p:cNvSpPr/>
            <p:nvPr/>
          </p:nvSpPr>
          <p:spPr>
            <a:xfrm>
              <a:off x="3564000" y="692280"/>
              <a:ext cx="1728720" cy="431640"/>
            </a:xfrm>
            <a:prstGeom prst="leftRightArrow">
              <a:avLst>
                <a:gd name="adj1" fmla="val 50000"/>
                <a:gd name="adj2" fmla="val 797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284720" y="981000"/>
              <a:ext cx="216000" cy="107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6"/>
          <p:cNvGrpSpPr/>
          <p:nvPr/>
        </p:nvGrpSpPr>
        <p:grpSpPr>
          <a:xfrm>
            <a:off x="179280" y="2637000"/>
            <a:ext cx="8785440" cy="3796560"/>
            <a:chOff x="179280" y="2637000"/>
            <a:chExt cx="8785440" cy="3796560"/>
          </a:xfrm>
        </p:grpSpPr>
        <p:sp>
          <p:nvSpPr>
            <p:cNvPr id="59" name="AutoShape 17"/>
            <p:cNvSpPr/>
            <p:nvPr/>
          </p:nvSpPr>
          <p:spPr>
            <a:xfrm>
              <a:off x="4211640" y="2637000"/>
              <a:ext cx="36036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8"/>
            <p:cNvGrpSpPr/>
            <p:nvPr/>
          </p:nvGrpSpPr>
          <p:grpSpPr>
            <a:xfrm>
              <a:off x="179280" y="2997360"/>
              <a:ext cx="8785440" cy="3436200"/>
              <a:chOff x="179280" y="2997360"/>
              <a:chExt cx="8785440" cy="3436200"/>
            </a:xfrm>
          </p:grpSpPr>
          <p:sp>
            <p:nvSpPr>
              <p:cNvPr id="61" name="Rectangle 19"/>
              <p:cNvSpPr/>
              <p:nvPr/>
            </p:nvSpPr>
            <p:spPr>
              <a:xfrm>
                <a:off x="179280" y="2997360"/>
                <a:ext cx="8785440" cy="287280"/>
              </a:xfrm>
              <a:prstGeom prst="rect">
                <a:avLst/>
              </a:prstGeom>
              <a:solidFill>
                <a:srgbClr val="66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истема портов ввода-вы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0"/>
              <p:cNvSpPr/>
              <p:nvPr/>
            </p:nvSpPr>
            <p:spPr>
              <a:xfrm>
                <a:off x="179280" y="3789360"/>
                <a:ext cx="122400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Звуково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дап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1"/>
              <p:cNvSpPr/>
              <p:nvPr/>
            </p:nvSpPr>
            <p:spPr>
              <a:xfrm>
                <a:off x="1692360" y="3789360"/>
                <a:ext cx="122400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етево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дап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2"/>
              <p:cNvSpPr/>
              <p:nvPr/>
            </p:nvSpPr>
            <p:spPr>
              <a:xfrm>
                <a:off x="3132000" y="3789360"/>
                <a:ext cx="122400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идео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дап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3"/>
              <p:cNvSpPr/>
              <p:nvPr/>
            </p:nvSpPr>
            <p:spPr>
              <a:xfrm>
                <a:off x="4572000" y="3789360"/>
                <a:ext cx="151128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онтролл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З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4"/>
              <p:cNvSpPr/>
              <p:nvPr/>
            </p:nvSpPr>
            <p:spPr>
              <a:xfrm>
                <a:off x="6732720" y="3789360"/>
                <a:ext cx="172872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даптеры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интерфейс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5"/>
              <p:cNvSpPr/>
              <p:nvPr/>
            </p:nvSpPr>
            <p:spPr>
              <a:xfrm>
                <a:off x="3059280" y="4797360"/>
                <a:ext cx="1223640" cy="289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они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6"/>
              <p:cNvSpPr/>
              <p:nvPr/>
            </p:nvSpPr>
            <p:spPr>
              <a:xfrm>
                <a:off x="4643280" y="4797360"/>
                <a:ext cx="936720" cy="289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З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7"/>
              <p:cNvSpPr/>
              <p:nvPr/>
            </p:nvSpPr>
            <p:spPr>
              <a:xfrm>
                <a:off x="5796000" y="4797360"/>
                <a:ext cx="1440000" cy="289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лавиату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8"/>
              <p:cNvSpPr/>
              <p:nvPr/>
            </p:nvSpPr>
            <p:spPr>
              <a:xfrm>
                <a:off x="7380360" y="4797360"/>
                <a:ext cx="1224000" cy="2872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29"/>
              <p:cNvSpPr/>
              <p:nvPr/>
            </p:nvSpPr>
            <p:spPr>
              <a:xfrm>
                <a:off x="5148360" y="5877000"/>
                <a:ext cx="1224000" cy="2887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оде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0"/>
              <p:cNvSpPr/>
              <p:nvPr/>
            </p:nvSpPr>
            <p:spPr>
              <a:xfrm>
                <a:off x="3492360" y="5877000"/>
                <a:ext cx="1224000" cy="2887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ин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1"/>
              <p:cNvSpPr/>
              <p:nvPr/>
            </p:nvSpPr>
            <p:spPr>
              <a:xfrm>
                <a:off x="1835280" y="5877000"/>
                <a:ext cx="1224000" cy="2887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кан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2"/>
              <p:cNvSpPr/>
              <p:nvPr/>
            </p:nvSpPr>
            <p:spPr>
              <a:xfrm>
                <a:off x="179280" y="5877000"/>
                <a:ext cx="1224000" cy="2887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олон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3"/>
              <p:cNvSpPr/>
              <p:nvPr/>
            </p:nvSpPr>
            <p:spPr>
              <a:xfrm>
                <a:off x="755640" y="3500280"/>
                <a:ext cx="806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4"/>
              <p:cNvSpPr/>
              <p:nvPr/>
            </p:nvSpPr>
            <p:spPr>
              <a:xfrm>
                <a:off x="755640" y="350028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5"/>
              <p:cNvSpPr/>
              <p:nvPr/>
            </p:nvSpPr>
            <p:spPr>
              <a:xfrm>
                <a:off x="2340000" y="350028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708360" y="350028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7"/>
              <p:cNvSpPr/>
              <p:nvPr/>
            </p:nvSpPr>
            <p:spPr>
              <a:xfrm>
                <a:off x="5364000" y="350028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8"/>
              <p:cNvSpPr/>
              <p:nvPr/>
            </p:nvSpPr>
            <p:spPr>
              <a:xfrm>
                <a:off x="7596360" y="350028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9"/>
              <p:cNvSpPr/>
              <p:nvPr/>
            </p:nvSpPr>
            <p:spPr>
              <a:xfrm flipV="1">
                <a:off x="6300720" y="328428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0"/>
              <p:cNvSpPr/>
              <p:nvPr/>
            </p:nvSpPr>
            <p:spPr>
              <a:xfrm flipV="1">
                <a:off x="1908000" y="328428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1"/>
              <p:cNvSpPr/>
              <p:nvPr/>
            </p:nvSpPr>
            <p:spPr>
              <a:xfrm>
                <a:off x="8820000" y="3500280"/>
                <a:ext cx="0" cy="180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2"/>
              <p:cNvSpPr/>
              <p:nvPr/>
            </p:nvSpPr>
            <p:spPr>
              <a:xfrm flipH="1">
                <a:off x="4067280" y="5300640"/>
                <a:ext cx="475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3"/>
              <p:cNvSpPr/>
              <p:nvPr/>
            </p:nvSpPr>
            <p:spPr>
              <a:xfrm>
                <a:off x="2484360" y="5516640"/>
                <a:ext cx="3311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4"/>
              <p:cNvSpPr/>
              <p:nvPr/>
            </p:nvSpPr>
            <p:spPr>
              <a:xfrm>
                <a:off x="4067280" y="530064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5"/>
              <p:cNvSpPr/>
              <p:nvPr/>
            </p:nvSpPr>
            <p:spPr>
              <a:xfrm>
                <a:off x="2484360" y="551664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6"/>
              <p:cNvSpPr/>
              <p:nvPr/>
            </p:nvSpPr>
            <p:spPr>
              <a:xfrm>
                <a:off x="7885080" y="443700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7"/>
              <p:cNvSpPr/>
              <p:nvPr/>
            </p:nvSpPr>
            <p:spPr>
              <a:xfrm>
                <a:off x="7093080" y="443700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48"/>
              <p:cNvSpPr/>
              <p:nvPr/>
            </p:nvSpPr>
            <p:spPr>
              <a:xfrm>
                <a:off x="5076720" y="443700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9"/>
              <p:cNvSpPr/>
              <p:nvPr/>
            </p:nvSpPr>
            <p:spPr>
              <a:xfrm>
                <a:off x="4140360" y="443700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0"/>
              <p:cNvSpPr/>
              <p:nvPr/>
            </p:nvSpPr>
            <p:spPr>
              <a:xfrm>
                <a:off x="4140360" y="551664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1"/>
              <p:cNvSpPr/>
              <p:nvPr/>
            </p:nvSpPr>
            <p:spPr>
              <a:xfrm>
                <a:off x="5796000" y="551664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2"/>
              <p:cNvSpPr/>
              <p:nvPr/>
            </p:nvSpPr>
            <p:spPr>
              <a:xfrm>
                <a:off x="611280" y="4437000"/>
                <a:ext cx="0" cy="144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53"/>
              <p:cNvSpPr/>
              <p:nvPr/>
            </p:nvSpPr>
            <p:spPr>
              <a:xfrm>
                <a:off x="614520" y="4437000"/>
                <a:ext cx="193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9999"/>
                    </a:solidFill>
                    <a:latin typeface="Arial"/>
                  </a:rPr>
                  <a:t>Основны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9999"/>
                    </a:solidFill>
                    <a:latin typeface="Arial"/>
                  </a:rPr>
                  <a:t>периферийн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9999"/>
                    </a:solidFill>
                    <a:latin typeface="Arial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54"/>
              <p:cNvSpPr/>
              <p:nvPr/>
            </p:nvSpPr>
            <p:spPr>
              <a:xfrm>
                <a:off x="6589080" y="5516640"/>
                <a:ext cx="2233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Дополнительны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периферийн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 flipH="1">
                <a:off x="6443280" y="6021360"/>
                <a:ext cx="36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6"/>
              <p:cNvSpPr/>
              <p:nvPr/>
            </p:nvSpPr>
            <p:spPr>
              <a:xfrm>
                <a:off x="2556000" y="4941720"/>
                <a:ext cx="36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уктурная схема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79280" y="2997360"/>
            <a:ext cx="8785440" cy="287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портов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79280" y="3789360"/>
            <a:ext cx="1224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к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692360" y="3789360"/>
            <a:ext cx="1224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132000" y="3789360"/>
            <a:ext cx="1224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572000" y="3789360"/>
            <a:ext cx="1511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732720" y="3789360"/>
            <a:ext cx="172872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9280" y="4797360"/>
            <a:ext cx="122364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643280" y="4797360"/>
            <a:ext cx="93672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5796000" y="4797360"/>
            <a:ext cx="144000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7380360" y="4797360"/>
            <a:ext cx="1224000" cy="287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5148360" y="5877000"/>
            <a:ext cx="1224000" cy="288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492360" y="5877000"/>
            <a:ext cx="1224000" cy="288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835280" y="5877000"/>
            <a:ext cx="1224000" cy="288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79280" y="5877000"/>
            <a:ext cx="1224000" cy="288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755640" y="3500280"/>
            <a:ext cx="80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75564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234000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370836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536400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759636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6300720" y="328428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1908000" y="328428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8820000" y="350028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H="1">
            <a:off x="4067280" y="5300640"/>
            <a:ext cx="47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2484360" y="5516640"/>
            <a:ext cx="331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067280" y="5300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2484360" y="5516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7885080" y="443700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>
            <a:off x="7093080" y="443700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5076720" y="443700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4140360" y="443700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7"/>
          <p:cNvSpPr/>
          <p:nvPr/>
        </p:nvSpPr>
        <p:spPr>
          <a:xfrm>
            <a:off x="4140360" y="5516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5796000" y="5516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611280" y="4437000"/>
            <a:ext cx="0" cy="1440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14520" y="443700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сно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ерифе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589080" y="5516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ифе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H="1">
            <a:off x="6443280" y="602136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2556000" y="494172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4"/>
          <p:cNvSpPr/>
          <p:nvPr/>
        </p:nvSpPr>
        <p:spPr>
          <a:xfrm>
            <a:off x="0" y="54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5"/>
          <p:cNvSpPr/>
          <p:nvPr/>
        </p:nvSpPr>
        <p:spPr>
          <a:xfrm>
            <a:off x="214200" y="15555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любые устройства, конструктивно отделённые от центральной части компьютера, имеющие собственное управление и выполняющие команды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2745720" y="1124640"/>
            <a:ext cx="63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ферия - часть чего-либо, удалённая от цен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уктурная схема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059280" y="4797360"/>
            <a:ext cx="122364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643280" y="4797360"/>
            <a:ext cx="93672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796000" y="4797360"/>
            <a:ext cx="1440000" cy="289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380360" y="4797360"/>
            <a:ext cx="1224000" cy="287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614520" y="443700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сно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ерифе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56000" y="494172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0" y="69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214200" y="15555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любые устройства, конструктивно отделенные от центральной части компьютера, имеющие собственное управление и выполняющие команды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8628E-006 L 0.00416 -0.43466 E">
                                      <p:cBhvr>
                                        <p:cTn id="25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05839E-007 L 0.004 -0.44161 E">
                                      <p:cBhvr>
                                        <p:cTn id="25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05839E-007 L 0.00417 -0.44161 E">
                                      <p:cBhvr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5839E-007 L -0.00382 -0.44161 E">
                                      <p:cBhvr>
                                        <p:cTn id="25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5839E-007 L 0.00017 -0.44161 E">
                                      <p:cBhvr>
                                        <p:cTn id="25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00185E-006 L -0.00382 -0.44138 E">
                                      <p:cBhvr>
                                        <p:cTn id="26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уктурная схема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59280" y="1773360"/>
            <a:ext cx="1223640" cy="28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3280" y="1773360"/>
            <a:ext cx="936720" cy="28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796000" y="1773360"/>
            <a:ext cx="1440000" cy="28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380360" y="1773360"/>
            <a:ext cx="1224000" cy="287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4520" y="141300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сно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ерифе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2556000" y="191772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69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79280" y="4651200"/>
            <a:ext cx="87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это запоминающее устройство, предназначенное для долговременного хранения программ и данных на различ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ителях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1409E-006 L -0.03542 0.14689 E">
                                      <p:cBhvr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76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ВЗУ по типу но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50920" y="2492280"/>
            <a:ext cx="223344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843280" y="2492280"/>
            <a:ext cx="237636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651640" y="2492280"/>
            <a:ext cx="324000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проводни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39640" y="3500280"/>
            <a:ext cx="180036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539640" y="4437000"/>
            <a:ext cx="180036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б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3203640" y="5300640"/>
            <a:ext cx="187308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203640" y="4365720"/>
            <a:ext cx="187308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203640" y="3429000"/>
            <a:ext cx="187308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156360" y="4797360"/>
            <a:ext cx="2448000" cy="792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нтерфейс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156360" y="3716280"/>
            <a:ext cx="216072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324000" y="321300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24000" y="4797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324000" y="3860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916360" y="321300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916360" y="566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2916360" y="4797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2916360" y="378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5796000" y="321300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5796000" y="522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579600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2060640"/>
            <a:ext cx="60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7308720" y="206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067280" y="206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206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3" descr="33403_1-500x500"/>
          <p:cNvPicPr/>
          <p:nvPr/>
        </p:nvPicPr>
        <p:blipFill>
          <a:blip r:embed="rId1"/>
          <a:stretch/>
        </p:blipFill>
        <p:spPr>
          <a:xfrm>
            <a:off x="2050920" y="1654200"/>
            <a:ext cx="137340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12890_105635"/>
          <p:cNvPicPr/>
          <p:nvPr/>
        </p:nvPicPr>
        <p:blipFill>
          <a:blip r:embed="rId2"/>
          <a:stretch/>
        </p:blipFill>
        <p:spPr>
          <a:xfrm>
            <a:off x="5688000" y="1482840"/>
            <a:ext cx="3673440" cy="315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1713169990"/>
          <p:cNvPicPr/>
          <p:nvPr/>
        </p:nvPicPr>
        <p:blipFill>
          <a:blip r:embed="rId3"/>
          <a:stretch/>
        </p:blipFill>
        <p:spPr>
          <a:xfrm>
            <a:off x="3852720" y="1627200"/>
            <a:ext cx="2665440" cy="1890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6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шние запоминающ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0ceb5af4cf90"/>
          <p:cNvPicPr/>
          <p:nvPr/>
        </p:nvPicPr>
        <p:blipFill>
          <a:blip r:embed="rId4"/>
          <a:stretch/>
        </p:blipFill>
        <p:spPr>
          <a:xfrm>
            <a:off x="0" y="1509840"/>
            <a:ext cx="2664000" cy="20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drive-tape"/>
          <p:cNvPicPr/>
          <p:nvPr/>
        </p:nvPicPr>
        <p:blipFill>
          <a:blip r:embed="rId5"/>
          <a:stretch/>
        </p:blipFill>
        <p:spPr>
          <a:xfrm rot="20854200">
            <a:off x="0" y="3644640"/>
            <a:ext cx="5580000" cy="3405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14_17_17_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7381800" y="4075200"/>
            <a:ext cx="1629000" cy="1654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9"/>
          <p:cNvSpPr/>
          <p:nvPr/>
        </p:nvSpPr>
        <p:spPr>
          <a:xfrm>
            <a:off x="360360" y="5013360"/>
            <a:ext cx="223344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076720" y="3716280"/>
            <a:ext cx="237672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539640" y="2805120"/>
            <a:ext cx="324036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проводни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3" descr="Заключение"/>
          <p:cNvPicPr/>
          <p:nvPr/>
        </p:nvPicPr>
        <p:blipFill>
          <a:blip r:embed="rId1"/>
          <a:stretch/>
        </p:blipFill>
        <p:spPr>
          <a:xfrm>
            <a:off x="5095800" y="3486240"/>
            <a:ext cx="4048200" cy="3371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0" y="2565360"/>
            <a:ext cx="898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и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 сути тот же магнитофон, который хранит данные в цифровом виде на магнитной л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780360" y="661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276720" y="1341360"/>
            <a:ext cx="223344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4363920"/>
            <a:ext cx="62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на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ь и воспроизведение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резервных копий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img1062"/>
          <p:cNvPicPr/>
          <p:nvPr/>
        </p:nvPicPr>
        <p:blipFill>
          <a:blip r:embed="rId1"/>
          <a:stretch/>
        </p:blipFill>
        <p:spPr>
          <a:xfrm>
            <a:off x="1116000" y="1557360"/>
            <a:ext cx="6697800" cy="4235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3203640" y="6915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6520" y="299736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511240" y="59500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оп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>
            <a:off x="1044720" y="3429000"/>
            <a:ext cx="5029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4427280" y="4941720"/>
            <a:ext cx="108108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33:48Z</dcterms:created>
  <dc:creator>user</dc:creator>
  <dc:description/>
  <dc:language>en-US</dc:language>
  <cp:lastModifiedBy>Наталья</cp:lastModifiedBy>
  <dcterms:modified xsi:type="dcterms:W3CDTF">2014-10-24T17:16:31Z</dcterms:modified>
  <cp:revision>19</cp:revision>
  <dc:subject/>
  <dc:title>Слайд 1</dc:title>
</cp:coreProperties>
</file>