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dt" idx="10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ftr" idx="10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 type="sldNum" idx="10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F02B-2742-4E32-BCEF-1DFBE9E80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8F1-8C4C-4982-99C8-F075E34D43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52D3-F9A0-4493-B53F-4200BF525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C73-03C4-42C3-A200-F4DAB35D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22B-5796-4144-9D04-BF6FA04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631AF-301C-442B-9BC4-751045D7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B22-F2FC-4342-98A0-275BA3FE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A81B-0C8F-484C-AE3E-714F83D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E7D91-3F46-4BCE-9AE7-4FB25DC5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092B8-5229-4347-971E-9934E052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D6D1-DBFB-4C59-AD52-5409C2F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3CB62-DD83-4D93-BCAF-9B40756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3C55D-D812-4816-B954-47F6F2B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26C96-8CAF-45F4-A509-0B86405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DAFDB-1AE4-4C9E-AEE9-092AE09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D836D-219D-4BDD-8EA9-011C6070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D127-A44A-4CE7-9342-F2D718A6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53E-8161-4DBD-AA02-5DC14AFE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B47AB-8881-40C4-B5AD-337815DE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EC635-1CF7-4B74-A433-6A213657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730A0-67AE-435F-97CE-0E454785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5CD9F-525C-41D2-85A9-43DA921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FC35E-A7F6-4296-B8BA-8CD69961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CD183-F83A-4C01-B113-F834A7B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322F1-1CAE-430B-919D-338A796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6FEB0-9A63-41C7-8D53-36791509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EB0F2-E69E-4356-866E-340B063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FDE2A-5B08-40C3-8011-3BC604D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090D-7151-42EB-8112-2DA49F61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F08CF-8F19-4385-A17C-8409B2D4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887FF-3514-4073-ACB1-27A89B53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15234-9780-497D-870C-753977FB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44218-7F05-4D01-B5B9-20E0B434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FEC34-C821-40E0-9136-C798C81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5F61-7F59-404C-B986-A7449E1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98630-E6AC-46F8-BF0C-A89940BF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63495-E85F-48E8-B27A-CEABED43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3E8CA-8EA4-4645-ACA7-57DA213A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2C586-0FB1-47B6-AB97-30A6C200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4A39-77D0-47E7-9805-6ED10A1A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5B26D-F6B4-4072-94C7-7AE531A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79A7D-5A26-4742-A7A8-1399B4E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C72CC-01C0-4D69-8BBE-2E791B34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A766D-9F47-4E99-A191-5992D7C7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DCE08-F268-4046-B949-AC3835F6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AD54-92CF-4146-A4A3-4E5BCDC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91060-9373-44D6-B0F8-67B74EFA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1447E-EB53-47EC-BAA6-1AE217D5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359F3-29A8-430E-8BCD-6EE9CBDB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D7B39-210F-49D8-B0A8-A724F67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5FCC-2236-4332-A646-7555A439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8DAC6-F779-49FE-BB3A-1E684AE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D8CF5-23AB-4D0D-8182-8FB9317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D5C8-A956-4BED-9627-0A69F550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240F0-E891-45F0-803B-6B348B36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029C9-C017-473B-8A60-4B83CDD4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1CBF7-03EC-49DF-A395-B983737D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E5F20-63A2-4094-91F6-D9C5160F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984C0-4D66-42AE-AAEB-902A0C55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CAC4C-B829-42C8-BD6C-5D945BCD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173A9-A445-42C1-B098-FBD41D55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6FB1-8879-482A-A9D4-E4E81298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162A0-0144-453A-8905-37FE4A4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C68C7-C53B-42A0-8D00-068A0E71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0E429-D6B1-499B-B698-7143C940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AE5D3-10EB-413D-B958-90241213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81277-715A-4591-8251-69A9921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B483D-E1FD-47D2-8E24-E527C84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452BB-D14E-40B5-A721-6058DB8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10051-7B1C-4EF7-A0F9-BCFBB2E6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EF065-DA7F-4775-B481-72D3AC22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BE769-2711-4167-AC8A-306B5D2A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D6B0-9CFA-45C2-A3B1-5CD3339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D2D97-BB76-487A-92AE-E6C3FCFC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0C3D9-5E2D-45B9-B372-53FB3F51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2769-67C9-452C-AB9B-FC46C460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30D4E-E300-4CB3-ACAB-A6952CF2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39BF7-582E-464C-AB3D-B41ED215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D936C-8B84-4CDB-BCC1-6A6C813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27E5E-5D5C-4E61-A4E5-E9281C74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13590-CEE8-404C-AC8D-9590A02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E0D92-F085-4709-B9C6-F672B532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946AF-C504-4214-95FE-7E297F7F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ED5F-2939-43EF-8DC7-20C13E2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3B740-7393-444A-8806-CBAAE08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08CA1-400B-47FF-8597-70332B54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ED61D-EC2C-472D-B9BC-B976826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6D5F7-B44C-4465-9C42-2C99A024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37B6C-F9AF-4E65-A8FF-6BFAA3A1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90853-0BA0-49B9-9BAF-A15762AC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04E32-880B-4229-B8CE-EB82A52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4D63D-DE81-43B9-A50E-37A45F8B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9DF56-046C-412D-A6B6-F6DF886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B5633-0BD7-495F-ABD4-7052A49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75C6-079C-4119-B62A-D418DA8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70E1A-66D2-41CF-9CC8-FDEE3F1C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F1E4A-2136-4BA6-B422-F1F55D7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EECBD-1EF7-47A6-9790-40B09413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C1D10-09CE-4165-9E0F-DAFE8AE7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9CF80-837C-41F1-A100-DCEC78BF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0C75D-BCF7-4AB7-80E7-3B22874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4B4D7-1D26-47D5-8564-082398F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87909-148E-4490-AAAF-A36D5B68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D0431-D5EB-4F47-919A-98DE1AE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3B8BB-2D9B-48E5-8D50-A5D7D883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330-90F9-4936-B5A9-05DBFB1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69FC-5762-4381-A034-34BA6F7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A6024-9944-4F61-8491-B437CB4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E2127-0155-4D7D-B806-EDF2C42F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F019F-9282-4612-8E6E-18C57E5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FDABC-AD47-456B-AD43-00D960BC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108D5-4798-464A-BE34-B70EA3D1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63B5A-F882-4F11-A200-E3B0751B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2A83D-1E7E-4C3D-AC3D-2C7DEC8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96ADC-CA2A-4E16-BCBD-0EE2ECD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20831-8209-42B1-992E-95456608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596AD-2690-4A58-9E9B-E8967A94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CB7E-7DBD-46FB-921F-6F511D9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1D327-8DBE-4C22-8D27-FA70148E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FA63B-4ABE-4AC8-A7A3-2D6622B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6A001-C58A-464E-815C-0304729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20CB8-E31A-4079-89FB-4C8FDD39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990FC-B988-4930-9AB1-B94B011F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32BFA-8CD0-4103-8B4D-CE82544E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BA796-C21B-4BBC-9844-98AABD03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6CB93-220C-44DE-A871-17F2A3D2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58CCA-3917-473B-8C9D-C55F203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FF33D-0636-4A5E-9CEB-52A9BF0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50C-911B-4E7A-866F-2EFDDADA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18594-65C5-4FCA-9A08-B76D12F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88ADF-8989-44F7-92E7-68D727BA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E538B-4BC9-4DED-8766-A561C430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59DD3-B876-4370-8A88-03FB0498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55A7F-CCF2-483D-BD58-700B9BC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D012D-AAD8-4562-ACA2-4C201A15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8AAB9-BE2D-4EC7-B18E-4B4E4765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91FAA-01E3-4873-8162-6A5E01B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D4041-5412-4BB8-83C0-6F0C6ACA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40E93-3073-4344-9836-D17B8019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A9DF-B7AE-4FF9-B17E-14504403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BEB6D-4455-4F8E-BACD-820739A7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8F879-337C-4DC3-8E5C-4FAE7AC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A4250-C8CC-40CB-8EB3-721DBDBA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D20B39-AE21-4D53-8A63-5554231A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2474F-D3F9-43A3-B663-FB449E1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3D3F8-2F4E-4928-928C-3A22048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627DB-05A5-43B0-BD54-471CA92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18B4E-E391-4C34-8CD8-7970C0B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13922-C57E-4436-B42F-E88D39CF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1EB49-D40E-4E52-9763-3859F64D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93E5-2E04-4963-8602-94E8EA57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5B06D-4A07-454A-A5EE-17958DB9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61D8C-57BE-423C-B19A-091BFFAF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1AECF-DCC1-4B69-8928-FE20829C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21F1C-DDD0-4562-AD74-B4756E0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BCEB0-0166-4E36-A50A-02F28F08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B5FD9-F6AA-4F7B-B7AD-EEDC5B8F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9DFAA-B977-4071-B4A8-84EEDF6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380B5-CE5C-468E-8CF8-0998F608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935010-F202-492B-B75B-802E867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0683A-F498-4F55-B5FD-D2E99B7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059A-F9F6-48A5-8AC2-7C1E3F7D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718001-A403-4F6E-845B-D727E89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CEA52-DF1A-434C-8DD2-E58773B9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A25D8-3E2F-494B-AFE5-4CFF3F70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71BED-1C6B-4E9A-A944-DBA4F7AB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97C81-0506-42D9-B21E-5F4FBB7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2FE7E-3738-415D-9180-A2153D0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F93BB1-88D6-4AFD-BFBB-ED75778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74B00-47BF-4DBC-908B-339C91F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53841-2D5F-49CA-9967-11056AF6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ED37E-324B-403A-AF4A-0BDAF7D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8AAA-A010-47FB-AB9D-98BE32DC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28430-299C-479D-803D-4D07BC8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9F132-042E-455E-99CC-90B3A34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C2288-A3D4-4665-A6FE-91BA2330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65D80-0E9C-44E3-AF47-0BD283C9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9AFFC-5291-46B0-B4BD-6C69A1FB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08C00-B64A-4143-98A2-F37F147C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0D74D-D454-44DF-9517-E10C6A8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B7560E-8CA4-44CB-8DCD-82BEA2F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1AEF6D-A018-4C0F-98EF-9CD9BBD0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42C1E-7ED3-4BA0-9B4C-C2B01114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1C01-3C7A-46A7-BFAA-781DF202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63C06-9FCB-4E5D-9E70-0C0FB595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CE848-BD3B-4DA6-A838-62CE2B9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90D3F5-DD94-45AA-A9A1-FF7271B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B0F54B-F3D4-40CB-9FFF-5DEDA44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CBF90-B18A-4ED9-90EF-546EFDC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1353B-425E-464E-B3C6-62332AC0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F21B95-B90A-4011-A27C-E6E578C8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80F06B-F0E7-43D4-8FB0-0A89D97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743B9-14F4-48BA-A18C-9790F0C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5E10C-2B9B-4B66-A62D-520D5A1B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32E3-A01F-4DEE-A815-E26C2BD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EE1FB0-C1C3-419B-8767-83375F9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FE326-FDC8-4AC0-8CFA-18973B74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B4740-7C4A-458F-A706-948669F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855184-8248-479D-9F3E-31475AA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ACA1F-F715-4D31-BCEF-2D2673E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9414D-6879-4B5B-9B69-9A99FBD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C07B86-0516-4BF8-8495-C209C37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2A9E44-4B30-4311-877F-964ECC3C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2DA76-D20D-4CDA-A529-5EA9A836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255F4F-8AB9-4F20-8A26-527A75A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F261-D83D-4CF1-9177-A9D289F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5F3C4-A942-4B9E-B5A3-DF20048B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E429C6-571C-4873-BE38-E618908E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393579-9F54-4706-A2CD-34B1972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F982E6-0879-4F43-9F95-6441858B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E50A81-FA3A-4C8D-952C-8D52FD82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560DE9-FB09-4341-BC41-54E6385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7B9E9C-BF35-4D3E-BAFC-D2CB0E6E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CDF31-DF52-4020-834E-2676DD8E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209613-3C12-4DB7-9F3C-1977EF3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0CD1AA-EB16-4BFF-852E-1E7F3A55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DAD-A585-4F61-977F-3B2EF72F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2223-63AA-4618-A637-C3BE6FDD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FAE0C-26AB-4EE0-88DD-49805E6A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9ECB4F-DA30-46CC-B394-07200645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58071D-605A-4B9D-B0BA-CFA48EF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D30BB8-084D-4212-8836-01AF0021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553429-E59D-47F5-92C0-8B822D35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CCF0AF-ABEB-455F-B24B-447B5200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9137AA-92AF-4EDE-A397-3A5C113A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42ECBE-F064-451B-90EC-31ACB17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53776F-EBCE-4585-A792-F4061AF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CE1117-BA65-48D2-8689-DF02E99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F918-50B6-42F4-A0A0-BDBD541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A90330-CFBF-439B-97DE-340D5F73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1FA525-0752-4CF8-BC9F-5015D3ED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3A66C2-9627-4820-A4AE-BE91D931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8317F0-4048-4CC3-B73A-95B0898D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72A86B-9ECF-40F2-ABDA-38A3525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029755-BABF-4F53-B7FF-FDA2FE2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8B4007-35D8-4E35-8295-4832E67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385E2D-67E3-4BD4-A562-C7375C63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71346D-954F-4866-9D51-7DE7AC0A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8BD3E-5D3A-4487-86CC-4C4E63E5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3B59-996C-4C1F-8C51-3F973B8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900FF8-7283-4993-AFA8-5F706D4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CE7719-A173-4163-ABA1-228D08D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E285EE-B657-4AC4-BA06-A6283E0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948BBC-6B05-4EB3-AC32-7E00D268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8F48C4-3175-432A-9405-857E75F8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1AE175-81CC-4191-8456-27932DC8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8FEA97-C356-4422-B5E6-3802B393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3C3CAF-9E93-447A-B6BB-2AE6B9E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EE6D47-A0AC-4BD1-9A5C-1B8F444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F285F3-FFE7-479F-9C85-2696AE14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38E7-DDC8-40C4-B892-CF6009B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052E97-FD54-44CD-B4FF-B1FE4BE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B30EF8-C3E3-421D-9C8D-FB163088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1DF425-B8B7-4E68-AB67-9C67F37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D31F44-2879-4D62-B636-F847F10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85348A-9BE2-4364-8747-1D466083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AE755C-1AB6-4AA9-9D78-3341D9D0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AA4A0A-4F10-4FB0-8619-E5B076C7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94C19A-F2CF-4DFB-8ED4-843C673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642CDC-2573-4907-8B11-29CBAF34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8C7B07-E575-4E40-824A-3C86F5A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EA51-827C-49F8-A10D-EAA074E0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632A8B-CCE2-4F66-A0C7-DBDF566A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C3CC0-057C-428F-9F2D-DE771F1B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7752BB-8916-4B36-9E09-972FD450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D4454B-28E2-413A-BA4E-625D03F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5D1E90-6ABF-4C37-802B-E2FBAEF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B9A726-6C43-4544-8E19-DD329B4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A3A3AF-0325-4091-BA6F-2B3497FB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36E6C5-563A-4FA5-840D-33037D2A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32FF8A-9BC1-4D45-814C-C43DEF72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8AB64B-77AA-43E6-B217-83E1B0C3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CE4C-4FA5-47F6-AA29-BEBBB28F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78E582-F0BE-4DAD-B468-D7C9B10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D9E603-8ADF-4AC8-B54E-98AD89C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1A2679-876A-4CE3-82A0-BA0AE9D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43DB21-5BC2-488D-B2AE-BBCA2E9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0F03A2-7D97-4759-B7A3-6CE73F8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ED1CD8-7917-4813-8E28-C3E91A7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3FAF89-D9C5-4F54-A017-28455DD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CC0DED-2A7D-4399-8665-A0D511D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6B0A9A-B4B7-4552-AE26-CA4509F0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9DC6F9-E97B-4338-A8AF-C2463993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0EFA-D56C-4B5A-9932-5B7FAF9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A203C7-8B64-4BC7-8562-071F6D3A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DBE93F-CF0E-402B-AEE4-B02C2F9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766408-2944-4C63-83D9-13D30CBC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FCD8A5-352D-4FFC-8674-FACFE57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30C480-155F-4A4F-B7D6-F6B0ED21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82F3D4-430F-4A89-97F6-9C13821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E3CACF-C5FD-4B49-BAA6-23CDB296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094C09-8178-47A7-AFDF-9197E6D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9A0591-0063-48E7-B5B2-963990A1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13FBEB-3B73-4A7D-8EC1-5CA0224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AB0B-A24F-4259-B38E-F0722EE1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83FFD2-36C5-4465-9C93-A2A458C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05C359-61E7-4804-AAC1-1CB48F1E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95FAFB-0EE7-4B6E-ABBD-F5AA172C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B31BF7-81FA-440B-A7DA-4EC49F2B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18ACE3-8F8F-4411-917F-AE4DBE7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D0D6B-193F-43F8-9965-3DBA105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5D79CA-54F6-47E3-B40C-5E1DA561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17D185-5722-4DEE-B461-44C37A4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8BE5E1-E94C-46B9-B2A2-6FD81927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E65F94-A8F5-45FA-8D7A-0D70D83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42A3-700C-420D-A34C-F6DA273C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C36FFD-03FF-4D2D-878C-8AC4A80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F95384-E4A7-4493-8310-92BC917B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127666-5100-4182-802E-369B3A20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2E249A-D133-42FB-A7C0-1A695B7F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09D43B-4A5B-4CF0-80B7-6BA67965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87BDBC-B8F4-4BD6-AFA9-338B7C41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8CF0C3-7B89-4C18-8D2C-F34D66D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C03FB3-722E-4404-A9D1-8293FC0E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90BF48-4BE4-4200-B9AE-B635E069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501144-93AD-4CA7-8422-2369EFC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AB38-8927-4934-95AB-2A2B0FEA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FEF8A0-CF36-469D-8E8A-BE9B6D6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9181CF-46C1-45A2-988E-760A3B56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EFA750-202A-4C77-B695-B4A1E23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E7E402-F3C9-4121-97A6-D2310B8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C963C0-3732-48D9-8170-BDCE73C0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E087D6-CDCF-4CEB-8F69-5680A55F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07F6ED-1031-43A0-85B5-06F591FD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998D9E-B0F9-462E-B07E-0AB139B1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62F176-4FBA-45E1-BA09-9D7A682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9975E8-FA32-4477-AC36-687B2E3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B9D-8965-4585-B446-FDF131AC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1775-17D0-45A2-9932-6DA45585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A8E357-A667-4869-B936-2466BE92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73507C-8A6A-485F-AC5B-2F46E4B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769583-C795-48CA-A926-91EFD298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0837CB-FA1F-4D23-9092-B9414EA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8A01F2-3F8A-4628-81DB-ADC1482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A4F3D3-2E45-40E8-8DA8-6ED5E2B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4C3141-5E27-42FD-970F-3B89733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839AA7-900C-4971-BEFB-278F27C4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C5BB5F-A7A9-4CD5-9AAB-BC4A511F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5BB0-84D3-4BA9-B117-E5BDE85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2E99-6294-4368-8496-9529C5FD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888C-7212-440E-B3A9-7AAC9BB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D4B9D-ECDE-4E96-BA37-D7EC3F5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1248-4A13-4179-92B5-CA0B438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EC32-A028-4989-8242-C33955DD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6E36-5CF6-4843-9DCF-B8122CE6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64C2-9DBD-4787-8BAB-A55C02A5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A682-D500-4959-B82E-16CC0DBC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2F6-B81D-4512-A677-7E0EE4B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617C2-E7C4-4391-A903-C32CBF1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6F1B-80B7-4DBF-817C-DE7B0BD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F03F-3624-4D48-A71B-4BD575F5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1D35-222F-4C47-A626-3EB8EABF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C820-D520-4357-83B9-34CB66AA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39076-FB5E-4A6C-9824-291DC9B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27EC2-C27D-46BB-A008-44346BC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BC7E-35BE-4E30-9F83-2CBBF57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3A11-8841-4FD9-BF56-A74EFDA0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996C-EE36-4557-B92C-1A9BB10E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F5B-CEB8-4160-B7EF-E76395AD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26DE-ED51-4379-87C6-07918F3C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5EA2-F9E8-43A2-836B-5B95F7BE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698A-5B5E-412C-BD86-05A1D60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E33B-25B8-4863-A4FA-91D3354D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C925-0364-4EF6-B809-09AC203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BC39E-4E4C-49E8-96E7-77EBA84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ABF2-77DF-49E6-AA58-659B015E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7A7F-6A08-4AB3-BA18-CAA1005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6CE0-62C5-4100-B27B-2B675CD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E3D6F-D880-482D-855C-ED41D6C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E94-5149-400F-AC43-5E6FA77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90B39-703A-4463-B377-E5B9DF44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A540-2EFF-4C4B-BF8D-DCC3B6EE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FE9A-6B6F-49C5-902B-183E49B1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EB939-12BD-44A8-8B4C-AEF9EAE5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6463-2E8C-41AC-B342-609CEA10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B1B0-C01C-4465-8732-8B6A5D6A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5559E-1E96-4A74-B6DE-61968C2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DF27-82A7-46C7-B40D-4358FD68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2BA4-22BF-4538-9E32-C28091A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DCFDF-E63D-4046-89EC-F7BFD18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7B1-B981-4C3E-B90C-742ADB2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CD1C-6A5E-4C31-B8E5-1D09547A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1E02-2568-43A1-AC18-465D775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8FDF6-E3D2-4056-B234-C8077B05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97DD-B219-4F43-99D7-F84F5732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4D25-A074-49A1-BD19-7E5475F4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28A68-5BB1-46B9-83A1-40B18FF3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D6B96-D672-424C-A477-96E92700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415DA-32D2-4DDF-81EB-497E358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FA1B4-466F-42D9-9FFC-694F96C5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EDC0-2555-49D6-95BC-F1B5F2B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B98-3F45-4AEA-B9FA-DA5ACC2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8918-0D8A-44B3-811F-11114C4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CD35-3793-48F8-B5BC-B381B647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D8F33-3780-4C15-84E5-0127B25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DE57E-8DEC-41A8-A501-F2C4A6F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550FE-B899-4F23-A332-FC136D1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69A34-9BF7-44A4-A17F-F78C5434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EA787-B95F-4274-B172-C896FCBE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5798-8AD2-4A03-A44A-E37484341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E741-456D-4A5E-A879-56C4C70D6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fee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fee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09E8-FD0B-49C1-ABBB-987881495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b66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b66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FE42-27FF-4B95-AD61-8E56A7144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848C-9F26-49F3-A6B8-A1C21017A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C299-CE86-4150-8771-6431CCE94E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8E1-8E8C-4541-B64D-A8B43D46B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A63-A24B-478D-8BD3-E844D6D96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A19-09A0-4DE5-BCF9-F70DE95D74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882-3529-4B7F-80D1-0D9EBD605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E7E8-5E48-451C-93E7-B845409E6B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fee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D69-7928-419B-A1B4-35065C11B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BEE7-F038-4F77-A3E2-83828FE588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BFF-9860-4F21-9AB3-9993631426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F88F-87F2-40E7-8360-F6B41A231C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689D-0EC6-4896-A5FC-683600B81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-293040" y="798480"/>
            <a:ext cx="7063200" cy="6840360"/>
            <a:chOff x="-293040" y="798480"/>
            <a:chExt cx="7063200" cy="6840360"/>
          </a:xfrm>
        </p:grpSpPr>
        <p:grpSp>
          <p:nvGrpSpPr>
            <p:cNvPr id="1201" name="Group 3"/>
            <p:cNvGrpSpPr/>
            <p:nvPr/>
          </p:nvGrpSpPr>
          <p:grpSpPr>
            <a:xfrm>
              <a:off x="-293040" y="798480"/>
              <a:ext cx="7063200" cy="6840360"/>
              <a:chOff x="-293040" y="798480"/>
              <a:chExt cx="7063200" cy="6840360"/>
            </a:xfrm>
          </p:grpSpPr>
          <p:grpSp>
            <p:nvGrpSpPr>
              <p:cNvPr id="1202" name="Group 4"/>
              <p:cNvGrpSpPr/>
              <p:nvPr/>
            </p:nvGrpSpPr>
            <p:grpSpPr>
              <a:xfrm>
                <a:off x="-293040" y="798480"/>
                <a:ext cx="7063200" cy="6840360"/>
                <a:chOff x="-293040" y="798480"/>
                <a:chExt cx="7063200" cy="6840360"/>
              </a:xfrm>
            </p:grpSpPr>
            <p:sp>
              <p:nvSpPr>
                <p:cNvPr id="120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4" name="Group 6"/>
                <p:cNvGrpSpPr/>
                <p:nvPr/>
              </p:nvGrpSpPr>
              <p:grpSpPr>
                <a:xfrm>
                  <a:off x="-293040" y="798480"/>
                  <a:ext cx="7063200" cy="6840360"/>
                  <a:chOff x="-293040" y="798480"/>
                  <a:chExt cx="7063200" cy="6840360"/>
                </a:xfrm>
              </p:grpSpPr>
              <p:sp>
                <p:nvSpPr>
                  <p:cNvPr id="120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8" name="Group 10"/>
                  <p:cNvGrpSpPr/>
                  <p:nvPr/>
                </p:nvGrpSpPr>
                <p:grpSpPr>
                  <a:xfrm>
                    <a:off x="-293040" y="798480"/>
                    <a:ext cx="7063200" cy="6840360"/>
                    <a:chOff x="-293040" y="798480"/>
                    <a:chExt cx="7063200" cy="6840360"/>
                  </a:xfrm>
                </p:grpSpPr>
                <p:sp>
                  <p:nvSpPr>
                    <p:cNvPr id="120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Group 12"/>
                    <p:cNvGrpSpPr/>
                    <p:nvPr/>
                  </p:nvGrpSpPr>
                  <p:grpSpPr>
                    <a:xfrm>
                      <a:off x="-293040" y="805680"/>
                      <a:ext cx="7053480" cy="6833160"/>
                      <a:chOff x="-293040" y="805680"/>
                      <a:chExt cx="7053480" cy="6833160"/>
                    </a:xfrm>
                  </p:grpSpPr>
                  <p:sp>
                    <p:nvSpPr>
                      <p:cNvPr id="121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12" name="Group 14"/>
                      <p:cNvGrpSpPr/>
                      <p:nvPr/>
                    </p:nvGrpSpPr>
                    <p:grpSpPr>
                      <a:xfrm>
                        <a:off x="-293040" y="805680"/>
                        <a:ext cx="7053480" cy="6833160"/>
                        <a:chOff x="-293040" y="805680"/>
                        <a:chExt cx="7053480" cy="6833160"/>
                      </a:xfrm>
                    </p:grpSpPr>
                    <p:sp>
                      <p:nvSpPr>
                        <p:cNvPr id="121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249" name="Group 51"/>
                        <p:cNvGrpSpPr/>
                        <p:nvPr/>
                      </p:nvGrpSpPr>
                      <p:grpSpPr>
                        <a:xfrm>
                          <a:off x="-293040" y="1261800"/>
                          <a:ext cx="6462360" cy="6377040"/>
                          <a:chOff x="-293040" y="1261800"/>
                          <a:chExt cx="6462360" cy="6377040"/>
                        </a:xfrm>
                      </p:grpSpPr>
                      <p:sp>
                        <p:nvSpPr>
                          <p:cNvPr id="1250" name="Oval 52"/>
                          <p:cNvSpPr/>
                          <p:nvPr/>
                        </p:nvSpPr>
                        <p:spPr>
                          <a:xfrm rot="18780000">
                            <a:off x="2465640" y="45000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1" name="Oval 53"/>
                          <p:cNvSpPr/>
                          <p:nvPr/>
                        </p:nvSpPr>
                        <p:spPr>
                          <a:xfrm rot="18780000">
                            <a:off x="2356920" y="43304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2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3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4" name="Oval 56"/>
                          <p:cNvSpPr/>
                          <p:nvPr/>
                        </p:nvSpPr>
                        <p:spPr>
                          <a:xfrm rot="18780000">
                            <a:off x="2046600" y="34585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5" name="Oval 57"/>
                          <p:cNvSpPr/>
                          <p:nvPr/>
                        </p:nvSpPr>
                        <p:spPr>
                          <a:xfrm rot="18780000">
                            <a:off x="1955880" y="32040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6" name="Oval 58"/>
                          <p:cNvSpPr/>
                          <p:nvPr/>
                        </p:nvSpPr>
                        <p:spPr>
                          <a:xfrm rot="18780000">
                            <a:off x="1849320" y="29062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7" name="Oval 59"/>
                          <p:cNvSpPr/>
                          <p:nvPr/>
                        </p:nvSpPr>
                        <p:spPr>
                          <a:xfrm rot="18780000">
                            <a:off x="1713600" y="2661120"/>
                            <a:ext cx="213696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8" name="Oval 60"/>
                          <p:cNvSpPr/>
                          <p:nvPr/>
                        </p:nvSpPr>
                        <p:spPr>
                          <a:xfrm rot="18780000">
                            <a:off x="1598400" y="2383560"/>
                            <a:ext cx="248148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9" name="Oval 61"/>
                          <p:cNvSpPr/>
                          <p:nvPr/>
                        </p:nvSpPr>
                        <p:spPr>
                          <a:xfrm rot="18780000">
                            <a:off x="1486080" y="20991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0" name="Oval 62"/>
                          <p:cNvSpPr/>
                          <p:nvPr/>
                        </p:nvSpPr>
                        <p:spPr>
                          <a:xfrm rot="18734400">
                            <a:off x="1382760" y="1850760"/>
                            <a:ext cx="298440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1" name="Oval 63"/>
                          <p:cNvSpPr/>
                          <p:nvPr/>
                        </p:nvSpPr>
                        <p:spPr>
                          <a:xfrm rot="18819600">
                            <a:off x="1311480" y="153576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6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29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29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30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1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31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8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1319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629A-23CF-49C9-9AAA-8DEA961962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5A67-07BA-4DE3-9AB1-3B1432E8D7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6C6C-A494-43CF-A9DE-3F20CF05CA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80C5-99A0-46AB-B045-2E8AA3DB18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4A32-EEF5-4C75-BDE6-54CA055852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09D-F319-4E66-A481-011CC9226C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B87-68A2-424B-91EB-0A45306F29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7640-7223-4D27-BEC9-625A628442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CE1-C982-4AD6-9BB8-B4636F93EE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6019-73A7-4DE4-BC27-67962FBBD1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C4B4-D973-4495-BA6D-72E7ED819AE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ADC-ED7D-4300-84C8-2E581189D7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b66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42D2-BB87-4151-BCC2-149951571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1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2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553-6FAB-4026-B66C-B0EA4883FD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FCD-52F4-4021-84FE-1C2E261052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314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315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16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318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1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322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3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324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5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326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62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363" name="Oval 52"/>
                          <p:cNvSpPr/>
                          <p:nvPr/>
                        </p:nvSpPr>
                        <p:spPr>
                          <a:xfrm rot="18780000">
                            <a:off x="244476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4" name="Oval 53"/>
                          <p:cNvSpPr/>
                          <p:nvPr/>
                        </p:nvSpPr>
                        <p:spPr>
                          <a:xfrm rot="18780000">
                            <a:off x="2358360" y="43160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Oval 54"/>
                          <p:cNvSpPr/>
                          <p:nvPr/>
                        </p:nvSpPr>
                        <p:spPr>
                          <a:xfrm rot="18780000">
                            <a:off x="2239200" y="40190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Oval 55"/>
                          <p:cNvSpPr/>
                          <p:nvPr/>
                        </p:nvSpPr>
                        <p:spPr>
                          <a:xfrm rot="18780000">
                            <a:off x="2147040" y="37602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Oval 56"/>
                          <p:cNvSpPr/>
                          <p:nvPr/>
                        </p:nvSpPr>
                        <p:spPr>
                          <a:xfrm rot="18780000">
                            <a:off x="2046240" y="34437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8" name="Oval 57"/>
                          <p:cNvSpPr/>
                          <p:nvPr/>
                        </p:nvSpPr>
                        <p:spPr>
                          <a:xfrm rot="18780000">
                            <a:off x="1957320" y="31896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9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0" name="Oval 59"/>
                          <p:cNvSpPr/>
                          <p:nvPr/>
                        </p:nvSpPr>
                        <p:spPr>
                          <a:xfrm rot="18780000">
                            <a:off x="1715040" y="26463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1" name="Oval 60"/>
                          <p:cNvSpPr/>
                          <p:nvPr/>
                        </p:nvSpPr>
                        <p:spPr>
                          <a:xfrm rot="18780000">
                            <a:off x="159084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2" name="Oval 61"/>
                          <p:cNvSpPr/>
                          <p:nvPr/>
                        </p:nvSpPr>
                        <p:spPr>
                          <a:xfrm rot="18780000">
                            <a:off x="14860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3" name="Oval 62"/>
                          <p:cNvSpPr/>
                          <p:nvPr/>
                        </p:nvSpPr>
                        <p:spPr>
                          <a:xfrm rot="18734400">
                            <a:off x="1384560" y="18360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4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5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4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5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6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7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4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6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11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412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415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4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425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18"/>
              <p:cNvSpPr/>
              <p:nvPr/>
            </p:nvSpPr>
            <p:spPr>
              <a:xfrm rot="18182400">
                <a:off x="1593000" y="43009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432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7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0EED-2AB0-4478-AF2D-655611F17F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FC0D-B56B-41C1-A463-CDADC7923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ffcc66">
                  <a:alpha val="0"/>
                </a:srgbClr>
              </a:gs>
              <a:gs pos="100000">
                <a:srgbClr val="ead9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0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probasket.ru/main.html" TargetMode="External"/><Relationship Id="rId3" Type="http://schemas.openxmlformats.org/officeDocument/2006/relationships/hyperlink" Target="http://www.probasket.ru/main.html" TargetMode="External"/><Relationship Id="rId4" Type="http://schemas.openxmlformats.org/officeDocument/2006/relationships/hyperlink" Target="http://www.world-basket.biz/" TargetMode="External"/><Relationship Id="rId5" Type="http://schemas.openxmlformats.org/officeDocument/2006/relationships/hyperlink" Target="http://www.basket-blog.info/" TargetMode="External"/><Relationship Id="rId6" Type="http://schemas.openxmlformats.org/officeDocument/2006/relationships/hyperlink" Target="http://www.basketball.ru/forum/mass/forum_769.html" TargetMode="External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Рисунок 7" descr="store418.gif"/>
          <p:cNvPicPr/>
          <p:nvPr/>
        </p:nvPicPr>
        <p:blipFill>
          <a:blip r:embed="rId1"/>
          <a:stretch/>
        </p:blipFill>
        <p:spPr>
          <a:xfrm rot="20163600">
            <a:off x="213840" y="1142640"/>
            <a:ext cx="857520" cy="928800"/>
          </a:xfrm>
          <a:prstGeom prst="rect">
            <a:avLst/>
          </a:prstGeom>
          <a:ln w="0">
            <a:noFill/>
          </a:ln>
        </p:spPr>
      </p:pic>
      <p:pic>
        <p:nvPicPr>
          <p:cNvPr id="1821" name="Рисунок 9" descr="store418.gif"/>
          <p:cNvPicPr/>
          <p:nvPr/>
        </p:nvPicPr>
        <p:blipFill>
          <a:blip r:embed="rId2"/>
          <a:stretch/>
        </p:blipFill>
        <p:spPr>
          <a:xfrm rot="1131600">
            <a:off x="2971440" y="2928600"/>
            <a:ext cx="2697120" cy="2603520"/>
          </a:xfrm>
          <a:prstGeom prst="rect">
            <a:avLst/>
          </a:prstGeom>
          <a:ln w="0">
            <a:noFill/>
          </a:ln>
        </p:spPr>
      </p:pic>
      <p:sp>
        <p:nvSpPr>
          <p:cNvPr id="1822" name="TextBox 12"/>
          <p:cNvSpPr/>
          <p:nvPr/>
        </p:nvSpPr>
        <p:spPr>
          <a:xfrm rot="1093200">
            <a:off x="3000960" y="393876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Прямоугольник 6"/>
          <p:cNvSpPr/>
          <p:nvPr/>
        </p:nvSpPr>
        <p:spPr>
          <a:xfrm>
            <a:off x="144360" y="2071800"/>
            <a:ext cx="8786880" cy="1648080"/>
          </a:xfrm>
          <a:prstGeom prst="rect">
            <a:avLst/>
          </a:prstGeom>
          <a:solidFill>
            <a:srgbClr val="faf7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e4100"/>
                </a:solidFill>
                <a:latin typeface="Arial"/>
              </a:rPr>
              <a:t>Техника баскетбол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e4100"/>
                </a:solidFill>
                <a:latin typeface="Arial"/>
              </a:rPr>
              <a:t>Броски и передача мяча в движ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Рисунок 7" descr="store418.gif"/>
          <p:cNvPicPr/>
          <p:nvPr/>
        </p:nvPicPr>
        <p:blipFill>
          <a:blip r:embed="rId3"/>
          <a:stretch/>
        </p:blipFill>
        <p:spPr>
          <a:xfrm rot="3140400">
            <a:off x="5666400" y="359640"/>
            <a:ext cx="7336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Рисунок 5" descr="011.gif"/>
          <p:cNvPicPr/>
          <p:nvPr/>
        </p:nvPicPr>
        <p:blipFill>
          <a:blip r:embed="rId1"/>
          <a:stretch/>
        </p:blipFill>
        <p:spPr>
          <a:xfrm>
            <a:off x="4786200" y="400068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868" name="Капля 7"/>
          <p:cNvSpPr/>
          <p:nvPr/>
        </p:nvSpPr>
        <p:spPr>
          <a:xfrm flipH="1">
            <a:off x="8215200" y="4786200"/>
            <a:ext cx="928800" cy="928800"/>
          </a:xfrm>
          <a:custGeom>
            <a:avLst/>
            <a:gdLst/>
            <a:ahLst/>
            <a:rect l="l" t="t" r="r" b="b"/>
            <a:pathLst>
              <a:path w="928687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pic>
        <p:nvPicPr>
          <p:cNvPr id="1870" name="Рисунок 4" descr="store418.gif"/>
          <p:cNvPicPr/>
          <p:nvPr/>
        </p:nvPicPr>
        <p:blipFill>
          <a:blip r:embed="rId3"/>
          <a:stretch/>
        </p:blipFill>
        <p:spPr>
          <a:xfrm>
            <a:off x="8286840" y="48578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871" name="Прямоугольник 11"/>
          <p:cNvSpPr/>
          <p:nvPr/>
        </p:nvSpPr>
        <p:spPr>
          <a:xfrm>
            <a:off x="7791120" y="6143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Прямоугольник 9"/>
          <p:cNvSpPr/>
          <p:nvPr/>
        </p:nvSpPr>
        <p:spPr>
          <a:xfrm>
            <a:off x="3071880" y="857160"/>
            <a:ext cx="607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ведения мяча (рис. 2) баскетболист делает два шага (первый через скамейку) с последующим броском по коль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Прямоугольник 13"/>
          <p:cNvSpPr/>
          <p:nvPr/>
        </p:nvSpPr>
        <p:spPr>
          <a:xfrm>
            <a:off x="7891560" y="385776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мяч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5" name="Прямоугольник 9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11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071720" y="5000760"/>
            <a:ext cx="11430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1 -0.00926 -0.01875 -0.02199 -0.03107 -0.02754 C -0.04653 -0.02222 -0.04028 -0.02083 -0.05 -0.02523 C -0.05885 -0.04305 -0.07656 -0.04606 -0.09132 -0.04838 C -0.10469 -0.06018 -0.12413 -0.05972 -0.13958 -0.06203 C -0.15017 -0.05972 -0.15746 -0.05694 -0.16892 -0.06203 C -0.17066 -0.06273 -0.16944 -0.06713 -0.17066 -0.06898 C -0.17205 -0.07106 -0.17378 -0.07314 -0.17587 -0.07361 C -0.1868 -0.07615 -0.19757 -0.07592 -0.20851 -0.07592 E">
                                      <p:cBhvr>
                                        <p:cTn id="92" dur="20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-0.00046 C -0.00694 -0.00972 -0.01528 -0.02245 -0.0276 -0.02801 C -0.04305 -0.02269 -0.0368 -0.0213 -0.04653 -0.0257 C -0.05538 -0.04352 -0.07309 -0.04653 -0.08785 -0.04884 C -0.10121 -0.06065 -0.12066 -0.06019 -0.13611 -0.0625 C -0.1467 -0.06019 -0.15399 -0.05741 -0.16545 -0.0625 C -0.16719 -0.0632 -0.16597 -0.06759 -0.16719 -0.06945 C -0.16857 -0.07153 -0.17031 -0.07361 -0.17239 -0.07407 C -0.18333 -0.07662 -0.1941 -0.07639 -0.20503 -0.07639 E">
                                      <p:cBhvr>
                                        <p:cTn id="94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 -0.07593 C -0.23732 -0.15695 -0.26614 -0.23797 -0.29288 -0.2507 C -0.31961 -0.26343 -0.34913 -0.15579 -0.36875 -0.15186 C -0.38836 -0.14792 -0.39531 -0.22292 -0.41024 -0.22755 C -0.42517 -0.23218 -0.45052 -0.1875 -0.4585 -0.1794 E">
                                      <p:cBhvr>
                                        <p:cTn id="97" dur="20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07593 C -0.23733 -0.15695 -0.26615 -0.23797 -0.29288 -0.2507 C -0.31962 -0.26343 -0.34913 -0.15579 -0.36875 -0.15186 C -0.38837 -0.14792 -0.39532 -0.22292 -0.41025 -0.22755 C -0.42518 -0.23218 -0.45052 -0.1875 -0.45851 -0.1794 E">
                                      <p:cBhvr>
                                        <p:cTn id="99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851 -0.1794 C -0.50938 -0.39143 -0.56024 -0.60347 -0.63438 -0.54491 C -0.70851 -0.48634 -0.85851 0.05278 -0.9033 0.17222 E">
                                      <p:cBhvr>
                                        <p:cTn id="102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Рисунок 5" descr="011.gif"/>
          <p:cNvPicPr/>
          <p:nvPr/>
        </p:nvPicPr>
        <p:blipFill>
          <a:blip r:embed="rId1"/>
          <a:stretch/>
        </p:blipFill>
        <p:spPr>
          <a:xfrm>
            <a:off x="4786200" y="400068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878" name="Капля 7"/>
          <p:cNvSpPr/>
          <p:nvPr/>
        </p:nvSpPr>
        <p:spPr>
          <a:xfrm flipH="1">
            <a:off x="8215200" y="4786200"/>
            <a:ext cx="928800" cy="928800"/>
          </a:xfrm>
          <a:custGeom>
            <a:avLst/>
            <a:gdLst/>
            <a:ahLst/>
            <a:rect l="l" t="t" r="r" b="b"/>
            <a:pathLst>
              <a:path w="928687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pic>
        <p:nvPicPr>
          <p:cNvPr id="1880" name="Рисунок 4" descr="store418.gif"/>
          <p:cNvPicPr/>
          <p:nvPr/>
        </p:nvPicPr>
        <p:blipFill>
          <a:blip r:embed="rId3"/>
          <a:stretch/>
        </p:blipFill>
        <p:spPr>
          <a:xfrm>
            <a:off x="8286840" y="48578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881" name="Прямоугольник 11"/>
          <p:cNvSpPr/>
          <p:nvPr/>
        </p:nvSpPr>
        <p:spPr>
          <a:xfrm>
            <a:off x="7791120" y="6143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Прямоугольник 9"/>
          <p:cNvSpPr/>
          <p:nvPr/>
        </p:nvSpPr>
        <p:spPr>
          <a:xfrm>
            <a:off x="3071880" y="642960"/>
            <a:ext cx="607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ведения мяча (рис. 2) баскетболист делает два шага (первый через скамейку) с последующим броском по коль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Прямоугольник 10"/>
          <p:cNvSpPr/>
          <p:nvPr/>
        </p:nvSpPr>
        <p:spPr>
          <a:xfrm rot="21111000">
            <a:off x="233280" y="31428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пражне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Прямоугольник 13"/>
          <p:cNvSpPr/>
          <p:nvPr/>
        </p:nvSpPr>
        <p:spPr>
          <a:xfrm>
            <a:off x="7891560" y="39290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мяч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Прямоугольник 11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12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143000" y="4929120"/>
            <a:ext cx="12142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1 -0.00926 -0.01875 -0.02199 -0.03107 -0.02754 C -0.04653 -0.02222 -0.04028 -0.02083 -0.05 -0.02523 C -0.05885 -0.04305 -0.07656 -0.04606 -0.09132 -0.04838 C -0.10469 -0.06018 -0.12413 -0.05972 -0.13958 -0.06203 C -0.15017 -0.05972 -0.15746 -0.05694 -0.16892 -0.06203 C -0.17066 -0.06273 -0.16944 -0.06713 -0.17066 -0.06898 C -0.17205 -0.07106 -0.17378 -0.07314 -0.17587 -0.07361 C -0.1868 -0.07615 -0.19757 -0.07592 -0.20851 -0.07592 E">
                                      <p:cBhvr>
                                        <p:cTn id="112" dur="2000" fill="hold"/>
                                        <p:tgtEl>
                                          <p:spTgt spid="1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-0.00046 C -0.00694 -0.00972 -0.01528 -0.02245 -0.0276 -0.02801 C -0.04305 -0.02269 -0.0368 -0.0213 -0.04653 -0.0257 C -0.05538 -0.04352 -0.07309 -0.04653 -0.08785 -0.04884 C -0.10121 -0.06065 -0.12066 -0.06019 -0.13611 -0.0625 C -0.1467 -0.06019 -0.15399 -0.05741 -0.16545 -0.0625 C -0.16719 -0.0632 -0.16597 -0.06759 -0.16719 -0.06945 C -0.16857 -0.07153 -0.17031 -0.07361 -0.17239 -0.07407 C -0.18333 -0.07662 -0.1941 -0.07639 -0.20503 -0.07639 E">
                                      <p:cBhvr>
                                        <p:cTn id="114" dur="2000" fill="hold"/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 -0.07593 C -0.23732 -0.15695 -0.26614 -0.23797 -0.29288 -0.2507 C -0.31961 -0.26343 -0.34913 -0.15579 -0.36875 -0.15186 C -0.38836 -0.14792 -0.39531 -0.22292 -0.41024 -0.22755 C -0.42517 -0.23218 -0.45052 -0.1875 -0.4585 -0.1794 E">
                                      <p:cBhvr>
                                        <p:cTn id="117" dur="2000" fill="hold"/>
                                        <p:tgtEl>
                                          <p:spTgt spid="1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07593 C -0.23733 -0.15695 -0.26615 -0.23797 -0.29288 -0.2507 C -0.31962 -0.26343 -0.34913 -0.15579 -0.36875 -0.15186 C -0.38837 -0.14792 -0.39532 -0.22292 -0.41025 -0.22755 C -0.42518 -0.23218 -0.45052 -0.1875 -0.45851 -0.1794 E">
                                      <p:cBhvr>
                                        <p:cTn id="119" dur="2000" fill="hold"/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851 -0.1794 C -0.50938 -0.39143 -0.56024 -0.60347 -0.63438 -0.54491 C -0.70851 -0.48634 -0.85851 0.05278 -0.9033 0.17222 E">
                                      <p:cBhvr>
                                        <p:cTn id="122" dur="2000" fill="hold"/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8" name="Рисунок 5" descr="011.gif"/>
          <p:cNvPicPr/>
          <p:nvPr/>
        </p:nvPicPr>
        <p:blipFill>
          <a:blip r:embed="rId1"/>
          <a:stretch/>
        </p:blipFill>
        <p:spPr>
          <a:xfrm>
            <a:off x="6715080" y="471492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1889" name="Капля 7"/>
          <p:cNvSpPr/>
          <p:nvPr/>
        </p:nvSpPr>
        <p:spPr>
          <a:xfrm flipH="1" rot="20434200">
            <a:off x="8214480" y="4785840"/>
            <a:ext cx="928800" cy="928800"/>
          </a:xfrm>
          <a:custGeom>
            <a:avLst/>
            <a:gdLst/>
            <a:ahLst/>
            <a:rect l="l" t="t" r="r" b="b"/>
            <a:pathLst>
              <a:path w="928687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sp>
        <p:nvSpPr>
          <p:cNvPr id="1891" name="Прямоугольник 11"/>
          <p:cNvSpPr/>
          <p:nvPr/>
        </p:nvSpPr>
        <p:spPr>
          <a:xfrm>
            <a:off x="7791120" y="6143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ольник 12"/>
          <p:cNvSpPr/>
          <p:nvPr/>
        </p:nvSpPr>
        <p:spPr>
          <a:xfrm>
            <a:off x="3583080" y="592920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ольник 8"/>
          <p:cNvSpPr/>
          <p:nvPr/>
        </p:nvSpPr>
        <p:spPr>
          <a:xfrm>
            <a:off x="2357280" y="714240"/>
            <a:ext cx="678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ое положение игрока 1 такое же, как и в первом упражнении. Баскетболист ловит мяч, который бросает ему стоящий напротив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2, выполняет два шага и на третий делает передачу игроку 2, который бросает мяч в кольцо, а сам возвращается в исходное поло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Прямоугольник 10"/>
          <p:cNvSpPr/>
          <p:nvPr/>
        </p:nvSpPr>
        <p:spPr>
          <a:xfrm>
            <a:off x="7956000" y="41432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Прямоугольник 13"/>
          <p:cNvSpPr/>
          <p:nvPr/>
        </p:nvSpPr>
        <p:spPr>
          <a:xfrm>
            <a:off x="3077640" y="3071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Капля 14"/>
          <p:cNvSpPr/>
          <p:nvPr/>
        </p:nvSpPr>
        <p:spPr>
          <a:xfrm flipH="1" rot="8992800">
            <a:off x="2423880" y="3352680"/>
            <a:ext cx="928440" cy="928800"/>
          </a:xfrm>
          <a:custGeom>
            <a:avLst/>
            <a:gdLst/>
            <a:ahLst/>
            <a:rect l="l" t="t" r="r" b="b"/>
            <a:pathLst>
              <a:path w="928687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15" descr="store418.gif"/>
          <p:cNvPicPr/>
          <p:nvPr/>
        </p:nvPicPr>
        <p:blipFill>
          <a:blip r:embed="rId3"/>
          <a:stretch/>
        </p:blipFill>
        <p:spPr>
          <a:xfrm rot="8992200">
            <a:off x="2494800" y="3423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898" name="Прямоугольник 13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2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2286000" y="5072040"/>
            <a:ext cx="12142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417 C 0.10625 -0.01967 0.21285 -0.04352 0.31823 -0.00833 C 0.42378 0.02708 0.5283 0.12176 0.63298 0.21644 E">
                                      <p:cBhvr>
                                        <p:cTn id="128" dur="30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298 0.21644 C 0.60017 0.15949 0.56753 0.10278 0.53819 0.09468 C 0.50885 0.08657 0.48159 0.16944 0.45712 0.16829 C 0.43264 0.16713 0.41441 0.08819 0.39166 0.08773 C 0.36892 0.08727 0.33281 0.15301 0.321 0.16597 E">
                                      <p:cBhvr>
                                        <p:cTn id="132" dur="30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281 -0.05694 -0.06545 -0.11365 -0.09479 -0.12175 C -0.12413 -0.12986 -0.15139 -0.04699 -0.17587 -0.04814 C -0.20035 -0.0493 -0.21858 -0.12824 -0.24132 -0.1287 C -0.26406 -0.12916 -0.30017 -0.06342 -0.31198 -0.05046 E">
                                      <p:cBhvr>
                                        <p:cTn id="134" dur="3000" fill="hold"/>
                                        <p:tgtEl>
                                          <p:spTgt spid="1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0.25364 -0.05741 E">
                                      <p:cBhvr>
                                        <p:cTn id="136" dur="3000" fill="hold"/>
                                        <p:tgtEl>
                                          <p:spTgt spid="1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1 0.16598 C 0.29357 0.11019 0.26632 0.0544 0.21579 0.03033 C 0.16527 0.00625 0.0526 0.02385 0.01753 0.02107 C -0.01754 0.01829 0.00746 0.01528 0.00538 0.01412 E">
                                      <p:cBhvr>
                                        <p:cTn id="139" dur="30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764 -0.18842 0.0158 -0.37662 -0.0224 -0.32685 C -0.0599 -0.27662 -0.19167 0.1963 -0.225 0.30139 E">
                                      <p:cBhvr>
                                        <p:cTn id="142" dur="30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0" name="Рисунок 5" descr="011.gif"/>
          <p:cNvPicPr/>
          <p:nvPr/>
        </p:nvPicPr>
        <p:blipFill>
          <a:blip r:embed="rId1"/>
          <a:stretch/>
        </p:blipFill>
        <p:spPr>
          <a:xfrm>
            <a:off x="6715080" y="471492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1901" name="Капля 7"/>
          <p:cNvSpPr/>
          <p:nvPr/>
        </p:nvSpPr>
        <p:spPr>
          <a:xfrm flipH="1" rot="20434200">
            <a:off x="8214480" y="4785840"/>
            <a:ext cx="928800" cy="928800"/>
          </a:xfrm>
          <a:custGeom>
            <a:avLst/>
            <a:gdLst/>
            <a:ahLst/>
            <a:rect l="l" t="t" r="r" b="b"/>
            <a:pathLst>
              <a:path w="928687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2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sp>
        <p:nvSpPr>
          <p:cNvPr id="1903" name="Прямоугольник 11"/>
          <p:cNvSpPr/>
          <p:nvPr/>
        </p:nvSpPr>
        <p:spPr>
          <a:xfrm>
            <a:off x="7791120" y="6143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ольник 8"/>
          <p:cNvSpPr/>
          <p:nvPr/>
        </p:nvSpPr>
        <p:spPr>
          <a:xfrm>
            <a:off x="2357280" y="571680"/>
            <a:ext cx="678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ое положение игрока 1 такое же, как и в первом упражнении. Баскетболист ловит мяч, который бросает ему стоящий напротив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2, выполняет два шага и на третий делает передачу игроку 2, который бросает мяч в кольцо, а сам возвращается в исходное поло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Прямоугольник 10"/>
          <p:cNvSpPr/>
          <p:nvPr/>
        </p:nvSpPr>
        <p:spPr>
          <a:xfrm>
            <a:off x="7956000" y="41432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Прямоугольник 13"/>
          <p:cNvSpPr/>
          <p:nvPr/>
        </p:nvSpPr>
        <p:spPr>
          <a:xfrm>
            <a:off x="3077640" y="3071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Капля 14"/>
          <p:cNvSpPr/>
          <p:nvPr/>
        </p:nvSpPr>
        <p:spPr>
          <a:xfrm flipH="1" rot="8992800">
            <a:off x="2423880" y="3352680"/>
            <a:ext cx="928440" cy="928800"/>
          </a:xfrm>
          <a:custGeom>
            <a:avLst/>
            <a:gdLst/>
            <a:ahLst/>
            <a:rect l="l" t="t" r="r" b="b"/>
            <a:pathLst>
              <a:path w="928687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9" name="Рисунок 15" descr="store418.gif"/>
          <p:cNvPicPr/>
          <p:nvPr/>
        </p:nvPicPr>
        <p:blipFill>
          <a:blip r:embed="rId3"/>
          <a:stretch/>
        </p:blipFill>
        <p:spPr>
          <a:xfrm rot="8992200">
            <a:off x="2494800" y="34239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910" name="Прямоугольник 16"/>
          <p:cNvSpPr/>
          <p:nvPr/>
        </p:nvSpPr>
        <p:spPr>
          <a:xfrm rot="21111000">
            <a:off x="233280" y="31428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пражне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Прямоугольник 13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14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071720" y="5000760"/>
            <a:ext cx="1201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417 C 0.10625 -0.01967 0.21285 -0.04352 0.31823 -0.00833 C 0.42378 0.02708 0.5283 0.12176 0.63298 0.21644 E">
                                      <p:cBhvr>
                                        <p:cTn id="148" dur="30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298 0.21644 C 0.60017 0.15949 0.56753 0.10278 0.53819 0.09468 C 0.50885 0.08657 0.48159 0.16944 0.45712 0.16829 C 0.43264 0.16713 0.41441 0.08819 0.39166 0.08773 C 0.36892 0.08727 0.33281 0.15301 0.321 0.16597 E">
                                      <p:cBhvr>
                                        <p:cTn id="152" dur="30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281 -0.05694 -0.06545 -0.11365 -0.09479 -0.12175 C -0.12413 -0.12986 -0.15139 -0.04699 -0.17587 -0.04814 C -0.20035 -0.0493 -0.21858 -0.12824 -0.24132 -0.1287 C -0.26406 -0.12916 -0.30017 -0.06342 -0.31198 -0.05046 E">
                                      <p:cBhvr>
                                        <p:cTn id="154" dur="3000" fill="hold"/>
                                        <p:tgtEl>
                                          <p:spTgt spid="1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0.25364 -0.05741 E">
                                      <p:cBhvr>
                                        <p:cTn id="156" dur="3000" fill="hold"/>
                                        <p:tgtEl>
                                          <p:spTgt spid="1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1 0.16598 C 0.29357 0.11019 0.26632 0.0544 0.21579 0.03033 C 0.16527 0.00625 0.0526 0.02385 0.01753 0.02107 C -0.01754 0.01829 0.00746 0.01528 0.00538 0.01412 E">
                                      <p:cBhvr>
                                        <p:cTn id="159" dur="30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764 -0.18842 0.0158 -0.37662 -0.0224 -0.32685 C -0.0599 -0.27662 -0.19167 0.1963 -0.225 0.30139 E">
                                      <p:cBhvr>
                                        <p:cTn id="162" dur="30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Рисунок 5" descr="011.gif"/>
          <p:cNvPicPr/>
          <p:nvPr/>
        </p:nvPicPr>
        <p:blipFill>
          <a:blip r:embed="rId1"/>
          <a:stretch/>
        </p:blipFill>
        <p:spPr>
          <a:xfrm>
            <a:off x="4572000" y="400068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914" name="Капля 7"/>
          <p:cNvSpPr/>
          <p:nvPr/>
        </p:nvSpPr>
        <p:spPr>
          <a:xfrm flipH="1" rot="20434200">
            <a:off x="8085600" y="4771800"/>
            <a:ext cx="928800" cy="92844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5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sp>
        <p:nvSpPr>
          <p:cNvPr id="1916" name="Прямоугольник 11"/>
          <p:cNvSpPr/>
          <p:nvPr/>
        </p:nvSpPr>
        <p:spPr>
          <a:xfrm>
            <a:off x="7791480" y="61437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Прямоугольник 10"/>
          <p:cNvSpPr/>
          <p:nvPr/>
        </p:nvSpPr>
        <p:spPr>
          <a:xfrm>
            <a:off x="7956000" y="41432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рямоугольник 13"/>
          <p:cNvSpPr/>
          <p:nvPr/>
        </p:nvSpPr>
        <p:spPr>
          <a:xfrm>
            <a:off x="362880" y="32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Капля 14"/>
          <p:cNvSpPr/>
          <p:nvPr/>
        </p:nvSpPr>
        <p:spPr>
          <a:xfrm flipH="1" rot="8992800">
            <a:off x="455400" y="3670200"/>
            <a:ext cx="928440" cy="928800"/>
          </a:xfrm>
          <a:custGeom>
            <a:avLst/>
            <a:gdLst/>
            <a:ahLst/>
            <a:rect l="l" t="t" r="r" b="b"/>
            <a:pathLst>
              <a:path w="928687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1" name="Рисунок 15" descr="store418.gif"/>
          <p:cNvPicPr/>
          <p:nvPr/>
        </p:nvPicPr>
        <p:blipFill>
          <a:blip r:embed="rId3"/>
          <a:stretch/>
        </p:blipFill>
        <p:spPr>
          <a:xfrm rot="8992200">
            <a:off x="572400" y="378792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1922" name="Прямоугольник 17"/>
          <p:cNvSpPr/>
          <p:nvPr/>
        </p:nvSpPr>
        <p:spPr>
          <a:xfrm>
            <a:off x="2643120" y="642960"/>
            <a:ext cx="628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1 не ведет мяч сам, а получает его от игрока 2 (стоящего под баскетбольным щитом) в тот самый момент, когда игрок 1 совершает свой первый шаг через скамейку (рис 4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3" name="Прямоугольник 11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13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214280" y="507204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-0.01111 -0.00486 -0.01667 -0.01198 -0.02315 C -0.01875 -0.03635 -0.03177 -0.04236 -0.04306 -0.04607 C -0.07153 -0.03658 -0.10209 -0.04491 -0.13108 -0.04838 C -0.13386 -0.04769 -0.13681 -0.04746 -0.13959 -0.04607 C -0.14896 -0.04121 -0.14045 -0.03959 -0.15 -0.04375 C -0.16268 -0.03959 -0.17674 -0.0463 -0.18959 -0.0507 C -0.20139 -0.06111 -0.2099 -0.06042 -0.22413 -0.06204 C -0.23351 -0.06459 -0.23681 -0.06435 -0.24479 -0.05764 C -0.24844 -0.04769 -0.2507 -0.0426 -0.25868 -0.03912 C -0.26372 -0.04051 -0.27031 -0.04097 -0.27413 -0.04607 E">
                                      <p:cBhvr>
                                        <p:cTn id="170" dur="3000" fill="hold"/>
                                        <p:tgtEl>
                                          <p:spTgt spid="1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-0.01111 -0.00486 -0.01667 -0.01198 -0.02315 C -0.01875 -0.03635 -0.03177 -0.04236 -0.04306 -0.04607 C -0.07153 -0.03658 -0.10209 -0.04491 -0.13108 -0.04838 C -0.13386 -0.04769 -0.13681 -0.04746 -0.13959 -0.04607 C -0.14896 -0.04121 -0.14045 -0.03959 -0.15 -0.04375 C -0.16268 -0.03959 -0.17674 -0.0463 -0.18959 -0.0507 C -0.20139 -0.06111 -0.2099 -0.06042 -0.22413 -0.06204 C -0.23351 -0.06459 -0.23681 -0.06435 -0.24479 -0.05764 C -0.24844 -0.04769 -0.2507 -0.0426 -0.25868 -0.03912 C -0.26372 -0.04051 -0.27031 -0.04097 -0.27413 -0.04607 E">
                                      <p:cBhvr>
                                        <p:cTn id="172" dur="3000" fill="hold"/>
                                        <p:tgtEl>
                                          <p:spTgt spid="1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13 -0.04607 C -0.29427 -0.1257 -0.31441 -0.20533 -0.3415 -0.2206 C -0.36858 -0.23588 -0.42049 -0.15162 -0.43629 -0.13797 E">
                                      <p:cBhvr>
                                        <p:cTn id="175" dur="3000" fill="hold"/>
                                        <p:tgtEl>
                                          <p:spTgt spid="1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13 -0.04607 C -0.29427 -0.10417 -0.31441 -0.16181 -0.34149 -0.17269 C -0.36857 -0.18357 -0.42048 -0.12269 -0.43628 -0.11296 E">
                                      <p:cBhvr>
                                        <p:cTn id="177" dur="2000" fill="hold"/>
                                        <p:tgtEl>
                                          <p:spTgt spid="1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00255 C 0.01736 -0.07986 0.05365 -0.15718 0.1224 -0.15417 C 0.19098 -0.15116 0.29219 -0.06759 0.39323 0.01597 E">
                                      <p:cBhvr>
                                        <p:cTn id="180" dur="30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29 -0.13797 C -0.45104 -0.17199 -0.4658 -0.20579 -0.48403 -0.20834 C -0.50226 -0.21088 -0.53507 -0.16343 -0.54531 -0.1544 E">
                                      <p:cBhvr>
                                        <p:cTn id="183" dur="3000" fill="hold"/>
                                        <p:tgtEl>
                                          <p:spTgt spid="1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23 0.01597 C 0.38073 -0.01551 0.36823 -0.04676 0.35191 -0.04861 C 0.33559 -0.05046 0.30451 -0.0044 0.29497 0.0044 E">
                                      <p:cBhvr>
                                        <p:cTn id="185" dur="30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28 -0.00694 C 0.2552 -0.20903 0.22777 -0.41111 0.1795 -0.35393 C 0.13124 -0.29676 0.0243 0.2206 -0.00678 0.33565 E">
                                      <p:cBhvr>
                                        <p:cTn id="188" dur="20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Рисунок 5" descr="011.gif"/>
          <p:cNvPicPr/>
          <p:nvPr/>
        </p:nvPicPr>
        <p:blipFill>
          <a:blip r:embed="rId1"/>
          <a:stretch/>
        </p:blipFill>
        <p:spPr>
          <a:xfrm>
            <a:off x="4572000" y="400068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926" name="Капля 7"/>
          <p:cNvSpPr/>
          <p:nvPr/>
        </p:nvSpPr>
        <p:spPr>
          <a:xfrm flipH="1" rot="20434200">
            <a:off x="8085600" y="4771800"/>
            <a:ext cx="928800" cy="92844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7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sp>
        <p:nvSpPr>
          <p:cNvPr id="1928" name="Прямоугольник 11"/>
          <p:cNvSpPr/>
          <p:nvPr/>
        </p:nvSpPr>
        <p:spPr>
          <a:xfrm>
            <a:off x="7791480" y="61437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Прямоугольник 10"/>
          <p:cNvSpPr/>
          <p:nvPr/>
        </p:nvSpPr>
        <p:spPr>
          <a:xfrm>
            <a:off x="7956000" y="41432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Прямоугольник 13"/>
          <p:cNvSpPr/>
          <p:nvPr/>
        </p:nvSpPr>
        <p:spPr>
          <a:xfrm>
            <a:off x="362880" y="32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Капля 14"/>
          <p:cNvSpPr/>
          <p:nvPr/>
        </p:nvSpPr>
        <p:spPr>
          <a:xfrm flipH="1" rot="8992800">
            <a:off x="455400" y="3670200"/>
            <a:ext cx="928440" cy="928800"/>
          </a:xfrm>
          <a:custGeom>
            <a:avLst/>
            <a:gdLst/>
            <a:ahLst/>
            <a:rect l="l" t="t" r="r" b="b"/>
            <a:pathLst>
              <a:path w="928687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3" name="Рисунок 15" descr="store418.gif"/>
          <p:cNvPicPr/>
          <p:nvPr/>
        </p:nvPicPr>
        <p:blipFill>
          <a:blip r:embed="rId3"/>
          <a:stretch/>
        </p:blipFill>
        <p:spPr>
          <a:xfrm rot="8992200">
            <a:off x="572400" y="378792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1934" name="Прямоугольник 17"/>
          <p:cNvSpPr/>
          <p:nvPr/>
        </p:nvSpPr>
        <p:spPr>
          <a:xfrm>
            <a:off x="2571840" y="785880"/>
            <a:ext cx="628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1 не ведет мяч сам, а получает его от игрока 2 (стоящего под баскетбольным щитом) в тот самый момент, когда игрок 1 совершает свой первый шаг через скамейку (рис 4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Прямоугольник 16"/>
          <p:cNvSpPr/>
          <p:nvPr/>
        </p:nvSpPr>
        <p:spPr>
          <a:xfrm rot="21111000">
            <a:off x="233280" y="31428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пражне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6" name="Прямоугольник 13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14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285920" y="5286240"/>
            <a:ext cx="9874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-0.01111 -0.00486 -0.01667 -0.01198 -0.02315 C -0.01875 -0.03635 -0.03177 -0.04236 -0.04306 -0.04607 C -0.07153 -0.03658 -0.10209 -0.04491 -0.13108 -0.04838 C -0.13386 -0.04769 -0.13681 -0.04746 -0.13959 -0.04607 C -0.14896 -0.04121 -0.14045 -0.03959 -0.15 -0.04375 C -0.16268 -0.03959 -0.17674 -0.0463 -0.18959 -0.0507 C -0.20139 -0.06111 -0.2099 -0.06042 -0.22413 -0.06204 C -0.23351 -0.06459 -0.23681 -0.06435 -0.24479 -0.05764 C -0.24844 -0.04769 -0.2507 -0.0426 -0.25868 -0.03912 C -0.26372 -0.04051 -0.27031 -0.04097 -0.27413 -0.04607 E">
                                      <p:cBhvr>
                                        <p:cTn id="194" dur="3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-0.01111 -0.00486 -0.01667 -0.01198 -0.02315 C -0.01875 -0.03635 -0.03177 -0.04236 -0.04306 -0.04607 C -0.07153 -0.03658 -0.10209 -0.04491 -0.13108 -0.04838 C -0.13386 -0.04769 -0.13681 -0.04746 -0.13959 -0.04607 C -0.14896 -0.04121 -0.14045 -0.03959 -0.15 -0.04375 C -0.16268 -0.03959 -0.17674 -0.0463 -0.18959 -0.0507 C -0.20139 -0.06111 -0.2099 -0.06042 -0.22413 -0.06204 C -0.23351 -0.06459 -0.23681 -0.06435 -0.24479 -0.05764 C -0.24844 -0.04769 -0.2507 -0.0426 -0.25868 -0.03912 C -0.26372 -0.04051 -0.27031 -0.04097 -0.27413 -0.04607 E">
                                      <p:cBhvr>
                                        <p:cTn id="196" dur="30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13 -0.04607 C -0.29427 -0.1257 -0.31441 -0.20533 -0.3415 -0.2206 C -0.36858 -0.23588 -0.42049 -0.15162 -0.43629 -0.13797 E">
                                      <p:cBhvr>
                                        <p:cTn id="199" dur="3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13 -0.04607 C -0.29427 -0.10417 -0.31441 -0.16181 -0.34149 -0.17269 C -0.36857 -0.18357 -0.42048 -0.12269 -0.43628 -0.11296 E">
                                      <p:cBhvr>
                                        <p:cTn id="201" dur="20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00255 C 0.01736 -0.07986 0.05365 -0.15718 0.1224 -0.15417 C 0.19098 -0.15116 0.29219 -0.06759 0.39323 0.01597 E">
                                      <p:cBhvr>
                                        <p:cTn id="204" dur="3000" fill="hold"/>
                                        <p:tgtEl>
                                          <p:spTgt spid="1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29 -0.13797 C -0.45104 -0.17199 -0.4658 -0.20579 -0.48403 -0.20834 C -0.50226 -0.21088 -0.53507 -0.16343 -0.54531 -0.1544 E">
                                      <p:cBhvr>
                                        <p:cTn id="207" dur="3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23 0.01597 C 0.38073 -0.01551 0.36823 -0.04676 0.35191 -0.04861 C 0.33559 -0.05046 0.30451 -0.0044 0.29497 0.0044 E">
                                      <p:cBhvr>
                                        <p:cTn id="209" dur="3000" fill="hold"/>
                                        <p:tgtEl>
                                          <p:spTgt spid="1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28 -0.00694 C 0.2552 -0.20903 0.22777 -0.41111 0.1795 -0.35393 C 0.13124 -0.29676 0.0243 0.2206 -0.00678 0.33565 E">
                                      <p:cBhvr>
                                        <p:cTn id="212" dur="2000" fill="hold"/>
                                        <p:tgtEl>
                                          <p:spTgt spid="1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8" name="Рисунок 5" descr="011.gif"/>
          <p:cNvPicPr/>
          <p:nvPr/>
        </p:nvPicPr>
        <p:blipFill>
          <a:blip r:embed="rId1"/>
          <a:stretch/>
        </p:blipFill>
        <p:spPr>
          <a:xfrm>
            <a:off x="3857760" y="407196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1939" name="Капля 21"/>
          <p:cNvSpPr/>
          <p:nvPr/>
        </p:nvSpPr>
        <p:spPr>
          <a:xfrm flipH="1" rot="20434200">
            <a:off x="6199560" y="4914720"/>
            <a:ext cx="928800" cy="92844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Капля 22"/>
          <p:cNvSpPr/>
          <p:nvPr/>
        </p:nvSpPr>
        <p:spPr>
          <a:xfrm flipH="1" rot="17530200">
            <a:off x="6486120" y="2771640"/>
            <a:ext cx="928800" cy="92916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Капля 7"/>
          <p:cNvSpPr/>
          <p:nvPr/>
        </p:nvSpPr>
        <p:spPr>
          <a:xfrm flipH="1" rot="20434200">
            <a:off x="8085960" y="5800320"/>
            <a:ext cx="928800" cy="92880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2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sp>
        <p:nvSpPr>
          <p:cNvPr id="1943" name="Прямоугольник 11"/>
          <p:cNvSpPr/>
          <p:nvPr/>
        </p:nvSpPr>
        <p:spPr>
          <a:xfrm>
            <a:off x="7362720" y="6488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рямоугольник 12"/>
          <p:cNvSpPr/>
          <p:nvPr/>
        </p:nvSpPr>
        <p:spPr>
          <a:xfrm>
            <a:off x="301140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рямоугольник 10"/>
          <p:cNvSpPr/>
          <p:nvPr/>
        </p:nvSpPr>
        <p:spPr>
          <a:xfrm>
            <a:off x="7435440" y="3071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рямоугольник 13"/>
          <p:cNvSpPr/>
          <p:nvPr/>
        </p:nvSpPr>
        <p:spPr>
          <a:xfrm>
            <a:off x="219960" y="4786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Капля 14"/>
          <p:cNvSpPr/>
          <p:nvPr/>
        </p:nvSpPr>
        <p:spPr>
          <a:xfrm flipH="1" rot="8992800">
            <a:off x="383760" y="5169960"/>
            <a:ext cx="928800" cy="928800"/>
          </a:xfrm>
          <a:custGeom>
            <a:avLst/>
            <a:gdLst/>
            <a:ahLst/>
            <a:rect l="l" t="t" r="r" b="b"/>
            <a:pathLst>
              <a:path w="928688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8" name="Рисунок 15" descr="store418.gif"/>
          <p:cNvPicPr/>
          <p:nvPr/>
        </p:nvPicPr>
        <p:blipFill>
          <a:blip r:embed="rId3"/>
          <a:stretch/>
        </p:blipFill>
        <p:spPr>
          <a:xfrm rot="8992200">
            <a:off x="6573600" y="28587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949" name="Прямоугольник 19"/>
          <p:cNvSpPr/>
          <p:nvPr/>
        </p:nvSpPr>
        <p:spPr>
          <a:xfrm>
            <a:off x="2500200" y="357120"/>
            <a:ext cx="66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3 бежит без мяча, получает передачу от игрока 1, выполняет два шага, ведет мяч, опять делает два шага, передает мяч игроку 2, который возвращает его обратно игроку 3, а тот с двух шагов выполняет бросок по кольцу. Затем он сам берет мяч и передает его игроку 1, после чего становится за игроком 5, и т.д. Затем игроки 1 и 2 меняются местами с другими игро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Капля 20"/>
          <p:cNvSpPr/>
          <p:nvPr/>
        </p:nvSpPr>
        <p:spPr>
          <a:xfrm flipH="1" rot="20434200">
            <a:off x="7128360" y="5414760"/>
            <a:ext cx="928800" cy="928440"/>
          </a:xfrm>
          <a:custGeom>
            <a:avLst/>
            <a:gdLst/>
            <a:ahLst/>
            <a:rect l="l" t="t" r="r" b="b"/>
            <a:pathLst>
              <a:path w="928687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рямоугольник 23"/>
          <p:cNvSpPr/>
          <p:nvPr/>
        </p:nvSpPr>
        <p:spPr>
          <a:xfrm>
            <a:off x="6292440" y="4572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Прямоугольник 24"/>
          <p:cNvSpPr/>
          <p:nvPr/>
        </p:nvSpPr>
        <p:spPr>
          <a:xfrm>
            <a:off x="7220880" y="49291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Прямоугольник 25"/>
          <p:cNvSpPr/>
          <p:nvPr/>
        </p:nvSpPr>
        <p:spPr>
          <a:xfrm>
            <a:off x="7956000" y="5357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4" name="Прямоугольник 17" descr=""/>
          <p:cNvPicPr/>
          <p:nvPr/>
        </p:nvPicPr>
        <p:blipFill>
          <a:blip r:embed="rId4"/>
          <a:stretch/>
        </p:blipFill>
        <p:spPr>
          <a:xfrm>
            <a:off x="2835360" y="-4284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19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785960" y="514368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63 -0.03264 C -0.06215 -0.03796 -0.06372 -0.07292 -0.06858 -0.07616 C -0.07465 -0.08009 -0.08125 -0.0787 -0.08767 -0.07986 C -0.08958 -0.0787 -0.09149 -0.07824 -0.09288 -0.07616 C -0.09444 -0.07315 -0.09444 -0.06667 -0.09635 -0.06528 C -0.09809 -0.06366 -0.09983 -0.06782 -0.10156 -0.06875 C -0.10799 -0.06458 -0.11094 -0.06042 -0.11892 -0.06875 C -0.12049 -0.0706 -0.11927 -0.07732 -0.12066 -0.07986 C -0.12361 -0.08611 -0.13108 -0.09398 -0.13108 -0.09375 C -0.13559 -0.09282 -0.14045 -0.09213 -0.14497 -0.09028 C -0.1467 -0.08958 -0.14844 -0.08634 -0.15017 -0.08704 C -0.15226 -0.08773 -0.1533 -0.09329 -0.15538 -0.09398 C -0.15885 -0.09537 -0.16233 -0.09398 -0.1658 -0.09398 E">
                                      <p:cBhvr>
                                        <p:cTn id="220" dur="3000" fill="hold"/>
                                        <p:tgtEl>
                                          <p:spTgt spid="1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7 0.02385 C -0.06164 0.01436 -0.11233 0.00487 -0.14358 0.03774 C -0.17483 0.07061 -0.18959 0.19098 -0.19879 0.22153 E">
                                      <p:cBhvr>
                                        <p:cTn id="223" dur="3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8 -0.09398 C -0.17083 -0.1574 -0.17587 -0.22083 -0.19167 -0.22963 C -0.20747 -0.23842 -0.24375 -0.14676 -0.26059 -0.14676 C -0.27743 -0.14676 -0.27917 -0.22685 -0.29323 -0.22963 C -0.30729 -0.2324 -0.33628 -0.17407 -0.34497 -0.16296 E">
                                      <p:cBhvr>
                                        <p:cTn id="226" dur="3000" fill="hold"/>
                                        <p:tgtEl>
                                          <p:spTgt spid="1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79 0.2162 C -0.20886 0.15255 -0.21876 0.08889 -0.23681 0.08079 C -0.25487 0.07269 -0.28994 0.16736 -0.30747 0.16806 C -0.32501 0.16875 -0.32831 0.08819 -0.34185 0.08519 C -0.35539 0.08218 -0.38056 0.13889 -0.38838 0.14954 E">
                                      <p:cBhvr>
                                        <p:cTn id="228" dur="3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29931 -0.14699 E">
                                      <p:cBhvr>
                                        <p:cTn id="230" dur="3000" fill="hold"/>
                                        <p:tgtEl>
                                          <p:spTgt spid="1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6 0.14723 C -0.44063 0.11552 -0.5033 0.0838 -0.55209 0.11945 C -0.60087 0.1551 -0.65139 0.32061 -0.67118 0.36089 E">
                                      <p:cBhvr>
                                        <p:cTn id="233" dur="3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118 0.36088 C -0.64566 0.24491 -0.61997 0.12917 -0.57136 0.09329 C -0.52275 0.05741 -0.41146 0.13612 -0.37987 0.14468 E">
                                      <p:cBhvr>
                                        <p:cTn id="236" dur="3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497 -0.16296 C -0.35278 -0.19421 -0.36059 -0.22546 -0.3684 -0.225 C -0.37639 -0.22454 -0.38507 -0.15695 -0.39271 -0.16065 C -0.40052 -0.16435 -0.40694 -0.2419 -0.4151 -0.24792 C -0.42326 -0.25394 -0.43715 -0.20579 -0.44149 -0.19745 E">
                                      <p:cBhvr>
                                        <p:cTn id="239" dur="3000" fill="hold"/>
                                        <p:tgtEl>
                                          <p:spTgt spid="1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6 0.14723 C -0.38559 0.11899 -0.39323 0.09098 -0.40122 0.09445 C -0.40938 0.09792 -0.41823 0.1713 -0.42674 0.16783 C -0.43525 0.16436 -0.44306 0.0801 -0.45226 0.07362 C -0.46146 0.06713 -0.47761 0.12037 -0.4823 0.12871 E">
                                      <p:cBhvr>
                                        <p:cTn id="241" dur="3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448 0.11273 C -0.44514 -0.05232 -0.41528 -0.21713 -0.46077 -0.18819 C -0.50625 -0.15926 -0.69844 0.20509 -0.74705 0.28681 C -0.79566 0.36852 -0.77396 0.33518 -0.75209 0.30185 E">
                                      <p:cBhvr>
                                        <p:cTn id="244" dur="3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209 0.30186 C -0.74254 0.34468 -0.73299 0.38774 -0.71233 0.41691 C -0.69167 0.44607 -0.64202 0.46667 -0.62796 0.47663 E">
                                      <p:cBhvr>
                                        <p:cTn id="247" dur="5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6" name="Рисунок 5" descr="011.gif"/>
          <p:cNvPicPr/>
          <p:nvPr/>
        </p:nvPicPr>
        <p:blipFill>
          <a:blip r:embed="rId1"/>
          <a:stretch/>
        </p:blipFill>
        <p:spPr>
          <a:xfrm>
            <a:off x="3857760" y="407196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1957" name="Капля 21"/>
          <p:cNvSpPr/>
          <p:nvPr/>
        </p:nvSpPr>
        <p:spPr>
          <a:xfrm flipH="1" rot="20434200">
            <a:off x="6199560" y="4914720"/>
            <a:ext cx="928800" cy="92844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Капля 22"/>
          <p:cNvSpPr/>
          <p:nvPr/>
        </p:nvSpPr>
        <p:spPr>
          <a:xfrm flipH="1" rot="17530200">
            <a:off x="6486120" y="2771640"/>
            <a:ext cx="928800" cy="92916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Капля 7"/>
          <p:cNvSpPr/>
          <p:nvPr/>
        </p:nvSpPr>
        <p:spPr>
          <a:xfrm flipH="1" rot="20434200">
            <a:off x="8085960" y="5800320"/>
            <a:ext cx="928800" cy="92880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0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sp>
        <p:nvSpPr>
          <p:cNvPr id="1961" name="Прямоугольник 11"/>
          <p:cNvSpPr/>
          <p:nvPr/>
        </p:nvSpPr>
        <p:spPr>
          <a:xfrm>
            <a:off x="7362720" y="6488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Прямоугольник 12"/>
          <p:cNvSpPr/>
          <p:nvPr/>
        </p:nvSpPr>
        <p:spPr>
          <a:xfrm>
            <a:off x="322596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Прямоугольник 10"/>
          <p:cNvSpPr/>
          <p:nvPr/>
        </p:nvSpPr>
        <p:spPr>
          <a:xfrm>
            <a:off x="7506720" y="32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Прямоугольник 13"/>
          <p:cNvSpPr/>
          <p:nvPr/>
        </p:nvSpPr>
        <p:spPr>
          <a:xfrm>
            <a:off x="219960" y="4786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Капля 14"/>
          <p:cNvSpPr/>
          <p:nvPr/>
        </p:nvSpPr>
        <p:spPr>
          <a:xfrm flipH="1" rot="8992800">
            <a:off x="383760" y="5169960"/>
            <a:ext cx="928800" cy="928800"/>
          </a:xfrm>
          <a:custGeom>
            <a:avLst/>
            <a:gdLst/>
            <a:ahLst/>
            <a:rect l="l" t="t" r="r" b="b"/>
            <a:pathLst>
              <a:path w="928688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8" y="0"/>
                </a:lnTo>
                <a:lnTo>
                  <a:pt x="928688" y="464344"/>
                </a:lnTo>
                <a:cubicBezTo>
                  <a:pt x="928688" y="720794"/>
                  <a:pt x="720794" y="928688"/>
                  <a:pt x="464344" y="928688"/>
                </a:cubicBezTo>
                <a:cubicBezTo>
                  <a:pt x="207894" y="928688"/>
                  <a:pt x="0" y="720794"/>
                  <a:pt x="0" y="464344"/>
                </a:cubicBez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6" name="Рисунок 15" descr="store418.gif"/>
          <p:cNvPicPr/>
          <p:nvPr/>
        </p:nvPicPr>
        <p:blipFill>
          <a:blip r:embed="rId3"/>
          <a:stretch/>
        </p:blipFill>
        <p:spPr>
          <a:xfrm rot="8992200">
            <a:off x="6573600" y="28587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967" name="Прямоугольник 19"/>
          <p:cNvSpPr/>
          <p:nvPr/>
        </p:nvSpPr>
        <p:spPr>
          <a:xfrm>
            <a:off x="2500200" y="428760"/>
            <a:ext cx="66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3 бежит без мяча, получает передачу от игрока 1, выполняет два шага, ведет мяч, опять делает два шага, передает мяч игроку 2, который возвращает его обратно игроку 3, а тот с двух шагов выполняет бросок по кольцу. Затем он сам берет мяч и передает его игроку 1, после чего становится за игроком 5, и т.д. Затем игроки 1 и 2 меняются местами с другими игро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Капля 20"/>
          <p:cNvSpPr/>
          <p:nvPr/>
        </p:nvSpPr>
        <p:spPr>
          <a:xfrm flipH="1" rot="20434200">
            <a:off x="7128360" y="5414760"/>
            <a:ext cx="928800" cy="928440"/>
          </a:xfrm>
          <a:custGeom>
            <a:avLst/>
            <a:gdLst/>
            <a:ahLst/>
            <a:rect l="l" t="t" r="r" b="b"/>
            <a:pathLst>
              <a:path w="928687" h="928687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Прямоугольник 23"/>
          <p:cNvSpPr/>
          <p:nvPr/>
        </p:nvSpPr>
        <p:spPr>
          <a:xfrm>
            <a:off x="6292440" y="4572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рямоугольник 24"/>
          <p:cNvSpPr/>
          <p:nvPr/>
        </p:nvSpPr>
        <p:spPr>
          <a:xfrm>
            <a:off x="7220880" y="49291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рямоугольник 25"/>
          <p:cNvSpPr/>
          <p:nvPr/>
        </p:nvSpPr>
        <p:spPr>
          <a:xfrm>
            <a:off x="7956000" y="5357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рямоугольник 17"/>
          <p:cNvSpPr/>
          <p:nvPr/>
        </p:nvSpPr>
        <p:spPr>
          <a:xfrm rot="21111000">
            <a:off x="233280" y="31428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пражне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3" name="Прямоугольник 18" descr=""/>
          <p:cNvPicPr/>
          <p:nvPr/>
        </p:nvPicPr>
        <p:blipFill>
          <a:blip r:embed="rId4"/>
          <a:stretch/>
        </p:blipFill>
        <p:spPr>
          <a:xfrm>
            <a:off x="2835360" y="-4284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0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2143080" y="5214960"/>
            <a:ext cx="10288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63 -0.03264 C -0.06215 -0.03796 -0.06372 -0.07292 -0.06858 -0.07616 C -0.07465 -0.08009 -0.08125 -0.0787 -0.08767 -0.07986 C -0.08958 -0.0787 -0.09149 -0.07824 -0.09288 -0.07616 C -0.09444 -0.07315 -0.09444 -0.06667 -0.09635 -0.06528 C -0.09809 -0.06366 -0.09983 -0.06782 -0.10156 -0.06875 C -0.10799 -0.06458 -0.11094 -0.06042 -0.11892 -0.06875 C -0.12049 -0.0706 -0.11927 -0.07732 -0.12066 -0.07986 C -0.12361 -0.08611 -0.13108 -0.09398 -0.13108 -0.09375 C -0.13559 -0.09282 -0.14045 -0.09213 -0.14497 -0.09028 C -0.1467 -0.08958 -0.14844 -0.08634 -0.15017 -0.08704 C -0.15226 -0.08773 -0.1533 -0.09329 -0.15538 -0.09398 C -0.15885 -0.09537 -0.16233 -0.09398 -0.1658 -0.09398 E">
                                      <p:cBhvr>
                                        <p:cTn id="253" dur="3000" fill="hold"/>
                                        <p:tgtEl>
                                          <p:spTgt spid="1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7 0.02385 C -0.06164 0.01436 -0.11233 0.00487 -0.14358 0.03774 C -0.17483 0.07061 -0.18959 0.19098 -0.19879 0.22153 E">
                                      <p:cBhvr>
                                        <p:cTn id="256" dur="3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8 -0.09398 C -0.17083 -0.1574 -0.17587 -0.22083 -0.19167 -0.22963 C -0.20747 -0.23842 -0.24375 -0.14676 -0.26059 -0.14676 C -0.27743 -0.14676 -0.27917 -0.22685 -0.29323 -0.22963 C -0.30729 -0.2324 -0.33628 -0.17407 -0.34497 -0.16296 E">
                                      <p:cBhvr>
                                        <p:cTn id="259" dur="3000" fill="hold"/>
                                        <p:tgtEl>
                                          <p:spTgt spid="1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79 0.2162 C -0.20886 0.15255 -0.21876 0.08889 -0.23681 0.08079 C -0.25487 0.07269 -0.28994 0.16736 -0.30747 0.16806 C -0.32501 0.16875 -0.32831 0.08819 -0.34185 0.08519 C -0.35539 0.08218 -0.38056 0.13889 -0.38838 0.14954 E">
                                      <p:cBhvr>
                                        <p:cTn id="261" dur="3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29931 -0.14699 E">
                                      <p:cBhvr>
                                        <p:cTn id="263" dur="3000" fill="hold"/>
                                        <p:tgtEl>
                                          <p:spTgt spid="1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6 0.14723 C -0.44063 0.11552 -0.5033 0.0838 -0.55209 0.11945 C -0.60087 0.1551 -0.65139 0.32061 -0.67118 0.36089 E">
                                      <p:cBhvr>
                                        <p:cTn id="266" dur="3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118 0.36088 C -0.64566 0.24491 -0.61997 0.12917 -0.57136 0.09329 C -0.52275 0.05741 -0.41146 0.13612 -0.37987 0.14468 E">
                                      <p:cBhvr>
                                        <p:cTn id="269" dur="3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497 -0.16296 C -0.35278 -0.19421 -0.36059 -0.22546 -0.3684 -0.225 C -0.37639 -0.22454 -0.38507 -0.15695 -0.39271 -0.16065 C -0.40052 -0.16435 -0.40694 -0.2419 -0.4151 -0.24792 C -0.42326 -0.25394 -0.43715 -0.20579 -0.44149 -0.19745 E">
                                      <p:cBhvr>
                                        <p:cTn id="272" dur="3000" fill="hold"/>
                                        <p:tgtEl>
                                          <p:spTgt spid="1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6 0.14723 C -0.38559 0.11899 -0.39323 0.09098 -0.40122 0.09445 C -0.40938 0.09792 -0.41823 0.1713 -0.42674 0.16783 C -0.43525 0.16436 -0.44306 0.0801 -0.45226 0.07362 C -0.46146 0.06713 -0.47761 0.12037 -0.4823 0.12871 E">
                                      <p:cBhvr>
                                        <p:cTn id="274" dur="3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448 0.11273 C -0.44514 -0.05232 -0.41528 -0.21713 -0.46077 -0.18819 C -0.50625 -0.15926 -0.69844 0.20509 -0.74705 0.28681 C -0.79566 0.36852 -0.77396 0.33518 -0.75209 0.30185 E">
                                      <p:cBhvr>
                                        <p:cTn id="277" dur="3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209 0.30186 C -0.74254 0.34468 -0.73299 0.38774 -0.71233 0.41691 C -0.69167 0.44607 -0.64202 0.46667 -0.62796 0.47663 E">
                                      <p:cBhvr>
                                        <p:cTn id="280" dur="5000" fill="hold"/>
                                        <p:tgtEl>
                                          <p:spTgt spid="1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5" name="Picture 4" descr="gf8qa"/>
          <p:cNvPicPr/>
          <p:nvPr/>
        </p:nvPicPr>
        <p:blipFill>
          <a:blip r:embed="rId1"/>
          <a:stretch/>
        </p:blipFill>
        <p:spPr>
          <a:xfrm>
            <a:off x="2143080" y="85716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1976" name="TextBox 2"/>
          <p:cNvSpPr/>
          <p:nvPr/>
        </p:nvSpPr>
        <p:spPr>
          <a:xfrm>
            <a:off x="1316160" y="4643280"/>
            <a:ext cx="69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рямоугольник 1"/>
          <p:cNvSpPr/>
          <p:nvPr/>
        </p:nvSpPr>
        <p:spPr>
          <a:xfrm>
            <a:off x="1285920" y="5473800"/>
            <a:ext cx="6670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Использованные и интернет-ресурс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www.probasket.ru/main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www.world-basket.bi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http://www.basket-blog.inf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http://www.basketball.ru/forum/mass/forum_769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Rectangle 1" descr=""/>
          <p:cNvPicPr/>
          <p:nvPr/>
        </p:nvPicPr>
        <p:blipFill>
          <a:blip r:embed="rId1"/>
          <a:stretch/>
        </p:blipFill>
        <p:spPr>
          <a:xfrm>
            <a:off x="212760" y="1195560"/>
            <a:ext cx="8718480" cy="4803480"/>
          </a:xfrm>
          <a:prstGeom prst="rect">
            <a:avLst/>
          </a:prstGeom>
          <a:ln w="0">
            <a:noFill/>
          </a:ln>
        </p:spPr>
      </p:pic>
      <p:pic>
        <p:nvPicPr>
          <p:cNvPr id="1826" name="Рисунок 7" descr="store418.gif"/>
          <p:cNvPicPr/>
          <p:nvPr/>
        </p:nvPicPr>
        <p:blipFill>
          <a:blip r:embed="rId2"/>
          <a:stretch/>
        </p:blipFill>
        <p:spPr>
          <a:xfrm rot="20163600">
            <a:off x="213840" y="1142640"/>
            <a:ext cx="857520" cy="928800"/>
          </a:xfrm>
          <a:prstGeom prst="rect">
            <a:avLst/>
          </a:prstGeom>
          <a:ln w="0">
            <a:noFill/>
          </a:ln>
        </p:spPr>
      </p:pic>
      <p:pic>
        <p:nvPicPr>
          <p:cNvPr id="1827" name="Рисунок 7" descr="store418.gif"/>
          <p:cNvPicPr/>
          <p:nvPr/>
        </p:nvPicPr>
        <p:blipFill>
          <a:blip r:embed="rId3"/>
          <a:stretch/>
        </p:blipFill>
        <p:spPr>
          <a:xfrm rot="20163600">
            <a:off x="6522840" y="294840"/>
            <a:ext cx="523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рямоугольник 1"/>
          <p:cNvSpPr/>
          <p:nvPr/>
        </p:nvSpPr>
        <p:spPr>
          <a:xfrm>
            <a:off x="428760" y="92880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скетбол- удел высок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 с реакцией отм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ч летает по площад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пуская серпан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олчаливые корз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9" name="Рисунок 4" descr="store418.gif"/>
          <p:cNvPicPr/>
          <p:nvPr/>
        </p:nvPicPr>
        <p:blipFill>
          <a:blip r:embed="rId1"/>
          <a:stretch/>
        </p:blipFill>
        <p:spPr>
          <a:xfrm>
            <a:off x="684360" y="62856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5" descr="D:\WINDOWS\Users\Aida\Рабочий стол\basketbol\картинки дополнительно\jpgСПОРТ картинки\C44-12.jpg"/>
          <p:cNvPicPr/>
          <p:nvPr/>
        </p:nvPicPr>
        <p:blipFill>
          <a:blip r:embed="rId2"/>
          <a:stretch/>
        </p:blipFill>
        <p:spPr>
          <a:xfrm>
            <a:off x="7500960" y="106200"/>
            <a:ext cx="1173240" cy="1473480"/>
          </a:xfrm>
          <a:prstGeom prst="rect">
            <a:avLst/>
          </a:prstGeom>
          <a:ln w="0">
            <a:noFill/>
          </a:ln>
        </p:spPr>
      </p:pic>
      <p:pic>
        <p:nvPicPr>
          <p:cNvPr id="1831" name="Рисунок 1" descr=""/>
          <p:cNvPicPr/>
          <p:nvPr/>
        </p:nvPicPr>
        <p:blipFill>
          <a:blip r:embed="rId3"/>
          <a:stretch/>
        </p:blipFill>
        <p:spPr>
          <a:xfrm>
            <a:off x="1835280" y="3357720"/>
            <a:ext cx="5113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Рисунок 1" descr="store268.gif"/>
          <p:cNvPicPr/>
          <p:nvPr/>
        </p:nvPicPr>
        <p:blipFill>
          <a:blip r:embed="rId1"/>
          <a:stretch/>
        </p:blipFill>
        <p:spPr>
          <a:xfrm>
            <a:off x="2643120" y="0"/>
            <a:ext cx="3390840" cy="249084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" descr="D:\WINDOWS\Users\Aida\Рабочий стол\физкультура проект\999999\1Рисунок1.gif"/>
          <p:cNvPicPr/>
          <p:nvPr/>
        </p:nvPicPr>
        <p:blipFill>
          <a:blip r:embed="rId2"/>
          <a:stretch/>
        </p:blipFill>
        <p:spPr>
          <a:xfrm>
            <a:off x="7286760" y="2214720"/>
            <a:ext cx="1428480" cy="392904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34" name="Picture 1" descr="D:\WINDOWS\Users\Aida\Рабочий стол\физкультура проект\999999\1Рисунок1.gif"/>
          <p:cNvPicPr/>
          <p:nvPr/>
        </p:nvPicPr>
        <p:blipFill>
          <a:blip r:embed="rId3"/>
          <a:stretch/>
        </p:blipFill>
        <p:spPr>
          <a:xfrm>
            <a:off x="357120" y="2357280"/>
            <a:ext cx="1500120" cy="402768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35" name="Рисунок 2" descr="store418.gif"/>
          <p:cNvPicPr/>
          <p:nvPr/>
        </p:nvPicPr>
        <p:blipFill>
          <a:blip r:embed="rId4"/>
          <a:stretch/>
        </p:blipFill>
        <p:spPr>
          <a:xfrm>
            <a:off x="857160" y="25002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836" name="TextBox 6"/>
          <p:cNvSpPr/>
          <p:nvPr/>
        </p:nvSpPr>
        <p:spPr>
          <a:xfrm>
            <a:off x="1950840" y="2857680"/>
            <a:ext cx="5604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имнастика 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ронтальный 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«Баскетбо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40741E-007 C 0.09671 -0.14259 0.19358 -0.28496 0.3132 -0.28426 C 0.43282 -0.28357 0.6507 -0.04352 0.71824 0.00463 E">
                                      <p:cBhvr>
                                        <p:cTn id="6" dur="20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824 0.00463 C 0.60383 -0.16505 0.48959 -0.33472 0.36997 -0.33496 C 0.25035 -0.33519 0.06164 -0.05347 5.83333E-006 0.00278 E">
                                      <p:cBhvr>
                                        <p:cTn id="9" dur="20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C 0.04635 -0.07523 0.09271 -0.15046 0.15503 -0.20648 C 0.21736 -0.2625 0.27899 -0.36759 0.37343 -0.33542 C 0.46788 -0.30324 0.66371 -0.0669 0.7217 -0.0132 E">
                                      <p:cBhvr>
                                        <p:cTn id="12" dur="20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823 0.00463 C 0.6033 -0.18356 0.48854 -0.37153 0.36979 -0.37963 C 0.25139 -0.38773 0.06719 -0.1 0.0066 -0.04421 E">
                                      <p:cBhvr>
                                        <p:cTn id="15" dur="20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11111E-006 C -0.00138 0.00532 -0.00468 0.00995 -0.00504 0.01551 C -0.00624 0.03495 0.00105 0.05393 0.01494 0.05995 C 0.02605 0.07106 0.03421 0.07153 0.04827 0.07338 C 0.06581 0.08472 0.04324 0.07106 0.06337 0.08009 C 0.07067 0.08333 0.07015 0.0868 0.07831 0.08889 C 0.09185 0.09236 0.10626 0.09282 0.11997 0.0956 C 0.1191 0.12361 0.11876 0.15926 0.11164 0.1868 C 0.11216 0.20092 0.11216 0.21504 0.11337 0.22893 C 0.1139 0.23426 0.11407 0.24051 0.11667 0.24444 C 0.1191 0.24791 0.12344 0.24745 0.12674 0.24884 C 0.14167 0.25532 0.15626 0.25787 0.17171 0.25995 C 0.20678 0.28009 0.25678 0.27384 0.29341 0.27569 C 0.28803 0.31041 0.29636 0.26435 0.28664 0.2956 C 0.2757 0.33079 0.28907 0.30185 0.28004 0.32014 C 0.27883 0.33819 0.27761 0.34815 0.27501 0.36458 C 0.27692 0.36967 0.27692 0.37639 0.28004 0.38009 C 0.31424 0.41944 0.38855 0.40602 0.42171 0.40671 C 0.42796 0.41204 0.42935 0.41875 0.43334 0.42662 C 0.43855 0.47338 0.46841 0.44699 0.5066 0.44444 C 0.51685 0.4412 0.52501 0.43773 0.5316 0.45116 C 0.53351 0.46041 0.53577 0.46875 0.53837 0.47778 C 0.5389 0.48148 0.5389 0.48541 0.53994 0.48889 C 0.54063 0.49143 0.54393 0.49305 0.54341 0.4956 C 0.54306 0.49791 0.54011 0.49722 0.53837 0.49791 C 0.54167 0.50092 0.54497 0.5037 0.54827 0.50671 C 0.55157 0.50972 0.55608 0.50833 0.56008 0.50903 C 0.57015 0.51065 0.57883 0.51157 0.58837 0.51551 C 0.5915 0.51412 0.59515 0.51134 0.59827 0.51551 C 0.60383 0.52291 0.59706 0.52222 0.60174 0.52222 E">
                                      <p:cBhvr>
                                        <p:cTn id="18" dur="20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Прямоугольник 1"/>
          <p:cNvSpPr/>
          <p:nvPr/>
        </p:nvSpPr>
        <p:spPr>
          <a:xfrm>
            <a:off x="571680" y="285840"/>
            <a:ext cx="8286480" cy="5946120"/>
          </a:xfrm>
          <a:prstGeom prst="rect">
            <a:avLst/>
          </a:prstGeom>
          <a:solidFill>
            <a:srgbClr val="ffe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 придумал игру в баскетб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еймс Нейсмит в 189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льгер Нильсон в18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 обозначает слово баскетб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англ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рзина»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я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а;шар;клубок;мя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колько человек должно быть на площадке во время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8" name="Picture 2" descr="D:\WINDOWS\Users\Aida\Рабочий стол\физкультура проект\999999\store418.gif"/>
          <p:cNvPicPr/>
          <p:nvPr/>
        </p:nvPicPr>
        <p:blipFill>
          <a:blip r:embed="rId1"/>
          <a:stretch/>
        </p:blipFill>
        <p:spPr>
          <a:xfrm>
            <a:off x="5429160" y="50720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4" descr="D:\WINDOWS\Users\Aida\Рабочий стол\basketbol\картинки дополнительно\jpgСПОРТ картинки\C44-12.jpg"/>
          <p:cNvPicPr/>
          <p:nvPr/>
        </p:nvPicPr>
        <p:blipFill>
          <a:blip r:embed="rId2"/>
          <a:stretch/>
        </p:blipFill>
        <p:spPr>
          <a:xfrm>
            <a:off x="7072200" y="428760"/>
            <a:ext cx="16430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1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30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f3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18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3008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1"/>
          <p:cNvSpPr/>
          <p:nvPr/>
        </p:nvSpPr>
        <p:spPr>
          <a:xfrm>
            <a:off x="500040" y="243720"/>
            <a:ext cx="8429760" cy="6311880"/>
          </a:xfrm>
          <a:prstGeom prst="rect">
            <a:avLst/>
          </a:prstGeom>
          <a:solidFill>
            <a:srgbClr val="ffe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. Сколько времени продолжается игра в баскетб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гра состоит из 4 период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10 мин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тайма по 4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. Когда баскетбол появился в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buClr>
                <a:srgbClr val="00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06 го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buClr>
                <a:srgbClr val="00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buClr>
                <a:srgbClr val="00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. Что такое Н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buClr>
                <a:srgbClr val="00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БА – национальная баскетбольная академия (СШ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buClr>
                <a:srgbClr val="00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Б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ациональная баскетбольная ассоциация (СШ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1" name="Picture 2" descr="D:\WINDOWS\Users\Aida\Рабочий стол\физкультура проект\999999\store418.gif"/>
          <p:cNvPicPr/>
          <p:nvPr/>
        </p:nvPicPr>
        <p:blipFill>
          <a:blip r:embed="rId1"/>
          <a:stretch/>
        </p:blipFill>
        <p:spPr>
          <a:xfrm>
            <a:off x="5572080" y="3500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4" descr="D:\WINDOWS\Users\Aida\Рабочий стол\basketbol\картинки дополнительно\jpgСПОРТ картинки\C44-12.jpg"/>
          <p:cNvPicPr/>
          <p:nvPr/>
        </p:nvPicPr>
        <p:blipFill>
          <a:blip r:embed="rId2"/>
          <a:stretch/>
        </p:blipFill>
        <p:spPr>
          <a:xfrm>
            <a:off x="7072200" y="785880"/>
            <a:ext cx="1584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0" fill="hold"/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30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fill="hold"/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30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18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30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18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3008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3" name="Picture 2" descr="D:\WINDOWS\Users\Aida\Рабочий стол\физкультура проект\999999\store418.gif"/>
          <p:cNvPicPr/>
          <p:nvPr/>
        </p:nvPicPr>
        <p:blipFill>
          <a:blip r:embed="rId1"/>
          <a:stretch/>
        </p:blipFill>
        <p:spPr>
          <a:xfrm rot="2637000">
            <a:off x="0" y="10000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844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2535120"/>
            <a:ext cx="8931240" cy="351180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2" descr="D:\WINDOWS\Users\Aida\Рабочий стол\физкультура проект\999999\store418.gif"/>
          <p:cNvPicPr/>
          <p:nvPr/>
        </p:nvPicPr>
        <p:blipFill>
          <a:blip r:embed="rId3"/>
          <a:stretch/>
        </p:blipFill>
        <p:spPr>
          <a:xfrm>
            <a:off x="6429240" y="14292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Прямоугольник 8"/>
          <p:cNvSpPr/>
          <p:nvPr/>
        </p:nvSpPr>
        <p:spPr>
          <a:xfrm>
            <a:off x="3214800" y="571680"/>
            <a:ext cx="5929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мейка под углом 45° к щиту около линии штрафного броска. Баскетболист держит мяч в руках, стоя на левой ноге, согнув правую ногу (рис 2). Он ударяет мячом о пол по другую сторону скамейки, чтобы мяч отскочил до уровня пояса, затем отталкивается левой ногой и ловит его, находясь в воздухе. Далее, приземлившись на правую ногу, игрок делает шаг левой ногой и после этого бросает мяч в кольц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7" name="Рисунок 5" descr="011.gif"/>
          <p:cNvPicPr/>
          <p:nvPr/>
        </p:nvPicPr>
        <p:blipFill>
          <a:blip r:embed="rId1"/>
          <a:stretch/>
        </p:blipFill>
        <p:spPr>
          <a:xfrm>
            <a:off x="6500880" y="450072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848" name="Капля 7"/>
          <p:cNvSpPr/>
          <p:nvPr/>
        </p:nvSpPr>
        <p:spPr>
          <a:xfrm flipH="1">
            <a:off x="7500960" y="4429080"/>
            <a:ext cx="928800" cy="928800"/>
          </a:xfrm>
          <a:custGeom>
            <a:avLst/>
            <a:gdLst/>
            <a:ahLst/>
            <a:rect l="l" t="t" r="r" b="b"/>
            <a:pathLst>
              <a:path w="928687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pic>
        <p:nvPicPr>
          <p:cNvPr id="1850" name="Рисунок 4" descr="store418.gif"/>
          <p:cNvPicPr/>
          <p:nvPr/>
        </p:nvPicPr>
        <p:blipFill>
          <a:blip r:embed="rId3"/>
          <a:stretch/>
        </p:blipFill>
        <p:spPr>
          <a:xfrm>
            <a:off x="7572240" y="450072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1851" name="Прямоугольник 11"/>
          <p:cNvSpPr/>
          <p:nvPr/>
        </p:nvSpPr>
        <p:spPr>
          <a:xfrm>
            <a:off x="7791120" y="6143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Прямоугольник 10"/>
          <p:cNvSpPr/>
          <p:nvPr/>
        </p:nvSpPr>
        <p:spPr>
          <a:xfrm>
            <a:off x="7891560" y="37148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мяч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Прямоугольник 10" descr=""/>
          <p:cNvPicPr/>
          <p:nvPr/>
        </p:nvPicPr>
        <p:blipFill>
          <a:blip r:embed="rId4"/>
          <a:stretch/>
        </p:blipFill>
        <p:spPr>
          <a:xfrm>
            <a:off x="2835360" y="-4284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855" name="Picture 11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143000" y="4929120"/>
            <a:ext cx="1201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979 -0.08055 -0.03941 -0.16088 -0.06893 -0.17014 C -0.09844 -0.1794 -0.14636 -0.06157 -0.17761 -0.05509 C -0.20886 -0.04861 -0.2342 -0.12986 -0.25695 -0.13102 C -0.27969 -0.13217 -0.30434 -0.07361 -0.31372 -0.06203 E">
                                      <p:cBhvr>
                                        <p:cTn id="66" dur="5000" fill="hold"/>
                                        <p:tgtEl>
                                          <p:spTgt spid="1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C -0.01979 -0.08056 -0.03941 -0.16088 -0.06892 -0.17014 C -0.09843 -0.1794 -0.14635 -0.06157 -0.1776 -0.05509 C -0.20885 -0.04861 -0.2342 -0.12986 -0.25694 -0.13102 C -0.27968 -0.13218 -0.30434 -0.07361 -0.31371 -0.06204 E">
                                      <p:cBhvr>
                                        <p:cTn id="68" dur="5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71 -0.06204 C -0.38836 -0.35996 -0.46267 -0.65741 -0.54444 -0.61274 C -0.62621 -0.56806 -0.76093 0.0706 -0.80399 0.20717 E">
                                      <p:cBhvr>
                                        <p:cTn id="71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Прямоугольник 8"/>
          <p:cNvSpPr/>
          <p:nvPr/>
        </p:nvSpPr>
        <p:spPr>
          <a:xfrm>
            <a:off x="3214800" y="642960"/>
            <a:ext cx="5929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мейка под углом 45° к щиту около линии штрафного броска. Баскетболист держит мяч в руках, стоя на левой ноге, согнув правую ногу. Он ударяет мячом о пол по другую сторону скамейки, чтобы мяч отскочил до уровня пояса, затем отталкивается левой ногой и ловит его, находясь в воздухе. Далее, приземлившись на правую ногу, игрок делает шаг левой ногой и после этого бросает мяч в кольц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Рисунок 5" descr="011.gif"/>
          <p:cNvPicPr/>
          <p:nvPr/>
        </p:nvPicPr>
        <p:blipFill>
          <a:blip r:embed="rId1"/>
          <a:stretch/>
        </p:blipFill>
        <p:spPr>
          <a:xfrm>
            <a:off x="6500880" y="450072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858" name="Капля 7"/>
          <p:cNvSpPr/>
          <p:nvPr/>
        </p:nvSpPr>
        <p:spPr>
          <a:xfrm flipH="1">
            <a:off x="7500960" y="4429080"/>
            <a:ext cx="928800" cy="928800"/>
          </a:xfrm>
          <a:custGeom>
            <a:avLst/>
            <a:gdLst/>
            <a:ahLst/>
            <a:rect l="l" t="t" r="r" b="b"/>
            <a:pathLst>
              <a:path w="928687" h="928688">
                <a:moveTo>
                  <a:pt x="0" y="464344"/>
                </a:moveTo>
                <a:cubicBezTo>
                  <a:pt x="0" y="207894"/>
                  <a:pt x="207894" y="0"/>
                  <a:pt x="464344" y="0"/>
                </a:cubicBezTo>
                <a:lnTo>
                  <a:pt x="928687" y="0"/>
                </a:lnTo>
                <a:lnTo>
                  <a:pt x="928687" y="464344"/>
                </a:lnTo>
                <a:cubicBezTo>
                  <a:pt x="928687" y="720794"/>
                  <a:pt x="720793" y="928688"/>
                  <a:pt x="464343" y="928688"/>
                </a:cubicBezTo>
                <a:cubicBezTo>
                  <a:pt x="207893" y="928688"/>
                  <a:pt x="-1" y="720794"/>
                  <a:pt x="-1" y="464344"/>
                </a:cubicBezTo>
                <a:lnTo>
                  <a:pt x="0" y="464344"/>
                </a:lnTo>
                <a:close/>
              </a:path>
            </a:pathLst>
          </a:custGeom>
          <a:solidFill>
            <a:srgbClr val="5c2d00"/>
          </a:solidFill>
          <a:ln w="25560">
            <a:solidFill>
              <a:srgbClr val="411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9" name="Рисунок 1" descr="store268.gif"/>
          <p:cNvPicPr/>
          <p:nvPr/>
        </p:nvPicPr>
        <p:blipFill>
          <a:blip r:embed="rId2"/>
          <a:stretch/>
        </p:blipFill>
        <p:spPr>
          <a:xfrm>
            <a:off x="-500040" y="0"/>
            <a:ext cx="3792600" cy="2786040"/>
          </a:xfrm>
          <a:prstGeom prst="rect">
            <a:avLst/>
          </a:prstGeom>
          <a:ln w="0">
            <a:noFill/>
          </a:ln>
        </p:spPr>
      </p:pic>
      <p:pic>
        <p:nvPicPr>
          <p:cNvPr id="1860" name="Рисунок 4" descr="store418.gif"/>
          <p:cNvPicPr/>
          <p:nvPr/>
        </p:nvPicPr>
        <p:blipFill>
          <a:blip r:embed="rId3"/>
          <a:stretch/>
        </p:blipFill>
        <p:spPr>
          <a:xfrm>
            <a:off x="7572240" y="450072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1861" name="Прямоугольник 11"/>
          <p:cNvSpPr/>
          <p:nvPr/>
        </p:nvSpPr>
        <p:spPr>
          <a:xfrm>
            <a:off x="7791120" y="6143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ис.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Прямоугольник 12"/>
          <p:cNvSpPr/>
          <p:nvPr/>
        </p:nvSpPr>
        <p:spPr>
          <a:xfrm>
            <a:off x="2440080" y="6072120"/>
            <a:ext cx="285228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1600"/>
                </a:solidFill>
                <a:latin typeface="Arial"/>
              </a:rPr>
              <a:t>Упражнение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Прямоугольник 9"/>
          <p:cNvSpPr/>
          <p:nvPr/>
        </p:nvSpPr>
        <p:spPr>
          <a:xfrm rot="21111000">
            <a:off x="233280" y="31428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пражне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Прямоугольник 13"/>
          <p:cNvSpPr/>
          <p:nvPr/>
        </p:nvSpPr>
        <p:spPr>
          <a:xfrm>
            <a:off x="8043840" y="386712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мяч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Прямоугольник 10" descr=""/>
          <p:cNvPicPr/>
          <p:nvPr/>
        </p:nvPicPr>
        <p:blipFill>
          <a:blip r:embed="rId4"/>
          <a:stretch/>
        </p:blipFill>
        <p:spPr>
          <a:xfrm>
            <a:off x="2835360" y="171360"/>
            <a:ext cx="6022800" cy="64620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12" descr="D:\WINDOWS\Users\Aida\Рабочий стол\basketbol\картинки дополнительно\jpgСПОРТ картинки\C44-11.jpg"/>
          <p:cNvPicPr/>
          <p:nvPr/>
        </p:nvPicPr>
        <p:blipFill>
          <a:blip r:embed="rId5"/>
          <a:stretch/>
        </p:blipFill>
        <p:spPr>
          <a:xfrm>
            <a:off x="1143000" y="5000760"/>
            <a:ext cx="1201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979 -0.08055 -0.03941 -0.16088 -0.06893 -0.17014 C -0.09844 -0.1794 -0.14636 -0.06157 -0.17761 -0.05509 C -0.20886 -0.04861 -0.2342 -0.12986 -0.25695 -0.13102 C -0.27969 -0.13217 -0.30434 -0.07361 -0.31372 -0.06203 E">
                                      <p:cBhvr>
                                        <p:cTn id="81" dur="5000" fill="hold"/>
                                        <p:tgtEl>
                                          <p:spTgt spid="1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C -0.01979 -0.08056 -0.03941 -0.16088 -0.06892 -0.17014 C -0.09843 -0.1794 -0.14635 -0.06157 -0.1776 -0.05509 C -0.20885 -0.04861 -0.2342 -0.12986 -0.25694 -0.13102 C -0.27968 -0.13218 -0.30434 -0.07361 -0.31371 -0.06204 E">
                                      <p:cBhvr>
                                        <p:cTn id="83" dur="5000" fill="hold"/>
                                        <p:tgtEl>
                                          <p:spTgt spid="1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71 -0.06204 C -0.38836 -0.35996 -0.46267 -0.65741 -0.54444 -0.61274 C -0.62621 -0.56806 -0.76093 0.0706 -0.80399 0.20717 E">
                                      <p:cBhvr>
                                        <p:cTn id="86" dur="2000" fill="hold"/>
                                        <p:tgtEl>
                                          <p:spTgt spid="1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7:06:23Z</dcterms:created>
  <dc:creator>Храбрунова Л.В.</dc:creator>
  <dc:description/>
  <dc:language>en-US</dc:language>
  <cp:lastModifiedBy>Надя</cp:lastModifiedBy>
  <dcterms:modified xsi:type="dcterms:W3CDTF">2014-10-24T17:42:34Z</dcterms:modified>
  <cp:revision>79</cp:revision>
  <dc:subject/>
  <dc:title>Слайд 1</dc:title>
</cp:coreProperties>
</file>