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883D-C762-4D8C-854A-5C2F31A98A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91B0-33F4-417F-A35C-BFE6B2227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C073-6360-442B-A251-FAEB3AAC64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9E2-D9A0-4EE2-A215-00FB2AC2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332-FDA1-4179-B712-1CBBE48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269-79D9-4C51-AA11-50B6D69A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F98-F66A-4300-8284-15F7BE09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72F-0400-4A06-AC1C-3EC25C4D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910-24EC-4640-9F14-8A17D804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41B-A68E-4F20-ACF8-204FC845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40F-0581-4D5C-9CCF-9C6A0D33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2F7-9D5A-4E31-BAAD-F1B5C1D6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2B3-EBBE-4FE7-AAE4-654282A4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47F-3782-4B9D-B7A0-7302AB20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189-4EB2-4DF1-8C3B-D753F30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14D1-74B3-4FB6-98A9-1C3A0EA40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tex0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31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54061"/>
                </a:solidFill>
                <a:latin typeface="Calibri"/>
              </a:rPr>
              <a:t>Тест по теме </a:t>
            </a:r>
            <a:br>
              <a:rPr sz="7200"/>
            </a:br>
            <a:r>
              <a:rPr b="1" lang="ru-RU" sz="7200" spc="-1" strike="noStrike">
                <a:solidFill>
                  <a:srgbClr val="254061"/>
                </a:solidFill>
                <a:latin typeface="Calibri"/>
              </a:rPr>
              <a:t>«Имя прилагательное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e8b094b7950d327c31c53f3be710d585.gif"/>
          <p:cNvPicPr/>
          <p:nvPr/>
        </p:nvPicPr>
        <p:blipFill>
          <a:blip r:embed="rId2"/>
          <a:stretch/>
        </p:blipFill>
        <p:spPr>
          <a:xfrm>
            <a:off x="6858000" y="357120"/>
            <a:ext cx="1990800" cy="2955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j0088546.wmf"/>
          <p:cNvPicPr/>
          <p:nvPr/>
        </p:nvPicPr>
        <p:blipFill>
          <a:blip r:embed="rId3"/>
          <a:stretch/>
        </p:blipFill>
        <p:spPr>
          <a:xfrm rot="16200000">
            <a:off x="-3138120" y="2995560"/>
            <a:ext cx="6858000" cy="8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tex0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1680" y="6000480"/>
            <a:ext cx="37861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Тест по теме 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мя прилагательно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e8b094b7950d327c31c53f3be710d585.gif"/>
          <p:cNvPicPr/>
          <p:nvPr/>
        </p:nvPicPr>
        <p:blipFill>
          <a:blip r:embed="rId2"/>
          <a:stretch/>
        </p:blipFill>
        <p:spPr>
          <a:xfrm>
            <a:off x="8001000" y="5214960"/>
            <a:ext cx="990720" cy="1471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714240" y="597960"/>
            <a:ext cx="8429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44704"/>
              </a:buClr>
              <a:buFont typeface="Arial CYR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44704"/>
                </a:solidFill>
                <a:uFillTx/>
                <a:latin typeface="Arial CYR"/>
                <a:ea typeface="Times New Roman"/>
              </a:rPr>
              <a:t>Найдите верные формулиров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А. Имя прилагательное </a:t>
            </a:r>
            <a:r>
              <a:rPr b="1" lang="ru-RU" sz="4000" spc="-1" strike="noStrike">
                <a:solidFill>
                  <a:srgbClr val="254061"/>
                </a:solidFill>
                <a:latin typeface="Calibri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 часть речи, которая обозначает:</a:t>
            </a:r>
            <a:r>
              <a:rPr b="1" lang="ru-RU" sz="4000" spc="-1" strike="noStrike" u="sng">
                <a:solidFill>
                  <a:srgbClr val="254061"/>
                </a:solidFill>
                <a:uFillTx/>
                <a:latin typeface="Arial CYR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254061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признак, но как предмет;</a:t>
            </a:r>
            <a:br>
              <a:rPr sz="4000"/>
            </a:b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2) признак предмета;</a:t>
            </a:r>
            <a:br>
              <a:rPr sz="4000"/>
            </a:b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3) состояние предмета;</a:t>
            </a:r>
            <a:br>
              <a:rPr sz="4000"/>
            </a:b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4) действие предм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j0088546.wmf"/>
          <p:cNvPicPr/>
          <p:nvPr/>
        </p:nvPicPr>
        <p:blipFill>
          <a:blip r:embed="rId3"/>
          <a:stretch/>
        </p:blipFill>
        <p:spPr>
          <a:xfrm rot="16200000">
            <a:off x="-3138120" y="2995560"/>
            <a:ext cx="6858000" cy="8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tex0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1680" y="6000480"/>
            <a:ext cx="37861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Тест по теме 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мя прилагательно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e8b094b7950d327c31c53f3be710d585.gif"/>
          <p:cNvPicPr/>
          <p:nvPr/>
        </p:nvPicPr>
        <p:blipFill>
          <a:blip r:embed="rId2"/>
          <a:stretch/>
        </p:blipFill>
        <p:spPr>
          <a:xfrm>
            <a:off x="8001000" y="5214960"/>
            <a:ext cx="990720" cy="1471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714240" y="240840"/>
            <a:ext cx="8429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44704"/>
              </a:buClr>
              <a:buFont typeface="Arial CYR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44704"/>
                </a:solidFill>
                <a:uFillTx/>
                <a:latin typeface="Arial CYR"/>
                <a:ea typeface="Times New Roman"/>
              </a:rPr>
              <a:t>Найдите верные формулиров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Б. Имя прилагательное отвечает на вопросы</a:t>
            </a: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1) </a:t>
            </a:r>
            <a:r>
              <a:rPr b="1" i="1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какой? что?</a:t>
            </a: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2) </a:t>
            </a:r>
            <a:r>
              <a:rPr b="1" i="1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кто? что?</a:t>
            </a:r>
            <a:br>
              <a:rPr sz="4000"/>
            </a:b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3) </a:t>
            </a:r>
            <a:r>
              <a:rPr b="1" i="1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какой? чей?</a:t>
            </a:r>
            <a:br>
              <a:rPr sz="4000"/>
            </a:b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4) </a:t>
            </a:r>
            <a:r>
              <a:rPr b="1" i="1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чей? как?</a:t>
            </a: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j0088546.wmf"/>
          <p:cNvPicPr/>
          <p:nvPr/>
        </p:nvPicPr>
        <p:blipFill>
          <a:blip r:embed="rId3"/>
          <a:stretch/>
        </p:blipFill>
        <p:spPr>
          <a:xfrm rot="16200000">
            <a:off x="-3138120" y="2995560"/>
            <a:ext cx="6858000" cy="8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tex0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0" y="6072120"/>
            <a:ext cx="3786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Тест по теме 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мя прилагательно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e8b094b7950d327c31c53f3be710d585.gif"/>
          <p:cNvPicPr/>
          <p:nvPr/>
        </p:nvPicPr>
        <p:blipFill>
          <a:blip r:embed="rId2"/>
          <a:stretch/>
        </p:blipFill>
        <p:spPr>
          <a:xfrm>
            <a:off x="8001000" y="5214960"/>
            <a:ext cx="990720" cy="1471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j0088546.wmf"/>
          <p:cNvPicPr/>
          <p:nvPr/>
        </p:nvPicPr>
        <p:blipFill>
          <a:blip r:embed="rId3"/>
          <a:stretch/>
        </p:blipFill>
        <p:spPr>
          <a:xfrm rot="16200000">
            <a:off x="-3138120" y="2995560"/>
            <a:ext cx="6858000" cy="866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642960" y="310680"/>
            <a:ext cx="807228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В. Имя прилагательное</a:t>
            </a: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в полной форме согласуется с существительным в роде, числе и падеже;</a:t>
            </a:r>
            <a:br>
              <a:rPr sz="3600"/>
            </a:b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2) относится к одному из трех родов;</a:t>
            </a:r>
            <a:br>
              <a:rPr sz="3600"/>
            </a:b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3) в предложении в полной форме может быть сказуемым или определением;</a:t>
            </a:r>
            <a:br>
              <a:rPr sz="3600"/>
            </a:b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4) в краткой форме изменяется по числ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tex0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0" y="6072120"/>
            <a:ext cx="3786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Тест по теме 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мя прилагательно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e8b094b7950d327c31c53f3be710d585.gif"/>
          <p:cNvPicPr/>
          <p:nvPr/>
        </p:nvPicPr>
        <p:blipFill>
          <a:blip r:embed="rId2"/>
          <a:stretch/>
        </p:blipFill>
        <p:spPr>
          <a:xfrm>
            <a:off x="8001000" y="5214960"/>
            <a:ext cx="990720" cy="1471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j0088546.wmf"/>
          <p:cNvPicPr/>
          <p:nvPr/>
        </p:nvPicPr>
        <p:blipFill>
          <a:blip r:embed="rId3"/>
          <a:stretch/>
        </p:blipFill>
        <p:spPr>
          <a:xfrm rot="16200000">
            <a:off x="-3138120" y="2995560"/>
            <a:ext cx="6858000" cy="866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785880" y="243720"/>
            <a:ext cx="8072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Г. Краткие прилагательные</a:t>
            </a: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изменяются по родам, числам, падежам;</a:t>
            </a:r>
            <a:br>
              <a:rPr sz="3600"/>
            </a:b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2) склоняются, изменяются по родам;</a:t>
            </a:r>
            <a:br>
              <a:rPr sz="3600"/>
            </a:b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3) не склоняются, изменяются по числам, в единственном числе – по рода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254061"/>
                </a:solidFill>
                <a:latin typeface="Arial CYR"/>
                <a:ea typeface="Times New Roman"/>
              </a:rPr>
              <a:t>4) в предложении обычно являются определением или сказуемым.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tex0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0" y="6072120"/>
            <a:ext cx="3786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Тест по теме 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мя прилагательно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e8b094b7950d327c31c53f3be710d585.gif"/>
          <p:cNvPicPr/>
          <p:nvPr/>
        </p:nvPicPr>
        <p:blipFill>
          <a:blip r:embed="rId2"/>
          <a:stretch/>
        </p:blipFill>
        <p:spPr>
          <a:xfrm>
            <a:off x="8001000" y="5214960"/>
            <a:ext cx="990720" cy="1471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j0088546.wmf"/>
          <p:cNvPicPr/>
          <p:nvPr/>
        </p:nvPicPr>
        <p:blipFill>
          <a:blip r:embed="rId3"/>
          <a:stretch/>
        </p:blipFill>
        <p:spPr>
          <a:xfrm rot="16200000">
            <a:off x="-3138120" y="2995560"/>
            <a:ext cx="6858000" cy="86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857160" y="-227160"/>
            <a:ext cx="7786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4704"/>
                </a:solidFill>
                <a:latin typeface="Arial CYR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44704"/>
                </a:solidFill>
                <a:latin typeface="Arial CYR"/>
                <a:ea typeface="Times New Roman"/>
              </a:rPr>
              <a:t>. </a:t>
            </a:r>
            <a:r>
              <a:rPr b="1" lang="ru-RU" sz="4000" spc="-1" strike="noStrike" u="sng">
                <a:solidFill>
                  <a:srgbClr val="044704"/>
                </a:solidFill>
                <a:uFillTx/>
                <a:latin typeface="Arial CYR"/>
                <a:ea typeface="Times New Roman"/>
              </a:rPr>
              <a:t>Каким членом предложения является выделенное сло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А.</a:t>
            </a: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 Зима в этом году </a:t>
            </a:r>
            <a:r>
              <a:rPr b="1" i="1" lang="ru-RU" sz="4000" spc="-1" strike="noStrike">
                <a:solidFill>
                  <a:srgbClr val="ff0000"/>
                </a:solidFill>
                <a:latin typeface="Arial CYR"/>
                <a:ea typeface="Times New Roman"/>
              </a:rPr>
              <a:t>холодная</a:t>
            </a: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Подлежащи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сказуемы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определени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Arial CYR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tex0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1680" y="6143400"/>
            <a:ext cx="37861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Тест по теме 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мя прилагательно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e8b094b7950d327c31c53f3be710d585.gif"/>
          <p:cNvPicPr/>
          <p:nvPr/>
        </p:nvPicPr>
        <p:blipFill>
          <a:blip r:embed="rId2"/>
          <a:stretch/>
        </p:blipFill>
        <p:spPr>
          <a:xfrm>
            <a:off x="8001000" y="5214960"/>
            <a:ext cx="990720" cy="1471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j0088546.wmf"/>
          <p:cNvPicPr/>
          <p:nvPr/>
        </p:nvPicPr>
        <p:blipFill>
          <a:blip r:embed="rId3"/>
          <a:stretch/>
        </p:blipFill>
        <p:spPr>
          <a:xfrm rot="16200000">
            <a:off x="-3138120" y="2995560"/>
            <a:ext cx="6858000" cy="866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1071720" y="946440"/>
            <a:ext cx="807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44704"/>
                </a:solidFill>
                <a:uFillTx/>
                <a:latin typeface="Arial CYR"/>
                <a:ea typeface="Times New Roman"/>
              </a:rPr>
              <a:t>I</a:t>
            </a:r>
            <a:r>
              <a:rPr b="1" lang="ru-RU" sz="4000" spc="-1" strike="noStrike" u="sng">
                <a:solidFill>
                  <a:srgbClr val="044704"/>
                </a:solidFill>
                <a:uFillTx/>
                <a:latin typeface="Arial CYR"/>
                <a:ea typeface="Times New Roman"/>
              </a:rPr>
              <a:t>V. Найдите слова с мягким знаком на конц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Times New Roman"/>
              </a:rPr>
              <a:t>из-за туч_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Times New Roman"/>
              </a:rPr>
              <a:t>рож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лышиш_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CY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Times New Roman"/>
              </a:rPr>
              <a:t>хорош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tex0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1680" y="6143400"/>
            <a:ext cx="37861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Тест по теме 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мя прилагательно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e8b094b7950d327c31c53f3be710d585.gif"/>
          <p:cNvPicPr/>
          <p:nvPr/>
        </p:nvPicPr>
        <p:blipFill>
          <a:blip r:embed="rId2"/>
          <a:stretch/>
        </p:blipFill>
        <p:spPr>
          <a:xfrm>
            <a:off x="8001000" y="5214960"/>
            <a:ext cx="990720" cy="1471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j0088546.wmf"/>
          <p:cNvPicPr/>
          <p:nvPr/>
        </p:nvPicPr>
        <p:blipFill>
          <a:blip r:embed="rId3"/>
          <a:stretch/>
        </p:blipFill>
        <p:spPr>
          <a:xfrm rot="16200000">
            <a:off x="-3138120" y="2995560"/>
            <a:ext cx="6858000" cy="866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857160" y="145080"/>
            <a:ext cx="7786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54061"/>
                </a:solidFill>
                <a:uFillTx/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4061"/>
                </a:solidFill>
                <a:latin typeface="Arial"/>
              </a:rPr>
              <a:t>I  </a:t>
            </a:r>
            <a:r>
              <a:rPr b="0" lang="ru-RU" sz="3600" spc="-1" strike="noStrike">
                <a:solidFill>
                  <a:srgbClr val="254061"/>
                </a:solidFill>
                <a:latin typeface="Arial"/>
              </a:rPr>
              <a:t>-    А-2;Б-3; В1,3,4; Г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4061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254061"/>
                </a:solidFill>
                <a:latin typeface="Arial"/>
              </a:rPr>
              <a:t>  -   А-2; Б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4061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254061"/>
                </a:solidFill>
                <a:latin typeface="Arial"/>
              </a:rPr>
              <a:t> -  А-3,4; Б-1,3; В-2,3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4061"/>
                </a:solidFill>
                <a:latin typeface="Arial"/>
              </a:rPr>
              <a:t>IV</a:t>
            </a:r>
            <a:r>
              <a:rPr b="0" lang="ru-RU" sz="3600" spc="-1" strike="noStrike">
                <a:solidFill>
                  <a:srgbClr val="254061"/>
                </a:solidFill>
                <a:latin typeface="Arial"/>
              </a:rPr>
              <a:t> -  2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4061"/>
                </a:solidFill>
                <a:latin typeface="Arial"/>
              </a:rPr>
              <a:t>V</a:t>
            </a:r>
            <a:r>
              <a:rPr b="0" lang="ru-RU" sz="3600" spc="-1" strike="noStrike">
                <a:solidFill>
                  <a:srgbClr val="254061"/>
                </a:solidFill>
                <a:latin typeface="Arial"/>
              </a:rPr>
              <a:t> -   А-1; Б-2,3,4; В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4061"/>
                </a:solidFill>
                <a:latin typeface="Arial"/>
              </a:rPr>
              <a:t>VI</a:t>
            </a:r>
            <a:r>
              <a:rPr b="0" lang="ru-RU" sz="3600" spc="-1" strike="noStrike">
                <a:solidFill>
                  <a:srgbClr val="254061"/>
                </a:solidFill>
                <a:latin typeface="Arial"/>
              </a:rPr>
              <a:t> – 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143000" y="4572000"/>
            <a:ext cx="642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54061"/>
                </a:solidFill>
                <a:uFillTx/>
                <a:latin typeface="Calibri"/>
              </a:rPr>
              <a:t>Отм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«5» -   23-24   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«4»-   19-  22  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«3» - 13 – 18  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TextBox 7"/>
          <p:cNvGrpSpPr/>
          <p:nvPr/>
        </p:nvGrpSpPr>
        <p:grpSpPr>
          <a:xfrm>
            <a:off x="6046920" y="3346560"/>
            <a:ext cx="2865240" cy="1542960"/>
            <a:chOff x="6046920" y="3346560"/>
            <a:chExt cx="2865240" cy="1542960"/>
          </a:xfrm>
        </p:grpSpPr>
        <p:pic>
          <p:nvPicPr>
            <p:cNvPr id="89" name="TextBox 7" descr=""/>
            <p:cNvPicPr/>
            <p:nvPr/>
          </p:nvPicPr>
          <p:blipFill>
            <a:blip r:embed="rId4"/>
            <a:stretch/>
          </p:blipFill>
          <p:spPr>
            <a:xfrm>
              <a:off x="6046920" y="3346560"/>
              <a:ext cx="286524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215040" y="3429000"/>
              <a:ext cx="2643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rgbClr val="ffff00"/>
                  </a:solidFill>
                  <a:latin typeface="Calibri"/>
                </a:rPr>
                <a:t>Каждый правильный ответ  - 1  бал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tex0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1680" y="6143400"/>
            <a:ext cx="37861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Тест по теме 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мя прилагательно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4" descr="e8b094b7950d327c31c53f3be710d585.gif"/>
          <p:cNvPicPr/>
          <p:nvPr/>
        </p:nvPicPr>
        <p:blipFill>
          <a:blip r:embed="rId2"/>
          <a:stretch/>
        </p:blipFill>
        <p:spPr>
          <a:xfrm>
            <a:off x="8001000" y="5214960"/>
            <a:ext cx="990720" cy="1471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j0088546.wmf"/>
          <p:cNvPicPr/>
          <p:nvPr/>
        </p:nvPicPr>
        <p:blipFill>
          <a:blip r:embed="rId3"/>
          <a:stretch/>
        </p:blipFill>
        <p:spPr>
          <a:xfrm rot="16200000">
            <a:off x="-3138120" y="2995560"/>
            <a:ext cx="6858000" cy="866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143000" y="955080"/>
            <a:ext cx="728676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4704"/>
                </a:solidFill>
                <a:latin typeface="Arial CYR"/>
                <a:ea typeface="Times New Roman"/>
              </a:rPr>
              <a:t>МЕТОДИЧЕСКИЕ РАЗРАБО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4704"/>
                </a:solidFill>
                <a:latin typeface="Arial CYR"/>
                <a:ea typeface="Times New Roman"/>
              </a:rPr>
              <a:t>Г.А.БОГДАНОВА,</a:t>
            </a:r>
            <a:br>
              <a:rPr sz="3600"/>
            </a:br>
            <a:r>
              <a:rPr b="1" i="1" lang="ru-RU" sz="3600" spc="-1" strike="noStrike">
                <a:solidFill>
                  <a:srgbClr val="044704"/>
                </a:solidFill>
                <a:latin typeface="Times New Roman"/>
                <a:ea typeface="Times New Roman"/>
              </a:rPr>
              <a:t>г. Мос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357280" y="4214880"/>
            <a:ext cx="45720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 flipV="1" rot="10800000">
            <a:off x="1571400" y="33598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4704"/>
                </a:solidFill>
                <a:latin typeface="Arial CYR"/>
                <a:ea typeface="Times New Roman"/>
              </a:rPr>
              <a:t>Имя прилагательно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285920" y="42876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ованы материал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0:47:53Z</dcterms:created>
  <dc:creator>Бардыкина Е.Б.</dc:creator>
  <dc:description/>
  <dc:language>en-US</dc:language>
  <cp:lastModifiedBy>111</cp:lastModifiedBy>
  <dcterms:modified xsi:type="dcterms:W3CDTF">2010-11-04T06:47:13Z</dcterms:modified>
  <cp:revision>10</cp:revision>
  <dc:subject/>
  <dc:title>Тест по теме  «Имя прилагательное»</dc:title>
</cp:coreProperties>
</file>