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398840" y="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A1B0A-08FF-4FC4-840C-4488710C82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D10B0-AE5F-4BBF-880E-D0B42DEDDF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B0C6B-20DD-44D3-AB15-DCA5000253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39759-6032-4E1A-B244-03BBAEBB2B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27685-118E-4999-B9EB-2C3333C41C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EA90A-F65B-428F-B9EF-9BD72CBD7C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2A06E-15C5-4933-AB82-E82E58CCE4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C0897-AD73-4D48-800F-D2EF2BCBA4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0D992-8A29-4768-BCDF-BC9559E919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EC4EB-8E7E-416E-AFCB-96ACD7137A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7BCC-DD56-4D50-A352-DF32FF84CA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C1880-49DF-47C6-B8EF-97A30A4ED5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0" y="1289160"/>
            <a:ext cx="10080720" cy="11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 rot="10800000">
            <a:off x="0" y="720"/>
            <a:ext cx="10080720" cy="131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"/>
          <p:cNvSpPr/>
          <p:nvPr/>
        </p:nvSpPr>
        <p:spPr>
          <a:xfrm>
            <a:off x="0" y="6645240"/>
            <a:ext cx="1008072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4726080" y="6770520"/>
            <a:ext cx="5351400" cy="49860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14868" h="1387">
                <a:moveTo>
                  <a:pt x="364" y="736"/>
                </a:moveTo>
                <a:cubicBezTo>
                  <a:pt x="-985" y="665"/>
                  <a:pt x="1895" y="692"/>
                  <a:pt x="1248" y="540"/>
                </a:cubicBezTo>
                <a:cubicBezTo>
                  <a:pt x="601" y="388"/>
                  <a:pt x="3069" y="426"/>
                  <a:pt x="3366" y="327"/>
                </a:cubicBezTo>
                <a:cubicBezTo>
                  <a:pt x="3498" y="283"/>
                  <a:pt x="3421" y="185"/>
                  <a:pt x="3247" y="142"/>
                </a:cubicBezTo>
                <a:cubicBezTo>
                  <a:pt x="3237" y="140"/>
                  <a:pt x="1769" y="59"/>
                  <a:pt x="2057" y="5"/>
                </a:cubicBezTo>
                <a:cubicBezTo>
                  <a:pt x="2345" y="-49"/>
                  <a:pt x="6252" y="355"/>
                  <a:pt x="6240" y="429"/>
                </a:cubicBezTo>
                <a:cubicBezTo>
                  <a:pt x="6228" y="503"/>
                  <a:pt x="4302" y="582"/>
                  <a:pt x="4302" y="582"/>
                </a:cubicBezTo>
                <a:lnTo>
                  <a:pt x="5249" y="681"/>
                </a:lnTo>
                <a:lnTo>
                  <a:pt x="6760" y="700"/>
                </a:lnTo>
                <a:lnTo>
                  <a:pt x="9228" y="824"/>
                </a:lnTo>
                <a:cubicBezTo>
                  <a:pt x="9228" y="824"/>
                  <a:pt x="10321" y="641"/>
                  <a:pt x="10088" y="665"/>
                </a:cubicBezTo>
                <a:cubicBezTo>
                  <a:pt x="9855" y="689"/>
                  <a:pt x="11160" y="677"/>
                  <a:pt x="11273" y="642"/>
                </a:cubicBezTo>
                <a:cubicBezTo>
                  <a:pt x="11386" y="607"/>
                  <a:pt x="11609" y="653"/>
                  <a:pt x="11620" y="654"/>
                </a:cubicBezTo>
                <a:cubicBezTo>
                  <a:pt x="12030" y="689"/>
                  <a:pt x="12294" y="728"/>
                  <a:pt x="12590" y="739"/>
                </a:cubicBezTo>
                <a:cubicBezTo>
                  <a:pt x="12886" y="750"/>
                  <a:pt x="13541" y="700"/>
                  <a:pt x="13919" y="720"/>
                </a:cubicBezTo>
                <a:cubicBezTo>
                  <a:pt x="14297" y="740"/>
                  <a:pt x="14868" y="654"/>
                  <a:pt x="14868" y="654"/>
                </a:cubicBezTo>
                <a:lnTo>
                  <a:pt x="14868" y="794"/>
                </a:lnTo>
                <a:cubicBezTo>
                  <a:pt x="14868" y="794"/>
                  <a:pt x="11370" y="1013"/>
                  <a:pt x="11385" y="1013"/>
                </a:cubicBezTo>
                <a:cubicBezTo>
                  <a:pt x="11400" y="1013"/>
                  <a:pt x="7567" y="1019"/>
                  <a:pt x="7581" y="1019"/>
                </a:cubicBezTo>
                <a:cubicBezTo>
                  <a:pt x="7595" y="1019"/>
                  <a:pt x="5002" y="954"/>
                  <a:pt x="5002" y="954"/>
                </a:cubicBezTo>
                <a:cubicBezTo>
                  <a:pt x="5002" y="954"/>
                  <a:pt x="3589" y="924"/>
                  <a:pt x="3676" y="913"/>
                </a:cubicBezTo>
                <a:cubicBezTo>
                  <a:pt x="3763" y="902"/>
                  <a:pt x="2310" y="1421"/>
                  <a:pt x="2113" y="1385"/>
                </a:cubicBezTo>
                <a:cubicBezTo>
                  <a:pt x="1916" y="1349"/>
                  <a:pt x="1102" y="1137"/>
                  <a:pt x="1073" y="1149"/>
                </a:cubicBezTo>
                <a:cubicBezTo>
                  <a:pt x="1044" y="1161"/>
                  <a:pt x="2386" y="843"/>
                  <a:pt x="1913" y="818"/>
                </a:cubicBezTo>
                <a:lnTo>
                  <a:pt x="364" y="73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5"/>
          <p:cNvSpPr/>
          <p:nvPr/>
        </p:nvSpPr>
        <p:spPr>
          <a:xfrm>
            <a:off x="131760" y="6634080"/>
            <a:ext cx="5761080" cy="381240"/>
          </a:xfrm>
          <a:custGeom>
            <a:avLst/>
            <a:gdLst>
              <a:gd name="textAreaLeft" fmla="*/ 0 w 5761080"/>
              <a:gd name="textAreaRight" fmla="*/ 5761440 w 57610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6005" h="1059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2108160" y="6788160"/>
            <a:ext cx="2259000" cy="233280"/>
          </a:xfrm>
          <a:custGeom>
            <a:avLst/>
            <a:gdLst>
              <a:gd name="textAreaLeft" fmla="*/ 0 w 2259000"/>
              <a:gd name="textAreaRight" fmla="*/ 2259360 w 2259000"/>
              <a:gd name="textAreaTop" fmla="*/ 0 h 233280"/>
              <a:gd name="textAreaBottom" fmla="*/ 233280 h 233280"/>
            </a:gdLst>
            <a:ahLst/>
            <a:rect l="textAreaLeft" t="textAreaTop" r="textAreaRight" b="textAreaBottom"/>
            <a:pathLst>
              <a:path w="6278" h="648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0" y="6678720"/>
            <a:ext cx="5894280" cy="715680"/>
          </a:xfrm>
          <a:custGeom>
            <a:avLst/>
            <a:gdLst>
              <a:gd name="textAreaLeft" fmla="*/ 0 w 5894280"/>
              <a:gd name="textAreaRight" fmla="*/ 5894640 w 589428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16373" h="1990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6360" y="2484000"/>
            <a:ext cx="8569080" cy="16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удет Родина с хлебом целинны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готовила: Ивашкова Г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МКОУ «ТО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3240000" y="231840"/>
            <a:ext cx="774072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Растут бесконечно множась города,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Но не прожить без сельского труда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Ни дня не заводчанам,ни шахтёрам,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Ни депутатом,ни большим актёром.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Всем людям на Земле нужна еда.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Где взять её без сельского труда?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И трудится народ в деревнях,сёлах,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На не обьятных полевых просторах.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А за старательный к себе подход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Земля им с благодарностью даёт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Все лучше урожай из года в год-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Всех тружеников сёл и деревень 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Поздравим от души в особый день,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Когда их труд почетный отмечают,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Гордятся,их успехи прославляют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И говорят им теплые слова,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Припомнив, что всему хлеб-голова.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А хорошо б, чтоб помнили всегда, </a:t>
            </a:r>
            <a:br>
              <a:rPr sz="2200"/>
            </a:br>
            <a:r>
              <a:rPr b="0" lang="ru-RU" sz="2200" spc="-1" strike="noStrike">
                <a:solidFill>
                  <a:srgbClr val="004586"/>
                </a:solidFill>
                <a:latin typeface="Arial"/>
              </a:rPr>
              <a:t>Трудом чьим к нам на стол пришла ед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09520" y="3419640"/>
            <a:ext cx="4110120" cy="306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431964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392040" y="-1298520"/>
            <a:ext cx="8607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60360"/>
            <a:ext cx="936000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6633"/>
                </a:solidFill>
                <a:latin typeface="Segoe Script"/>
              </a:rPr>
              <a:t>Трудно с чем-нибудь сравнить вес горстки теплых зерен из колосьев, выращенных на разбуженной тобой земле. Кажется, что они впитали и часть тебя самого, часть твоей души. А вкус этого хлеба, а его запах!.. Только что вынутый из русской печи, хлеб пахнет и накаленным на солнце полем, и влажной землей, и твоей усталостью... Долгие годы это не давало мне покоя. Порядком, побродив по свету, сменив много профессий, я по сей день считаю хлеборобное дело главным на земле. И сейчас тот, кто умеет выращивать хлеб, по-настоящему ценит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6633"/>
                </a:solidFill>
                <a:latin typeface="Segoe Script"/>
              </a:rPr>
              <a:t>                        </a:t>
            </a:r>
            <a:r>
              <a:rPr b="0" lang="ru-RU" sz="2200" spc="-1" strike="noStrike">
                <a:solidFill>
                  <a:srgbClr val="ff6633"/>
                </a:solidFill>
                <a:latin typeface="Segoe Script"/>
              </a:rPr>
              <a:t> </a:t>
            </a:r>
            <a:r>
              <a:rPr b="0" lang="ru-RU" sz="2200" spc="-1" strike="noStrike">
                <a:solidFill>
                  <a:srgbClr val="000080"/>
                </a:solidFill>
                <a:latin typeface="Segoe Script"/>
              </a:rPr>
              <a:t>(из воспоминаний целинников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12360" y="2427840"/>
            <a:ext cx="55440" cy="51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5480" y="5422680"/>
            <a:ext cx="85010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авнении с 1953 годом в первый год освоения новых земель, увеличились пашни в районе почти на 35 тысяч гектаров. Район в 1954 году получил по 15,2 центнеров с гектара  площади 1 135 39 га, валовый сбор зерна составил 1 725 792 ц. Это рекордны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за всю историю района по валовому сбору зерно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1"/>
          <a:stretch/>
        </p:blipFill>
        <p:spPr>
          <a:xfrm>
            <a:off x="1539720" y="0"/>
            <a:ext cx="71438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5611680" y="279360"/>
            <a:ext cx="4140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2520" y="0"/>
            <a:ext cx="5072040" cy="69231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5" name="Text Box 4"/>
          <p:cNvSpPr/>
          <p:nvPr/>
        </p:nvSpPr>
        <p:spPr>
          <a:xfrm>
            <a:off x="-3960720" y="2843280"/>
            <a:ext cx="3960720" cy="222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79880" y="1278000"/>
            <a:ext cx="420048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90560" indent="-64620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132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5468760" y="0"/>
            <a:ext cx="461196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84 году в связи с 30-летием годовщины поднятия целинных и залежных земель в одном из  сел Кулунды был установлен данный памятник. Инициатором установки выступила инженерная служба совхоза «Ореховский», которая обратилась к дирекции, парткому и сельскому совету с просьбой установить на постамент трактор ДТ-54 возле здания сельсовета. Всю работу по установке памятника занимался коллектив МТМ во главе с Безверхим Н.М. Сварочные работы осуществлял Май В.А., оформлением надписи занимался Щербак В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198360" y="763560"/>
            <a:ext cx="971064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41240" y="206280"/>
            <a:ext cx="86076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741240" y="1596960"/>
            <a:ext cx="420048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254560" y="351000"/>
            <a:ext cx="420048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90560" indent="-646200">
              <a:lnSpc>
                <a:spcPct val="100000"/>
              </a:lnSpc>
              <a:spcAft>
                <a:spcPts val="1412"/>
              </a:spcAft>
              <a:buSzPct val="14707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шем селе проживает участник освоения целины-Жердев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0560" indent="-646200">
              <a:lnSpc>
                <a:spcPct val="100000"/>
              </a:lnSpc>
              <a:spcAft>
                <a:spcPts val="1412"/>
              </a:spcAft>
              <a:buSzPct val="14707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главлял бригаду целинников колхоза им.Чапа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0560" indent="-646200">
              <a:lnSpc>
                <a:spcPct val="100000"/>
              </a:lnSpc>
              <a:spcAft>
                <a:spcPts val="1412"/>
              </a:spcAft>
              <a:buSzPct val="14707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днократно награждался почётными грамотами и ценными подарками,имел медали «За освоение целинным зем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0560" indent="-646200">
              <a:lnSpc>
                <a:spcPct val="100000"/>
              </a:lnSpc>
              <a:spcAft>
                <a:spcPts val="1412"/>
              </a:spcAft>
              <a:buSzPct val="14707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награждён медалью участника ВСХ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5"/>
          <a:stretch/>
        </p:blipFill>
        <p:spPr>
          <a:xfrm>
            <a:off x="539640" y="4680000"/>
            <a:ext cx="4140360" cy="1979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3" name="Рисунок 6" descr=""/>
          <p:cNvPicPr/>
          <p:nvPr/>
        </p:nvPicPr>
        <p:blipFill>
          <a:blip r:embed="rId6"/>
          <a:stretch/>
        </p:blipFill>
        <p:spPr>
          <a:xfrm>
            <a:off x="927000" y="22320"/>
            <a:ext cx="3365640" cy="4511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41240" y="490680"/>
            <a:ext cx="8607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33"/>
                </a:solidFill>
                <a:latin typeface="Times New Roman"/>
              </a:rPr>
              <a:t>Освоение це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0" y="1208160"/>
            <a:ext cx="6523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92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В первый набор на целину  мой дед Жердев А.В. Не попал, мать не пустила, всё же помощником был в семье. Но желание поехать на целину, испытать себя было сильнее. И в1956 году он поехал по комсомольской путёвке на целину . состав с добровольцами формировался в Москве. Два проведенных в столице дня были наполнены экскурсиями , знакомством с сердцем нашей Родины .А затем был запомнившийся на всю жизнь торжественный митинг на перроне. Зачем мой дед из центральной России , из Орловской области приехал на Алтай? У деда в кармане было направление в Кустанайскую область .Однако вышло так , что три вагона их поезда отцепили от состава и направили  на Алтай , а в Барнауле дед сам попросился в Тог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Из воспоминаний Жердева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spcAft>
                <a:spcPts val="1412"/>
              </a:spcAft>
              <a:buSzPct val="17584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spcAft>
                <a:spcPts val="1412"/>
              </a:spcAft>
              <a:buSzPct val="17584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6523200" y="1619280"/>
            <a:ext cx="319716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240000" y="466560"/>
            <a:ext cx="503892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ыросли на хлеб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не забыть о 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то эти сте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нели ковыл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ишь стада сайг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уганых бре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на эту зем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мы приш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ыло трудно, прав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знали мы од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нимали:  надо целинное зер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ракторы взрев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залежным пласт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емли Алт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икнулись зер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стро мчится врем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 сын отца смен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ын гордится те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амый первый бы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ворит наследни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вам, отц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тепь хлебов несметны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школы, за двор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0" y="-54000"/>
            <a:ext cx="3753000" cy="5004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>
            <a:off x="4292640" y="-27000"/>
            <a:ext cx="5807160" cy="4977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000" y="5364000"/>
            <a:ext cx="9070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 Филипович Никите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2179800" y="208080"/>
            <a:ext cx="5721120" cy="7143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" descr=""/>
          <p:cNvPicPr/>
          <p:nvPr/>
        </p:nvPicPr>
        <p:blipFill>
          <a:blip r:embed="rId2"/>
          <a:stretch/>
        </p:blipFill>
        <p:spPr>
          <a:xfrm>
            <a:off x="2152800" y="5688000"/>
            <a:ext cx="6107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smojem.mp3" descr=""/>
          <p:cNvPicPr/>
          <p:nvPr/>
        </p:nvPicPr>
        <p:blipFill>
          <a:blip r:embed="rId1"/>
          <a:stretch/>
        </p:blipFill>
        <p:spPr>
          <a:xfrm>
            <a:off x="1079640" y="4932360"/>
            <a:ext cx="8110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9944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2992320" y="181080"/>
            <a:ext cx="4111920" cy="71704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" descr=""/>
          <p:cNvPicPr/>
          <p:nvPr/>
        </p:nvPicPr>
        <p:blipFill>
          <a:blip r:embed="rId2"/>
          <a:stretch/>
        </p:blipFill>
        <p:spPr>
          <a:xfrm>
            <a:off x="-493560" y="5688000"/>
            <a:ext cx="11069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539640" y="1063800"/>
            <a:ext cx="860760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URW Chancery L"/>
              </a:rPr>
              <a:t>Наше село,наши славные труженики-это частичка района,частичка-нашей большой земли.Так давайте поклонимся этим людям и будем воспевать и беречь нашу земл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111640" y="3565440"/>
            <a:ext cx="45007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535104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Хочется верить, что наш целинные земли будут вновь востребованы и на бескрайних  полях снова будет колоситься пшениц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Объект 5" descr=""/>
          <p:cNvPicPr/>
          <p:nvPr/>
        </p:nvPicPr>
        <p:blipFill>
          <a:blip r:embed="rId1"/>
          <a:stretch/>
        </p:blipFill>
        <p:spPr>
          <a:xfrm>
            <a:off x="896760" y="0"/>
            <a:ext cx="809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тай занимал первое место среди краев и областей в освоении це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гульский район прибыло в 1954-1956 годах 230 добровольцев по путёвкам, 77 трактористов, 37 слесарей, 27 шоферов и 26 ток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-504720" y="900000"/>
            <a:ext cx="6300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на так  недавно мы степь назы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й край, где лишь ветер уныло пое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рким взглядом, окинув ковыльные д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понял – победа сама не при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фронте успех добивается с бо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здесь довелось наступать и дерз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 на битву за хлеб комсомольцы – гер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живать на века здесь каждую пя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ходных палаток костры задыми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кнах новых домов звезды жизни зажг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акие хлеба на полях уроди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в сказке, стеной у дорог подня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гда зазвенела под ветром пшен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й урожай возмужал и окре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ольших городов, из далекой сто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да люди пришли убирать новый хле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ичей я встречал на разъезде, в ваг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собрал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ответили в р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гульский райо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хлеб убирать на Алтае у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040360" y="3600360"/>
            <a:ext cx="504036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741240" y="447840"/>
            <a:ext cx="8607600" cy="68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льский район Алтайского края расположен в северо-восточной части края на границе с Кемеровской областью.Образован в 1924 году. В районе 12 сел, наиболее крупные-Антипино, Тогул, Новоиуш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еф холмистый, отроги Салаирского кря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 континентальный. Средняя температура января- 16,5, июля-+18,8. Годовых атмосферных осадков -520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- черноземные оподзоленные, частично выщелоченные, серые лесные, болотные. Добываются глина, песок, разведаны  запасы щебня, гранита, золо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территории района протекают реки: Чумыш, Уксунай, Тогул, есть 52 озера, в т.ч. Лесное, Маяк, Дол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а территории района покрыта лесами. Растут пихта. Берёза, осина, ель, ива, черемуха, калина, ке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итают из зверей: лось, косуля, медведь, волк, рысь, лиса, выдра, норка, заяц, белка; из птиц- рябчик, глухарь, тетерев, утка, сойка, журавль; из рыб- карась, линь, щука,  окунь, хариус, нал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752400" y="534960"/>
            <a:ext cx="8607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ина началась с Алта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00000" y="1260360"/>
            <a:ext cx="7559640" cy="3240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720720" y="4581360"/>
            <a:ext cx="86076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90560" indent="-64620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чти 60 лет назад,в ночь на 1 марта в 1954 году,на Барнаульский вокзал прибыл первый в стране эшелон с целинниками.В Южный Урал и Сибирь были направлены свыше 30тыс. партийных  работников и более 120 тыс. специалистов сельского хозяй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301680"/>
            <a:ext cx="331632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7\Pictures\bg.jpg"/>
          <p:cNvPicPr/>
          <p:nvPr/>
        </p:nvPicPr>
        <p:blipFill>
          <a:blip r:embed="rId1"/>
          <a:stretch/>
        </p:blipFill>
        <p:spPr>
          <a:xfrm>
            <a:off x="3941640" y="1292400"/>
            <a:ext cx="5635800" cy="4470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79080"/>
            <a:ext cx="331632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И вновь приближается страдная ос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Седеет у леса всё больше ви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…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я вижу Россию в венке из колосье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В которой алтайский вплетён коло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Алеют в нём пламенем тихие зо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Сверкают алмазные капли в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В нём зёрна из наших Алтайских предгор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В нём зёрна из нашей степной Кулу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741240" y="490680"/>
            <a:ext cx="8607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33"/>
                </a:solidFill>
                <a:latin typeface="Times New Roman"/>
              </a:rPr>
              <a:t>Освоение це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0" y="1208160"/>
            <a:ext cx="32544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90560" indent="-646200">
              <a:lnSpc>
                <a:spcPct val="100000"/>
              </a:lnSpc>
              <a:spcAft>
                <a:spcPts val="1412"/>
              </a:spcAft>
              <a:buSzPct val="17584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своение целинных земель продолжалось с  1954 по 1984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560" indent="-646200">
              <a:lnSpc>
                <a:spcPct val="100000"/>
              </a:lnSpc>
              <a:spcAft>
                <a:spcPts val="1412"/>
              </a:spcAft>
              <a:buSzPct val="17584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Уже к 10 августу 1954 года установленное задание по подъему целины в стране было выполнено: распахано 13,4 млн. га новых земель, или 103,2 % к плану, в том числе в Казахстане более 6,5 млн. га целинных зем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560" indent="-646200">
              <a:lnSpc>
                <a:spcPct val="100000"/>
              </a:lnSpc>
              <a:spcAft>
                <a:spcPts val="1412"/>
              </a:spcAft>
              <a:buSzPct val="17584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560" indent="-646200">
              <a:lnSpc>
                <a:spcPct val="100000"/>
              </a:lnSpc>
              <a:spcAft>
                <a:spcPts val="1412"/>
              </a:spcAft>
              <a:buSzPct val="17584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5"/>
          <a:stretch/>
        </p:blipFill>
        <p:spPr>
          <a:xfrm>
            <a:off x="3419640" y="1619280"/>
            <a:ext cx="63007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741240" y="490680"/>
            <a:ext cx="8607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33"/>
                </a:solidFill>
                <a:latin typeface="Times New Roman"/>
              </a:rPr>
              <a:t>Освоение це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0" y="1208160"/>
            <a:ext cx="32544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90560" indent="-646200">
              <a:lnSpc>
                <a:spcPct val="100000"/>
              </a:lnSpc>
              <a:spcAft>
                <a:spcPts val="1412"/>
              </a:spcAft>
              <a:buSzPct val="17584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За первые два года целины  Тогульский район получил 90 тракторов.45 комбайнов,38 грузовых машин .В районе было освоено 12,3 тысячи гектаров залежных земель. До освоения целины район поставлял государству80-120 тыс. центнеров зерна, то в 1956 году было отправлено 157 тыс., а затем 230 тыс. центнеров зер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560" indent="-646200">
              <a:lnSpc>
                <a:spcPct val="100000"/>
              </a:lnSpc>
              <a:spcAft>
                <a:spcPts val="1412"/>
              </a:spcAft>
              <a:buSzPct val="17584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560" indent="-646200">
              <a:lnSpc>
                <a:spcPct val="100000"/>
              </a:lnSpc>
              <a:spcAft>
                <a:spcPts val="1412"/>
              </a:spcAft>
              <a:buSzPct val="17584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4"/>
          <a:stretch/>
        </p:blipFill>
        <p:spPr>
          <a:xfrm>
            <a:off x="3419640" y="1619280"/>
            <a:ext cx="63007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ибл</dc:creator>
  <dc:description/>
  <dc:language>en-US</dc:language>
  <cp:lastModifiedBy>дир</cp:lastModifiedBy>
  <dcterms:modified xsi:type="dcterms:W3CDTF">2014-10-25T09:38:50Z</dcterms:modified>
  <cp:revision>32</cp:revision>
  <dc:subject/>
  <dc:title>Слайд 1</dc:title>
</cp:coreProperties>
</file>