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B02-71FA-4F80-BDED-C71DC2DC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786-BD9A-4EDA-894B-A268FF3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D67-F624-43FD-8B94-FC4791A1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B7B-8385-4708-8BB4-F753F989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40FC-FDD5-4A34-BBA9-44E4632C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D35D-81EA-4CF6-8A3D-AF8CB36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458-E6D3-4180-BFCA-AABD5DD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B56C-5BC8-4A39-BA7F-2E1010F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C99-083B-4D17-9B2F-A7306FD9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2BB-23BA-4D44-AB3C-6E3FD5BC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CEC-4CB4-441B-BB94-7B02339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A2B-2113-49DE-AE53-6054BD6F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E68-017D-4895-AEB0-29E3B0F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7813-6721-4530-8037-0D32377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E0D6-B57C-4B06-B4E7-7047A6D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A4D-7089-4717-AF95-0F16EC5B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B5F8-E56D-4AD5-9BBA-DFCBF4E5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6C-0096-4DE9-82D7-89643F4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CA6-6639-46D9-A06E-8178C662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975-FD9E-4562-A01A-65B8AAD8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37B-658E-40BA-8D5D-284BAAE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598-5EB9-489B-8646-1033329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88C-705A-4386-91A1-109809B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EEB-BD04-4BAE-AD3B-FDF0100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9761-ED13-4407-BF1D-4FAE60D6A2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570-DCC2-486E-BE82-3C049E0546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Человек и домашн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3399"/>
                </a:solidFill>
                <a:latin typeface="Arial"/>
              </a:rPr>
              <a:t>пету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Петух Doodle делать!"/>
          <p:cNvPicPr/>
          <p:nvPr/>
        </p:nvPicPr>
        <p:blipFill>
          <a:blip r:embed="rId1"/>
          <a:stretch/>
        </p:blipFill>
        <p:spPr>
          <a:xfrm>
            <a:off x="2700360" y="1844640"/>
            <a:ext cx="345600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9900"/>
                </a:solidFill>
                <a:latin typeface="Arial"/>
              </a:rPr>
              <a:t>2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Сама пёст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Ест зелё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Даёт б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ff"/>
                </a:solidFill>
                <a:latin typeface="Arial"/>
              </a:rPr>
              <a:t>коро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149627"/>
          <p:cNvPicPr/>
          <p:nvPr/>
        </p:nvPicPr>
        <p:blipFill>
          <a:blip r:embed="rId1"/>
          <a:stretch/>
        </p:blipFill>
        <p:spPr>
          <a:xfrm>
            <a:off x="2050920" y="2133720"/>
            <a:ext cx="554544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Сердитый недот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Живёт в глуши л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Иголок очень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А ниток – ни 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a50021"/>
                </a:solidFill>
                <a:latin typeface="Arial"/>
              </a:rPr>
              <a:t>ёжи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ej16"/>
          <p:cNvPicPr/>
          <p:nvPr/>
        </p:nvPicPr>
        <p:blipFill>
          <a:blip r:embed="rId1"/>
          <a:stretch/>
        </p:blipFill>
        <p:spPr>
          <a:xfrm>
            <a:off x="1908000" y="2276640"/>
            <a:ext cx="56167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9999"/>
                </a:solidFill>
                <a:latin typeface="Arial"/>
              </a:rPr>
              <a:t>4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Зимой – б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Летом – сер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По полю ска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Ушки пря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Встанет столбо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Ушки торч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9999"/>
                </a:solidFill>
                <a:latin typeface="Arial"/>
              </a:rPr>
              <a:t>зая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j0304933"/>
          <p:cNvPicPr/>
          <p:nvPr/>
        </p:nvPicPr>
        <p:blipFill>
          <a:blip r:embed="rId1"/>
          <a:stretch/>
        </p:blipFill>
        <p:spPr>
          <a:xfrm>
            <a:off x="1835280" y="2276640"/>
            <a:ext cx="6048360" cy="40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ff"/>
                </a:solidFill>
                <a:latin typeface="Arial"/>
              </a:rPr>
              <a:t>5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Глазищи, усищи, хвост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А моется всех ч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ff"/>
                </a:solidFill>
                <a:latin typeface="Arial"/>
              </a:rPr>
              <a:t>кош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Смешные коты с языками наружу"/>
          <p:cNvPicPr/>
          <p:nvPr/>
        </p:nvPicPr>
        <p:blipFill>
          <a:blip r:embed="rId1"/>
          <a:stretch/>
        </p:blipFill>
        <p:spPr>
          <a:xfrm>
            <a:off x="1692360" y="2565360"/>
            <a:ext cx="5619600" cy="340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Хоть я не молот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о дереву сту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В нём кажды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Обследова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Хожу я в шапке кр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 акробат прект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f1"/>
                </a:solidFill>
                <a:latin typeface="Arial"/>
              </a:rPr>
              <a:t>Цели ур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Создать условия для развития умений классифицировать животных (диких, домашни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Систематизировать представления о домашних животных, месте их обитания, 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Способствовать воспитанию заботливого отношения к животным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Дятел"/>
          <p:cNvPicPr/>
          <p:nvPr/>
        </p:nvPicPr>
        <p:blipFill>
          <a:blip r:embed="rId1"/>
          <a:stretch/>
        </p:blipFill>
        <p:spPr>
          <a:xfrm>
            <a:off x="3276720" y="1916280"/>
            <a:ext cx="4967280" cy="38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66"/>
                </a:solidFill>
                <a:latin typeface="Arial"/>
              </a:rPr>
              <a:t>7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Есть бородка, шерсть и но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Ушки, хвостик, а также ро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Хоть я блею, не пою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Молоко тебе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Я такая егоз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И бодаюсь,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66"/>
                </a:solidFill>
                <a:latin typeface="Arial"/>
              </a:rPr>
              <a:t>коз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Прикольные фото животных. Козы, козлы"/>
          <p:cNvPicPr/>
          <p:nvPr/>
        </p:nvPicPr>
        <p:blipFill>
          <a:blip r:embed="rId1"/>
          <a:stretch/>
        </p:blipFill>
        <p:spPr>
          <a:xfrm>
            <a:off x="2195640" y="2060640"/>
            <a:ext cx="547200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66"/>
                </a:solidFill>
                <a:latin typeface="Arial"/>
              </a:rPr>
              <a:t>Задание «Соображал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учебник стр.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cccc"/>
                </a:solidFill>
                <a:latin typeface="Arial"/>
              </a:rPr>
              <a:t>Физкультминут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Митя шёл, шёл, 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Белый гриб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Раз грибочек, два грибо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Положил их в кузов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66"/>
                </a:solidFill>
                <a:latin typeface="Arial"/>
              </a:rPr>
              <a:t>Задание по выбору учащих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бочая 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тр.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арисовать поводок для соб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нарисовать узор на коврике для к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66"/>
                </a:solidFill>
                <a:latin typeface="Arial"/>
              </a:rPr>
              <a:t>Итог ур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О чём говори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Чем отличаются эти две груп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Нужны ли человеку знания о домашних животных? Для 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ам было комфортно , легко, интересно на уроке – нарисуйте улыбку, а если неинтересно – нарисуйте прямую ли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solnze"/>
          <p:cNvPicPr/>
          <p:nvPr/>
        </p:nvPicPr>
        <p:blipFill>
          <a:blip r:embed="rId1"/>
          <a:stretch/>
        </p:blipFill>
        <p:spPr>
          <a:xfrm>
            <a:off x="1332000" y="3213000"/>
            <a:ext cx="6264360" cy="27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ff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ff66"/>
                </a:solidFill>
                <a:latin typeface="Arial"/>
              </a:rPr>
              <a:t>Спасибо за ур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Arial"/>
              </a:rPr>
              <a:t>ПРИР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2484360" y="119700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5435640" y="1197000"/>
            <a:ext cx="1081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Arial"/>
              </a:rPr>
              <a:t>ПРИР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живая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не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1835280" y="1125360"/>
            <a:ext cx="151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867280" y="1125360"/>
            <a:ext cx="12258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Arial"/>
              </a:rPr>
              <a:t>ПРИР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живая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не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еловек </a:t>
            </a: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H="1">
            <a:off x="1979280" y="1125360"/>
            <a:ext cx="1584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5867280" y="1125360"/>
            <a:ext cx="1297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 flipH="1">
            <a:off x="125892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771640" y="213372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556000" y="220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Arial"/>
              </a:rPr>
              <a:t>ПРИР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живая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не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еловек </a:t>
            </a: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растения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олнце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7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животные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оз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H="1">
            <a:off x="2195640" y="10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5651640" y="1052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132000" y="2205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6372360" y="2133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860436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1116000" y="2276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2627280" y="249228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 flipH="1">
            <a:off x="7093080" y="2421000"/>
            <a:ext cx="358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Практическая работа в пара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Название животно-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Жилищ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Кор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Польз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ур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ферма, курят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ясо, 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00cc"/>
                </a:solidFill>
                <a:latin typeface="Arial"/>
              </a:rPr>
              <a:t>Физкультминутк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з – подняться, потя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Два – согнуться, разог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и – в ладоши три хло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Головою три кив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9999"/>
                </a:solidFill>
                <a:latin typeface="Arial"/>
              </a:rPr>
              <a:t>Закрепление пройденног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н носом в землю посту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змахнёт крылом и прокри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ичит он даже с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икун неугом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7:20:57Z</dcterms:created>
  <dc:creator>User</dc:creator>
  <dc:description/>
  <dc:language>en-US</dc:language>
  <cp:lastModifiedBy>Наталья</cp:lastModifiedBy>
  <dcterms:modified xsi:type="dcterms:W3CDTF">2014-10-24T04:05:29Z</dcterms:modified>
  <cp:revision>7</cp:revision>
  <dc:subject/>
  <dc:title>Человек и домашние животные</dc:title>
</cp:coreProperties>
</file>