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365-BF84-4109-A877-E669F742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D1D-10ED-4660-84AB-8338693C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0960-C6F9-48B1-B03B-573DF977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1ED-6B16-420D-B5F9-27D661ED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1D7A6-83DA-46D7-B870-A0EFF3B7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BE81D-B089-4B9A-91A9-6080936D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D8FB4-E2EF-47BB-9491-AC9FA4BE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A0EBC-A977-4EFE-B6CD-DE3ACC07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75253-81EE-4624-A693-748099DB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76B06-4121-4873-A2BA-A447C865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A0925-A314-43EE-BEA5-F702776D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731-8766-49A2-B911-4540397E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8B6A6-A150-4E5C-8C19-CA79F257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1F6E9-13B4-49B7-89B8-7512726A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37EDD-6BC1-4E29-809F-86711703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DBC48-2247-472F-A7DC-C179A5F6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00596-4C40-4C29-A06F-A2432F00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84A-D20B-4350-82D7-7D7309AE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DDB-0384-4C24-9538-05959272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8F9-6DC8-4880-ACAF-B901D88B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24D0-8B48-4D57-B649-BA42EF26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9F0-F0A8-4826-AFC8-052A2C0E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5CB-2813-443E-9CEB-CC0A994B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E44-BA76-484C-A1A9-0B5B655A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CD65-3E8A-42E4-96EC-FA38A3582A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2935-6545-46F7-980C-9670281D56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Что такое дежавю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цы 4 «А» клас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ининой Лер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MP900446561[1]"/>
          <p:cNvPicPr/>
          <p:nvPr/>
        </p:nvPicPr>
        <p:blipFill>
          <a:blip r:embed="rId1"/>
          <a:stretch/>
        </p:blipFill>
        <p:spPr>
          <a:xfrm>
            <a:off x="6942240" y="4437000"/>
            <a:ext cx="1871640" cy="2421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MC900198118[1]"/>
          <p:cNvPicPr/>
          <p:nvPr/>
        </p:nvPicPr>
        <p:blipFill>
          <a:blip r:embed="rId2"/>
          <a:stretch/>
        </p:blipFill>
        <p:spPr>
          <a:xfrm>
            <a:off x="0" y="0"/>
            <a:ext cx="22366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лан действ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Гипотеза (предположени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Сбор информации(интернет,книг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Выв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жавю это  когда человеку кажется что действие уже происходи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j0301252"/>
          <p:cNvPicPr/>
          <p:nvPr/>
        </p:nvPicPr>
        <p:blipFill>
          <a:blip r:embed="rId1"/>
          <a:stretch/>
        </p:blipFill>
        <p:spPr>
          <a:xfrm>
            <a:off x="7313760" y="515772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MC900433941[1]"/>
          <p:cNvPicPr/>
          <p:nvPr/>
        </p:nvPicPr>
        <p:blipFill>
          <a:blip r:embed="rId2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MM900286670[1]"/>
          <p:cNvPicPr/>
          <p:nvPr/>
        </p:nvPicPr>
        <p:blipFill>
          <a:blip r:embed="rId3"/>
          <a:stretch/>
        </p:blipFill>
        <p:spPr>
          <a:xfrm>
            <a:off x="2843280" y="3213000"/>
            <a:ext cx="222732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бор информации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интернете -Дежавю (фр. déjà vu — уже виденное) — психологическое состояние, при котором человек ощущает, что он когда-то уже был в подобной ситуации, однако это чувство не связывается с определённым моментом прошлого, а относится к «прошлому вообще». Термин впервые использован французским психологом Эмилем Буараком (1851—1917) в книге L’Avenir des sciences psychiques (Психология будущего) 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огичные явления — déjà vécu («уже пережитое») , déjà entendu («уже слышанное») 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ивоположный термин жамевю (jamais vu) — никогда не виденное. Состояние, когда человек в привычной обстановке чувствует, что он здесь никогда не бы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MC900437990[1]"/>
          <p:cNvPicPr/>
          <p:nvPr/>
        </p:nvPicPr>
        <p:blipFill>
          <a:blip r:embed="rId1"/>
          <a:stretch/>
        </p:blipFill>
        <p:spPr>
          <a:xfrm>
            <a:off x="7596360" y="5383080"/>
            <a:ext cx="15476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бор информа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нигах-Дежавю — это чувство, что ты был свидетелем или участником текущей ситуации когда-то раньше. Другими словами, тебе кажется, что твоё «сейчас» уже было в прошлом. Я склонна рассматривать дежавю как воспоминание о будущем. О той его части, что происходит прямо сейч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ытывая дежавю, ты знаешь, что произойдёт через секунду или через несколько секунд. Обычно это чувство длится 5—10 секунд. Тебе кажется, что ты либо уже был в такой же ситуации, либо просто знаешь, что должно произой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MC900439851[1]"/>
          <p:cNvPicPr/>
          <p:nvPr/>
        </p:nvPicPr>
        <p:blipFill>
          <a:blip r:embed="rId1"/>
          <a:stretch/>
        </p:blipFill>
        <p:spPr>
          <a:xfrm>
            <a:off x="7219800" y="5321160"/>
            <a:ext cx="192420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потеза верна. Дежавю – это психологическое состояние, при котором кажется, что все происходящее здесь и сейчас ты уже пережива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7" descr="MC900428073[1]"/>
          <p:cNvPicPr/>
          <p:nvPr/>
        </p:nvPicPr>
        <p:blipFill>
          <a:blip r:embed="rId1"/>
          <a:stretch/>
        </p:blipFill>
        <p:spPr>
          <a:xfrm>
            <a:off x="7188120" y="5143680"/>
            <a:ext cx="1955880" cy="171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MC900428123[1]"/>
          <p:cNvPicPr/>
          <p:nvPr/>
        </p:nvPicPr>
        <p:blipFill>
          <a:blip r:embed="rId2"/>
          <a:stretch/>
        </p:blipFill>
        <p:spPr>
          <a:xfrm>
            <a:off x="0" y="4508640"/>
            <a:ext cx="1676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8T05:10:08Z</dcterms:created>
  <dc:creator>Admin</dc:creator>
  <dc:description/>
  <dc:language>en-US</dc:language>
  <cp:lastModifiedBy>LUDA</cp:lastModifiedBy>
  <dcterms:modified xsi:type="dcterms:W3CDTF">2014-10-24T10:02:56Z</dcterms:modified>
  <cp:revision>4</cp:revision>
  <dc:subject/>
  <dc:title>Что такое дежавю?</dc:title>
</cp:coreProperties>
</file>