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7BA-3202-4937-B924-E1A17528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AD6-17D2-4B32-BF99-AF61CB5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F8D-6103-4409-A95B-37B17D2F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94A-FA08-427B-8998-D9AC10D3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824-0417-4845-8FAC-F5C68AA0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3A4-4C4B-47D5-9B11-2D5A93B0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BDCF-06F0-4DC4-B103-8B42FD2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879-3210-41C8-A4A7-DAA9D80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3CB2-D1DA-49DE-8B83-890812E8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3F8-B9E1-4B71-A26F-08B584D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588-F66D-435F-897B-2D59486C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173-9893-4A86-B73B-A2F8CAD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CA3B-1862-4355-8D4C-13AAFBB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8D79-E299-4787-A573-556B6D37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81A-E040-4D53-B163-DA6583EB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9B23-7811-4F76-B9E9-B71AF22A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9BA-7EEC-43E4-B56B-8AB53680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0CE-91BF-40F0-BB04-075F3D1E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FAB-9850-4855-8014-EA5C2585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916-7AA0-43E1-9339-AA797AE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BC0-8B3A-4454-BD5B-85BB5B6C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56E-704A-496A-A234-B0884F9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A19-5C71-4676-9940-217820D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DC9-81AF-4617-874C-F426386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F5A-C71D-4173-B293-4C0A4669CA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10F-C145-406A-A045-57D161AE9FD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2&amp;ed=1&amp;text=&#1073;&#1088;&#1080;&#1090;&#1072;&#1085;&#1089;&#1082;&#1072;&#1103;%20&#1089;&#1077;&#1084;&#1100;&#1103;&amp;spsite=fake-032-1110302.ru&amp;img_url=www.epochtimes.com.ua%2Frus%2Fimages%2Fstories%2F04%2Fworld%2Fu108_170709.jpg&amp;rpt=simag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1&amp;ed=1&amp;text=bonnet&amp;spsite=fotki.yandex.ru&amp;img_url=album.foto.ru%3A8080%2Fphotos%2Fpr0%2F141148%2F199375.jpg&amp;rpt=simag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p=44&amp;ed=1&amp;text=bonnet&amp;spsite=www.knitting-and.com&amp;img_url=www.knitting-and.com%2Fgallery%2Fd%2F2173-1%2Fbonnet.jpg&amp;rpt=simage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ed=1&amp;text=&#1096;&#1086;&#1082;&#1086;&#1083;&#1072;&#1076;&#1085;&#1099;&#1077;%20&#1103;&#1081;&#1094;&#1072;&amp;spsite=discount.lg.ua&amp;img_url=truffroyal.com.ua%2Fpimages%2Ffig_eaglemidle_big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p=11&amp;ed=1&amp;text=&#1096;&#1086;&#1082;&#1086;&#1083;&#1072;&#1076;&#1085;&#1099;&#1077;%20&#1103;&#1081;&#1094;&#1072;&amp;spsite=weblinks.ru&amp;img_url=www.ra-navigator.ru%2Fimages%2Fchocolate%2Fchoco_egg_red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7774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comic"/>
              </a:rPr>
              <a:t>EASTER MONDAY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4852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5400" spc="-1" strike="noStrike">
                <a:solidFill>
                  <a:srgbClr val="f7d47d"/>
                </a:solidFill>
                <a:latin typeface="comic"/>
              </a:rPr>
              <a:t>Easter bunny</a:t>
            </a:r>
            <a:br>
              <a:rPr sz="54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04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032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comic"/>
              </a:rPr>
              <a:t>Thank you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Easter Tree"/>
          <p:cNvPicPr/>
          <p:nvPr/>
        </p:nvPicPr>
        <p:blipFill>
          <a:blip r:embed="rId1"/>
          <a:stretch/>
        </p:blipFill>
        <p:spPr>
          <a:xfrm>
            <a:off x="1763640" y="1989000"/>
            <a:ext cx="460872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omic"/>
              </a:rPr>
              <a:t>People spend Easter Monday with their families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060640"/>
            <a:ext cx="4960800" cy="37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comic"/>
              </a:rPr>
              <a:t>Easter Sunday, the day of the Resurrection, is the end of Lent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419280" cy="4817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2266920" cy="2478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2952720" cy="238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comic"/>
              </a:rPr>
              <a:t>Easter bonnet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598760"/>
            <a:ext cx="3538440" cy="4497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56536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comic"/>
              </a:rPr>
              <a:t>Easter cards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98560" y="2017800"/>
            <a:ext cx="2346120" cy="3657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87880" y="1598760"/>
            <a:ext cx="3306600" cy="217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24160" y="3922560"/>
            <a:ext cx="3432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comic"/>
              </a:rPr>
              <a:t>Good Friday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527280" cy="432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2808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comic"/>
              </a:rPr>
              <a:t>Hot cross bun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3168360" cy="410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comic"/>
              </a:rPr>
              <a:t>Chocolate Easter egg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200" y="1598760"/>
            <a:ext cx="333540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40240" y="1598760"/>
            <a:ext cx="2800440" cy="2171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9040" y="3922560"/>
            <a:ext cx="32828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529080" cy="4262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23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3:35:48Z</dcterms:created>
  <dc:creator>Admin</dc:creator>
  <dc:description/>
  <dc:language>en-US</dc:language>
  <cp:lastModifiedBy>Admin</cp:lastModifiedBy>
  <dcterms:modified xsi:type="dcterms:W3CDTF">2010-06-18T04:56:20Z</dcterms:modified>
  <cp:revision>4</cp:revision>
  <dc:subject/>
  <dc:title>EASTER MONDAY</dc:title>
</cp:coreProperties>
</file>