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wmf" ContentType="image/x-wmf"/>
  <Override PartName="/ppt/media/image2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B2A-6FF6-4206-BFE2-BF129954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118-7875-4B5D-A4FF-66382E17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4BF-0FB4-482D-93D6-2857FDF2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E89-1FCE-47E0-A498-0ECFC5F5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BA2B-884F-4527-801E-77A9986B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D939-51E7-430D-A26E-966C7125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BD13-2030-4353-B7BD-57F09EF3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FDD8-E020-4606-99DB-F647B21E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DEA0-80C1-4611-A9CB-068F5D1C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A251-3010-4BFF-857E-FEAD8028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C7F9-B8A5-4942-8628-9858CA8C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44E-8147-481A-85A7-B79C8FC5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CAD2-492F-4E9B-ABFB-DC7BCCAF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58C1-1BC7-4D79-9864-3C82B2A9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F129-932D-405A-8664-1FC1D225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F6FD-152F-46B3-9F6B-22C90B41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C3E2-552F-4DDF-9E13-A7439870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A55-AA50-4E84-B386-01F802EB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C03-8CE1-4016-9D80-B43B62FA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913-CF6E-4D40-85FE-3ADA40F0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2E3-C29E-4DAC-B3F2-80A08C16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CA8-2FD7-4814-B6A4-418D463B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DAB-38CD-412E-92A8-77AEDC2A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202-25BB-4BD7-80EE-A0295780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CDEED8-5CB8-493E-B1B0-487F7701EBE2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5492E-9096-4581-9DCE-04AEB499073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4880"/>
            <a:ext cx="822960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3;&#1088;&#1077;&#1095;&#1077;&#1089;&#1082;&#1080;&#1081;_&#1103;&#1079;&#1099;&#1082;" TargetMode="External"/><Relationship Id="rId3" Type="http://schemas.openxmlformats.org/officeDocument/2006/relationships/hyperlink" Target="http://ru.wikipedia.org/wiki/&#1043;&#1088;&#1077;&#1095;&#1077;&#1089;&#1082;&#1080;&#1081;_&#1103;&#1079;&#1099;&#1082;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7;&#1083;&#1080;&#1082;&#1089;_(&#1072;&#1088;&#1080;&#1092;&#1084;&#1086;&#1084;&#1077;&#1090;&#1088;)" TargetMode="External"/><Relationship Id="rId3" Type="http://schemas.openxmlformats.org/officeDocument/2006/relationships/hyperlink" Target="http://ru.wikipedia.org/wiki/&#1040;&#1088;&#1080;&#1092;&#1084;&#1086;&#1084;&#1077;&#1090;&#1088;_&#1060;&#1077;&#1083;&#1080;&#1082;&#1089;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hyperlink" Target="http://ru.wikipedia.org/wiki/&#1040;&#1085;&#1075;&#1083;&#1080;&#1081;&#1089;&#1082;&#1080;&#1081;_&#1103;&#1079;&#1099;&#1082;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:/Informatics/theory/chapter6/1_6_9.html" TargetMode="External"/><Relationship Id="rId3" Type="http://schemas.openxmlformats.org/officeDocument/2006/relationships/hyperlink" Target="file:///F:/Informatics/theory/chapter6/1_6_9.html" TargetMode="External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hyperlink" Target="file:///F:/Informatics/theory/chapter6/1_6_9.html" TargetMode="External"/><Relationship Id="rId7" Type="http://schemas.openxmlformats.org/officeDocument/2006/relationships/hyperlink" Target="file:///F:/Informatics/theory/chapter6/1_6_9.html" TargetMode="External"/><Relationship Id="rId8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1280" y="692280"/>
            <a:ext cx="87123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ahoma"/>
              </a:rPr>
              <a:t>ИСТОРИЯ 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Tahoma"/>
              </a:rPr>
              <a:t>ВЫЧИСЛИТЕЛЬНОЙ 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Tahoma"/>
              </a:rPr>
              <a:t>ТЕХНИ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83400" y="3838680"/>
            <a:ext cx="2946240" cy="1860480"/>
          </a:xfrm>
          <a:prstGeom prst="rect">
            <a:avLst/>
          </a:prstGeom>
          <a:ln cap="sq" w="9360">
            <a:solidFill>
              <a:srgbClr val="00cc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5" name=""/>
          <p:cNvSpPr/>
          <p:nvPr/>
        </p:nvSpPr>
        <p:spPr>
          <a:xfrm rot="900000">
            <a:off x="2790360" y="3700440"/>
            <a:ext cx="2643120" cy="612720"/>
          </a:xfrm>
          <a:prstGeom prst="rightArrow">
            <a:avLst>
              <a:gd name="adj1" fmla="val 50000"/>
              <a:gd name="adj2" fmla="val 107844"/>
            </a:avLst>
          </a:prstGeom>
          <a:solidFill>
            <a:srgbClr val="ffcc00"/>
          </a:solidFill>
          <a:ln cap="sq"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979640" y="4076640"/>
            <a:ext cx="1312920" cy="1952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03360" y="2498760"/>
            <a:ext cx="1914480" cy="1308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87640" y="2276640"/>
            <a:ext cx="590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преподава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Агротехнологического техникума г. Кораблин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ыплакова И.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11280" y="1628640"/>
            <a:ext cx="4932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 1822 г. Бэббидж приступил к осуществлению проекта так называемой разностной машины, предназначенной для расчета навигационных и астрономических таблиц. Машину эту строили десять лет, но так и не закончили. Финансовые трудности усугублялись тем, что изобретатель постоянно пересматривал конструкцию и вносил в нее бесчисленные усовершенствов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743280" cy="2349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Чарльз Бэббидж"/>
          <p:cNvPicPr/>
          <p:nvPr/>
        </p:nvPicPr>
        <p:blipFill>
          <a:blip r:embed="rId3"/>
          <a:stretch/>
        </p:blipFill>
        <p:spPr>
          <a:xfrm>
            <a:off x="539640" y="1484280"/>
            <a:ext cx="3384720" cy="2449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386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рльз Беббид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64911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ашина</a:t>
            </a: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Бэббид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278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1" lang="ru-RU" sz="4000" spc="-1" strike="noStrike">
                <a:solidFill>
                  <a:srgbClr val="990000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Счетная машина Холлери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3492360" cy="3960720"/>
          </a:xfrm>
          <a:prstGeom prst="rect">
            <a:avLst/>
          </a:prstGeom>
          <a:ln cap="sq" w="9360">
            <a:solidFill>
              <a:srgbClr val="00cc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112160" y="1700280"/>
            <a:ext cx="2031840" cy="2662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921360" y="4303800"/>
            <a:ext cx="2222640" cy="2554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067280" y="1557360"/>
            <a:ext cx="302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В 1884 году Холлерит оформил первый патент на созданный им перфоленточный табулятор. Всего им было получено более тридцати патентов на изобрет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Арифмомет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00720" y="1989000"/>
            <a:ext cx="41846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Арифмометр (от 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греч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 </a:t>
            </a:r>
            <a:r>
              <a:rPr b="0" lang="el-GR" sz="2400" spc="-1" strike="noStrike">
                <a:solidFill>
                  <a:srgbClr val="ffcc00"/>
                </a:solidFill>
                <a:latin typeface="Tahoma"/>
              </a:rPr>
              <a:t>αριθμός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 — «число», «счёт» и 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греч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 </a:t>
            </a:r>
            <a:r>
              <a:rPr b="0" lang="el-GR" sz="2400" spc="-1" strike="noStrike">
                <a:solidFill>
                  <a:srgbClr val="ffcc00"/>
                </a:solidFill>
                <a:latin typeface="Tahoma"/>
              </a:rPr>
              <a:t>μέτρον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 — «мера», «измеритель») — настольная (или портативная) механическая вычислительная машина, предназначенная для точного умножения и деления, а также для сложения и вычит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24000" y="4437000"/>
            <a:ext cx="3671640" cy="2144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File:Gosremprom.jpg"/>
          <p:cNvPicPr/>
          <p:nvPr/>
        </p:nvPicPr>
        <p:blipFill>
          <a:blip r:embed="rId5"/>
          <a:stretch/>
        </p:blipFill>
        <p:spPr>
          <a:xfrm>
            <a:off x="250920" y="1844640"/>
            <a:ext cx="4033800" cy="2305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4076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фмометр 1932 года выпус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64911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фмометр Facit CA 1-1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Арифмомет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11280" y="1981080"/>
            <a:ext cx="4473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«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Феликс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» — самый распространённый арифмометр в СССР. Выпускался с 1929 по конец 1970-х. Пик производства арифмометров в СССР. Выпущено около 300 тысяч 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«Феликсов»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 и ВК-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3384360" cy="2281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24000" y="6524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фмометр Mercedes R38S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95280" y="1844640"/>
            <a:ext cx="3456000" cy="1733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3716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чётная машинка Феликс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ервая ЭВМ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716000" y="1773000"/>
            <a:ext cx="44276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Первым в мире компьютером был американский программируемый компьютер, который разработал и построил в 1941 году гарвардский математик Говард Эйксон при сотрудничестве четырёх инженеров компании IBM, по заказу которой компьютер и разрабатывал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Официальный запуск самого первого в мире компьютера под названием «Марк 1″ был проведён после успешных тестов 7 августа 1944 года. Компьютер расположили в стенах Гарвардского университе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perviy computer 4  Самый первый в мире компьютер"/>
          <p:cNvPicPr/>
          <p:nvPr/>
        </p:nvPicPr>
        <p:blipFill>
          <a:blip r:embed="rId2"/>
          <a:stretch/>
        </p:blipFill>
        <p:spPr>
          <a:xfrm>
            <a:off x="250920" y="2205000"/>
            <a:ext cx="4537080" cy="3456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4000" y="5805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к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ервая ЭВМ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56000" y="1981080"/>
            <a:ext cx="4329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Стоимость этого компьютера составила 500 тысяч долларов. Компьютер собран в корпусе из нержавеющей стали и стекла, имел длину около 17 метров, высоту более 2,5 метров, вес около 4,5 тонны, площадь занимал несколько десятков метров. Компьютер Марк 1 содержал в себе электромеханические переключатели, реле и прочие детали в количестве 765 тысяч шту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perviy computer 2  Самый первый в мире компьютер"/>
          <p:cNvPicPr/>
          <p:nvPr/>
        </p:nvPicPr>
        <p:blipFill>
          <a:blip r:embed="rId2"/>
          <a:stretch/>
        </p:blipFill>
        <p:spPr>
          <a:xfrm>
            <a:off x="250920" y="1916280"/>
            <a:ext cx="4176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ервая ЭВМ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2000" y="1699920"/>
            <a:ext cx="6408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Основы учения об архитектуре вычислительных машин заложил выдающийся американский математик Джон фон Нейман. Он подключился к созданию первой в мире ламповой ЭВМ ENIAC в 1944 г. И подготовил доклад об этой машине. В этом докладе фон Нейман ясно и просто сформулировал общие принципы функционирования универсальных вычислительных устройств, т.е. компьютеров. Это первая действующая машина, построенная на вакуумных лампах, официально была введена в эксплуатацию 15 февраля 1946 года. Эту машину пытались использовать для решения некоторых задач, подготовленных фон Нейманом и связанных с проектом атомной бомбы. ENIAC стал первым представителем 1-го поколения компьютер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3456000" cy="2232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62164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йм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на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екомпьюте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EDVA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2954160" cy="2087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8360" y="3429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йм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br>
              <a:rPr sz="2800"/>
            </a:br>
            <a:r>
              <a:rPr b="1" lang="ru-RU" sz="4000" spc="-1" strike="noStrike">
                <a:solidFill>
                  <a:srgbClr val="990000"/>
                </a:solidFill>
                <a:latin typeface="Tahoma"/>
              </a:rPr>
              <a:t>Первая</a:t>
            </a:r>
            <a:r>
              <a:rPr b="1" lang="ru-RU" sz="4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990000"/>
                </a:solidFill>
                <a:latin typeface="Tahoma"/>
              </a:rPr>
              <a:t>ЭВ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4537080" cy="3959280"/>
          </a:xfrm>
          <a:prstGeom prst="rect">
            <a:avLst/>
          </a:prstGeom>
          <a:ln cap="sq" w="9360">
            <a:solidFill>
              <a:srgbClr val="00cc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4" name=""/>
          <p:cNvSpPr/>
          <p:nvPr/>
        </p:nvSpPr>
        <p:spPr>
          <a:xfrm>
            <a:off x="1085760" y="602136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"/>
              </a:rPr>
              <a:t>ЭНИАК (США, 1946 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64000" y="1484280"/>
            <a:ext cx="378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ЭНИАК (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англ.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 </a:t>
            </a:r>
            <a:r>
              <a:rPr b="1" i="1" lang="en" sz="2400" spc="-1" strike="noStrike">
                <a:solidFill>
                  <a:srgbClr val="ffcc00"/>
                </a:solidFill>
                <a:latin typeface="Arial"/>
              </a:rPr>
              <a:t>ENIAC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, сокр. от 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Electronic Numerical Integrator and Computer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 — Электронный числовой интегратор и вычислитель) — первый электронный цифровой компьютер общего назначения, который можно было перепрограммировать для решения широкого спектра зада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ервое поколение ЭВМ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(1948-1958 гг.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92000" y="1981080"/>
            <a:ext cx="5193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В 1946 году С.А. Лебедев переезжает в Киев и начинает заниматься созданием ЭВМ. Под его руководством в 1948-1950 гг. разрабатывается первая в СССР и Европе малая электронно-счетная машина (МЭСМ). В 1952 г. С.А. Лебедев возвращается в Москву и возглавляет Институт точной механики и вычислительной техники. В 1953 г. он избирается действительным членом АН СССР. В 1957 г. участвует в запуске спутника Земли. Им были созданы серии больших электронно-счетных машин (от БЭСМ-1 до БЭСМ-4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589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ccff"/>
                </a:solidFill>
                <a:latin typeface="Arial"/>
              </a:rPr>
              <a:t>С.А. Лебеде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ccff"/>
                </a:solidFill>
                <a:latin typeface="Arial"/>
              </a:rPr>
              <a:t>1902-1974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2736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81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БЭСМ-2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3280" y="1341360"/>
            <a:ext cx="381636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Технические характеристики: быстродействие — 8-10 тыс. операций в секунду, представление чисел с плавающей запятой, разрядность 39, система ламповых элементов, внешняя память на магнитных барабанах (2 по 512 слов) и магнитных лентах (4 по 30 тыс. слов), устройство ввода с перфоленты (1200 чисел в минуту), цифропечать (1200 чисел в минуту), фотопечатающее устройство (200 чисел в секунду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4608720" cy="4248000"/>
          </a:xfrm>
          <a:prstGeom prst="rect">
            <a:avLst/>
          </a:prstGeom>
          <a:ln cap="sq" w="9360">
            <a:solidFill>
              <a:srgbClr val="00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5280" y="1268280"/>
            <a:ext cx="49323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Историю цифровых устройств начать следует со счет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8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Абак (лат. abacus - доска) - счётная доска, применявшаяся для арифметических вычисл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8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первые появился, вероятно, в Древнем Вавилоне около 3 тыс. до н. э. Первоначально представлял собой доску, разграфленную на полосы или со сделанными углубления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Ручной период автоматизации вычислений"/>
          <p:cNvPicPr/>
          <p:nvPr/>
        </p:nvPicPr>
        <p:blipFill>
          <a:blip r:embed="rId2"/>
          <a:stretch/>
        </p:blipFill>
        <p:spPr>
          <a:xfrm>
            <a:off x="250920" y="1484280"/>
            <a:ext cx="3887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278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торое поколение ЭВМ (1959-1967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2060640"/>
            <a:ext cx="5184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1948 г. В американской фирме Bell Laboratories физики Уильям Шокли, Уолтер Браттейн и Джон Бардин создали </a:t>
            </a:r>
            <a:r>
              <a:rPr b="1" i="1" lang="ru-RU" sz="2400" spc="-1" strike="noStrike">
                <a:solidFill>
                  <a:srgbClr val="ffcc00"/>
                </a:solidFill>
                <a:latin typeface="Tahoma"/>
              </a:rPr>
              <a:t>транзистор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. За это достижение им была присуждена Нобелевская прем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1957 г. Американской фирмой NCR создан </a:t>
            </a:r>
            <a:r>
              <a:rPr b="1" i="1" lang="ru-RU" sz="2400" spc="-1" strike="noStrike">
                <a:solidFill>
                  <a:srgbClr val="ffcc00"/>
                </a:solidFill>
                <a:latin typeface="Tahoma"/>
              </a:rPr>
              <a:t>первый компьютер на транзисторах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2879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торое поколение ЭВМ (1959-1967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558080" y="609300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ЭСМ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392720" cy="4013280"/>
          </a:xfrm>
          <a:prstGeom prst="rect">
            <a:avLst/>
          </a:prstGeom>
          <a:ln cap="sq" w="9360">
            <a:solidFill>
              <a:srgbClr val="00cc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9" name=""/>
          <p:cNvSpPr/>
          <p:nvPr/>
        </p:nvSpPr>
        <p:spPr>
          <a:xfrm>
            <a:off x="4643280" y="1628640"/>
            <a:ext cx="450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1964 г. разработана БЭСМ-6, позволившая нашей стране выйти на мировой уровень в разработке ЭВМ второго поколения. На основе БЭСМ-6 были созданы центры коллективного пользования, системы управления в реальном масштабе времени, координационно-вычислительные системы телеобработки и т.д. Она использовалась для моделирования сложнейших физических процессов и процессов управления, в системах проектирования для разработки математического обеспечения новых ЭВМ. Принятые при ее создании принципиальные технические решения обеспечили ей завидное долголетие: БЭСМ-6 выпускалась промышленностью 17 л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278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торое поколение ЭВМ (1959-1967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716000" y="1981080"/>
            <a:ext cx="44276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 СССР создана первая в стране серийная универсальная полупроводниковая управляющая ЭВМ широкого назначения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666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95280" y="6093000"/>
            <a:ext cx="381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-4,  1961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торое поколение ЭВМ (1959-1967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4221000"/>
            <a:ext cx="8074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Начат серийный выпуск ЦВМ “Раздан-2”, предназначена для решения научно-технических и инженерных задач, малой производительности (скорость вычислений - до 5 тысяч операций в 1 секунд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408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торое поколение ЭВМ (1959-1967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6720" y="2349360"/>
            <a:ext cx="40672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 1962 г. - в Институте кибернетики АН УССР разработано семейство малых цифровых электронных вычислительных машин “Промiнь”, предназначенных для автоматизации инженерных расчетов средней слож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4681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ретье поколение ЭВМ (1968-1973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24000" y="1989000"/>
            <a:ext cx="4761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1958 г. Джек Килби из фирмы Texas Instruments создал </a:t>
            </a: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первую интегральную схему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2952720" cy="3384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5280" y="573408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Джек Килб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643280" y="4724280"/>
            <a:ext cx="3457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ретье поколение ЭВМ (1968-1973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920" y="4437000"/>
            <a:ext cx="7561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1968 г .- начало производства ЭВМ МИР-2, созданной под руководством В.М.Глушкова в Кие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7920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ретье поколение ЭВМ (1968-1973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6560" y="4365720"/>
            <a:ext cx="8317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1973 г. - начало выпуска моделиЕС-1030 (100 тыс. оп/сек), Казань (разработка выполнена в Ереване, М. Семирджан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7272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ретье поколение ЭВМ (1968-1973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4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278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Четвёртое поколение ЭВМ (1974-1982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4356000" y="1844640"/>
            <a:ext cx="41752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1971 г. Фирма Intel разработала микропроцессор </a:t>
            </a:r>
            <a:r>
              <a:rPr b="0" i="1" lang="ru-RU" sz="2400" spc="-1" strike="noStrike">
                <a:solidFill>
                  <a:srgbClr val="ffcc00"/>
                </a:solidFill>
                <a:latin typeface="Tahoma"/>
              </a:rPr>
              <a:t>4004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, состоящий из 2250 транзисторов, размещённых в кристалле размером не больше шляпки гвозд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1973 г. Фирма IBM (International Business Machines Corporation) сконструировала </a:t>
            </a:r>
            <a:r>
              <a:rPr b="0" i="1" lang="ru-RU" sz="2400" spc="-1" strike="noStrike">
                <a:solidFill>
                  <a:srgbClr val="ffcc00"/>
                </a:solidFill>
                <a:latin typeface="Tahoma"/>
              </a:rPr>
              <a:t>первый жёсткий диск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типа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«винчестер»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097080" cy="2087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50920" y="407664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микропроцессор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4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68360" y="4581360"/>
            <a:ext cx="3240000" cy="1656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24000" y="623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жёсткий диск - винчес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278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br>
              <a:rPr sz="28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Древняя Греци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050920" y="1700280"/>
            <a:ext cx="4392720" cy="1871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350028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ревнегреческий абак (доска или "саламинская доска" по имени острова Саламин в Эгейском море) представлял собой посыпанную морским песком дощечку. На песке проходили бороздки, на которых камешками обозначались числа. Одна бороздка соответствовала единицам, другая - десяткам и т.д. Если в какой-то бороздке при счете набиралось более 10 камешков, их снимали и добавляли один камешек в следующем разряде.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Четвёртое поколение ЭВМ (1974-1982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51280" y="1981080"/>
            <a:ext cx="483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1976 г. Студенты Стив Возняк и Стив Джобс, устроив мастерскую в гараже, реализовали компьютер </a:t>
            </a:r>
            <a:r>
              <a:rPr b="0" i="1" lang="ru-RU" sz="2800" spc="-1" strike="noStrike">
                <a:solidFill>
                  <a:srgbClr val="ffcc00"/>
                </a:solidFill>
                <a:latin typeface="Tahoma"/>
              </a:rPr>
              <a:t>Apple-1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ложив начало корпорации App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311640" cy="3240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0920" y="544500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Стив Возняк и Стив Джоб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278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Четвёртое поколение ЭВМ (1974-1982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24000" y="1981080"/>
            <a:ext cx="5040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 состав семейства многопроцессорных вычислительных комплексов входит система Эльбрус-1 с производительностью от 1,5 млн. операций в сек до 10 млн. операций в сек и высокопроизводительная система Эльбрус-2 с суммарным быстродействием более 100 млн. операций в сек. Системы Эльбрус-1 и Эльбрус- 2 построены на одних и тех же структурных принципах, их модули функционально идентичны, а их процессоры имеют одинаковую систему команд и одинаковую по функциям единую операционную систему (ЕОС).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352908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4000" y="6381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ЬБРУС-1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Четвёртое поколение ЭВМ (1974-1982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211640" y="1989000"/>
            <a:ext cx="43149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1981 г. Фирма IBM выпустила первый </a:t>
            </a:r>
            <a:r>
              <a:rPr b="0" i="1" lang="ru-RU" sz="3200" spc="-1" strike="noStrike">
                <a:solidFill>
                  <a:srgbClr val="ffcc00"/>
                </a:solidFill>
                <a:latin typeface="Tahoma"/>
              </a:rPr>
              <a:t>персональный компьютер IBM PC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на базе микропроцессора 808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3673440" cy="3816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50920" y="602136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персональный компьютер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Четвёртое поколение ЭВМ (1974-1982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95280" y="1981080"/>
            <a:ext cx="46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имметричный Многопроцессорный (10 процессоров) вычислительный комплекс "Эльбрус-2" на матричных ECL БИС, выпущен в 1985 г. (В.С. Бурцев). Производительностью 125 млн. оп/сек (MIPS), емкость оперативной памяти до 144 Мб или 16 Мс лов (слово 72 разряда), максимальная пропускная способность каналов ввода-вывода - 120 Мб/с. Применялся в Центре управления космическими полетами, в области ядерных исследований (Арзамас-16, Челябинск-70) и на объектах Министерства обороны.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456000" cy="2089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50920" y="4508640"/>
            <a:ext cx="3529080" cy="1944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55640" y="4149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ЬБРУС-2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ятое поколение ЭВМ (1990 – по настоящее время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4360" y="1981080"/>
            <a:ext cx="53276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Компью́теры пя́того поколе́ния — широкомасштабная правительственная программа 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Японии по развитию компьютерной индустрии и искусственного интеллект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предпринятая в 1980-е годы. Целью программы было создание «эпохального компьютера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с производительностью суперкомпьютера и мощными функциями искусствен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интеллекта. Начало разработок — 1982, конец разработок — 1992, стоимость разработо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—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57 млрд ¥ (порядка 500 млн $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403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овые достиже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4356000" y="2332080"/>
            <a:ext cx="415296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1984 г. Корпорация Apple Computer выпустила компьютер Macintos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1993 г. Фирма Intel выпустила микропроцессор </a:t>
            </a:r>
            <a:r>
              <a:rPr b="0" i="1" lang="ru-RU" sz="2400" spc="-1" strike="noStrike">
                <a:solidFill>
                  <a:srgbClr val="ffcc00"/>
                </a:solidFill>
                <a:latin typeface="Tahoma"/>
              </a:rPr>
              <a:t>Pentium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1995 г. Выпущена в свет операционная система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indow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 95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324000" y="3933720"/>
            <a:ext cx="3527280" cy="2303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250920" y="1916280"/>
            <a:ext cx="3527280" cy="1657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4000" y="35733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Компьютер Macinto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6308640"/>
            <a:ext cx="47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перационная система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Windows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 95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40000" y="1981080"/>
            <a:ext cx="4545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2665440" cy="2521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2663640" cy="1512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68360" y="3284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ntel Inside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Pentiu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62164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от 1100 грн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нтиу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4 и 17 дюймовый TFT монито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278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br>
              <a:rPr sz="28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Древний Рим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римский абак"/>
          <p:cNvPicPr/>
          <p:nvPr/>
        </p:nvPicPr>
        <p:blipFill>
          <a:blip r:embed="rId2"/>
          <a:stretch/>
        </p:blipFill>
        <p:spPr>
          <a:xfrm>
            <a:off x="2484360" y="1700280"/>
            <a:ext cx="4067280" cy="2089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393372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Римляне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 усовершенствовали абак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 перейдя от деревянных досок, песка и камешков к мраморным доскам с выточенными желобками и мраморными шари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78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Китай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3644640"/>
            <a:ext cx="91440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Китайские счеты суан-пан состояли из деревянной рамки, разделенной на верхние и нижние секции. Палочки соотносятся с колонками, а бусинки - с числами. У китайцев в основе счета лежала не десятка, а пятерка. Суан-пан разделены на две части: в нижней части на каждом ряду располагаются по 5 косточек, в верхней части - по 2. Таким образом, для того, чтобы выставить на этих счетах число 6, ставили сначала косточку, соответствующую пятерке, а затем добавляли одну косточку в разряд единиц.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китайские счеты - суан-пан"/>
          <p:cNvPicPr/>
          <p:nvPr/>
        </p:nvPicPr>
        <p:blipFill>
          <a:blip r:embed="rId2"/>
          <a:stretch/>
        </p:blipFill>
        <p:spPr>
          <a:xfrm>
            <a:off x="2771640" y="1989000"/>
            <a:ext cx="31910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Япони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3499920"/>
            <a:ext cx="82281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У японцев это же устройство для счета носило название серобян. Серобян - японский абак, происходит от китайского суан-пана, который был завезен в Японию в XV - XVI веках. Серобян проще своего предшественника, у него на "небе" на один шарик меньше, чем у суан-па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японский абак - серобян"/>
          <p:cNvPicPr/>
          <p:nvPr/>
        </p:nvPicPr>
        <p:blipFill>
          <a:blip r:embed="rId2"/>
          <a:stretch/>
        </p:blipFill>
        <p:spPr>
          <a:xfrm>
            <a:off x="2484360" y="1773360"/>
            <a:ext cx="38102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Росси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95640" y="1052640"/>
            <a:ext cx="4834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На Руси долгое время считали по косточкам, раскладываемым в кучки. Примерно с XV века получил распространение "дощатый счет", завезенный, видимо, западными купцами с ворванью и текстилем. "Дощатый счет" почти не отличался от обычных счетов и представлял собой рамку с укрепленными горизонтальными веревочками, на которые были нанизаны просверленные сливовые или вишневые косточ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3384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br>
              <a:rPr sz="28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Современные счет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0" y="1699920"/>
            <a:ext cx="4268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Многовековой путь совершенствования абака привел к созданию счетного прибора законченной классической формы, используемого вплоть до эпохи расцвета клавишных настольных ЭВМ, мы его называем "счеты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Счеты - это простое механическое устройство для произведения арифметических расчётов, являющееся одним из первых вычислительных устройств. Счёты представляют собой раму с нанизанными на спицы костяшк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современные счеты"/>
          <p:cNvPicPr/>
          <p:nvPr/>
        </p:nvPicPr>
        <p:blipFill>
          <a:blip r:embed="rId2"/>
          <a:stretch/>
        </p:blipFill>
        <p:spPr>
          <a:xfrm>
            <a:off x="250920" y="1700280"/>
            <a:ext cx="4159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564000" y="1341360"/>
            <a:ext cx="5256000" cy="57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1642 г. Французский ученый Блез Паскаль приступил к созданию </a:t>
            </a:r>
            <a:r>
              <a:rPr b="1" i="1" lang="ru-RU" sz="2800" spc="-1" strike="noStrike">
                <a:solidFill>
                  <a:srgbClr val="ffcc00"/>
                </a:solidFill>
                <a:latin typeface="Tahoma"/>
              </a:rPr>
              <a:t>арифметической машины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— механического устройства с шестернями, колёсами, зубчатыми рейками и т.п. Она умела "запоминать" числа и выполнять элементар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арифметические опер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2664000" cy="3024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Суммирующая машина Паскаля"/>
          <p:cNvPicPr/>
          <p:nvPr/>
        </p:nvPicPr>
        <p:blipFill>
          <a:blip r:embed="rId3"/>
          <a:stretch/>
        </p:blipFill>
        <p:spPr>
          <a:xfrm>
            <a:off x="250920" y="4581360"/>
            <a:ext cx="3240000" cy="1800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ИСТОРИЯ РАЗВИТИЯ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 ВЫЧИСЛИТЕЛЬНОЙ ТЕХНИК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4221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Блез Паск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330960"/>
            <a:ext cx="35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ммирующая машина Паска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7:15:13Z</dcterms:created>
  <dc:creator>User</dc:creator>
  <dc:description/>
  <dc:language>en-US</dc:language>
  <cp:lastModifiedBy>Станислав</cp:lastModifiedBy>
  <dcterms:modified xsi:type="dcterms:W3CDTF">2014-10-25T12:38:19Z</dcterms:modified>
  <cp:revision>18</cp:revision>
  <dc:subject/>
  <dc:title>ИСТОРИЯ  ВЫЧИСЛИТЕЛЬНОЙ  ТЕХНИКИ</dc:title>
</cp:coreProperties>
</file>