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205-0D84-4723-A63B-3B528A88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A73-50FB-43DE-9561-068A3B3A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7A9-3096-4312-9F78-2FA86158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D76-3B18-4BAF-9198-9738E6FF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BAA-3716-4B5A-AE23-1A5D3070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7E3-CB29-4A0D-81B5-C1EE1DB5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557-5F36-4529-A482-420F5C1E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DF2-01A0-412D-9AB1-8F8DF7D7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AF6-DB63-41E1-B639-6A7F7192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9A6-972C-4224-9773-D0C54C7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2B7-9FF6-42FC-ABED-7CF62363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1C3-CA2A-4E62-BFBA-BAD53F0F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DD4-4F6E-4929-AB8E-64CDD447997C}" type="datetime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Учитель музыки, МХК  Остапцова Т.Н.  МАУ ШИЛИ, г. Калининград, 2012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0C9A-AFBA-4538-B572-99C68FC2918B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tint.ru/projects/frqlist.php" TargetMode="External"/><Relationship Id="rId2" Type="http://schemas.openxmlformats.org/officeDocument/2006/relationships/hyperlink" Target="http://www.artint.ru/projects/frqlist.php" TargetMode="External"/><Relationship Id="rId3" Type="http://schemas.openxmlformats.org/officeDocument/2006/relationships/hyperlink" Target="http://www.artint.ru/projects/frqlist.php" TargetMode="External"/><Relationship Id="rId4" Type="http://schemas.openxmlformats.org/officeDocument/2006/relationships/hyperlink" Target="http://www.artint.ru/projects/frqlist.php" TargetMode="External"/><Relationship Id="rId5" Type="http://schemas.openxmlformats.org/officeDocument/2006/relationships/hyperlink" Target="http://www.artint.ru/projects/frqlist.php" TargetMode="External"/><Relationship Id="rId6" Type="http://schemas.openxmlformats.org/officeDocument/2006/relationships/hyperlink" Target="http://www.artint.ru/projects/frqlist.php" TargetMode="External"/><Relationship Id="rId7" Type="http://schemas.openxmlformats.org/officeDocument/2006/relationships/hyperlink" Target="http://www.artint.ru/projects/frqlist.php" TargetMode="External"/><Relationship Id="rId8" Type="http://schemas.openxmlformats.org/officeDocument/2006/relationships/hyperlink" Target="http://deeep.me/uploads_user/modules/communities/72596/1686/388328.jpg" TargetMode="External"/><Relationship Id="rId9" Type="http://schemas.openxmlformats.org/officeDocument/2006/relationships/hyperlink" Target="http://deeep.me/uploads_user/modules/communities/72596/1686/388328.jpg" TargetMode="External"/><Relationship Id="rId10" Type="http://schemas.openxmlformats.org/officeDocument/2006/relationships/hyperlink" Target="http://deeep.me/uploads_user/modules/communities/72596/1686/388328.jpg" TargetMode="External"/><Relationship Id="rId11" Type="http://schemas.openxmlformats.org/officeDocument/2006/relationships/hyperlink" Target="http://deeep.me/uploads_user/modules/communities/72596/1686/388328.jpg" TargetMode="External"/><Relationship Id="rId12" Type="http://schemas.openxmlformats.org/officeDocument/2006/relationships/hyperlink" Target="http://deeep.me/uploads_user/modules/communities/72596/1686/388328.jpg" TargetMode="External"/><Relationship Id="rId13" Type="http://schemas.openxmlformats.org/officeDocument/2006/relationships/hyperlink" Target="http://deeep.me/uploads_user/modules/communities/72596/1686/388328.jpg" TargetMode="External"/><Relationship Id="rId14" Type="http://schemas.openxmlformats.org/officeDocument/2006/relationships/hyperlink" Target="http://deeep.me/uploads_user/modules/communities/72596/1686/388328.jpg" TargetMode="External"/><Relationship Id="rId15" Type="http://schemas.openxmlformats.org/officeDocument/2006/relationships/hyperlink" Target="http://deeep.me/uploads_user/modules/communities/72596/1686/388328.jpg" TargetMode="External"/><Relationship Id="rId16" Type="http://schemas.openxmlformats.org/officeDocument/2006/relationships/hyperlink" Target="http://deeep.me/uploads_user/modules/communities/72596/1686/388328.jpg" TargetMode="External"/><Relationship Id="rId17" Type="http://schemas.openxmlformats.org/officeDocument/2006/relationships/hyperlink" Target="http://deeep.me/uploads_user/modules/communities/72596/1686/388328.jpg" TargetMode="External"/><Relationship Id="rId18" Type="http://schemas.openxmlformats.org/officeDocument/2006/relationships/hyperlink" Target="http://content.foto.mail.ru/mail/sofik/_myphoto/i-15.jpg" TargetMode="External"/><Relationship Id="rId19" Type="http://schemas.openxmlformats.org/officeDocument/2006/relationships/hyperlink" Target="http://content.foto.mail.ru/mail/sofik/_myphoto/i-15.jpg" TargetMode="External"/><Relationship Id="rId20" Type="http://schemas.openxmlformats.org/officeDocument/2006/relationships/hyperlink" Target="http://content.foto.mail.ru/mail/sofik/_myphoto/i-15.jpg" TargetMode="External"/><Relationship Id="rId21" Type="http://schemas.openxmlformats.org/officeDocument/2006/relationships/hyperlink" Target="http://content.foto.mail.ru/mail/sofik/_myphoto/i-15.jpg" TargetMode="External"/><Relationship Id="rId22" Type="http://schemas.openxmlformats.org/officeDocument/2006/relationships/hyperlink" Target="http://content.foto.mail.ru/mail/sofik/_myphoto/i-15.jpg" TargetMode="External"/><Relationship Id="rId23" Type="http://schemas.openxmlformats.org/officeDocument/2006/relationships/hyperlink" Target="http://content.foto.mail.ru/mail/sofik/_myphoto/i-15.jpg" TargetMode="External"/><Relationship Id="rId24" Type="http://schemas.openxmlformats.org/officeDocument/2006/relationships/hyperlink" Target="http://content.foto.mail.ru/mail/sofik/_myphoto/i-15.jpg" TargetMode="External"/><Relationship Id="rId25" Type="http://schemas.openxmlformats.org/officeDocument/2006/relationships/hyperlink" Target="http://content.foto.mail.ru/mail/sofik/_myphoto/i-15.jpg" TargetMode="External"/><Relationship Id="rId26" Type="http://schemas.openxmlformats.org/officeDocument/2006/relationships/hyperlink" Target="http://content.foto.mail.ru/mail/sofik/_myphoto/i-15.jpg" TargetMode="External"/><Relationship Id="rId27" Type="http://schemas.openxmlformats.org/officeDocument/2006/relationships/hyperlink" Target="http://content.foto.mail.ru/mail/sofik/_myphoto/i-15.jpg" TargetMode="External"/><Relationship Id="rId28" Type="http://schemas.openxmlformats.org/officeDocument/2006/relationships/hyperlink" Target="http://www.belygorod.ru/img2/RusskieKartinki/Used/0shishkin_na_severe_dikom1.jpg" TargetMode="External"/><Relationship Id="rId29" Type="http://schemas.openxmlformats.org/officeDocument/2006/relationships/hyperlink" Target="http://www.belygorod.ru/img2/RusskieKartinki/Used/0shishkin_na_severe_dikom1.jpg" TargetMode="External"/><Relationship Id="rId30" Type="http://schemas.openxmlformats.org/officeDocument/2006/relationships/hyperlink" Target="http://www.belygorod.ru/img2/RusskieKartinki/Used/0shishkin_na_severe_dikom1.jpg" TargetMode="External"/><Relationship Id="rId31" Type="http://schemas.openxmlformats.org/officeDocument/2006/relationships/hyperlink" Target="http://www.belygorod.ru/img2/RusskieKartinki/Used/0shishkin_na_severe_dikom1.jpg" TargetMode="External"/><Relationship Id="rId32" Type="http://schemas.openxmlformats.org/officeDocument/2006/relationships/hyperlink" Target="http://www.belygorod.ru/img2/RusskieKartinki/Used/0shishkin_na_severe_dikom1.jpg" TargetMode="External"/><Relationship Id="rId33" Type="http://schemas.openxmlformats.org/officeDocument/2006/relationships/hyperlink" Target="http://www.belygorod.ru/img2/RusskieKartinki/Used/0shishkin_na_severe_dikom1.jpg" TargetMode="External"/><Relationship Id="rId34" Type="http://schemas.openxmlformats.org/officeDocument/2006/relationships/hyperlink" Target="http://www.belygorod.ru/img2/RusskieKartinki/Used/0shishkin_na_severe_dikom1.jpg" TargetMode="External"/><Relationship Id="rId35" Type="http://schemas.openxmlformats.org/officeDocument/2006/relationships/hyperlink" Target="http://www.belygorod.ru/img2/RusskieKartinki/Used/0shishkin_na_severe_dikom1.jpg" TargetMode="External"/><Relationship Id="rId36" Type="http://schemas.openxmlformats.org/officeDocument/2006/relationships/hyperlink" Target="http://www.it-n.ru/profil.aspx?cat_no=692&amp;d_no=178805" TargetMode="External"/><Relationship Id="rId37" Type="http://schemas.openxmlformats.org/officeDocument/2006/relationships/hyperlink" Target="http://www.it-n.ru/profil.aspx?cat_no=692&amp;d_no=178805" TargetMode="External"/><Relationship Id="rId38" Type="http://schemas.openxmlformats.org/officeDocument/2006/relationships/hyperlink" Target="http://www.it-n.ru/profil.aspx?cat_no=692&amp;d_no=178805" TargetMode="External"/><Relationship Id="rId39" Type="http://schemas.openxmlformats.org/officeDocument/2006/relationships/hyperlink" Target="http://www.it-n.ru/profil.aspx?cat_no=692&amp;d_no=178805" TargetMode="External"/><Relationship Id="rId4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508464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Белякова Людмила Михайловна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учитель   МОУ СОШ №35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кандидат культурологи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" name="психолог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590840" cy="160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333360"/>
            <a:ext cx="9139320" cy="43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стреча в дискуссионно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луб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КРИЖАЛ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4886640" cy="64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3716280"/>
            <a:ext cx="26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Franklin Gothic Book"/>
              </a:rPr>
              <a:t>И. И. ШИШКИН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Franklin Gothic Book"/>
              </a:rPr>
              <a:t>НА СЕВЕРЕ ДИКОМ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240" y="0"/>
            <a:ext cx="911376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37080" y="625644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ДЖО  ФЕНТОН.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ОДИНОЧЕСТВ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5145120" cy="633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40560" y="2873520"/>
            <a:ext cx="21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С.А. ЛУЧИШКИН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ШАР УЛЕТЕ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2658960" cy="352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5003640" cy="330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27280" y="3213000"/>
            <a:ext cx="278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Franklin Gothic Medium"/>
              </a:rPr>
              <a:t>ИСПОЛЬЗОВАННЫЕ ИСТОЧНИКИ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844560"/>
            <a:ext cx="86896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. С.А. Шаров. Частотный словарь русского языка -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www.artint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5"/>
              </a:rPr>
              <a:t>project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7"/>
              </a:rPr>
              <a:t>frqlist.php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. Джо Фентон. Одиночество. -  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0"/>
              </a:rPr>
              <a:t>deeep.m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2"/>
              </a:rPr>
              <a:t>uploads_user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4"/>
              </a:rPr>
              <a:t>modul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6"/>
              </a:rPr>
              <a:t>communiti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7"/>
              </a:rPr>
              <a:t>/72596/1686/388328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. С.А. Лучишкин. Шар улетел. –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0"/>
              </a:rPr>
              <a:t>content.foto.mail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2"/>
              </a:rPr>
              <a:t>mail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4"/>
              </a:rPr>
              <a:t>sofik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5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6"/>
              </a:rPr>
              <a:t>_myphoto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7"/>
              </a:rPr>
              <a:t>/i-15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И.И. Шишкин. На Севере диком. -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0"/>
              </a:rPr>
              <a:t>www.belygorod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1"/>
              </a:rPr>
              <a:t>/img2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2"/>
              </a:rPr>
              <a:t>RusskieKartink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4"/>
              </a:rPr>
              <a:t>Used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5"/>
              </a:rPr>
              <a:t>/0shishkin_na_severe_dikom1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Franklin Gothic Book"/>
              </a:rPr>
              <a:t>АДРЕСА УЧИТЕЛЯ В ИНТЕРНЕТЕ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43b1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1743b1"/>
                </a:solidFill>
                <a:latin typeface="Franklin Gothic Book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6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7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8"/>
              </a:rPr>
              <a:t>www.it-n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9"/>
              </a:rPr>
              <a:t>/profil.aspx?cat_no=692&amp;d_no=178805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-    Сеть творческих учителе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:/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ww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zavuch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fo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munity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ome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ortfolio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251599-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M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555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- Завуч инфо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:/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ww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penclass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u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r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308 068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- Открытый класс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. http://nsportal.ru/blm555- Сеть работников образования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5. http://pedsovet.org/forum/member77506.html - Педсовет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6. http://www.proshkolu.ru/user/blm555/  - ПроШколу.ру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7. http://lulum.ucoz.ru/  ПЕРСОНАЛЬНЫ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8. http://metodisty.ru/member.php - Методисты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9. http://www.uchmet.ru/people/user/ -Учебно-методический портал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http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://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ru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calameo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com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welcome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php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-Са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lameo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(Хранилище публикаций и документов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20:07:24Z</dcterms:created>
  <dc:creator>Остапцова;Остапцова Т.Н.</dc:creator>
  <dc:description/>
  <cp:keywords>музыка</cp:keywords>
  <dc:language>en-US</dc:language>
  <cp:lastModifiedBy>1</cp:lastModifiedBy>
  <dcterms:modified xsi:type="dcterms:W3CDTF">2013-11-19T02:54:12Z</dcterms:modified>
  <cp:revision>93</cp:revision>
  <dc:subject/>
  <dc:title>Непревзойденный виртуоз</dc:title>
</cp:coreProperties>
</file>