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4D90-94E0-4010-B5B1-868773CEF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4760-BC9A-4CAB-895A-348F53AFF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4CDE-82C5-4281-925A-13C5A1ED2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57CE-6A99-4089-A88A-FF6A6766E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2BA2-44A3-4A79-8D44-2F1539FD1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89F4-23C0-4B7F-8F61-2F1D368B8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C70A-6846-4A9B-9412-3C911975A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0F94-CF4D-4DA7-91E4-A75C8BAF1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EDB3-8B1B-4BA8-9C4D-F9155D8B4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931B-897C-4280-AA4B-9CE9B051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B29C-08C2-4EBE-8685-DC75D145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C6AE-9BC0-44A5-B57E-1102EF63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ED2C1-D0AE-41D2-9AEB-3C45D2C10958}" type="datetime">
              <a:rPr b="0" lang="en-US" sz="1200" spc="-1" strike="noStrike">
                <a:solidFill>
                  <a:srgbClr val="898989"/>
                </a:solidFill>
                <a:latin typeface="Franklin Gothic 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Franklin Gothic 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Franklin Gothic Book"/>
              </a:rPr>
              <a:t>Учитель музыки, МХК  Остапцова Т.Н.  МАУ ШИЛИ, г. Калининград, 2012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C1295-CBE6-4949-9805-D15A55121CE4}" type="slidenum">
              <a:rPr b="0" lang="en-US" sz="1200" spc="-1" strike="noStrike">
                <a:solidFill>
                  <a:srgbClr val="89898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rtint.ru/projects/frqlist.php" TargetMode="External"/><Relationship Id="rId2" Type="http://schemas.openxmlformats.org/officeDocument/2006/relationships/hyperlink" Target="http://www.artint.ru/projects/frqlist.php" TargetMode="External"/><Relationship Id="rId3" Type="http://schemas.openxmlformats.org/officeDocument/2006/relationships/hyperlink" Target="http://www.artint.ru/projects/frqlist.php" TargetMode="External"/><Relationship Id="rId4" Type="http://schemas.openxmlformats.org/officeDocument/2006/relationships/hyperlink" Target="http://www.artint.ru/projects/frqlist.php" TargetMode="External"/><Relationship Id="rId5" Type="http://schemas.openxmlformats.org/officeDocument/2006/relationships/hyperlink" Target="http://www.artint.ru/projects/frqlist.php" TargetMode="External"/><Relationship Id="rId6" Type="http://schemas.openxmlformats.org/officeDocument/2006/relationships/hyperlink" Target="http://www.artint.ru/projects/frqlist.php" TargetMode="External"/><Relationship Id="rId7" Type="http://schemas.openxmlformats.org/officeDocument/2006/relationships/hyperlink" Target="http://www.artint.ru/projects/frqlist.php" TargetMode="External"/><Relationship Id="rId8" Type="http://schemas.openxmlformats.org/officeDocument/2006/relationships/hyperlink" Target="http://deeep.me/uploads_user/modules/communities/72596/1686/388328.jpg" TargetMode="External"/><Relationship Id="rId9" Type="http://schemas.openxmlformats.org/officeDocument/2006/relationships/hyperlink" Target="http://deeep.me/uploads_user/modules/communities/72596/1686/388328.jpg" TargetMode="External"/><Relationship Id="rId10" Type="http://schemas.openxmlformats.org/officeDocument/2006/relationships/hyperlink" Target="http://deeep.me/uploads_user/modules/communities/72596/1686/388328.jpg" TargetMode="External"/><Relationship Id="rId11" Type="http://schemas.openxmlformats.org/officeDocument/2006/relationships/hyperlink" Target="http://deeep.me/uploads_user/modules/communities/72596/1686/388328.jpg" TargetMode="External"/><Relationship Id="rId12" Type="http://schemas.openxmlformats.org/officeDocument/2006/relationships/hyperlink" Target="http://deeep.me/uploads_user/modules/communities/72596/1686/388328.jpg" TargetMode="External"/><Relationship Id="rId13" Type="http://schemas.openxmlformats.org/officeDocument/2006/relationships/hyperlink" Target="http://deeep.me/uploads_user/modules/communities/72596/1686/388328.jpg" TargetMode="External"/><Relationship Id="rId14" Type="http://schemas.openxmlformats.org/officeDocument/2006/relationships/hyperlink" Target="http://deeep.me/uploads_user/modules/communities/72596/1686/388328.jpg" TargetMode="External"/><Relationship Id="rId15" Type="http://schemas.openxmlformats.org/officeDocument/2006/relationships/hyperlink" Target="http://deeep.me/uploads_user/modules/communities/72596/1686/388328.jpg" TargetMode="External"/><Relationship Id="rId16" Type="http://schemas.openxmlformats.org/officeDocument/2006/relationships/hyperlink" Target="http://deeep.me/uploads_user/modules/communities/72596/1686/388328.jpg" TargetMode="External"/><Relationship Id="rId17" Type="http://schemas.openxmlformats.org/officeDocument/2006/relationships/hyperlink" Target="http://deeep.me/uploads_user/modules/communities/72596/1686/388328.jpg" TargetMode="External"/><Relationship Id="rId18" Type="http://schemas.openxmlformats.org/officeDocument/2006/relationships/hyperlink" Target="http://content.foto.mail.ru/mail/sofik/_myphoto/i-15.jpg" TargetMode="External"/><Relationship Id="rId19" Type="http://schemas.openxmlformats.org/officeDocument/2006/relationships/hyperlink" Target="http://content.foto.mail.ru/mail/sofik/_myphoto/i-15.jpg" TargetMode="External"/><Relationship Id="rId20" Type="http://schemas.openxmlformats.org/officeDocument/2006/relationships/hyperlink" Target="http://content.foto.mail.ru/mail/sofik/_myphoto/i-15.jpg" TargetMode="External"/><Relationship Id="rId21" Type="http://schemas.openxmlformats.org/officeDocument/2006/relationships/hyperlink" Target="http://content.foto.mail.ru/mail/sofik/_myphoto/i-15.jpg" TargetMode="External"/><Relationship Id="rId22" Type="http://schemas.openxmlformats.org/officeDocument/2006/relationships/hyperlink" Target="http://content.foto.mail.ru/mail/sofik/_myphoto/i-15.jpg" TargetMode="External"/><Relationship Id="rId23" Type="http://schemas.openxmlformats.org/officeDocument/2006/relationships/hyperlink" Target="http://content.foto.mail.ru/mail/sofik/_myphoto/i-15.jpg" TargetMode="External"/><Relationship Id="rId24" Type="http://schemas.openxmlformats.org/officeDocument/2006/relationships/hyperlink" Target="http://content.foto.mail.ru/mail/sofik/_myphoto/i-15.jpg" TargetMode="External"/><Relationship Id="rId25" Type="http://schemas.openxmlformats.org/officeDocument/2006/relationships/hyperlink" Target="http://content.foto.mail.ru/mail/sofik/_myphoto/i-15.jpg" TargetMode="External"/><Relationship Id="rId26" Type="http://schemas.openxmlformats.org/officeDocument/2006/relationships/hyperlink" Target="http://content.foto.mail.ru/mail/sofik/_myphoto/i-15.jpg" TargetMode="External"/><Relationship Id="rId27" Type="http://schemas.openxmlformats.org/officeDocument/2006/relationships/hyperlink" Target="http://content.foto.mail.ru/mail/sofik/_myphoto/i-15.jpg" TargetMode="External"/><Relationship Id="rId28" Type="http://schemas.openxmlformats.org/officeDocument/2006/relationships/hyperlink" Target="http://www.belygorod.ru/img2/RusskieKartinki/Used/0shishkin_na_severe_dikom1.jpg" TargetMode="External"/><Relationship Id="rId29" Type="http://schemas.openxmlformats.org/officeDocument/2006/relationships/hyperlink" Target="http://www.belygorod.ru/img2/RusskieKartinki/Used/0shishkin_na_severe_dikom1.jpg" TargetMode="External"/><Relationship Id="rId30" Type="http://schemas.openxmlformats.org/officeDocument/2006/relationships/hyperlink" Target="http://www.belygorod.ru/img2/RusskieKartinki/Used/0shishkin_na_severe_dikom1.jpg" TargetMode="External"/><Relationship Id="rId31" Type="http://schemas.openxmlformats.org/officeDocument/2006/relationships/hyperlink" Target="http://www.belygorod.ru/img2/RusskieKartinki/Used/0shishkin_na_severe_dikom1.jpg" TargetMode="External"/><Relationship Id="rId32" Type="http://schemas.openxmlformats.org/officeDocument/2006/relationships/hyperlink" Target="http://www.belygorod.ru/img2/RusskieKartinki/Used/0shishkin_na_severe_dikom1.jpg" TargetMode="External"/><Relationship Id="rId33" Type="http://schemas.openxmlformats.org/officeDocument/2006/relationships/hyperlink" Target="http://www.belygorod.ru/img2/RusskieKartinki/Used/0shishkin_na_severe_dikom1.jpg" TargetMode="External"/><Relationship Id="rId34" Type="http://schemas.openxmlformats.org/officeDocument/2006/relationships/hyperlink" Target="http://www.belygorod.ru/img2/RusskieKartinki/Used/0shishkin_na_severe_dikom1.jpg" TargetMode="External"/><Relationship Id="rId35" Type="http://schemas.openxmlformats.org/officeDocument/2006/relationships/hyperlink" Target="http://www.belygorod.ru/img2/RusskieKartinki/Used/0shishkin_na_severe_dikom1.jpg" TargetMode="External"/><Relationship Id="rId36" Type="http://schemas.openxmlformats.org/officeDocument/2006/relationships/hyperlink" Target="http://www.it-n.ru/profil.aspx?cat_no=692&amp;d_no=178805" TargetMode="External"/><Relationship Id="rId37" Type="http://schemas.openxmlformats.org/officeDocument/2006/relationships/hyperlink" Target="http://www.it-n.ru/profil.aspx?cat_no=692&amp;d_no=178805" TargetMode="External"/><Relationship Id="rId38" Type="http://schemas.openxmlformats.org/officeDocument/2006/relationships/hyperlink" Target="http://www.it-n.ru/profil.aspx?cat_no=692&amp;d_no=178805" TargetMode="External"/><Relationship Id="rId39" Type="http://schemas.openxmlformats.org/officeDocument/2006/relationships/hyperlink" Target="http://www.it-n.ru/profil.aspx?cat_no=692&amp;d_no=178805" TargetMode="External"/><Relationship Id="rId40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"/>
          <p:cNvSpPr/>
          <p:nvPr/>
        </p:nvSpPr>
        <p:spPr>
          <a:xfrm>
            <a:off x="4356000" y="5084640"/>
            <a:ext cx="46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Franklin Gothic Book"/>
              </a:rPr>
              <a:t>Белякова Людмила Михайловна,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Franklin Gothic Book"/>
              </a:rPr>
              <a:t>учитель   МОУ СОШ №35,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Franklin Gothic Book"/>
              </a:rPr>
              <a:t>кандидат культурологии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3" name="психолог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590840" cy="1603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0" y="333360"/>
            <a:ext cx="9139320" cy="43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встреча в дискуссионном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клуб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"СКРИЖАЛИ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4886640" cy="6480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516720" y="3716280"/>
            <a:ext cx="262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Franklin Gothic Book"/>
              </a:rPr>
              <a:t>И. И. ШИШКИН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Franklin Gothic Book"/>
              </a:rPr>
              <a:t>НА СЕВЕРЕ ДИКОМ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240" y="0"/>
            <a:ext cx="9113760" cy="6021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737080" y="6256440"/>
            <a:ext cx="379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Franklin Gothic Book"/>
              </a:rPr>
              <a:t>ДЖО  ФЕНТОН.</a:t>
            </a:r>
            <a:r>
              <a:rPr b="1" lang="en-US" sz="18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1" lang="en-US" sz="1800" spc="-1" strike="noStrike">
                <a:solidFill>
                  <a:srgbClr val="a50021"/>
                </a:solidFill>
                <a:latin typeface="Franklin Gothic Book"/>
              </a:rPr>
              <a:t>ОДИНОЧЕСТВО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5145120" cy="6337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640560" y="2873520"/>
            <a:ext cx="217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Franklin Gothic Book"/>
              </a:rPr>
              <a:t>С.А. ЛУЧИШКИН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Franklin Gothic Book"/>
              </a:rPr>
              <a:t> </a:t>
            </a:r>
            <a:r>
              <a:rPr b="1" lang="en-US" sz="1800" spc="-1" strike="noStrike">
                <a:solidFill>
                  <a:srgbClr val="a50021"/>
                </a:solidFill>
                <a:latin typeface="Franklin Gothic Book"/>
              </a:rPr>
              <a:t>ШАР УЛЕТЕЛ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2658960" cy="3527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924360" y="333360"/>
            <a:ext cx="5003640" cy="33051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627280" y="3213000"/>
            <a:ext cx="2784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Franklin Gothic Medium"/>
              </a:rPr>
              <a:t>ИСПОЛЬЗОВАННЫЕ ИСТОЧНИКИ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"/>
          <p:cNvSpPr/>
          <p:nvPr/>
        </p:nvSpPr>
        <p:spPr>
          <a:xfrm>
            <a:off x="227160" y="844560"/>
            <a:ext cx="8689680" cy="61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1. С.А. Шаров. Частотный словарь русского языка -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Franklin Gothic Book"/>
                <a:hlinkClick r:id="rId1"/>
              </a:rPr>
              <a:t>http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Franklin Gothic Book"/>
                <a:hlinkClick r:id="rId2"/>
              </a:rPr>
              <a:t>://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Franklin Gothic Book"/>
                <a:hlinkClick r:id="rId3"/>
              </a:rPr>
              <a:t>www.artint.ru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Franklin Gothic Book"/>
                <a:hlinkClick r:id="rId4"/>
              </a:rPr>
              <a:t>/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Franklin Gothic Book"/>
                <a:hlinkClick r:id="rId5"/>
              </a:rPr>
              <a:t>projects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Franklin Gothic Book"/>
                <a:hlinkClick r:id="rId6"/>
              </a:rPr>
              <a:t>/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Franklin Gothic Book"/>
                <a:hlinkClick r:id="rId7"/>
              </a:rPr>
              <a:t>frqlist.php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2. Джо Фентон. Одиночество. -   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Franklin Gothic Book"/>
                <a:hlinkClick r:id="rId8"/>
              </a:rPr>
              <a:t>http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Franklin Gothic Book"/>
                <a:hlinkClick r:id="rId9"/>
              </a:rPr>
              <a:t>://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Franklin Gothic Book"/>
                <a:hlinkClick r:id="rId10"/>
              </a:rPr>
              <a:t>deeep.me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Franklin Gothic Book"/>
                <a:hlinkClick r:id="rId11"/>
              </a:rPr>
              <a:t>/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Franklin Gothic Book"/>
                <a:hlinkClick r:id="rId12"/>
              </a:rPr>
              <a:t>uploads_user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Franklin Gothic Book"/>
                <a:hlinkClick r:id="rId13"/>
              </a:rPr>
              <a:t>/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Franklin Gothic Book"/>
                <a:hlinkClick r:id="rId14"/>
              </a:rPr>
              <a:t>modules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Franklin Gothic Book"/>
                <a:hlinkClick r:id="rId15"/>
              </a:rPr>
              <a:t>/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Franklin Gothic Book"/>
                <a:hlinkClick r:id="rId16"/>
              </a:rPr>
              <a:t>communities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Franklin Gothic Book"/>
                <a:hlinkClick r:id="rId17"/>
              </a:rPr>
              <a:t>/72596/1686/388328.jpg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3. С.А. Лучишкин. Шар улетел. –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Franklin Gothic Book"/>
                <a:hlinkClick r:id="rId18"/>
              </a:rPr>
              <a:t>http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Franklin Gothic Book"/>
                <a:hlinkClick r:id="rId19"/>
              </a:rPr>
              <a:t>://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Franklin Gothic Book"/>
                <a:hlinkClick r:id="rId20"/>
              </a:rPr>
              <a:t>content.foto.mail.ru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Franklin Gothic Book"/>
                <a:hlinkClick r:id="rId21"/>
              </a:rPr>
              <a:t>/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Franklin Gothic Book"/>
                <a:hlinkClick r:id="rId22"/>
              </a:rPr>
              <a:t>mail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Franklin Gothic Book"/>
                <a:hlinkClick r:id="rId23"/>
              </a:rPr>
              <a:t>/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Franklin Gothic Book"/>
                <a:hlinkClick r:id="rId24"/>
              </a:rPr>
              <a:t>sofik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Franklin Gothic Book"/>
                <a:hlinkClick r:id="rId25"/>
              </a:rPr>
              <a:t>/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Franklin Gothic Book"/>
                <a:hlinkClick r:id="rId26"/>
              </a:rPr>
              <a:t>_myphoto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Franklin Gothic Book"/>
                <a:hlinkClick r:id="rId27"/>
              </a:rPr>
              <a:t>/i-15.jpg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4.</a:t>
            </a: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И.И. Шишкин. На Севере диком. - 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Franklin Gothic Book"/>
                <a:hlinkClick r:id="rId28"/>
              </a:rPr>
              <a:t>http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Franklin Gothic Book"/>
                <a:hlinkClick r:id="rId29"/>
              </a:rPr>
              <a:t>://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Franklin Gothic Book"/>
                <a:hlinkClick r:id="rId30"/>
              </a:rPr>
              <a:t>www.belygorod.ru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Franklin Gothic Book"/>
                <a:hlinkClick r:id="rId31"/>
              </a:rPr>
              <a:t>/img2/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Franklin Gothic Book"/>
                <a:hlinkClick r:id="rId32"/>
              </a:rPr>
              <a:t>RusskieKartinki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Franklin Gothic Book"/>
                <a:hlinkClick r:id="rId33"/>
              </a:rPr>
              <a:t>/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Franklin Gothic Book"/>
                <a:hlinkClick r:id="rId34"/>
              </a:rPr>
              <a:t>Used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Franklin Gothic Book"/>
                <a:hlinkClick r:id="rId35"/>
              </a:rPr>
              <a:t>/0shishkin_na_severe_dikom1.jpg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Franklin Gothic Book"/>
              </a:rPr>
              <a:t>АДРЕСА УЧИТЕЛЯ В ИНТЕРНЕТЕ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43b1"/>
                </a:solidFill>
                <a:latin typeface="Franklin Gothic Book"/>
              </a:rPr>
              <a:t> </a:t>
            </a:r>
            <a:r>
              <a:rPr b="1" lang="ru-RU" sz="1600" spc="-1" strike="noStrike">
                <a:solidFill>
                  <a:srgbClr val="1743b1"/>
                </a:solidFill>
                <a:latin typeface="Franklin Gothic Book"/>
              </a:rPr>
              <a:t>1.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Franklin Gothic Book"/>
                <a:hlinkClick r:id="rId36"/>
              </a:rPr>
              <a:t>http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Franklin Gothic Book"/>
                <a:hlinkClick r:id="rId37"/>
              </a:rPr>
              <a:t>://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Franklin Gothic Book"/>
                <a:hlinkClick r:id="rId38"/>
              </a:rPr>
              <a:t>www.it-n.ru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Franklin Gothic Book"/>
                <a:hlinkClick r:id="rId39"/>
              </a:rPr>
              <a:t>/profil.aspx?cat_no=692&amp;d_no=178805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 -    Сеть творческих учителей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2.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ttp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://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www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zavuch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info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/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ommunity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ome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/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portfolio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/251599-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BLM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555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- Завуч инфо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3.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ttp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://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www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openclass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ru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/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user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/308 068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- Открытый класс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4. http://nsportal.ru/blm555- Сеть работников образования 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5. http://pedsovet.org/forum/member77506.html - Педсовет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6. http://www.proshkolu.ru/user/blm555/  - ПроШколу.ру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7. http://lulum.ucoz.ru/  ПЕРСОНАЛЬНЫЙ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8. http://metodisty.ru/member.php - Методисты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9. http://www.uchmet.ru/people/user/ -Учебно-методический портал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10. </a:t>
            </a:r>
            <a:r>
              <a:rPr b="1" lang="it-IT" sz="1600" spc="-1" strike="noStrike">
                <a:solidFill>
                  <a:srgbClr val="000000"/>
                </a:solidFill>
                <a:latin typeface="Franklin Gothic Book"/>
              </a:rPr>
              <a:t>http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://</a:t>
            </a:r>
            <a:r>
              <a:rPr b="1" lang="it-IT" sz="1600" spc="-1" strike="noStrike">
                <a:solidFill>
                  <a:srgbClr val="000000"/>
                </a:solidFill>
                <a:latin typeface="Franklin Gothic Book"/>
              </a:rPr>
              <a:t>ru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r>
              <a:rPr b="1" lang="it-IT" sz="1600" spc="-1" strike="noStrike">
                <a:solidFill>
                  <a:srgbClr val="000000"/>
                </a:solidFill>
                <a:latin typeface="Franklin Gothic Book"/>
              </a:rPr>
              <a:t>calameo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r>
              <a:rPr b="1" lang="it-IT" sz="1600" spc="-1" strike="noStrike">
                <a:solidFill>
                  <a:srgbClr val="000000"/>
                </a:solidFill>
                <a:latin typeface="Franklin Gothic Book"/>
              </a:rPr>
              <a:t>com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/</a:t>
            </a:r>
            <a:r>
              <a:rPr b="1" lang="it-IT" sz="1600" spc="-1" strike="noStrike">
                <a:solidFill>
                  <a:srgbClr val="000000"/>
                </a:solidFill>
                <a:latin typeface="Franklin Gothic Book"/>
              </a:rPr>
              <a:t>welcome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r>
              <a:rPr b="1" lang="it-IT" sz="1600" spc="-1" strike="noStrike">
                <a:solidFill>
                  <a:srgbClr val="000000"/>
                </a:solidFill>
                <a:latin typeface="Franklin Gothic Book"/>
              </a:rPr>
              <a:t>php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 -Са</a:t>
            </a:r>
            <a:r>
              <a:rPr b="1" lang="it-IT" sz="1600" spc="-1" strike="noStrike">
                <a:solidFill>
                  <a:srgbClr val="000000"/>
                </a:solidFill>
                <a:latin typeface="Franklin Gothic Book"/>
              </a:rPr>
              <a:t>lameo 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(Хранилище публикаций и документов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0T20:07:24Z</dcterms:created>
  <dc:creator>Остапцова;Остапцова Т.Н.</dc:creator>
  <dc:description/>
  <cp:keywords>музыка</cp:keywords>
  <dc:language>en-US</dc:language>
  <cp:lastModifiedBy>1</cp:lastModifiedBy>
  <dcterms:modified xsi:type="dcterms:W3CDTF">2013-11-19T02:54:12Z</dcterms:modified>
  <cp:revision>93</cp:revision>
  <dc:subject/>
  <dc:title>Непревзойденный виртуоз</dc:title>
</cp:coreProperties>
</file>