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A1F8-ED36-4C9D-9351-81F891337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EFC5-1F27-4A51-8707-0408DB22D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2BEF-2C6D-4801-9765-D262414BB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4BAA-4CE1-4F4E-ACD1-C020980C0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0007-60EB-4477-BBDF-46C304558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CBF5-BB3C-4F2D-869D-80200DE0C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680C-311E-4B6D-B497-8BF941659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FA0C-A31F-4BC1-AA46-B00B80083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D87B-1E99-4A4B-8E6C-09AAA0830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9DCE-EA44-4C0E-A483-B21155604D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EAFE-405E-4C74-BCCA-4424509765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6CB9-98CE-4815-B5BE-F8B909415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BB6D-4464-4C43-9AE1-38C53153B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04F7-B0F6-4926-A8D5-8F3F17A411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26E9-37E6-4D8B-81D5-81BC2F669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D0B4-A692-402A-B4BD-09F333C862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5F24-3B2C-4836-B475-D3B2D50E5D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3A9-B31B-4DCA-88A8-344F18D62D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D82-22B6-42F7-94BA-4AB2BD3C7F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848-79A1-4F65-8934-BFDE01F484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F8B-5514-472D-9D19-406ED811C9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991-1548-4086-9CA8-0CCD057C0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D224-7D0F-4D44-8332-9C89C2DBE3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0AE-FC53-4FF3-B12B-162BD85448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769-9F93-4A5B-8AB2-B0E974974A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018-7A4A-4C01-8601-2CC964661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002-DB02-4B08-9683-1B0E6B90ED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C22-95B0-477E-B88F-9E5FE30BC2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AC8-911E-4620-8464-7B2E375D5F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B09-67CF-4ACE-B414-A63666169D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F582-9F96-414B-A005-9CEB0A1CF3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58BF-5197-4588-B882-15518CFFB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BCC1-9B90-4F4E-892C-2684E70B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D4A7-F3B3-4D4D-8DEB-5315198A4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22DF-8DCC-48A7-BE7B-85436BE2A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890A-587F-4DF6-A65C-111C8BB94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2600-BDC1-474D-839C-7B665BC16A88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1044-3098-4916-A2E4-019FFD9650FF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7AF-3EA5-4EB2-9364-342677EB71CA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8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7100"/>
                </a:solidFill>
                <a:latin typeface="Arial"/>
              </a:rPr>
              <a:t>Лексические нормы (употребление слова, паронимы)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Паронимы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Однокоренные слова, близкие по звучанию, но не совпадающие в значениях (узнать - признать, одеть - надеть, подпись - роспись)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ронимами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 (из гр. para - возле, onyma - имя). Паронимы, как правило, относятся к одной и той же части речи и выполняют в предложении аналогичные синтаксические функци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В каком предложении вместо слова КОМИЧЕСКИЙ нужно употребить КОМИЧНЫЙ?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3880" y="1714320"/>
            <a:ext cx="784548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1) В жизни вполне КОМИЧЕСКОЕ и вполне трагическое встречается редко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2) КОМИЧЕСКАЯ опера Бомарше сразу понравилась зрителям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3)  КОМИЧЕСКИЙ  жест  актера вызвал  смех  публик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4)  У этого клоуна КОМИЧЕСКОЕ выражение лица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Алгоритм выбора правильного ответа</a:t>
            </a:r>
            <a:br>
              <a:rPr sz="3200"/>
            </a:b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57160"/>
            <a:ext cx="8858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1. Разграничиваем лексические значения паронимов путем подбора синонимов, антонимов или словосочета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2.  Проводим смысловой анализ предложе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3.  Определяем верный ответ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нимательно читаем все предложения, три из них будут чем-то похожи: либо выделенные слова будут напрямую связаны с существительным, от которого образованы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(демократический —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связанный непосредственно с демократией,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военный — с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ойной и т. п.), либо, наоборот, одно из слов будет напрямую связано с существительным, а остальные три — нет. Но если вдруг встретятся слова типа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абонент — абонемент,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то этот алгоритм уже не сработает. Здесь придется применить метод исключения и логические рассуждения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Примечание.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Разграничив лексические значения в данном задании, можно избежать ошибок, связанных с определенным сходством в звучании, морфемном строении и грамматических признаках слов-паронимов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920" y="2390760"/>
          <a:ext cx="4124160" cy="2076480"/>
        </p:xfrm>
        <a:graphic>
          <a:graphicData uri="http://schemas.openxmlformats.org/drawingml/2006/table">
            <a:tbl>
              <a:tblPr/>
              <a:tblGrid>
                <a:gridCol w="4124160"/>
              </a:tblGrid>
              <a:tr h="2076480">
                <a:tc>
                  <a:txBody>
                    <a:bodyPr lIns="24120" rIns="24120" tIns="36720" bIns="36720" anchor="t">
                      <a:noAutofit/>
                    </a:bodyPr>
                    <a:p>
                      <a:pPr marL="190800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"/>
          <p:cNvSpPr/>
          <p:nvPr/>
        </p:nvSpPr>
        <p:spPr>
          <a:xfrm>
            <a:off x="108720" y="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-360"/>
            <a:ext cx="8501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некдотический — анекдотич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тистичный — артистиче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хаический — архаичны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езответный — безответ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лагодарный — благодар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олотный — болотист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удний — будни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ковой — ве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ликий -величе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иноватый — вино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раждебный — враж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2c2c84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дный — вод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енный — воин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спитательный — воспитатель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тряхнуть — стряхнуть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який — всяч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ыборный — выборо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армонический — гармони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лавный — загла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довой — годовал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рдость — гордыня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уманный — гуманитар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войной — раздвоенный - двой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йствительный — действенный — действующ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монстративный — демонстрацио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ичный — дипломатическ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 — дипломант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оверчивый — доверитель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жизненный — житейски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лой — злостн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намя — знамение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женерный — инженер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онный — информатив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я — информатизация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скусный — искус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аменный — каменист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сный — кост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ный — конски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сервация — консервирова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расочный — красящ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ледяной — ледов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нетерпимый — нестерпим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пасный —опаслив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воить — усвоить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уждение — обсужде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угливый — пуганый — пуга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редставить — предоставить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очтительный — почтенный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раздражение — раздражительность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скрытый — скрыт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актичный — тактический,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ехнический — техн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удачливый - уда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фактический — факт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хозяйский — хозяйственный.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10-16T20:19:43Z</dcterms:modified>
  <cp:revision>4</cp:revision>
  <dc:subject/>
  <dc:title>Лексические нормы (употребление слова, паронимы)</dc:title>
</cp:coreProperties>
</file>