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0F32-155F-4140-92AA-4374336E5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7C3E-9375-4CC6-9735-A10ACC811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AE38-2C43-441B-B6CC-AE2958324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B83C-1328-4773-A8E0-58A36621E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13A8-4F4B-4768-84C0-12A25B6425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EF5F-C6FE-4478-978F-E3D11102F5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2C4A-B429-4BD2-A1FF-88B20B3155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A7B4-6A77-4772-9D65-1C45F9BD3B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11DB-765B-444B-9EE2-4DE7B53BA4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3725-79DC-4406-A48F-411B6FD1FE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B6FF1-8D36-4387-9EEC-72D25656B3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504A-B2C6-4B68-BFF8-EDD214E24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F837-B2DC-479B-8D75-F820FD5B91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4E13-56F0-4442-9A8A-1C4CA9BC71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5ACC-A148-47E1-AB02-198AE3CF3D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AAB1-14FE-4B94-90D0-CE9CD5E1A0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7A65-F7D9-4CA6-BD37-14AA74C761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51C-F7EB-4A69-971A-05D3A53BFA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FB7-0EDA-4C3B-95C1-63D67B6A53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9EC-7A3C-4AB0-8CEC-8CAA01BE05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472-CB5E-4ABC-9CE3-DBE5440503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00D-882A-4034-B8C3-D756452683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8923-B62E-4DA1-B1AD-B7B3EA6C42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304-2B05-4A99-9136-060773483B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C90-C362-4C03-B4B1-02875B5C37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777-9219-413D-8BBA-A81B55F73A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FED-D7EA-4086-A13F-A31346CCAB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826-84F8-41F6-8213-A2EBAA6F47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8FB-BD2E-49DD-B13F-0A42B9A852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0E7-BE11-4A6D-9F31-D55B36F309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05D6-5880-471D-9CEC-CA463E2D42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659A-B854-49D7-BDCA-7814ABA54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63C9-CEAA-4F49-97DD-0D73F35D8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DDF5-0AD2-4E60-A51A-460274C8C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A45E-165A-4D3F-9327-969B9FBA4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CA25-36CB-44FB-8911-B959D5A11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B5F3-79CD-44E5-9CB5-814BCFBAC876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6560" y="6365520"/>
            <a:ext cx="838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EAE4-D270-4B03-9389-E2998BBC4EBF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F723-AB1A-45EF-9792-134FF57EADD6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92360" y="1052280"/>
            <a:ext cx="518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7100"/>
                </a:solidFill>
                <a:latin typeface="Arial"/>
              </a:rPr>
              <a:t>Лексические нормы (употребление слова, паронимы)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Паронимы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Однокоренные слова, близкие по звучанию, но не совпадающие в значениях (узнать - признать, одеть - надеть, подпись - роспись), называют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аронимами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 (из гр. para - возле, onyma - имя). Паронимы, как правило, относятся к одной и той же части речи и выполняют в предложении аналогичные синтаксические функции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В каком предложении вместо слова КОМИЧЕСКИЙ нужно употребить КОМИЧНЫЙ?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3880" y="1714320"/>
            <a:ext cx="784548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1) В жизни вполне КОМИЧЕСКОЕ и вполне трагическое встречается редко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2) КОМИЧЕСКАЯ опера Бомарше сразу понравилась зрителям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3)  КОМИЧЕСКИЙ  жест  актера вызвал  смех  публики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4)  У этого клоуна КОМИЧЕСКОЕ выражение лица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Алгоритм выбора правильного ответа</a:t>
            </a:r>
            <a:br>
              <a:rPr sz="3200"/>
            </a:b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857160"/>
            <a:ext cx="88581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1. Разграничиваем лексические значения паронимов путем подбора синонимов, антонимов или словосочетаний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2.  Проводим смысловой анализ предложений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3.  Определяем верный ответ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Внимательно читаем все предложения, три из них будут чем-то похожи: либо выделенные слова будут напрямую связаны с существительным, от которого образованы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(демократический —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связанный непосредственно с демократией,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военный — с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войной и т. п.), либо, наоборот, одно из слов будет напрямую связано с существительным, а остальные три — нет. Но если вдруг встретятся слова типа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абонент — абонемент,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то этот алгоритм уже не сработает. Здесь придется применить метод исключения и логические рассуждения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Примечание.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Разграничив лексические значения в данном задании, можно избежать ошибок, связанных с определенным сходством в звучании, морфемном строении и грамматических признаках слов-паронимов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920" y="2390760"/>
          <a:ext cx="4124160" cy="2076480"/>
        </p:xfrm>
        <a:graphic>
          <a:graphicData uri="http://schemas.openxmlformats.org/drawingml/2006/table">
            <a:tbl>
              <a:tblPr/>
              <a:tblGrid>
                <a:gridCol w="4124160"/>
              </a:tblGrid>
              <a:tr h="2076480">
                <a:tc>
                  <a:txBody>
                    <a:bodyPr lIns="24120" rIns="24120" tIns="36720" bIns="36720" anchor="t">
                      <a:noAutofit/>
                    </a:bodyPr>
                    <a:p>
                      <a:pPr marL="190800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"/>
          <p:cNvSpPr/>
          <p:nvPr/>
        </p:nvSpPr>
        <p:spPr>
          <a:xfrm>
            <a:off x="108720" y="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0" y="-360"/>
            <a:ext cx="85010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Анекдотический — анекдотичн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артистичный — артистически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архаический — архаичны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езответный — безответствен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лагодарный — благодарствен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олотный — болотист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удний — будничн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ековой — вечн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еликий -величестве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иноватый — винов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раждебный — вражеск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2c2c84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одный — водяно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оенный — воинск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оспитательный — воспитательски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стряхнуть — стряхнуть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сякий — всяческ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ыборный — выборочн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армонический — гармонич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лавный — заглав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одовой — годовал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ордость — гордыня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уманный — гуманитар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войной — раздвоенный - двойстве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ействительный — действенный — действующ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емонстративный — демонстрацио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ипломатичный — дипломатически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ипломат — дипломант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оверчивый — доверитель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жизненный — житейский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злой — злостный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знамя — знамение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нженерный — инженерски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нформационный — информативны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нформация — информатизация,  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скусный — искусстве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аменный — каменистый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осный — костяно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онный — конски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онсервация — консервирование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расочный — красящи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ледяной — ледов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нетерпимый — нестерпим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опасный —опаслив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освоить — усвоить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just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осуждение — обсуждение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пугливый — пуганый — пуган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представить — предоставить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почтительный — почтенный,  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раздражение — раздражительность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скрытый — скрытн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тактичный — тактический, 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технический — техничны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удачливый - удач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фактический — фактичны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хозяйский — хозяйственный.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4-10-16T20:19:43Z</dcterms:modified>
  <cp:revision>4</cp:revision>
  <dc:subject/>
  <dc:title>Лексические нормы (употребление слова, паронимы)</dc:title>
</cp:coreProperties>
</file>