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9F8D-B0AE-4FC2-BEA3-95E79E353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B990-0022-40AF-8A4E-B4D96A6ED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480A-E0A6-42C1-98A8-048FB611A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E0E2-D56A-40C0-8F5A-184494AAD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E35B-A193-4082-9443-CBA0191E15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9F3C-3854-43AD-BED3-58DEDE7CA2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42E1-DCC8-45D4-856E-90B4B592E7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2BDD-AB5C-4607-A0D2-223779230A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52E5-330A-43AD-8B4B-FFCBB6162B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A238-E447-4040-A360-D6E2A8F090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AA95-E322-4552-8F74-8E0ACCEF78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1103-D477-4768-AAA7-D4DDEDB77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C784-3966-4230-A98A-1EEBA3A5D0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AC0C-6952-4EBB-8EDB-24924A8B00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2F61-1367-48F3-9869-F6FFBF6F32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3406-5CA0-4C83-A694-368EB9F52B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ACA9-5735-442E-9A12-5758816F9C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0B8-CCCB-4EC6-AB09-B235DC8F31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554-0839-41EF-B713-F4BFBEAA86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400-996C-49BA-B1A2-270AB65CE8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A9A-B26E-4DBB-80B8-6ADCBA9798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62D-D3A5-43CF-9071-B9C1C5C29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5096-A3CD-4D32-8288-C6A37DD668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0FE-BAFE-4F28-9B87-D462ED2FD3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279-B3B0-4C66-8EF1-C69A1753A0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A94-B9FE-4300-A8D8-2F11A94240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BDD-E3C5-42B5-84C5-713A7166C9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1D0-C377-43EE-BC11-FD2E748DDD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9BC-13D8-4820-B031-E427F0873B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AA6-7440-47ED-8C63-D250602ECF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CE4A-FFE7-43DE-B4B0-27C9CBABF6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4013-0AF0-4FE4-8CBC-A9A59AEA9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1DD2-F3B3-4CE3-9F97-5D2069EEF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435D-6613-484F-B1AF-A23DD1869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C167-CF05-4147-88E4-BB6490934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A36E-7F08-44FE-BC25-E6FFBAFAE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DAB1-8C46-4C12-85D1-3519386D44A5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6560" y="6365520"/>
            <a:ext cx="838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4EBC-B38B-4671-8D9F-57827F8E5089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E826-F485-4A40-A5A9-723A3C0F3666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92360" y="1052280"/>
            <a:ext cx="518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7100"/>
                </a:solidFill>
                <a:latin typeface="Arial"/>
              </a:rPr>
              <a:t>Лексические нормы (употребление слова, паронимы)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Паронимы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Однокоренные слова, близкие по звучанию, но не совпадающие в значениях (узнать - признать, одеть - надеть, подпись - роспись), называют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аронимами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 (из гр. para - возле, onyma - имя). Паронимы, как правило, относятся к одной и той же части речи и выполняют в предложении аналогичные синтаксические функции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В каком предложении вместо слова КОМИЧЕСКИЙ нужно употребить КОМИЧНЫЙ?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3880" y="1714320"/>
            <a:ext cx="784548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1) В жизни вполне КОМИЧЕСКОЕ и вполне трагическое встречается редко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2) КОМИЧЕСКАЯ опера Бомарше сразу понравилась зрителям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3)  КОМИЧЕСКИЙ  жест  актера вызвал  смех  публики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4)  У этого клоуна КОМИЧЕСКОЕ выражение лица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Алгоритм выбора правильного ответа</a:t>
            </a:r>
            <a:br>
              <a:rPr sz="3200"/>
            </a:b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857160"/>
            <a:ext cx="88581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1. Разграничиваем лексические значения паронимов путем подбора синонимов, антонимов или словосочетаний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2.  Проводим смысловой анализ предложений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3.  Определяем верный ответ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Внимательно читаем все предложения, три из них будут чем-то похожи: либо выделенные слова будут напрямую связаны с существительным, от которого образованы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(демократический —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связанный непосредственно с демократией,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военный — с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войной и т. п.), либо, наоборот, одно из слов будет напрямую связано с существительным, а остальные три — нет. Но если вдруг встретятся слова типа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абонент — абонемент,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то этот алгоритм уже не сработает. Здесь придется применить метод исключения и логические рассуждения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2c2c84"/>
                </a:solidFill>
                <a:latin typeface="Arial"/>
              </a:rPr>
              <a:t>Примечание.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Разграничив лексические значения в данном задании, можно избежать ошибок, связанных с определенным сходством в звучании, морфемном строении и грамматических признаках слов-паронимов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920" y="2390760"/>
          <a:ext cx="4124160" cy="2076480"/>
        </p:xfrm>
        <a:graphic>
          <a:graphicData uri="http://schemas.openxmlformats.org/drawingml/2006/table">
            <a:tbl>
              <a:tblPr/>
              <a:tblGrid>
                <a:gridCol w="4124160"/>
              </a:tblGrid>
              <a:tr h="2076480">
                <a:tc>
                  <a:txBody>
                    <a:bodyPr lIns="24120" rIns="24120" tIns="36720" bIns="36720" anchor="t">
                      <a:noAutofit/>
                    </a:bodyPr>
                    <a:p>
                      <a:pPr marL="190800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"/>
          <p:cNvSpPr/>
          <p:nvPr/>
        </p:nvSpPr>
        <p:spPr>
          <a:xfrm>
            <a:off x="108720" y="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0" y="-360"/>
            <a:ext cx="85010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     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Анекдотический — анекдотичн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артистичный — артистически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архаический — архаичны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езответный — безответствен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лагодарный — благодарствен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олотный — болотист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будний — будничн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ековой — вечн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еликий -величестве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иноватый — винов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раждебный — вражеск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2c2c84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одный — водяно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оенный — воинск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оспитательный — воспитательски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стряхнуть — стряхнуть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сякий — всяческ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выборный — выборочны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армонический — гармонич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лавный — заглав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одовой — годовал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ордость — гордыня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гуманный — гуманитар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войной — раздвоенный - двойстве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ействительный — действенный — действующи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емонстративный — демонстрацио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ипломатичный — дипломатически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ипломат — дипломант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доверчивый — доверитель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жизненный — житейский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злой — злостный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знамя — знамение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нженерный — инженерский,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нформационный — информативны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нформация — информатизация,  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искусный — искусствен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аменный — каменистый,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осный — костяной,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онный — конски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онсервация — консервирование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красочный — красящи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ледяной — ледов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нетерпимый — нестерпим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опасный —опаслив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освоить — усвоить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just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осуждение — обсуждение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пугливый — пуганый — пуганный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представить — предоставить,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почтительный — почтенный,  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раздражение — раздражительность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скрытый — скрытный,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тактичный — тактический,      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технический — техничны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удачливый - удачный, 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фактический — фактичный,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2c2c84"/>
                </a:solidFill>
                <a:latin typeface="Arial"/>
              </a:rPr>
              <a:t>хозяйский — хозяйственный.</a:t>
            </a: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  <a:p>
            <a:pPr marL="547560" indent="-4111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4-10-16T20:19:43Z</dcterms:modified>
  <cp:revision>4</cp:revision>
  <dc:subject/>
  <dc:title>Лексические нормы (употребление слова, паронимы)</dc:title>
</cp:coreProperties>
</file>