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6.wmf" ContentType="image/x-wmf"/>
  <Override PartName="/ppt/media/image4.png" ContentType="image/png"/>
  <Override PartName="/ppt/media/image5.gif" ContentType="image/gi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899-7E07-46E0-ACFA-C84DB61F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BBB-F160-4817-82F6-442B138F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416-A6F0-4AB8-A707-007B6805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8F1-510D-4FD4-907D-8B0A2D9A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206-9785-4A98-A0B9-4303290C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18A-4C42-4EDB-AA29-9BCC5F7B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0CD-CD05-4717-A702-7BEC72F7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A2A-5758-4C30-89C6-A65FBFE5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6C6-F9E6-4816-B31F-F2DE4580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0EC-1BEC-4590-84D3-47973B13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5D4-B600-40E3-AE52-FB7215CE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F21-F2F8-4F7F-A155-795E31F3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5143-C0E8-4444-B16F-655D5DBE7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482840" y="333360"/>
            <a:ext cx="665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образования графи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D05969_"/>
          <p:cNvPicPr/>
          <p:nvPr/>
        </p:nvPicPr>
        <p:blipFill>
          <a:blip r:embed="rId1"/>
          <a:stretch/>
        </p:blipFill>
        <p:spPr>
          <a:xfrm>
            <a:off x="739800" y="2009880"/>
            <a:ext cx="2892240" cy="394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j0173955"/>
          <p:cNvPicPr/>
          <p:nvPr/>
        </p:nvPicPr>
        <p:blipFill>
          <a:blip r:embed="rId2"/>
          <a:stretch/>
        </p:blipFill>
        <p:spPr>
          <a:xfrm>
            <a:off x="6081840" y="2133720"/>
            <a:ext cx="11541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31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32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33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440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4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445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448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449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451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452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459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3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464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465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470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76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478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479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486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490" name="Object 62"/>
          <p:cNvGraphicFramePr/>
          <p:nvPr/>
        </p:nvGraphicFramePr>
        <p:xfrm>
          <a:off x="4030560" y="1951200"/>
          <a:ext cx="1419480" cy="21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1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056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833560" y="1455480"/>
            <a:ext cx="1162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94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95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96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503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08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511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512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3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514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515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522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6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527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528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533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39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541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542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549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553" name="Object 62"/>
          <p:cNvGraphicFramePr/>
          <p:nvPr/>
        </p:nvGraphicFramePr>
        <p:xfrm>
          <a:off x="4029120" y="1941480"/>
          <a:ext cx="1419120" cy="21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4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29120" y="1941480"/>
                    <a:ext cx="1419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Rectangle 63"/>
          <p:cNvSpPr/>
          <p:nvPr/>
        </p:nvSpPr>
        <p:spPr>
          <a:xfrm>
            <a:off x="1692360" y="1413000"/>
            <a:ext cx="23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+a), a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3531E-006 L 0.09444 -1.3531E-006 E">
                                      <p:cBhvr>
                                        <p:cTn id="103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557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558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559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566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71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574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575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6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577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578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585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9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590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591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596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602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604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605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612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616" name="Object 62"/>
          <p:cNvGraphicFramePr/>
          <p:nvPr/>
        </p:nvGraphicFramePr>
        <p:xfrm>
          <a:off x="4046400" y="1951200"/>
          <a:ext cx="1419480" cy="21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7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4640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63"/>
          <p:cNvSpPr/>
          <p:nvPr/>
        </p:nvSpPr>
        <p:spPr>
          <a:xfrm>
            <a:off x="1692360" y="1413000"/>
            <a:ext cx="23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+a), a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7702E-006 L -0.08663 -1.17702E-006 E">
                                      <p:cBhvr>
                                        <p:cTn id="113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мметрия относительно осей координ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Object 3"/>
          <p:cNvGraphicFramePr/>
          <p:nvPr/>
        </p:nvGraphicFramePr>
        <p:xfrm>
          <a:off x="539640" y="1268280"/>
          <a:ext cx="489600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48960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2" name="Picture 4" descr="MAN52"/>
          <p:cNvPicPr/>
          <p:nvPr/>
        </p:nvPicPr>
        <p:blipFill>
          <a:blip r:embed="rId3"/>
          <a:stretch/>
        </p:blipFill>
        <p:spPr>
          <a:xfrm>
            <a:off x="5508720" y="3429000"/>
            <a:ext cx="33829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624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625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626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633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638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641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642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644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645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652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56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657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658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2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663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669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671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672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679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683" name="Object 62"/>
          <p:cNvGraphicFramePr/>
          <p:nvPr/>
        </p:nvGraphicFramePr>
        <p:xfrm>
          <a:off x="4440240" y="1951200"/>
          <a:ext cx="1419120" cy="21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4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0240" y="1951200"/>
                    <a:ext cx="141912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Rectangle 63"/>
          <p:cNvSpPr/>
          <p:nvPr/>
        </p:nvSpPr>
        <p:spPr>
          <a:xfrm>
            <a:off x="2833560" y="1455840"/>
            <a:ext cx="1162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687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688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689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696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0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701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704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705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707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708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715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19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720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721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726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32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734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735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1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742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746" name="Object 62"/>
          <p:cNvGraphicFramePr/>
          <p:nvPr/>
        </p:nvGraphicFramePr>
        <p:xfrm>
          <a:off x="3635280" y="1951200"/>
          <a:ext cx="1419480" cy="21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7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Rectangle 63"/>
          <p:cNvSpPr/>
          <p:nvPr/>
        </p:nvSpPr>
        <p:spPr>
          <a:xfrm>
            <a:off x="2556000" y="1455840"/>
            <a:ext cx="1306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-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750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751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752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759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3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764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767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768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9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770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771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778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2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783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784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789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95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797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798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805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809" name="Object 62"/>
          <p:cNvGraphicFramePr/>
          <p:nvPr/>
        </p:nvGraphicFramePr>
        <p:xfrm>
          <a:off x="4030560" y="1951200"/>
          <a:ext cx="1419480" cy="21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0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056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Rectangle 63"/>
          <p:cNvSpPr/>
          <p:nvPr/>
        </p:nvSpPr>
        <p:spPr>
          <a:xfrm>
            <a:off x="2833560" y="1455840"/>
            <a:ext cx="1162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813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814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815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822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6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827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830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831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2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833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834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0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841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45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846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847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852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58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860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861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868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872" name="Object 62"/>
          <p:cNvGraphicFramePr/>
          <p:nvPr/>
        </p:nvGraphicFramePr>
        <p:xfrm>
          <a:off x="4089240" y="3860640"/>
          <a:ext cx="1297080" cy="218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3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9240" y="3860640"/>
                    <a:ext cx="129708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4" name="Rectangle 63"/>
          <p:cNvSpPr/>
          <p:nvPr/>
        </p:nvSpPr>
        <p:spPr>
          <a:xfrm>
            <a:off x="2556000" y="5445000"/>
            <a:ext cx="151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-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876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877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878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885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9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890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893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894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5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896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897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0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3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904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7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08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909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910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4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915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9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0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21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923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924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931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935" name="Object 62"/>
          <p:cNvGraphicFramePr/>
          <p:nvPr/>
        </p:nvGraphicFramePr>
        <p:xfrm>
          <a:off x="3203640" y="2762280"/>
          <a:ext cx="1419120" cy="21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6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762280"/>
                    <a:ext cx="141912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Rectangle 63"/>
          <p:cNvSpPr/>
          <p:nvPr/>
        </p:nvSpPr>
        <p:spPr>
          <a:xfrm>
            <a:off x="3193920" y="1455840"/>
            <a:ext cx="1162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тяжение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539640" y="765000"/>
          <a:ext cx="489600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765000"/>
                    <a:ext cx="48960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MAN52"/>
          <p:cNvPicPr/>
          <p:nvPr/>
        </p:nvPicPr>
        <p:blipFill>
          <a:blip r:embed="rId3"/>
          <a:stretch/>
        </p:blipFill>
        <p:spPr>
          <a:xfrm>
            <a:off x="5508720" y="3429000"/>
            <a:ext cx="33829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9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50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51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58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63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66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67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69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70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77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1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82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83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88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4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96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97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104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08" name="Object 62"/>
          <p:cNvGraphicFramePr/>
          <p:nvPr/>
        </p:nvGraphicFramePr>
        <p:xfrm>
          <a:off x="4029120" y="1951200"/>
          <a:ext cx="1419120" cy="21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29120" y="1951200"/>
                    <a:ext cx="141912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3"/>
          <p:cNvSpPr/>
          <p:nvPr/>
        </p:nvSpPr>
        <p:spPr>
          <a:xfrm>
            <a:off x="2833560" y="1455840"/>
            <a:ext cx="1162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112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113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114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121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126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129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130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132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133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140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4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145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146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151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7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159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160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167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71" name="Object 62"/>
          <p:cNvGraphicFramePr/>
          <p:nvPr/>
        </p:nvGraphicFramePr>
        <p:xfrm>
          <a:off x="4368960" y="981000"/>
          <a:ext cx="75852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68960" y="981000"/>
                    <a:ext cx="75852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63"/>
          <p:cNvSpPr/>
          <p:nvPr/>
        </p:nvSpPr>
        <p:spPr>
          <a:xfrm>
            <a:off x="1835280" y="692280"/>
            <a:ext cx="259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kf(x), k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175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176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177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184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189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192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193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195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196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203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7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208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209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214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20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222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223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230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34" name="Object 62"/>
          <p:cNvGraphicFramePr/>
          <p:nvPr/>
        </p:nvGraphicFramePr>
        <p:xfrm>
          <a:off x="3000240" y="2433600"/>
          <a:ext cx="3443400" cy="16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0240" y="2433600"/>
                    <a:ext cx="34434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63"/>
          <p:cNvSpPr/>
          <p:nvPr/>
        </p:nvSpPr>
        <p:spPr>
          <a:xfrm>
            <a:off x="611280" y="1959120"/>
            <a:ext cx="259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kf(x), 0&lt;k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аллельный перенос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539640" y="1268280"/>
          <a:ext cx="489600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48960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Picture 4" descr="MAN52"/>
          <p:cNvPicPr/>
          <p:nvPr/>
        </p:nvPicPr>
        <p:blipFill>
          <a:blip r:embed="rId3"/>
          <a:stretch/>
        </p:blipFill>
        <p:spPr>
          <a:xfrm>
            <a:off x="5508720" y="3429000"/>
            <a:ext cx="33829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242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243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244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251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256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259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260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262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263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270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4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275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276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281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87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289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290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297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301" name="Object 62"/>
          <p:cNvGraphicFramePr/>
          <p:nvPr/>
        </p:nvGraphicFramePr>
        <p:xfrm>
          <a:off x="4030560" y="1951200"/>
          <a:ext cx="1419480" cy="21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056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63"/>
          <p:cNvSpPr/>
          <p:nvPr/>
        </p:nvSpPr>
        <p:spPr>
          <a:xfrm>
            <a:off x="2125800" y="152712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305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306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307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314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319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322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323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325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326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333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338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339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344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50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352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353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360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364" name="Object 62"/>
          <p:cNvGraphicFramePr/>
          <p:nvPr/>
        </p:nvGraphicFramePr>
        <p:xfrm>
          <a:off x="4030560" y="1957320"/>
          <a:ext cx="1419480" cy="21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5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0560" y="1957320"/>
                    <a:ext cx="14194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63"/>
          <p:cNvSpPr/>
          <p:nvPr/>
        </p:nvSpPr>
        <p:spPr>
          <a:xfrm>
            <a:off x="1547640" y="119700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+b, b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60704E-006 L 4.16667E-006 -0.09452 E">
                                      <p:cBhvr>
                                        <p:cTn id="7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368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369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370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377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1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382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385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386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388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389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396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0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401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402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407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13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415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416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423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427" name="Object 62"/>
          <p:cNvGraphicFramePr/>
          <p:nvPr/>
        </p:nvGraphicFramePr>
        <p:xfrm>
          <a:off x="4030560" y="1957320"/>
          <a:ext cx="1419480" cy="21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0560" y="1957320"/>
                    <a:ext cx="14194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63"/>
          <p:cNvSpPr/>
          <p:nvPr/>
        </p:nvSpPr>
        <p:spPr>
          <a:xfrm>
            <a:off x="1763640" y="249228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+b, b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60704E-006 L 4.16667E-006 0.14714 E">
                                      <p:cBhvr>
                                        <p:cTn id="78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5:00:52Z</dcterms:created>
  <dc:creator>Artem</dc:creator>
  <dc:description/>
  <dc:language>en-US</dc:language>
  <cp:lastModifiedBy>Admin</cp:lastModifiedBy>
  <dcterms:modified xsi:type="dcterms:W3CDTF">2013-01-26T03:23:35Z</dcterms:modified>
  <cp:revision>20</cp:revision>
  <dc:subject/>
  <dc:title>Слайд 1</dc:title>
</cp:coreProperties>
</file>