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19C9-F256-4629-AFA9-F47E7E7D66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485A-4711-422C-8D03-253ED21273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625-1141-491D-983B-B42556BB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7E2-183C-474B-AFE9-E7A1B9F9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7D8-AF1F-4DA4-9580-5649BB6D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7B7-6896-4453-8471-75C0FF41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AB98-5F56-4FE0-BAF2-FEB184BD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3189-5F63-40FC-A9E3-822C5C56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14AD-2C70-466C-8488-9CF5156B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411F-1A45-4E56-8F54-58D16348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8F6C-357F-4CC2-BA5B-08DC085E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7D0C-E8BC-483A-95BC-D641B201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3E63-9E74-4EDB-9E90-799A7AE3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663-5F82-406B-9CDC-AA3C4D30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F2D0-ED4A-4ED4-A136-1BA1BD88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5E4B-EED2-4975-B238-FE6415C5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0F26-1AFE-4E21-BCC2-29C64FD1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A73C-B2A3-40D6-8ABC-2201C1FB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519E-BB19-4E69-AA21-6BD5692E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537EB-15EB-4B2D-8034-95990528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E8E7-A78A-4626-A83C-C169C1C0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906E4-CA43-4BEF-88B8-40C427E5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05B5E-B02A-4364-886D-3B2095DD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E00BC-81C8-43DC-BD2F-AC7EA6C5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A87-17ED-4FBF-BA28-D514B3BC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A721F-8980-4396-A9EC-F521E7DD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0FB7-5DCB-493D-8438-BE9A115F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6ADA6-DB3F-4F6A-9E93-C834D2F9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3F169-38B3-44F9-9CDB-7F20F9D2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033BB-0145-4E47-9B2C-4AF7FD3D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7B24-0A5E-4190-9CA2-6FB48C06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3DC7-A231-4973-A66B-94EE14F8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9281E-B5E6-47AE-81FE-3D0CAB6E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85F13-30C5-4C92-BB80-13205045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62331-9AC9-4613-A35D-22B4FD45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885-122E-432F-AF23-F45C17FD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B048-ED8F-4D56-AE8F-01ACD60D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60DF8-650E-47C7-A788-70B18A86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5FCEA-17B1-48E1-9BEB-21F78B47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A9F31-1EBF-4507-B28C-C964338E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90EDF-DA4E-4054-A666-F6D457CA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37DE5-EE07-42E8-911F-5B6050EC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AF591-4293-4535-A4D6-534E325E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B617B-6BA8-43EA-9E47-F89392E2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85718-9761-4ED2-B82B-B09E4A9E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613-0CD3-4FA4-8B2F-2857C21E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9A0-F076-488D-AC1C-B959F4A6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391-AE88-41B1-9072-E62FF052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6F2-FAB2-4ADE-BC7A-61997487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6EA-4863-4EC6-A251-865DF1B8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5ED7-BDA9-4291-9C76-752963AC8DB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EEC1-9457-49CE-9516-A34E62A85EC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BDC0-BB65-45D9-85B6-176BB2D32443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5E69-5833-4DD6-BBC4-307FC4FBF94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ий проект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«Развитие творческих способностей детей старшего дошкольного возраста средствами театрализованной деятельности»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в условиях реализации ФГТ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120" y="50007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чанова Алла Николаев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узыкальный руководитель ГБОУ СОШ №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.г.т. Безенчук структурное подразделение «детский сад Берёзк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C:\Documents and Settings\Admin\Рабочий стол\IMG_5405.jpg"/>
          <p:cNvPicPr/>
          <p:nvPr/>
        </p:nvPicPr>
        <p:blipFill>
          <a:blip r:embed="rId1"/>
          <a:stretch/>
        </p:blipFill>
        <p:spPr>
          <a:xfrm>
            <a:off x="500040" y="517680"/>
            <a:ext cx="3786120" cy="284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1" name="Picture 5" descr="C:\Documents and Settings\Admin\Рабочий стол\IMG_5408.jpg"/>
          <p:cNvPicPr/>
          <p:nvPr/>
        </p:nvPicPr>
        <p:blipFill>
          <a:blip r:embed="rId2"/>
          <a:stretch/>
        </p:blipFill>
        <p:spPr>
          <a:xfrm>
            <a:off x="500040" y="3786120"/>
            <a:ext cx="3817800" cy="286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2" name="Picture 6" descr="C:\Documents and Settings\Admin\Рабочий стол\IMG_5412.jpg"/>
          <p:cNvPicPr/>
          <p:nvPr/>
        </p:nvPicPr>
        <p:blipFill>
          <a:blip r:embed="rId3"/>
          <a:stretch/>
        </p:blipFill>
        <p:spPr>
          <a:xfrm>
            <a:off x="4714920" y="517680"/>
            <a:ext cx="3786120" cy="284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3" name="Picture 2" descr="H:\Новая папка (3)\PA160959.JPG"/>
          <p:cNvPicPr/>
          <p:nvPr/>
        </p:nvPicPr>
        <p:blipFill>
          <a:blip r:embed="rId4"/>
          <a:stretch/>
        </p:blipFill>
        <p:spPr>
          <a:xfrm>
            <a:off x="4714920" y="3786120"/>
            <a:ext cx="3786120" cy="2840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ланирование деятельнос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28760" y="1714680"/>
            <a:ext cx="822960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осмотр кукольных спектаклей и беседы по ни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азыгрывание сказок и инсцениров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пражнения по эмоциональному развитию детей. Речевые игры и упражн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пражнения по формированию выразительного исполнения - ритмопласти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гры и упражнения на развитие невербальных средств общ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:\Театр\IMG_2644.JPG"/>
          <p:cNvPicPr/>
          <p:nvPr/>
        </p:nvPicPr>
        <p:blipFill>
          <a:blip r:embed="rId1"/>
          <a:stretch/>
        </p:blipFill>
        <p:spPr>
          <a:xfrm>
            <a:off x="357120" y="571680"/>
            <a:ext cx="4143600" cy="276192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47" name="Picture 3" descr="H:\Театр\IMG_3397.JPG"/>
          <p:cNvPicPr/>
          <p:nvPr/>
        </p:nvPicPr>
        <p:blipFill>
          <a:blip r:embed="rId2"/>
          <a:stretch/>
        </p:blipFill>
        <p:spPr>
          <a:xfrm>
            <a:off x="4643280" y="571680"/>
            <a:ext cx="4143600" cy="276192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48" name="Picture 4" descr="H:\Театр\IMG_5469.JPG"/>
          <p:cNvPicPr/>
          <p:nvPr/>
        </p:nvPicPr>
        <p:blipFill>
          <a:blip r:embed="rId3"/>
          <a:stretch/>
        </p:blipFill>
        <p:spPr>
          <a:xfrm>
            <a:off x="357120" y="3425760"/>
            <a:ext cx="4143600" cy="3108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49" name="Picture 5" descr="H:\Театр\P1020235.JPG"/>
          <p:cNvPicPr/>
          <p:nvPr/>
        </p:nvPicPr>
        <p:blipFill>
          <a:blip r:embed="rId4"/>
          <a:srcRect l="0" t="0" r="10771" b="0"/>
          <a:stretch/>
        </p:blipFill>
        <p:spPr>
          <a:xfrm>
            <a:off x="4643280" y="3429000"/>
            <a:ext cx="4143600" cy="30956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3" descr="27091252.jpg"/>
          <p:cNvPicPr/>
          <p:nvPr/>
        </p:nvPicPr>
        <p:blipFill>
          <a:blip r:embed="rId1"/>
          <a:stretch/>
        </p:blipFill>
        <p:spPr>
          <a:xfrm>
            <a:off x="5572080" y="3286080"/>
            <a:ext cx="3494160" cy="35719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существление деятельности по реализации проек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0040" y="192852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методической литератур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предметно-развивающей сред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средственные занят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каз музыкально-театрализованног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я «Снежная королев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зультат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13840" y="1285920"/>
            <a:ext cx="8929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У детей повысился интерес к художественной литературе, театру,  музыке- как видам искусства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Занятия развили детскую фантазию, воображение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Дети освоили невербальные средства общения (жесты, мимика, движения)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Речь детей стала более связной, выразительной, расширился их словарный запас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Дети научились выражать свои чувства и понимать чувства других и сопереживать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Дети стали более уверенными в себе, научились преодолевать робость, застенчивость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E:\Театр\P2280013.JPG"/>
          <p:cNvPicPr/>
          <p:nvPr/>
        </p:nvPicPr>
        <p:blipFill>
          <a:blip r:embed="rId1"/>
          <a:stretch/>
        </p:blipFill>
        <p:spPr>
          <a:xfrm>
            <a:off x="1000080" y="16430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E:\Театр\P2280002.JPG"/>
          <p:cNvPicPr/>
          <p:nvPr/>
        </p:nvPicPr>
        <p:blipFill>
          <a:blip r:embed="rId2"/>
          <a:stretch/>
        </p:blipFill>
        <p:spPr>
          <a:xfrm>
            <a:off x="4857840" y="1714680"/>
            <a:ext cx="3502080" cy="4668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E:\Театр\P2280024.JPG"/>
          <p:cNvPicPr/>
          <p:nvPr/>
        </p:nvPicPr>
        <p:blipFill>
          <a:blip r:embed="rId3"/>
          <a:stretch/>
        </p:blipFill>
        <p:spPr>
          <a:xfrm>
            <a:off x="1000080" y="4071960"/>
            <a:ext cx="3000600" cy="22510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5"/>
          <p:cNvSpPr/>
          <p:nvPr/>
        </p:nvSpPr>
        <p:spPr>
          <a:xfrm>
            <a:off x="187920" y="142920"/>
            <a:ext cx="8926920" cy="13129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Музыкально-театрализованн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ставление «Снежная короле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2876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д реализации проекта «развитие творческ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ей детей старшего дошкольног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зраста в процессе театрализованно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и» доказал, что театрализованна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 способствует развитию интерес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ей к театральному искусству и раскрытию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ворческого потенциала каждого ребён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исок источник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14200" y="159984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интез» программа развития музыкального восприятия у детей на основе синтеза искусств (6-й год жизни) / под ред.К.В. Тарасовой - М.: 199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Е. Антипина «Театрализованные представления в детском саду»- М.: 2010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аринова М.Н. О развитии творческих способностей - Л:1961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готский Л.Н., Воображение и творчество в дошкольном возрасте. - СПб.: Союз, 1997. 92стр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ика Е.В. Комплекс игр для развития воображения. - Вопросы психологии. - 1993 №2. стр. 54-58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удрявцев В., Ребёнок - дошкольник: новый подход к диагностике творческих способностей. -1995 № 9 стр. 52-59, № 10 стр. 62-69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аскаль., Методическое пособие для преподавателей начальной школы и воспитателей детских садов по курсу «Развитие творчества»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хорова Л. Развиваем творческую активность дошкольников. - Дошкольное воспитание. - 1996 №5. стр. 21-27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ляк Лора «Театр сказок». – Сценарии в стихах для дошкольников по мотивам русских народных сказок. СПб, «Детство-Пресс», 2001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aam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- конспекты занятий по учёбе и раннему развитию в детских садах, новаторские методические разработки, коллекции сценариев праздников для детей, оригинальные детские поделки, развивающие игры для дошкольников, необычные примеры оформления, стенгазеты и презентации.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shvozras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- Воспитание детей дошкольного возраста в детском саду и семье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solnet.e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- ежедневный познавательно-развлекательный портал для детей, родителей и педагог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2"/>
          <p:cNvSpPr/>
          <p:nvPr/>
        </p:nvSpPr>
        <p:spPr>
          <a:xfrm>
            <a:off x="1428840" y="2357280"/>
            <a:ext cx="621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b5395"/>
                </a:solidFill>
                <a:latin typeface="Arial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  <a:ea typeface="Arial"/>
              </a:rPr>
              <a:t>Информация о проект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717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деятельности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художественно-эстетическое, образовательная область «Музыка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нтеграция образовательных областей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е области «Социализация», «Коммуникация», «Чтение художественной литературы», «Художественное творчество», «Познание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ид проекта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ворческий, практико-ориентированный, краткосрочны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частники проекта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, дети и родители подготовительной группы № 8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роки выполнения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нтябрь 2012г. – март 2013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5" descr="27091252.jpg"/>
          <p:cNvPicPr/>
          <p:nvPr/>
        </p:nvPicPr>
        <p:blipFill>
          <a:blip r:embed="rId1"/>
          <a:stretch/>
        </p:blipFill>
        <p:spPr>
          <a:xfrm>
            <a:off x="4929120" y="2476440"/>
            <a:ext cx="4214880" cy="43102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Arial"/>
                <a:ea typeface="Arial"/>
              </a:rPr>
              <a:t>Цель проекта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творческих способностей  у дете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аршего дошкольного возраст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редствами театрального искус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Arial"/>
                <a:ea typeface="Arial"/>
              </a:rPr>
              <a:t>Задачи проекта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85840" y="1600200"/>
            <a:ext cx="85010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е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родолжать расширять представления детей о многообразии форм музыкального искусства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Заложить основы театральной культуры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 с различными видами театров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щие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Развивать память, мышление, воображение, внимание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богатить речь детей, добиваться правильной интонационно-выразительной реч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Воспитательные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рививать интерес к различным видам творческой деятельност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Воспитывать положительные нравственные идеалы, стремление быть отзывчивым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Задачи для родителей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влечь родителей к проблеме творческого развития ребенка, используя анкетирование, создание книг-самоделок и другие формы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имулировать творческую активность родителей через участие в творческой деятельност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особствовать установлению партнерских отношений родителей и педагогов в вопросах творческого воспитания дет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Задачи для педагого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анализировать уровень  развития творческих способност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учить роль игры - драматизации в  развитии актерских способностей детей старшего дошкольного   возрас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сти опытно-экспериментальную работу, подтверждающую влияние игры - драматизации на  развитие актерских способностей детей старшего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564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  <a:ea typeface="Arial"/>
              </a:rPr>
              <a:t>Используемые в проекте виды детской деятельност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Стрелка вниз 5"/>
          <p:cNvSpPr/>
          <p:nvPr/>
        </p:nvSpPr>
        <p:spPr>
          <a:xfrm rot="9912600">
            <a:off x="1283400" y="1827360"/>
            <a:ext cx="428760" cy="10238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571680" y="1214280"/>
            <a:ext cx="17856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гр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низ 7"/>
          <p:cNvSpPr/>
          <p:nvPr/>
        </p:nvSpPr>
        <p:spPr>
          <a:xfrm rot="10184400">
            <a:off x="4142880" y="1356840"/>
            <a:ext cx="428760" cy="152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2500200" y="762120"/>
            <a:ext cx="35719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оммуник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вниз 9"/>
          <p:cNvSpPr/>
          <p:nvPr/>
        </p:nvSpPr>
        <p:spPr>
          <a:xfrm rot="11882400">
            <a:off x="7147800" y="1898280"/>
            <a:ext cx="428760" cy="10238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5786280" y="1333440"/>
            <a:ext cx="32148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знав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трелка вниз 11"/>
          <p:cNvSpPr/>
          <p:nvPr/>
        </p:nvSpPr>
        <p:spPr>
          <a:xfrm flipV="1" rot="9913200">
            <a:off x="7120800" y="4110120"/>
            <a:ext cx="428760" cy="100440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трелка вниз 12"/>
          <p:cNvSpPr/>
          <p:nvPr/>
        </p:nvSpPr>
        <p:spPr>
          <a:xfrm flipV="1" rot="11883000">
            <a:off x="1536480" y="4178880"/>
            <a:ext cx="428400" cy="122220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трелка вниз 13"/>
          <p:cNvSpPr/>
          <p:nvPr/>
        </p:nvSpPr>
        <p:spPr>
          <a:xfrm flipV="1" rot="10800000">
            <a:off x="4428720" y="4143240"/>
            <a:ext cx="428760" cy="18576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142920" y="5429160"/>
            <a:ext cx="2857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одук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2071800" y="6143760"/>
            <a:ext cx="54291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узыкально-художе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6786720" y="5286240"/>
            <a:ext cx="15714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Выгнутая вверх стрелка 15"/>
          <p:cNvSpPr/>
          <p:nvPr/>
        </p:nvSpPr>
        <p:spPr>
          <a:xfrm rot="1455600">
            <a:off x="3238200" y="4201920"/>
            <a:ext cx="1500120" cy="785520"/>
          </a:xfrm>
          <a:custGeom>
            <a:avLst/>
            <a:gdLst>
              <a:gd name="textAreaLeft" fmla="*/ 311400 w 1500120"/>
              <a:gd name="textAreaRight" fmla="*/ 1130760 w 1500120"/>
              <a:gd name="textAreaTop" fmla="*/ 105120 h 785520"/>
              <a:gd name="textAreaBottom" fmla="*/ 680400 h 785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69" hR="21600" stAng="10800000" swAng="5400000"/>
                <a:lnTo>
                  <a:pt x="11797" y="0"/>
                </a:lnTo>
                <a:arcTo wR="8969" hR="21600" stAng="-5400000" swAng="2990533"/>
                <a:lnTo>
                  <a:pt x="21096" y="14458"/>
                </a:lnTo>
                <a:lnTo>
                  <a:pt x="19351" y="21600"/>
                </a:lnTo>
                <a:lnTo>
                  <a:pt x="16598" y="14458"/>
                </a:lnTo>
                <a:lnTo>
                  <a:pt x="17433" y="14458"/>
                </a:lnTo>
                <a:arcTo wR="8969" hR="21600" stAng="-2409467" swAng="-2762971"/>
                <a:lnTo>
                  <a:pt x="10383" y="270"/>
                </a:lnTo>
                <a:arcTo wR="8969" hR="21600" stAng="-5627562" swAng="-5172438"/>
                <a:close/>
              </a:path>
              <a:path fill="darkenLess" w="21600" h="21600">
                <a:moveTo>
                  <a:pt x="0" y="21600"/>
                </a:moveTo>
                <a:arcTo wR="8969" hR="21600" stAng="10800000" swAng="5400000"/>
                <a:lnTo>
                  <a:pt x="8969" y="0"/>
                </a:lnTo>
                <a:arcTo wR="8969" hR="21600" stAng="-5400000" swAng="227562"/>
                <a:lnTo>
                  <a:pt x="10383" y="270"/>
                </a:lnTo>
                <a:arcTo wR="8969" hR="21600" stAng="-5627562" swAng="-5172438"/>
                <a:close/>
              </a:path>
            </a:pathLst>
          </a:cu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Arial"/>
                <a:ea typeface="Arial"/>
              </a:rPr>
              <a:t>Этапы работы над проекто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517320" y="1857240"/>
            <a:ext cx="402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1. Погружение в проек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Выгнутая вверх стрелка 9"/>
          <p:cNvSpPr/>
          <p:nvPr/>
        </p:nvSpPr>
        <p:spPr>
          <a:xfrm rot="1455600">
            <a:off x="3738240" y="1415520"/>
            <a:ext cx="1500120" cy="785880"/>
          </a:xfrm>
          <a:custGeom>
            <a:avLst/>
            <a:gdLst>
              <a:gd name="textAreaLeft" fmla="*/ 311400 w 1500120"/>
              <a:gd name="textAreaRight" fmla="*/ 1130760 w 150012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69" hR="21600" stAng="10800000" swAng="5400000"/>
                <a:lnTo>
                  <a:pt x="11797" y="0"/>
                </a:lnTo>
                <a:arcTo wR="8969" hR="21600" stAng="-5400000" swAng="2990533"/>
                <a:lnTo>
                  <a:pt x="21096" y="14458"/>
                </a:lnTo>
                <a:lnTo>
                  <a:pt x="19351" y="21600"/>
                </a:lnTo>
                <a:lnTo>
                  <a:pt x="16598" y="14458"/>
                </a:lnTo>
                <a:lnTo>
                  <a:pt x="17433" y="14458"/>
                </a:lnTo>
                <a:arcTo wR="8969" hR="21600" stAng="-2409467" swAng="-2762971"/>
                <a:lnTo>
                  <a:pt x="10383" y="270"/>
                </a:lnTo>
                <a:arcTo wR="8969" hR="21600" stAng="-5627562" swAng="-5172438"/>
                <a:close/>
              </a:path>
              <a:path fill="darkenLess" w="21600" h="21600">
                <a:moveTo>
                  <a:pt x="0" y="21600"/>
                </a:moveTo>
                <a:arcTo wR="8969" hR="21600" stAng="10800000" swAng="5400000"/>
                <a:lnTo>
                  <a:pt x="8969" y="0"/>
                </a:lnTo>
                <a:arcTo wR="8969" hR="21600" stAng="-5400000" swAng="227562"/>
                <a:lnTo>
                  <a:pt x="10383" y="270"/>
                </a:lnTo>
                <a:arcTo wR="8969" hR="21600" stAng="-5627562" swAng="-5172438"/>
                <a:close/>
              </a:path>
            </a:pathLst>
          </a:cu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3022200" y="2571840"/>
            <a:ext cx="535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2. Планирование деятель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Выгнутая вверх стрелка 11"/>
          <p:cNvSpPr/>
          <p:nvPr/>
        </p:nvSpPr>
        <p:spPr>
          <a:xfrm rot="1455600">
            <a:off x="7167240" y="2201400"/>
            <a:ext cx="1500120" cy="785880"/>
          </a:xfrm>
          <a:custGeom>
            <a:avLst/>
            <a:gdLst>
              <a:gd name="textAreaLeft" fmla="*/ 311400 w 1500120"/>
              <a:gd name="textAreaRight" fmla="*/ 1130760 w 150012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69" hR="21600" stAng="10800000" swAng="5400000"/>
                <a:lnTo>
                  <a:pt x="11797" y="0"/>
                </a:lnTo>
                <a:arcTo wR="8969" hR="21600" stAng="-5400000" swAng="2990533"/>
                <a:lnTo>
                  <a:pt x="21096" y="14458"/>
                </a:lnTo>
                <a:lnTo>
                  <a:pt x="19351" y="21600"/>
                </a:lnTo>
                <a:lnTo>
                  <a:pt x="16598" y="14458"/>
                </a:lnTo>
                <a:lnTo>
                  <a:pt x="17433" y="14458"/>
                </a:lnTo>
                <a:arcTo wR="8969" hR="21600" stAng="-2409467" swAng="-2762971"/>
                <a:lnTo>
                  <a:pt x="10383" y="270"/>
                </a:lnTo>
                <a:arcTo wR="8969" hR="21600" stAng="-5627562" swAng="-5172438"/>
                <a:close/>
              </a:path>
              <a:path fill="darkenLess" w="21600" h="21600">
                <a:moveTo>
                  <a:pt x="0" y="21600"/>
                </a:moveTo>
                <a:arcTo wR="8969" hR="21600" stAng="10800000" swAng="5400000"/>
                <a:lnTo>
                  <a:pt x="8969" y="0"/>
                </a:lnTo>
                <a:arcTo wR="8969" hR="21600" stAng="-5400000" swAng="227562"/>
                <a:lnTo>
                  <a:pt x="10383" y="270"/>
                </a:lnTo>
                <a:arcTo wR="8969" hR="21600" stAng="-5627562" swAng="-5172438"/>
                <a:close/>
              </a:path>
            </a:pathLst>
          </a:cu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2"/>
          <p:cNvSpPr/>
          <p:nvPr/>
        </p:nvSpPr>
        <p:spPr>
          <a:xfrm>
            <a:off x="938880" y="3500280"/>
            <a:ext cx="8175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3. Осуществление деятельности по реализа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рое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Выгнутая вверх стрелка 13"/>
          <p:cNvSpPr/>
          <p:nvPr/>
        </p:nvSpPr>
        <p:spPr>
          <a:xfrm flipH="1" rot="20067600">
            <a:off x="279000" y="2860560"/>
            <a:ext cx="1568520" cy="994320"/>
          </a:xfrm>
          <a:custGeom>
            <a:avLst/>
            <a:gdLst>
              <a:gd name="textAreaLeft" fmla="*/ 311400 w 1568520"/>
              <a:gd name="textAreaRight" fmla="*/ 1183320 w 1568520"/>
              <a:gd name="textAreaTop" fmla="*/ 133200 h 994320"/>
              <a:gd name="textAreaBottom" fmla="*/ 861120 h 994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85" hR="21600" stAng="10800000" swAng="5400000"/>
                <a:lnTo>
                  <a:pt x="12007" y="0"/>
                </a:lnTo>
                <a:arcTo wR="8585" hR="21600" stAng="-5400000" swAng="2916136"/>
                <a:lnTo>
                  <a:pt x="21117" y="14458"/>
                </a:lnTo>
                <a:lnTo>
                  <a:pt x="18880" y="21600"/>
                </a:lnTo>
                <a:lnTo>
                  <a:pt x="15677" y="14458"/>
                </a:lnTo>
                <a:lnTo>
                  <a:pt x="16686" y="14458"/>
                </a:lnTo>
                <a:arcTo wR="8585" hR="21600" stAng="-2483864" swAng="-2638850"/>
                <a:lnTo>
                  <a:pt x="10296" y="433"/>
                </a:lnTo>
                <a:arcTo wR="8585" hR="21600" stAng="-5677287" swAng="-5122713"/>
                <a:close/>
              </a:path>
              <a:path fill="darkenLess" w="21600" h="21600">
                <a:moveTo>
                  <a:pt x="0" y="21600"/>
                </a:moveTo>
                <a:arcTo wR="8585" hR="21600" stAng="10800000" swAng="5400000"/>
                <a:lnTo>
                  <a:pt x="8585" y="0"/>
                </a:lnTo>
                <a:arcTo wR="8585" hR="21600" stAng="-5400000" swAng="277287"/>
                <a:lnTo>
                  <a:pt x="10296" y="433"/>
                </a:lnTo>
                <a:arcTo wR="8585" hR="21600" stAng="-5677287" swAng="-5122713"/>
                <a:close/>
              </a:path>
            </a:pathLst>
          </a:cu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4"/>
          <p:cNvSpPr/>
          <p:nvPr/>
        </p:nvSpPr>
        <p:spPr>
          <a:xfrm>
            <a:off x="418680" y="4500720"/>
            <a:ext cx="383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4. Результаты рабо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6"/>
          <p:cNvSpPr/>
          <p:nvPr/>
        </p:nvSpPr>
        <p:spPr>
          <a:xfrm>
            <a:off x="584640" y="5429160"/>
            <a:ext cx="81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5. Оценка результатов  проектной деятель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гружение в проек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ь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детей к проектной дея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дварительная работ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бор наглядного материала и художественной литерату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ние образовательного маршрута для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дителей «Что рассказать ребенку о театре» с использованием ИК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ение с детьми сказок Г.Х. Андерсе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смотр мультфильмов «Гадкий утенок» и д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машнее задание: нарисовать любую иллюстрацию к сказам Г.Х. Андерсе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r .President</dc:creator>
  <dc:description/>
  <dc:language>en-US</dc:language>
  <cp:lastModifiedBy>Александр</cp:lastModifiedBy>
  <dcterms:modified xsi:type="dcterms:W3CDTF">2014-10-23T07:18:57Z</dcterms:modified>
  <cp:revision>51</cp:revision>
  <dc:subject/>
  <dc:title>Педагогический проект для детей дошкольного возраста«Развитие творческих способностей детей старшего дошкольного возраста средствами театрализованной деятельности» в условиях реализации ФГТ</dc:title>
</cp:coreProperties>
</file>